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08DB-1C87-453E-BB6C-8E3DA12A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0C6-E330-422B-85C1-B6A2DA12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AB013-8BE9-4921-BF2C-F49D7C60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6FEE9-39D0-4590-841E-B31ACA50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D2354-1F75-48F8-BBEB-E3BEA14A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1867C-1F0F-458F-9111-A0B2BD98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3807E-60ED-43D6-A27C-462E5A70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68A43-E6CB-4CB2-B659-68DD6D31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77458-8E5C-45D1-99D0-3E20C7B7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7F104-6047-42EA-92D0-EB588136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B0F9C-D0F0-4E19-B3A7-9488ABEC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70E6D-D017-4880-AF9A-7D2BBFC7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FEF-AAFD-4560-9E14-C7881456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4F6D4-66DB-4D71-AE51-A32D9EDA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65BB0-12A3-429C-9077-3F78CB88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06A18-5AB2-4737-87DE-F73E3021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9DD39-9255-4B2E-9284-C50B2A3D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E596A-D612-4B04-BCE6-056C92FC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944CA-3971-4B67-AB0E-ED952604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7443F-18D0-42C6-A697-47C00116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5FE85-7330-4BF2-988E-D878D830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91207-3888-4F25-9183-0050B76F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67D33-4279-48BD-B3EC-EBC07E7D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AF6-27B2-4C02-A628-2E280644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E6487-1578-4451-A32C-00609FFB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BDDDB-B302-4B16-BC8B-A492D6DC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D7F7E-ACA3-4A9A-A00D-6D94A08A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80004-E2A1-4C23-978A-D5B79D90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B02FB-AA2B-4D5D-A38B-FCB95B20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FC02E-8935-43F4-978B-DF1B282F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AEB11-0F16-4EA7-BDCF-9AC0D968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78523-B3C3-4035-832B-53821E6A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3C4-BFA5-4469-A651-90191DA4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020D1-E43A-4591-9455-07F9BA2C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2EB24-782F-4A7E-88BC-4A21CBE7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5946C-DF1F-4118-8883-F25EE473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270BA-F891-40F6-8243-FE67DA84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100EE-E7F1-4B43-A17D-2F9BE230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389E9-AE70-4085-8FBA-DCFA0F41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BAEA0-DF87-4059-BB7E-D8FC2041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D010A-FBBE-475E-AD2B-315D6AB2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93A46-4D90-480E-9317-30F2E6D1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DE4A7-51FC-41B1-94DB-41A5E02F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FD4-EE62-4FAE-AF55-97A6D9C1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B396B-06B2-4290-8FB7-88FB05F0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36C14-48F0-4774-94F3-0421D2F6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BD12C-ED33-4BC9-AAB9-AED73275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8EA3C-5FD0-4D3A-85B8-E38C2D82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A9B62-C4EB-4DEB-ADDF-E25EE588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D2EA0-C3C7-4953-ABD0-F96CBBDD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60054-2453-44EA-8808-02454766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17941-221B-49D1-88B0-290FA7AB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43641-9D76-4712-96D6-71E7C109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63134-4C6B-4E8D-9A92-75D56273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35D-5B8A-4A19-8CE1-2914F60E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8ACEE-6D7F-4FA2-AB4C-6868C387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22010-277A-448E-B8AB-824134F3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7BE9C-44C1-44B7-A72C-DE6FB2F3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35FE4-FF96-42B0-BE5D-8F4B9F78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A5C12-6BE0-412D-96BC-D28381A2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8DAFD-1F54-4B64-B167-7A455D89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B735E-EC46-45BF-8934-D24A178C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CAB1D-58CC-40C9-B546-FB207F9A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160CC-48C0-44DB-B7FA-43254DE0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916BA-51FA-4A57-A1FB-644A3E9E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FB6-BFDD-41F9-91DC-F137BAF9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A056B-8215-4CD4-95CF-69A65C51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3771C-7760-403B-9D15-D39B3C38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42E93-2419-4B99-92B8-86AA5007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10A76-641F-4ABA-ACC2-EFF98A1F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6EB94-631E-4E72-A89A-6EABE2ED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19D5C-AFDA-44E0-AF43-A58FD745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4D778-FE5F-4A00-A2C2-9B13F1EF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5F386-1A5B-46FE-ACB6-28708986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B67D9-B838-49C3-B055-6D50B7EC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3E431-10FC-4026-813A-10EDF681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448-7CCC-4298-A7B0-6E5AE52A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55F77-816C-4D2D-B962-BFEC2643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36195-DEFD-48CD-B0A9-55BDF6FF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0D495-F0B7-400E-82A6-50939A7A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91231-1590-44AE-A73A-8CE7FADB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D1393-8809-4EEB-B213-CFFDF9FC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6FB5C-93B8-4C8A-8C45-F83EC0B2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CB89D-9017-48A8-BF8F-E0A58AE4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332CE-BBBF-4B77-90B6-A08D0F0A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303D9-559F-40CD-B2EF-E7607D72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6C267-71FF-4AED-A4D8-CC7B0F99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A679-F602-4AFC-90CD-504F2C6C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44FFA-E572-484D-A811-828FF394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F5034-1056-4CEB-915A-D8F2DD60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9F009-B22A-40DE-A97C-A41247FF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B790E-A149-4596-B833-41751899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FEAC3-6D1A-49FA-B07B-AED9F75E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F6390-EA21-4F1C-BFE9-DF377E88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BD890-22F8-4D81-A1D1-1DB63617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65156-7B82-40ED-9955-2A547103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49533-CE57-4128-AD88-8133398B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93B7F-2DD4-4797-BE29-082231C8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9B95-5F12-4BAF-AD22-074B10A2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58AF6-E1AB-4856-B691-FD8FA4F9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5B760-9137-45D4-8ECB-9677D933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818FC-552F-4F08-BF25-538E15B7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CA059-90F1-41A4-AC3D-A1E01A91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2DA28-6996-488B-90C8-660451A3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1C000-D4AF-4C7E-8BF4-0E7EB9B0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0534C-51B5-40D8-95E0-E87C8144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70FBE-FDEF-4267-8A80-2E81D6C3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16860-CDE6-4C06-BCC7-1A796DE3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822A9-BBE7-4717-B6F8-422C818D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93A-99DE-4F90-BD42-57D1A112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704CF-127E-45AE-8753-8F70E7A0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DADA6-CBCC-4014-8BE7-EB21DD44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D67B3-A409-44C7-A119-A5DBD250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13162-ADDD-4AE0-81B3-F395E4A7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7A31E-C423-41F9-8785-34677347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5D8DD-14A9-4F24-AA40-B9E1799F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02E0E-A1F8-4293-B01F-BF8C12F1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10899-7D81-4124-87A2-05C19FB6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1FD45-E17B-4011-9445-CDB598E4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1C1C1-35D8-4E00-88C7-51F5D980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1AB7-228A-47CF-9077-A131422AE3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359"/>
            </a:gs>
            <a:gs pos="50000">
              <a:srgbClr val="00b7a5"/>
            </a:gs>
            <a:gs pos="100000">
              <a:srgbClr val="0063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06" name=""/>
            <p:cNvSpPr/>
            <p:nvPr/>
          </p:nvSpPr>
          <p:spPr>
            <a:xfrm>
              <a:off x="0" y="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006359"/>
                </a:gs>
                <a:gs pos="100000">
                  <a:srgbClr val="00b7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gradFill rotWithShape="0">
              <a:gsLst>
                <a:gs pos="0">
                  <a:srgbClr val="00b7a5"/>
                </a:gs>
                <a:gs pos="100000">
                  <a:srgbClr val="0063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36360" y="896760"/>
              <a:ext cx="9042120" cy="4996080"/>
              <a:chOff x="36360" y="896760"/>
              <a:chExt cx="9042120" cy="499608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36360" y="930240"/>
                <a:ext cx="9030960" cy="4962600"/>
                <a:chOff x="36360" y="930240"/>
                <a:chExt cx="9030960" cy="496260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3485880" y="4230000"/>
                  <a:ext cx="1026000" cy="948960"/>
                </a:xfrm>
                <a:custGeom>
                  <a:avLst/>
                  <a:gdLst/>
                  <a:ahLst/>
                  <a:rect l="l" t="t" r="r" b="b"/>
                  <a:pathLst>
                    <a:path w="588" h="534">
                      <a:moveTo>
                        <a:pt x="270" y="12"/>
                      </a:moveTo>
                      <a:lnTo>
                        <a:pt x="288" y="22"/>
                      </a:lnTo>
                      <a:lnTo>
                        <a:pt x="306" y="26"/>
                      </a:lnTo>
                      <a:lnTo>
                        <a:pt x="332" y="28"/>
                      </a:lnTo>
                      <a:cubicBezTo>
                        <a:pt x="334" y="37"/>
                        <a:pt x="332" y="40"/>
                        <a:pt x="328" y="48"/>
                      </a:cubicBezTo>
                      <a:cubicBezTo>
                        <a:pt x="326" y="52"/>
                        <a:pt x="320" y="60"/>
                        <a:pt x="320" y="60"/>
                      </a:cubicBezTo>
                      <a:cubicBezTo>
                        <a:pt x="319" y="67"/>
                        <a:pt x="317" y="75"/>
                        <a:pt x="318" y="82"/>
                      </a:cubicBezTo>
                      <a:cubicBezTo>
                        <a:pt x="319" y="92"/>
                        <a:pt x="358" y="108"/>
                        <a:pt x="366" y="114"/>
                      </a:cubicBezTo>
                      <a:cubicBezTo>
                        <a:pt x="372" y="118"/>
                        <a:pt x="378" y="122"/>
                        <a:pt x="384" y="126"/>
                      </a:cubicBezTo>
                      <a:cubicBezTo>
                        <a:pt x="386" y="127"/>
                        <a:pt x="390" y="130"/>
                        <a:pt x="390" y="130"/>
                      </a:cubicBezTo>
                      <a:cubicBezTo>
                        <a:pt x="403" y="126"/>
                        <a:pt x="405" y="108"/>
                        <a:pt x="408" y="96"/>
                      </a:cubicBezTo>
                      <a:cubicBezTo>
                        <a:pt x="410" y="80"/>
                        <a:pt x="412" y="78"/>
                        <a:pt x="404" y="66"/>
                      </a:cubicBezTo>
                      <a:cubicBezTo>
                        <a:pt x="407" y="50"/>
                        <a:pt x="407" y="26"/>
                        <a:pt x="410" y="12"/>
                      </a:cubicBezTo>
                      <a:cubicBezTo>
                        <a:pt x="411" y="7"/>
                        <a:pt x="418" y="0"/>
                        <a:pt x="418" y="0"/>
                      </a:cubicBezTo>
                      <a:cubicBezTo>
                        <a:pt x="435" y="6"/>
                        <a:pt x="429" y="25"/>
                        <a:pt x="436" y="38"/>
                      </a:cubicBezTo>
                      <a:cubicBezTo>
                        <a:pt x="441" y="47"/>
                        <a:pt x="447" y="53"/>
                        <a:pt x="450" y="62"/>
                      </a:cubicBezTo>
                      <a:cubicBezTo>
                        <a:pt x="447" y="71"/>
                        <a:pt x="452" y="73"/>
                        <a:pt x="460" y="76"/>
                      </a:cubicBezTo>
                      <a:cubicBezTo>
                        <a:pt x="464" y="82"/>
                        <a:pt x="466" y="88"/>
                        <a:pt x="470" y="94"/>
                      </a:cubicBezTo>
                      <a:cubicBezTo>
                        <a:pt x="475" y="117"/>
                        <a:pt x="483" y="138"/>
                        <a:pt x="490" y="160"/>
                      </a:cubicBezTo>
                      <a:cubicBezTo>
                        <a:pt x="491" y="164"/>
                        <a:pt x="499" y="165"/>
                        <a:pt x="502" y="166"/>
                      </a:cubicBezTo>
                      <a:cubicBezTo>
                        <a:pt x="506" y="168"/>
                        <a:pt x="514" y="174"/>
                        <a:pt x="514" y="174"/>
                      </a:cubicBezTo>
                      <a:cubicBezTo>
                        <a:pt x="520" y="184"/>
                        <a:pt x="524" y="196"/>
                        <a:pt x="534" y="202"/>
                      </a:cubicBezTo>
                      <a:cubicBezTo>
                        <a:pt x="538" y="208"/>
                        <a:pt x="535" y="218"/>
                        <a:pt x="538" y="220"/>
                      </a:cubicBezTo>
                      <a:cubicBezTo>
                        <a:pt x="541" y="222"/>
                        <a:pt x="550" y="224"/>
                        <a:pt x="550" y="224"/>
                      </a:cubicBezTo>
                      <a:cubicBezTo>
                        <a:pt x="552" y="238"/>
                        <a:pt x="552" y="246"/>
                        <a:pt x="564" y="254"/>
                      </a:cubicBezTo>
                      <a:cubicBezTo>
                        <a:pt x="568" y="261"/>
                        <a:pt x="575" y="270"/>
                        <a:pt x="582" y="272"/>
                      </a:cubicBezTo>
                      <a:cubicBezTo>
                        <a:pt x="579" y="288"/>
                        <a:pt x="585" y="301"/>
                        <a:pt x="588" y="316"/>
                      </a:cubicBezTo>
                      <a:cubicBezTo>
                        <a:pt x="587" y="333"/>
                        <a:pt x="587" y="373"/>
                        <a:pt x="576" y="390"/>
                      </a:cubicBezTo>
                      <a:cubicBezTo>
                        <a:pt x="567" y="403"/>
                        <a:pt x="557" y="417"/>
                        <a:pt x="552" y="432"/>
                      </a:cubicBezTo>
                      <a:cubicBezTo>
                        <a:pt x="554" y="444"/>
                        <a:pt x="556" y="447"/>
                        <a:pt x="546" y="454"/>
                      </a:cubicBezTo>
                      <a:cubicBezTo>
                        <a:pt x="540" y="464"/>
                        <a:pt x="543" y="458"/>
                        <a:pt x="538" y="472"/>
                      </a:cubicBezTo>
                      <a:cubicBezTo>
                        <a:pt x="537" y="474"/>
                        <a:pt x="536" y="478"/>
                        <a:pt x="536" y="478"/>
                      </a:cubicBezTo>
                      <a:cubicBezTo>
                        <a:pt x="535" y="488"/>
                        <a:pt x="536" y="497"/>
                        <a:pt x="526" y="502"/>
                      </a:cubicBezTo>
                      <a:cubicBezTo>
                        <a:pt x="520" y="505"/>
                        <a:pt x="508" y="512"/>
                        <a:pt x="508" y="512"/>
                      </a:cubicBezTo>
                      <a:cubicBezTo>
                        <a:pt x="493" y="534"/>
                        <a:pt x="507" y="519"/>
                        <a:pt x="494" y="526"/>
                      </a:cubicBezTo>
                      <a:cubicBezTo>
                        <a:pt x="490" y="528"/>
                        <a:pt x="482" y="534"/>
                        <a:pt x="482" y="534"/>
                      </a:cubicBezTo>
                      <a:cubicBezTo>
                        <a:pt x="473" y="528"/>
                        <a:pt x="470" y="520"/>
                        <a:pt x="462" y="514"/>
                      </a:cubicBezTo>
                      <a:cubicBezTo>
                        <a:pt x="457" y="521"/>
                        <a:pt x="457" y="525"/>
                        <a:pt x="450" y="530"/>
                      </a:cubicBezTo>
                      <a:cubicBezTo>
                        <a:pt x="438" y="527"/>
                        <a:pt x="429" y="517"/>
                        <a:pt x="418" y="514"/>
                      </a:cubicBezTo>
                      <a:cubicBezTo>
                        <a:pt x="413" y="513"/>
                        <a:pt x="402" y="510"/>
                        <a:pt x="402" y="510"/>
                      </a:cubicBezTo>
                      <a:cubicBezTo>
                        <a:pt x="394" y="505"/>
                        <a:pt x="390" y="503"/>
                        <a:pt x="396" y="494"/>
                      </a:cubicBezTo>
                      <a:cubicBezTo>
                        <a:pt x="394" y="488"/>
                        <a:pt x="392" y="482"/>
                        <a:pt x="390" y="476"/>
                      </a:cubicBezTo>
                      <a:cubicBezTo>
                        <a:pt x="388" y="471"/>
                        <a:pt x="378" y="468"/>
                        <a:pt x="378" y="468"/>
                      </a:cubicBezTo>
                      <a:cubicBezTo>
                        <a:pt x="372" y="474"/>
                        <a:pt x="368" y="477"/>
                        <a:pt x="360" y="480"/>
                      </a:cubicBezTo>
                      <a:cubicBezTo>
                        <a:pt x="353" y="469"/>
                        <a:pt x="359" y="456"/>
                        <a:pt x="366" y="446"/>
                      </a:cubicBezTo>
                      <a:cubicBezTo>
                        <a:pt x="365" y="439"/>
                        <a:pt x="362" y="431"/>
                        <a:pt x="362" y="424"/>
                      </a:cubicBezTo>
                      <a:cubicBezTo>
                        <a:pt x="362" y="421"/>
                        <a:pt x="366" y="418"/>
                        <a:pt x="364" y="416"/>
                      </a:cubicBezTo>
                      <a:cubicBezTo>
                        <a:pt x="362" y="414"/>
                        <a:pt x="361" y="420"/>
                        <a:pt x="360" y="422"/>
                      </a:cubicBezTo>
                      <a:cubicBezTo>
                        <a:pt x="358" y="426"/>
                        <a:pt x="357" y="430"/>
                        <a:pt x="356" y="434"/>
                      </a:cubicBezTo>
                      <a:cubicBezTo>
                        <a:pt x="353" y="443"/>
                        <a:pt x="347" y="451"/>
                        <a:pt x="338" y="454"/>
                      </a:cubicBezTo>
                      <a:cubicBezTo>
                        <a:pt x="337" y="456"/>
                        <a:pt x="338" y="460"/>
                        <a:pt x="336" y="460"/>
                      </a:cubicBezTo>
                      <a:cubicBezTo>
                        <a:pt x="326" y="460"/>
                        <a:pt x="326" y="435"/>
                        <a:pt x="322" y="428"/>
                      </a:cubicBezTo>
                      <a:cubicBezTo>
                        <a:pt x="315" y="413"/>
                        <a:pt x="305" y="409"/>
                        <a:pt x="290" y="406"/>
                      </a:cubicBezTo>
                      <a:cubicBezTo>
                        <a:pt x="284" y="402"/>
                        <a:pt x="268" y="398"/>
                        <a:pt x="268" y="398"/>
                      </a:cubicBezTo>
                      <a:cubicBezTo>
                        <a:pt x="246" y="400"/>
                        <a:pt x="227" y="404"/>
                        <a:pt x="206" y="410"/>
                      </a:cubicBezTo>
                      <a:cubicBezTo>
                        <a:pt x="185" y="416"/>
                        <a:pt x="215" y="406"/>
                        <a:pt x="186" y="416"/>
                      </a:cubicBezTo>
                      <a:cubicBezTo>
                        <a:pt x="184" y="417"/>
                        <a:pt x="180" y="418"/>
                        <a:pt x="180" y="418"/>
                      </a:cubicBezTo>
                      <a:cubicBezTo>
                        <a:pt x="174" y="426"/>
                        <a:pt x="168" y="433"/>
                        <a:pt x="162" y="442"/>
                      </a:cubicBezTo>
                      <a:cubicBezTo>
                        <a:pt x="160" y="446"/>
                        <a:pt x="150" y="446"/>
                        <a:pt x="150" y="446"/>
                      </a:cubicBezTo>
                      <a:cubicBezTo>
                        <a:pt x="143" y="444"/>
                        <a:pt x="135" y="442"/>
                        <a:pt x="128" y="440"/>
                      </a:cubicBezTo>
                      <a:cubicBezTo>
                        <a:pt x="116" y="444"/>
                        <a:pt x="113" y="456"/>
                        <a:pt x="100" y="460"/>
                      </a:cubicBezTo>
                      <a:cubicBezTo>
                        <a:pt x="94" y="462"/>
                        <a:pt x="82" y="466"/>
                        <a:pt x="82" y="466"/>
                      </a:cubicBezTo>
                      <a:cubicBezTo>
                        <a:pt x="66" y="462"/>
                        <a:pt x="59" y="457"/>
                        <a:pt x="46" y="448"/>
                      </a:cubicBezTo>
                      <a:cubicBezTo>
                        <a:pt x="43" y="438"/>
                        <a:pt x="50" y="425"/>
                        <a:pt x="52" y="414"/>
                      </a:cubicBezTo>
                      <a:cubicBezTo>
                        <a:pt x="48" y="400"/>
                        <a:pt x="47" y="381"/>
                        <a:pt x="40" y="368"/>
                      </a:cubicBezTo>
                      <a:cubicBezTo>
                        <a:pt x="30" y="349"/>
                        <a:pt x="15" y="335"/>
                        <a:pt x="8" y="314"/>
                      </a:cubicBezTo>
                      <a:cubicBezTo>
                        <a:pt x="10" y="293"/>
                        <a:pt x="12" y="296"/>
                        <a:pt x="8" y="282"/>
                      </a:cubicBezTo>
                      <a:cubicBezTo>
                        <a:pt x="6" y="274"/>
                        <a:pt x="0" y="258"/>
                        <a:pt x="0" y="258"/>
                      </a:cubicBezTo>
                      <a:cubicBezTo>
                        <a:pt x="3" y="240"/>
                        <a:pt x="2" y="223"/>
                        <a:pt x="18" y="212"/>
                      </a:cubicBezTo>
                      <a:cubicBezTo>
                        <a:pt x="24" y="202"/>
                        <a:pt x="28" y="190"/>
                        <a:pt x="40" y="186"/>
                      </a:cubicBezTo>
                      <a:cubicBezTo>
                        <a:pt x="67" y="190"/>
                        <a:pt x="79" y="172"/>
                        <a:pt x="102" y="164"/>
                      </a:cubicBezTo>
                      <a:cubicBezTo>
                        <a:pt x="105" y="156"/>
                        <a:pt x="111" y="147"/>
                        <a:pt x="116" y="140"/>
                      </a:cubicBezTo>
                      <a:cubicBezTo>
                        <a:pt x="117" y="125"/>
                        <a:pt x="115" y="118"/>
                        <a:pt x="126" y="110"/>
                      </a:cubicBezTo>
                      <a:cubicBezTo>
                        <a:pt x="132" y="112"/>
                        <a:pt x="140" y="124"/>
                        <a:pt x="140" y="124"/>
                      </a:cubicBezTo>
                      <a:cubicBezTo>
                        <a:pt x="143" y="123"/>
                        <a:pt x="147" y="124"/>
                        <a:pt x="148" y="122"/>
                      </a:cubicBezTo>
                      <a:cubicBezTo>
                        <a:pt x="149" y="120"/>
                        <a:pt x="146" y="117"/>
                        <a:pt x="146" y="114"/>
                      </a:cubicBezTo>
                      <a:cubicBezTo>
                        <a:pt x="146" y="106"/>
                        <a:pt x="154" y="91"/>
                        <a:pt x="162" y="88"/>
                      </a:cubicBezTo>
                      <a:cubicBezTo>
                        <a:pt x="160" y="77"/>
                        <a:pt x="159" y="74"/>
                        <a:pt x="168" y="68"/>
                      </a:cubicBezTo>
                      <a:cubicBezTo>
                        <a:pt x="171" y="60"/>
                        <a:pt x="174" y="57"/>
                        <a:pt x="182" y="54"/>
                      </a:cubicBezTo>
                      <a:cubicBezTo>
                        <a:pt x="195" y="58"/>
                        <a:pt x="196" y="76"/>
                        <a:pt x="208" y="84"/>
                      </a:cubicBezTo>
                      <a:cubicBezTo>
                        <a:pt x="216" y="81"/>
                        <a:pt x="217" y="78"/>
                        <a:pt x="220" y="70"/>
                      </a:cubicBezTo>
                      <a:cubicBezTo>
                        <a:pt x="228" y="73"/>
                        <a:pt x="231" y="80"/>
                        <a:pt x="234" y="70"/>
                      </a:cubicBezTo>
                      <a:cubicBezTo>
                        <a:pt x="231" y="61"/>
                        <a:pt x="223" y="54"/>
                        <a:pt x="236" y="50"/>
                      </a:cubicBezTo>
                      <a:cubicBezTo>
                        <a:pt x="237" y="46"/>
                        <a:pt x="235" y="42"/>
                        <a:pt x="236" y="38"/>
                      </a:cubicBezTo>
                      <a:cubicBezTo>
                        <a:pt x="239" y="31"/>
                        <a:pt x="254" y="32"/>
                        <a:pt x="260" y="30"/>
                      </a:cubicBezTo>
                      <a:cubicBezTo>
                        <a:pt x="261" y="28"/>
                        <a:pt x="264" y="26"/>
                        <a:pt x="264" y="24"/>
                      </a:cubicBezTo>
                      <a:cubicBezTo>
                        <a:pt x="264" y="20"/>
                        <a:pt x="260" y="12"/>
                        <a:pt x="260" y="12"/>
                      </a:cubicBezTo>
                      <a:cubicBezTo>
                        <a:pt x="267" y="10"/>
                        <a:pt x="264" y="9"/>
                        <a:pt x="270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287600" y="5204880"/>
                  <a:ext cx="106920" cy="138240"/>
                </a:xfrm>
                <a:custGeom>
                  <a:avLst/>
                  <a:gdLst/>
                  <a:ahLst/>
                  <a:rect l="l" t="t" r="r" b="b"/>
                  <a:pathLst>
                    <a:path w="61" h="78">
                      <a:moveTo>
                        <a:pt x="4" y="24"/>
                      </a:moveTo>
                      <a:cubicBezTo>
                        <a:pt x="13" y="27"/>
                        <a:pt x="22" y="25"/>
                        <a:pt x="32" y="28"/>
                      </a:cubicBezTo>
                      <a:cubicBezTo>
                        <a:pt x="48" y="23"/>
                        <a:pt x="39" y="4"/>
                        <a:pt x="52" y="0"/>
                      </a:cubicBezTo>
                      <a:cubicBezTo>
                        <a:pt x="57" y="7"/>
                        <a:pt x="59" y="10"/>
                        <a:pt x="56" y="18"/>
                      </a:cubicBezTo>
                      <a:cubicBezTo>
                        <a:pt x="61" y="42"/>
                        <a:pt x="50" y="70"/>
                        <a:pt x="26" y="78"/>
                      </a:cubicBezTo>
                      <a:cubicBezTo>
                        <a:pt x="21" y="70"/>
                        <a:pt x="19" y="62"/>
                        <a:pt x="16" y="54"/>
                      </a:cubicBezTo>
                      <a:cubicBezTo>
                        <a:pt x="13" y="45"/>
                        <a:pt x="3" y="40"/>
                        <a:pt x="0" y="30"/>
                      </a:cubicBezTo>
                      <a:cubicBezTo>
                        <a:pt x="2" y="23"/>
                        <a:pt x="0" y="24"/>
                        <a:pt x="4" y="2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827240" y="5172120"/>
                  <a:ext cx="197280" cy="270000"/>
                </a:xfrm>
                <a:custGeom>
                  <a:avLst/>
                  <a:gdLst/>
                  <a:ahLst/>
                  <a:rect l="l" t="t" r="r" b="b"/>
                  <a:pathLst>
                    <a:path w="113" h="152">
                      <a:moveTo>
                        <a:pt x="75" y="0"/>
                      </a:moveTo>
                      <a:cubicBezTo>
                        <a:pt x="87" y="2"/>
                        <a:pt x="86" y="6"/>
                        <a:pt x="95" y="12"/>
                      </a:cubicBezTo>
                      <a:cubicBezTo>
                        <a:pt x="105" y="10"/>
                        <a:pt x="110" y="8"/>
                        <a:pt x="113" y="18"/>
                      </a:cubicBezTo>
                      <a:cubicBezTo>
                        <a:pt x="108" y="34"/>
                        <a:pt x="97" y="54"/>
                        <a:pt x="83" y="64"/>
                      </a:cubicBezTo>
                      <a:cubicBezTo>
                        <a:pt x="82" y="68"/>
                        <a:pt x="83" y="74"/>
                        <a:pt x="79" y="76"/>
                      </a:cubicBezTo>
                      <a:cubicBezTo>
                        <a:pt x="75" y="79"/>
                        <a:pt x="67" y="84"/>
                        <a:pt x="67" y="84"/>
                      </a:cubicBezTo>
                      <a:cubicBezTo>
                        <a:pt x="60" y="95"/>
                        <a:pt x="57" y="108"/>
                        <a:pt x="53" y="120"/>
                      </a:cubicBezTo>
                      <a:cubicBezTo>
                        <a:pt x="52" y="124"/>
                        <a:pt x="53" y="131"/>
                        <a:pt x="49" y="132"/>
                      </a:cubicBezTo>
                      <a:cubicBezTo>
                        <a:pt x="43" y="134"/>
                        <a:pt x="31" y="138"/>
                        <a:pt x="31" y="138"/>
                      </a:cubicBezTo>
                      <a:cubicBezTo>
                        <a:pt x="28" y="146"/>
                        <a:pt x="25" y="149"/>
                        <a:pt x="17" y="152"/>
                      </a:cubicBezTo>
                      <a:cubicBezTo>
                        <a:pt x="12" y="144"/>
                        <a:pt x="12" y="141"/>
                        <a:pt x="21" y="138"/>
                      </a:cubicBezTo>
                      <a:cubicBezTo>
                        <a:pt x="18" y="130"/>
                        <a:pt x="15" y="129"/>
                        <a:pt x="7" y="126"/>
                      </a:cubicBezTo>
                      <a:cubicBezTo>
                        <a:pt x="0" y="104"/>
                        <a:pt x="19" y="73"/>
                        <a:pt x="41" y="68"/>
                      </a:cubicBezTo>
                      <a:cubicBezTo>
                        <a:pt x="56" y="46"/>
                        <a:pt x="75" y="30"/>
                        <a:pt x="75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968360" y="4964760"/>
                  <a:ext cx="169200" cy="246960"/>
                </a:xfrm>
                <a:custGeom>
                  <a:avLst/>
                  <a:gdLst/>
                  <a:ahLst/>
                  <a:rect l="l" t="t" r="r" b="b"/>
                  <a:pathLst>
                    <a:path w="97" h="139">
                      <a:moveTo>
                        <a:pt x="62" y="97"/>
                      </a:moveTo>
                      <a:cubicBezTo>
                        <a:pt x="61" y="102"/>
                        <a:pt x="64" y="113"/>
                        <a:pt x="60" y="117"/>
                      </a:cubicBezTo>
                      <a:cubicBezTo>
                        <a:pt x="57" y="120"/>
                        <a:pt x="48" y="125"/>
                        <a:pt x="48" y="125"/>
                      </a:cubicBezTo>
                      <a:cubicBezTo>
                        <a:pt x="39" y="139"/>
                        <a:pt x="45" y="139"/>
                        <a:pt x="34" y="135"/>
                      </a:cubicBezTo>
                      <a:cubicBezTo>
                        <a:pt x="35" y="129"/>
                        <a:pt x="41" y="117"/>
                        <a:pt x="36" y="111"/>
                      </a:cubicBezTo>
                      <a:cubicBezTo>
                        <a:pt x="33" y="107"/>
                        <a:pt x="24" y="103"/>
                        <a:pt x="24" y="103"/>
                      </a:cubicBezTo>
                      <a:cubicBezTo>
                        <a:pt x="22" y="96"/>
                        <a:pt x="20" y="94"/>
                        <a:pt x="24" y="85"/>
                      </a:cubicBezTo>
                      <a:cubicBezTo>
                        <a:pt x="26" y="81"/>
                        <a:pt x="32" y="73"/>
                        <a:pt x="32" y="73"/>
                      </a:cubicBezTo>
                      <a:cubicBezTo>
                        <a:pt x="27" y="59"/>
                        <a:pt x="25" y="35"/>
                        <a:pt x="12" y="27"/>
                      </a:cubicBezTo>
                      <a:cubicBezTo>
                        <a:pt x="9" y="18"/>
                        <a:pt x="3" y="12"/>
                        <a:pt x="0" y="3"/>
                      </a:cubicBezTo>
                      <a:cubicBezTo>
                        <a:pt x="9" y="0"/>
                        <a:pt x="11" y="2"/>
                        <a:pt x="18" y="9"/>
                      </a:cubicBezTo>
                      <a:cubicBezTo>
                        <a:pt x="20" y="22"/>
                        <a:pt x="23" y="23"/>
                        <a:pt x="30" y="33"/>
                      </a:cubicBezTo>
                      <a:cubicBezTo>
                        <a:pt x="33" y="51"/>
                        <a:pt x="34" y="53"/>
                        <a:pt x="50" y="57"/>
                      </a:cubicBezTo>
                      <a:cubicBezTo>
                        <a:pt x="53" y="66"/>
                        <a:pt x="47" y="67"/>
                        <a:pt x="56" y="73"/>
                      </a:cubicBezTo>
                      <a:cubicBezTo>
                        <a:pt x="68" y="71"/>
                        <a:pt x="73" y="73"/>
                        <a:pt x="76" y="61"/>
                      </a:cubicBezTo>
                      <a:cubicBezTo>
                        <a:pt x="97" y="68"/>
                        <a:pt x="79" y="83"/>
                        <a:pt x="66" y="87"/>
                      </a:cubicBezTo>
                      <a:cubicBezTo>
                        <a:pt x="67" y="89"/>
                        <a:pt x="69" y="91"/>
                        <a:pt x="68" y="93"/>
                      </a:cubicBezTo>
                      <a:cubicBezTo>
                        <a:pt x="67" y="95"/>
                        <a:pt x="62" y="97"/>
                        <a:pt x="62" y="97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779360" y="4526640"/>
                  <a:ext cx="84240" cy="101520"/>
                </a:xfrm>
                <a:custGeom>
                  <a:avLst/>
                  <a:gdLst/>
                  <a:ahLst/>
                  <a:rect l="l" t="t" r="r" b="b"/>
                  <a:pathLst>
                    <a:path w="49" h="57">
                      <a:moveTo>
                        <a:pt x="9" y="5"/>
                      </a:moveTo>
                      <a:cubicBezTo>
                        <a:pt x="6" y="4"/>
                        <a:pt x="2" y="5"/>
                        <a:pt x="1" y="3"/>
                      </a:cubicBezTo>
                      <a:cubicBezTo>
                        <a:pt x="0" y="1"/>
                        <a:pt x="5" y="0"/>
                        <a:pt x="7" y="1"/>
                      </a:cubicBezTo>
                      <a:cubicBezTo>
                        <a:pt x="9" y="2"/>
                        <a:pt x="16" y="10"/>
                        <a:pt x="17" y="13"/>
                      </a:cubicBezTo>
                      <a:cubicBezTo>
                        <a:pt x="20" y="19"/>
                        <a:pt x="18" y="28"/>
                        <a:pt x="23" y="33"/>
                      </a:cubicBezTo>
                      <a:cubicBezTo>
                        <a:pt x="28" y="37"/>
                        <a:pt x="36" y="37"/>
                        <a:pt x="41" y="41"/>
                      </a:cubicBezTo>
                      <a:cubicBezTo>
                        <a:pt x="46" y="57"/>
                        <a:pt x="49" y="54"/>
                        <a:pt x="31" y="51"/>
                      </a:cubicBezTo>
                      <a:cubicBezTo>
                        <a:pt x="26" y="47"/>
                        <a:pt x="23" y="46"/>
                        <a:pt x="19" y="41"/>
                      </a:cubicBezTo>
                      <a:cubicBezTo>
                        <a:pt x="16" y="37"/>
                        <a:pt x="11" y="29"/>
                        <a:pt x="11" y="29"/>
                      </a:cubicBezTo>
                      <a:cubicBezTo>
                        <a:pt x="10" y="24"/>
                        <a:pt x="7" y="20"/>
                        <a:pt x="7" y="15"/>
                      </a:cubicBezTo>
                      <a:cubicBezTo>
                        <a:pt x="7" y="12"/>
                        <a:pt x="9" y="5"/>
                        <a:pt x="9" y="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4804560" y="4353120"/>
                  <a:ext cx="19800" cy="2232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3"/>
                      </a:moveTo>
                      <a:cubicBezTo>
                        <a:pt x="9" y="0"/>
                        <a:pt x="11" y="5"/>
                        <a:pt x="8" y="13"/>
                      </a:cubicBezTo>
                      <a:cubicBezTo>
                        <a:pt x="2" y="11"/>
                        <a:pt x="0" y="10"/>
                        <a:pt x="0" y="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4835520" y="435708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8" y="0"/>
                      </a:moveTo>
                      <a:cubicBezTo>
                        <a:pt x="19" y="4"/>
                        <a:pt x="15" y="13"/>
                        <a:pt x="6" y="16"/>
                      </a:cubicBezTo>
                      <a:cubicBezTo>
                        <a:pt x="2" y="9"/>
                        <a:pt x="0" y="4"/>
                        <a:pt x="8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4838400" y="4389480"/>
                  <a:ext cx="45000" cy="20880"/>
                </a:xfrm>
                <a:custGeom>
                  <a:avLst/>
                  <a:gdLst/>
                  <a:ahLst/>
                  <a:rect l="l" t="t" r="r" b="b"/>
                  <a:pathLst>
                    <a:path w="26" h="12">
                      <a:moveTo>
                        <a:pt x="9" y="0"/>
                      </a:moveTo>
                      <a:cubicBezTo>
                        <a:pt x="19" y="2"/>
                        <a:pt x="26" y="5"/>
                        <a:pt x="15" y="12"/>
                      </a:cubicBezTo>
                      <a:cubicBezTo>
                        <a:pt x="13" y="11"/>
                        <a:pt x="10" y="11"/>
                        <a:pt x="9" y="10"/>
                      </a:cubicBezTo>
                      <a:cubicBezTo>
                        <a:pt x="0" y="1"/>
                        <a:pt x="20" y="0"/>
                        <a:pt x="9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4872240" y="444348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3" y="6"/>
                      </a:moveTo>
                      <a:cubicBezTo>
                        <a:pt x="12" y="0"/>
                        <a:pt x="14" y="5"/>
                        <a:pt x="11" y="14"/>
                      </a:cubicBezTo>
                      <a:cubicBezTo>
                        <a:pt x="8" y="13"/>
                        <a:pt x="3" y="14"/>
                        <a:pt x="1" y="12"/>
                      </a:cubicBezTo>
                      <a:cubicBezTo>
                        <a:pt x="0" y="11"/>
                        <a:pt x="3" y="6"/>
                        <a:pt x="3" y="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281920" y="4563720"/>
                  <a:ext cx="37800" cy="3636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1" y="0"/>
                      </a:moveTo>
                      <a:cubicBezTo>
                        <a:pt x="14" y="9"/>
                        <a:pt x="22" y="16"/>
                        <a:pt x="9" y="20"/>
                      </a:cubicBezTo>
                      <a:cubicBezTo>
                        <a:pt x="0" y="11"/>
                        <a:pt x="4" y="10"/>
                        <a:pt x="11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122080" y="4417920"/>
                  <a:ext cx="38160" cy="4536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2" y="6"/>
                      </a:moveTo>
                      <a:cubicBezTo>
                        <a:pt x="11" y="0"/>
                        <a:pt x="16" y="1"/>
                        <a:pt x="22" y="10"/>
                      </a:cubicBezTo>
                      <a:cubicBezTo>
                        <a:pt x="19" y="25"/>
                        <a:pt x="16" y="22"/>
                        <a:pt x="2" y="20"/>
                      </a:cubicBezTo>
                      <a:cubicBezTo>
                        <a:pt x="0" y="13"/>
                        <a:pt x="2" y="13"/>
                        <a:pt x="2" y="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153400" y="4382640"/>
                  <a:ext cx="35280" cy="3240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6" y="18"/>
                      </a:moveTo>
                      <a:cubicBezTo>
                        <a:pt x="1" y="10"/>
                        <a:pt x="0" y="3"/>
                        <a:pt x="10" y="0"/>
                      </a:cubicBezTo>
                      <a:cubicBezTo>
                        <a:pt x="20" y="3"/>
                        <a:pt x="15" y="10"/>
                        <a:pt x="12" y="18"/>
                      </a:cubicBezTo>
                      <a:cubicBezTo>
                        <a:pt x="5" y="16"/>
                        <a:pt x="6" y="14"/>
                        <a:pt x="6" y="1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092560" y="4128120"/>
                  <a:ext cx="26640" cy="40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400360" y="4271040"/>
                  <a:ext cx="34920" cy="40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532040" y="4036680"/>
                  <a:ext cx="51840" cy="7488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3906720" y="4105800"/>
                  <a:ext cx="43200" cy="28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3718800" y="4141080"/>
                  <a:ext cx="114120" cy="81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597120" y="4132800"/>
                  <a:ext cx="119880" cy="831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954880" y="3672000"/>
                  <a:ext cx="619560" cy="4914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334680" y="3636720"/>
                  <a:ext cx="272160" cy="3657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600000" y="3806280"/>
                  <a:ext cx="190440" cy="6768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590280" y="3885480"/>
                  <a:ext cx="132480" cy="1850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3811680" y="3785040"/>
                  <a:ext cx="64800" cy="1083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826080" y="3953160"/>
                  <a:ext cx="84600" cy="504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913560" y="3873960"/>
                  <a:ext cx="105480" cy="860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943080" y="3913560"/>
                  <a:ext cx="498240" cy="3232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374000" y="3948840"/>
                  <a:ext cx="135720" cy="1386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4663440" y="3653640"/>
                  <a:ext cx="29520" cy="320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832640" y="3867120"/>
                  <a:ext cx="45360" cy="39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279320" y="3386520"/>
                  <a:ext cx="34920" cy="2664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989880" y="3611520"/>
                  <a:ext cx="34920" cy="262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673440" y="3543480"/>
                  <a:ext cx="139680" cy="1422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625560" y="3238200"/>
                  <a:ext cx="163800" cy="30924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670560" y="3465720"/>
                  <a:ext cx="54720" cy="8892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555000" y="3486960"/>
                  <a:ext cx="74520" cy="889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277040" y="3379680"/>
                  <a:ext cx="1790280" cy="2513160"/>
                </a:xfrm>
                <a:custGeom>
                  <a:avLst/>
                  <a:gdLst/>
                  <a:ahLst/>
                  <a:rect l="l" t="t" r="r" b="b"/>
                  <a:pathLst>
                    <a:path w="1026" h="1413">
                      <a:moveTo>
                        <a:pt x="363" y="69"/>
                      </a:moveTo>
                      <a:cubicBezTo>
                        <a:pt x="376" y="78"/>
                        <a:pt x="383" y="74"/>
                        <a:pt x="396" y="66"/>
                      </a:cubicBezTo>
                      <a:cubicBezTo>
                        <a:pt x="391" y="42"/>
                        <a:pt x="396" y="27"/>
                        <a:pt x="420" y="21"/>
                      </a:cubicBezTo>
                      <a:cubicBezTo>
                        <a:pt x="430" y="15"/>
                        <a:pt x="437" y="6"/>
                        <a:pt x="447" y="0"/>
                      </a:cubicBezTo>
                      <a:cubicBezTo>
                        <a:pt x="450" y="1"/>
                        <a:pt x="456" y="0"/>
                        <a:pt x="456" y="3"/>
                      </a:cubicBezTo>
                      <a:cubicBezTo>
                        <a:pt x="459" y="22"/>
                        <a:pt x="437" y="24"/>
                        <a:pt x="462" y="18"/>
                      </a:cubicBezTo>
                      <a:cubicBezTo>
                        <a:pt x="465" y="15"/>
                        <a:pt x="467" y="9"/>
                        <a:pt x="471" y="9"/>
                      </a:cubicBezTo>
                      <a:cubicBezTo>
                        <a:pt x="477" y="8"/>
                        <a:pt x="483" y="13"/>
                        <a:pt x="489" y="15"/>
                      </a:cubicBezTo>
                      <a:cubicBezTo>
                        <a:pt x="492" y="16"/>
                        <a:pt x="498" y="18"/>
                        <a:pt x="498" y="18"/>
                      </a:cubicBezTo>
                      <a:cubicBezTo>
                        <a:pt x="506" y="31"/>
                        <a:pt x="517" y="25"/>
                        <a:pt x="534" y="27"/>
                      </a:cubicBezTo>
                      <a:cubicBezTo>
                        <a:pt x="538" y="39"/>
                        <a:pt x="543" y="41"/>
                        <a:pt x="555" y="45"/>
                      </a:cubicBezTo>
                      <a:cubicBezTo>
                        <a:pt x="561" y="41"/>
                        <a:pt x="567" y="37"/>
                        <a:pt x="573" y="33"/>
                      </a:cubicBezTo>
                      <a:cubicBezTo>
                        <a:pt x="576" y="31"/>
                        <a:pt x="582" y="27"/>
                        <a:pt x="582" y="27"/>
                      </a:cubicBezTo>
                      <a:cubicBezTo>
                        <a:pt x="615" y="49"/>
                        <a:pt x="585" y="37"/>
                        <a:pt x="615" y="27"/>
                      </a:cubicBezTo>
                      <a:cubicBezTo>
                        <a:pt x="633" y="33"/>
                        <a:pt x="624" y="50"/>
                        <a:pt x="639" y="60"/>
                      </a:cubicBezTo>
                      <a:cubicBezTo>
                        <a:pt x="643" y="73"/>
                        <a:pt x="658" y="104"/>
                        <a:pt x="669" y="111"/>
                      </a:cubicBezTo>
                      <a:cubicBezTo>
                        <a:pt x="683" y="132"/>
                        <a:pt x="674" y="127"/>
                        <a:pt x="690" y="132"/>
                      </a:cubicBezTo>
                      <a:cubicBezTo>
                        <a:pt x="696" y="131"/>
                        <a:pt x="702" y="130"/>
                        <a:pt x="708" y="129"/>
                      </a:cubicBezTo>
                      <a:cubicBezTo>
                        <a:pt x="714" y="127"/>
                        <a:pt x="726" y="123"/>
                        <a:pt x="726" y="123"/>
                      </a:cubicBezTo>
                      <a:cubicBezTo>
                        <a:pt x="738" y="126"/>
                        <a:pt x="746" y="128"/>
                        <a:pt x="756" y="135"/>
                      </a:cubicBezTo>
                      <a:cubicBezTo>
                        <a:pt x="777" y="167"/>
                        <a:pt x="744" y="118"/>
                        <a:pt x="771" y="153"/>
                      </a:cubicBezTo>
                      <a:cubicBezTo>
                        <a:pt x="775" y="159"/>
                        <a:pt x="783" y="171"/>
                        <a:pt x="783" y="171"/>
                      </a:cubicBezTo>
                      <a:cubicBezTo>
                        <a:pt x="787" y="185"/>
                        <a:pt x="793" y="196"/>
                        <a:pt x="798" y="210"/>
                      </a:cubicBezTo>
                      <a:cubicBezTo>
                        <a:pt x="800" y="216"/>
                        <a:pt x="802" y="222"/>
                        <a:pt x="804" y="228"/>
                      </a:cubicBezTo>
                      <a:cubicBezTo>
                        <a:pt x="805" y="231"/>
                        <a:pt x="807" y="237"/>
                        <a:pt x="807" y="237"/>
                      </a:cubicBezTo>
                      <a:cubicBezTo>
                        <a:pt x="803" y="250"/>
                        <a:pt x="791" y="255"/>
                        <a:pt x="786" y="270"/>
                      </a:cubicBezTo>
                      <a:cubicBezTo>
                        <a:pt x="791" y="286"/>
                        <a:pt x="797" y="277"/>
                        <a:pt x="804" y="267"/>
                      </a:cubicBezTo>
                      <a:cubicBezTo>
                        <a:pt x="833" y="271"/>
                        <a:pt x="829" y="269"/>
                        <a:pt x="834" y="294"/>
                      </a:cubicBezTo>
                      <a:cubicBezTo>
                        <a:pt x="847" y="285"/>
                        <a:pt x="854" y="289"/>
                        <a:pt x="867" y="297"/>
                      </a:cubicBezTo>
                      <a:cubicBezTo>
                        <a:pt x="874" y="308"/>
                        <a:pt x="879" y="314"/>
                        <a:pt x="891" y="318"/>
                      </a:cubicBezTo>
                      <a:cubicBezTo>
                        <a:pt x="892" y="321"/>
                        <a:pt x="895" y="324"/>
                        <a:pt x="894" y="327"/>
                      </a:cubicBezTo>
                      <a:cubicBezTo>
                        <a:pt x="891" y="334"/>
                        <a:pt x="873" y="326"/>
                        <a:pt x="894" y="333"/>
                      </a:cubicBezTo>
                      <a:cubicBezTo>
                        <a:pt x="900" y="331"/>
                        <a:pt x="906" y="329"/>
                        <a:pt x="912" y="327"/>
                      </a:cubicBezTo>
                      <a:cubicBezTo>
                        <a:pt x="915" y="326"/>
                        <a:pt x="921" y="324"/>
                        <a:pt x="921" y="324"/>
                      </a:cubicBezTo>
                      <a:cubicBezTo>
                        <a:pt x="940" y="336"/>
                        <a:pt x="960" y="339"/>
                        <a:pt x="978" y="351"/>
                      </a:cubicBezTo>
                      <a:cubicBezTo>
                        <a:pt x="981" y="361"/>
                        <a:pt x="987" y="368"/>
                        <a:pt x="990" y="378"/>
                      </a:cubicBezTo>
                      <a:cubicBezTo>
                        <a:pt x="999" y="376"/>
                        <a:pt x="1010" y="370"/>
                        <a:pt x="1017" y="381"/>
                      </a:cubicBezTo>
                      <a:cubicBezTo>
                        <a:pt x="1022" y="389"/>
                        <a:pt x="1026" y="408"/>
                        <a:pt x="1026" y="408"/>
                      </a:cubicBezTo>
                      <a:cubicBezTo>
                        <a:pt x="1022" y="438"/>
                        <a:pt x="1023" y="471"/>
                        <a:pt x="996" y="489"/>
                      </a:cubicBezTo>
                      <a:cubicBezTo>
                        <a:pt x="991" y="497"/>
                        <a:pt x="976" y="514"/>
                        <a:pt x="972" y="525"/>
                      </a:cubicBezTo>
                      <a:cubicBezTo>
                        <a:pt x="970" y="531"/>
                        <a:pt x="972" y="541"/>
                        <a:pt x="966" y="543"/>
                      </a:cubicBezTo>
                      <a:cubicBezTo>
                        <a:pt x="951" y="548"/>
                        <a:pt x="943" y="558"/>
                        <a:pt x="930" y="567"/>
                      </a:cubicBezTo>
                      <a:cubicBezTo>
                        <a:pt x="925" y="583"/>
                        <a:pt x="916" y="596"/>
                        <a:pt x="912" y="612"/>
                      </a:cubicBezTo>
                      <a:cubicBezTo>
                        <a:pt x="909" y="623"/>
                        <a:pt x="909" y="635"/>
                        <a:pt x="903" y="645"/>
                      </a:cubicBezTo>
                      <a:cubicBezTo>
                        <a:pt x="899" y="651"/>
                        <a:pt x="893" y="656"/>
                        <a:pt x="891" y="663"/>
                      </a:cubicBezTo>
                      <a:cubicBezTo>
                        <a:pt x="881" y="692"/>
                        <a:pt x="870" y="723"/>
                        <a:pt x="843" y="741"/>
                      </a:cubicBezTo>
                      <a:cubicBezTo>
                        <a:pt x="837" y="758"/>
                        <a:pt x="830" y="759"/>
                        <a:pt x="816" y="768"/>
                      </a:cubicBezTo>
                      <a:cubicBezTo>
                        <a:pt x="805" y="784"/>
                        <a:pt x="789" y="787"/>
                        <a:pt x="771" y="792"/>
                      </a:cubicBezTo>
                      <a:cubicBezTo>
                        <a:pt x="750" y="806"/>
                        <a:pt x="760" y="802"/>
                        <a:pt x="744" y="807"/>
                      </a:cubicBezTo>
                      <a:cubicBezTo>
                        <a:pt x="735" y="804"/>
                        <a:pt x="717" y="810"/>
                        <a:pt x="717" y="810"/>
                      </a:cubicBezTo>
                      <a:cubicBezTo>
                        <a:pt x="713" y="816"/>
                        <a:pt x="710" y="823"/>
                        <a:pt x="705" y="828"/>
                      </a:cubicBezTo>
                      <a:cubicBezTo>
                        <a:pt x="702" y="831"/>
                        <a:pt x="698" y="834"/>
                        <a:pt x="696" y="837"/>
                      </a:cubicBezTo>
                      <a:cubicBezTo>
                        <a:pt x="684" y="853"/>
                        <a:pt x="680" y="880"/>
                        <a:pt x="666" y="894"/>
                      </a:cubicBezTo>
                      <a:cubicBezTo>
                        <a:pt x="659" y="901"/>
                        <a:pt x="698" y="916"/>
                        <a:pt x="642" y="906"/>
                      </a:cubicBezTo>
                      <a:lnTo>
                        <a:pt x="606" y="948"/>
                      </a:lnTo>
                      <a:lnTo>
                        <a:pt x="549" y="987"/>
                      </a:lnTo>
                      <a:lnTo>
                        <a:pt x="525" y="1023"/>
                      </a:lnTo>
                      <a:lnTo>
                        <a:pt x="480" y="1023"/>
                      </a:lnTo>
                      <a:lnTo>
                        <a:pt x="459" y="1017"/>
                      </a:lnTo>
                      <a:lnTo>
                        <a:pt x="459" y="1044"/>
                      </a:lnTo>
                      <a:lnTo>
                        <a:pt x="435" y="1080"/>
                      </a:lnTo>
                      <a:lnTo>
                        <a:pt x="402" y="1098"/>
                      </a:lnTo>
                      <a:lnTo>
                        <a:pt x="351" y="1101"/>
                      </a:lnTo>
                      <a:lnTo>
                        <a:pt x="333" y="1125"/>
                      </a:lnTo>
                      <a:lnTo>
                        <a:pt x="306" y="1146"/>
                      </a:lnTo>
                      <a:lnTo>
                        <a:pt x="291" y="1125"/>
                      </a:lnTo>
                      <a:lnTo>
                        <a:pt x="276" y="1158"/>
                      </a:lnTo>
                      <a:lnTo>
                        <a:pt x="282" y="1176"/>
                      </a:lnTo>
                      <a:lnTo>
                        <a:pt x="249" y="1191"/>
                      </a:lnTo>
                      <a:lnTo>
                        <a:pt x="228" y="1218"/>
                      </a:lnTo>
                      <a:lnTo>
                        <a:pt x="201" y="1215"/>
                      </a:lnTo>
                      <a:lnTo>
                        <a:pt x="174" y="1248"/>
                      </a:lnTo>
                      <a:lnTo>
                        <a:pt x="177" y="1263"/>
                      </a:lnTo>
                      <a:lnTo>
                        <a:pt x="156" y="1284"/>
                      </a:lnTo>
                      <a:lnTo>
                        <a:pt x="138" y="1290"/>
                      </a:lnTo>
                      <a:lnTo>
                        <a:pt x="117" y="1314"/>
                      </a:lnTo>
                      <a:lnTo>
                        <a:pt x="96" y="1314"/>
                      </a:lnTo>
                      <a:lnTo>
                        <a:pt x="63" y="1347"/>
                      </a:lnTo>
                      <a:lnTo>
                        <a:pt x="39" y="1368"/>
                      </a:lnTo>
                      <a:lnTo>
                        <a:pt x="54" y="1380"/>
                      </a:lnTo>
                      <a:lnTo>
                        <a:pt x="66" y="1413"/>
                      </a:lnTo>
                      <a:lnTo>
                        <a:pt x="39" y="1410"/>
                      </a:lnTo>
                      <a:lnTo>
                        <a:pt x="0" y="1392"/>
                      </a:lnTo>
                      <a:lnTo>
                        <a:pt x="18" y="1371"/>
                      </a:lnTo>
                      <a:lnTo>
                        <a:pt x="9" y="1344"/>
                      </a:lnTo>
                      <a:lnTo>
                        <a:pt x="21" y="1332"/>
                      </a:lnTo>
                      <a:lnTo>
                        <a:pt x="45" y="1305"/>
                      </a:lnTo>
                      <a:lnTo>
                        <a:pt x="105" y="1215"/>
                      </a:lnTo>
                      <a:lnTo>
                        <a:pt x="159" y="1134"/>
                      </a:lnTo>
                      <a:lnTo>
                        <a:pt x="201" y="1095"/>
                      </a:lnTo>
                      <a:lnTo>
                        <a:pt x="219" y="1053"/>
                      </a:lnTo>
                      <a:lnTo>
                        <a:pt x="234" y="1047"/>
                      </a:lnTo>
                      <a:lnTo>
                        <a:pt x="300" y="966"/>
                      </a:lnTo>
                      <a:lnTo>
                        <a:pt x="315" y="924"/>
                      </a:lnTo>
                      <a:lnTo>
                        <a:pt x="333" y="912"/>
                      </a:lnTo>
                      <a:lnTo>
                        <a:pt x="339" y="882"/>
                      </a:lnTo>
                      <a:lnTo>
                        <a:pt x="357" y="858"/>
                      </a:lnTo>
                      <a:cubicBezTo>
                        <a:pt x="364" y="844"/>
                        <a:pt x="370" y="833"/>
                        <a:pt x="381" y="822"/>
                      </a:cubicBezTo>
                      <a:cubicBezTo>
                        <a:pt x="386" y="806"/>
                        <a:pt x="382" y="816"/>
                        <a:pt x="396" y="795"/>
                      </a:cubicBezTo>
                      <a:cubicBezTo>
                        <a:pt x="401" y="787"/>
                        <a:pt x="405" y="769"/>
                        <a:pt x="408" y="759"/>
                      </a:cubicBezTo>
                      <a:cubicBezTo>
                        <a:pt x="418" y="728"/>
                        <a:pt x="428" y="697"/>
                        <a:pt x="438" y="666"/>
                      </a:cubicBezTo>
                      <a:cubicBezTo>
                        <a:pt x="434" y="648"/>
                        <a:pt x="429" y="637"/>
                        <a:pt x="414" y="627"/>
                      </a:cubicBezTo>
                      <a:lnTo>
                        <a:pt x="387" y="597"/>
                      </a:lnTo>
                      <a:cubicBezTo>
                        <a:pt x="387" y="597"/>
                        <a:pt x="378" y="570"/>
                        <a:pt x="378" y="570"/>
                      </a:cubicBezTo>
                      <a:cubicBezTo>
                        <a:pt x="377" y="567"/>
                        <a:pt x="375" y="561"/>
                        <a:pt x="375" y="561"/>
                      </a:cubicBezTo>
                      <a:cubicBezTo>
                        <a:pt x="374" y="551"/>
                        <a:pt x="372" y="516"/>
                        <a:pt x="369" y="501"/>
                      </a:cubicBezTo>
                      <a:cubicBezTo>
                        <a:pt x="369" y="501"/>
                        <a:pt x="362" y="479"/>
                        <a:pt x="360" y="474"/>
                      </a:cubicBezTo>
                      <a:cubicBezTo>
                        <a:pt x="359" y="471"/>
                        <a:pt x="357" y="465"/>
                        <a:pt x="357" y="465"/>
                      </a:cubicBezTo>
                      <a:cubicBezTo>
                        <a:pt x="356" y="460"/>
                        <a:pt x="354" y="420"/>
                        <a:pt x="348" y="414"/>
                      </a:cubicBezTo>
                      <a:cubicBezTo>
                        <a:pt x="344" y="410"/>
                        <a:pt x="330" y="408"/>
                        <a:pt x="330" y="408"/>
                      </a:cubicBezTo>
                      <a:cubicBezTo>
                        <a:pt x="325" y="393"/>
                        <a:pt x="329" y="379"/>
                        <a:pt x="324" y="363"/>
                      </a:cubicBezTo>
                      <a:cubicBezTo>
                        <a:pt x="328" y="351"/>
                        <a:pt x="335" y="353"/>
                        <a:pt x="342" y="342"/>
                      </a:cubicBezTo>
                      <a:cubicBezTo>
                        <a:pt x="346" y="327"/>
                        <a:pt x="346" y="321"/>
                        <a:pt x="333" y="312"/>
                      </a:cubicBezTo>
                      <a:cubicBezTo>
                        <a:pt x="331" y="309"/>
                        <a:pt x="327" y="307"/>
                        <a:pt x="327" y="303"/>
                      </a:cubicBezTo>
                      <a:cubicBezTo>
                        <a:pt x="327" y="285"/>
                        <a:pt x="348" y="234"/>
                        <a:pt x="366" y="228"/>
                      </a:cubicBezTo>
                      <a:cubicBezTo>
                        <a:pt x="372" y="211"/>
                        <a:pt x="384" y="200"/>
                        <a:pt x="390" y="183"/>
                      </a:cubicBezTo>
                      <a:cubicBezTo>
                        <a:pt x="382" y="158"/>
                        <a:pt x="381" y="161"/>
                        <a:pt x="387" y="132"/>
                      </a:cubicBezTo>
                      <a:cubicBezTo>
                        <a:pt x="381" y="114"/>
                        <a:pt x="376" y="91"/>
                        <a:pt x="360" y="81"/>
                      </a:cubicBezTo>
                      <a:cubicBezTo>
                        <a:pt x="352" y="69"/>
                        <a:pt x="339" y="70"/>
                        <a:pt x="354" y="60"/>
                      </a:cubicBezTo>
                      <a:cubicBezTo>
                        <a:pt x="365" y="64"/>
                        <a:pt x="363" y="60"/>
                        <a:pt x="363" y="6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549560" y="5770080"/>
                  <a:ext cx="81720" cy="69120"/>
                </a:xfrm>
                <a:custGeom>
                  <a:avLst/>
                  <a:gdLst/>
                  <a:ahLst/>
                  <a:rect l="l" t="t" r="r" b="b"/>
                  <a:pathLst>
                    <a:path w="47" h="39">
                      <a:moveTo>
                        <a:pt x="0" y="24"/>
                      </a:moveTo>
                      <a:cubicBezTo>
                        <a:pt x="3" y="10"/>
                        <a:pt x="4" y="5"/>
                        <a:pt x="18" y="0"/>
                      </a:cubicBezTo>
                      <a:cubicBezTo>
                        <a:pt x="31" y="9"/>
                        <a:pt x="26" y="14"/>
                        <a:pt x="42" y="18"/>
                      </a:cubicBezTo>
                      <a:cubicBezTo>
                        <a:pt x="47" y="33"/>
                        <a:pt x="38" y="36"/>
                        <a:pt x="24" y="39"/>
                      </a:cubicBezTo>
                      <a:cubicBezTo>
                        <a:pt x="21" y="38"/>
                        <a:pt x="17" y="38"/>
                        <a:pt x="15" y="36"/>
                      </a:cubicBezTo>
                      <a:cubicBezTo>
                        <a:pt x="13" y="34"/>
                        <a:pt x="14" y="29"/>
                        <a:pt x="12" y="27"/>
                      </a:cubicBezTo>
                      <a:cubicBezTo>
                        <a:pt x="9" y="24"/>
                        <a:pt x="0" y="24"/>
                        <a:pt x="0" y="2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225120" y="2078640"/>
                  <a:ext cx="1718280" cy="15001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695560" y="3128040"/>
                  <a:ext cx="61920" cy="8460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650560" y="3097080"/>
                  <a:ext cx="61920" cy="6660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633080" y="2940120"/>
                  <a:ext cx="296280" cy="17064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7946640" y="3084480"/>
                  <a:ext cx="241200" cy="788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7819200" y="3125520"/>
                  <a:ext cx="100080" cy="7452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752960" y="2899440"/>
                  <a:ext cx="67320" cy="928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275320" y="3183120"/>
                  <a:ext cx="75960" cy="14112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347880" y="930240"/>
                  <a:ext cx="1212840" cy="668160"/>
                </a:xfrm>
                <a:custGeom>
                  <a:avLst/>
                  <a:gdLst/>
                  <a:ahLst/>
                  <a:rect l="l" t="t" r="r" b="b"/>
                  <a:pathLst>
                    <a:path w="695" h="376">
                      <a:moveTo>
                        <a:pt x="164" y="0"/>
                      </a:moveTo>
                      <a:lnTo>
                        <a:pt x="340" y="68"/>
                      </a:lnTo>
                      <a:lnTo>
                        <a:pt x="484" y="132"/>
                      </a:lnTo>
                      <a:cubicBezTo>
                        <a:pt x="527" y="155"/>
                        <a:pt x="573" y="171"/>
                        <a:pt x="612" y="200"/>
                      </a:cubicBezTo>
                      <a:cubicBezTo>
                        <a:pt x="619" y="205"/>
                        <a:pt x="588" y="208"/>
                        <a:pt x="588" y="208"/>
                      </a:cubicBezTo>
                      <a:cubicBezTo>
                        <a:pt x="577" y="225"/>
                        <a:pt x="568" y="240"/>
                        <a:pt x="592" y="248"/>
                      </a:cubicBezTo>
                      <a:cubicBezTo>
                        <a:pt x="616" y="240"/>
                        <a:pt x="607" y="257"/>
                        <a:pt x="596" y="268"/>
                      </a:cubicBezTo>
                      <a:cubicBezTo>
                        <a:pt x="589" y="289"/>
                        <a:pt x="590" y="276"/>
                        <a:pt x="608" y="304"/>
                      </a:cubicBezTo>
                      <a:cubicBezTo>
                        <a:pt x="613" y="312"/>
                        <a:pt x="615" y="325"/>
                        <a:pt x="624" y="328"/>
                      </a:cubicBezTo>
                      <a:cubicBezTo>
                        <a:pt x="645" y="335"/>
                        <a:pt x="665" y="343"/>
                        <a:pt x="684" y="356"/>
                      </a:cubicBezTo>
                      <a:cubicBezTo>
                        <a:pt x="686" y="363"/>
                        <a:pt x="695" y="376"/>
                        <a:pt x="676" y="376"/>
                      </a:cubicBezTo>
                      <a:cubicBezTo>
                        <a:pt x="658" y="376"/>
                        <a:pt x="591" y="347"/>
                        <a:pt x="572" y="340"/>
                      </a:cubicBezTo>
                      <a:cubicBezTo>
                        <a:pt x="562" y="336"/>
                        <a:pt x="540" y="332"/>
                        <a:pt x="540" y="332"/>
                      </a:cubicBezTo>
                      <a:cubicBezTo>
                        <a:pt x="531" y="304"/>
                        <a:pt x="540" y="311"/>
                        <a:pt x="520" y="304"/>
                      </a:cubicBezTo>
                      <a:cubicBezTo>
                        <a:pt x="519" y="308"/>
                        <a:pt x="520" y="315"/>
                        <a:pt x="516" y="316"/>
                      </a:cubicBezTo>
                      <a:cubicBezTo>
                        <a:pt x="515" y="316"/>
                        <a:pt x="486" y="300"/>
                        <a:pt x="480" y="296"/>
                      </a:cubicBezTo>
                      <a:cubicBezTo>
                        <a:pt x="467" y="277"/>
                        <a:pt x="443" y="277"/>
                        <a:pt x="424" y="264"/>
                      </a:cubicBezTo>
                      <a:cubicBezTo>
                        <a:pt x="414" y="249"/>
                        <a:pt x="406" y="253"/>
                        <a:pt x="400" y="236"/>
                      </a:cubicBezTo>
                      <a:cubicBezTo>
                        <a:pt x="408" y="212"/>
                        <a:pt x="385" y="221"/>
                        <a:pt x="368" y="224"/>
                      </a:cubicBezTo>
                      <a:cubicBezTo>
                        <a:pt x="330" y="216"/>
                        <a:pt x="355" y="200"/>
                        <a:pt x="308" y="192"/>
                      </a:cubicBezTo>
                      <a:cubicBezTo>
                        <a:pt x="282" y="201"/>
                        <a:pt x="294" y="173"/>
                        <a:pt x="264" y="168"/>
                      </a:cubicBezTo>
                      <a:cubicBezTo>
                        <a:pt x="233" y="163"/>
                        <a:pt x="206" y="153"/>
                        <a:pt x="180" y="136"/>
                      </a:cubicBezTo>
                      <a:cubicBezTo>
                        <a:pt x="157" y="141"/>
                        <a:pt x="139" y="138"/>
                        <a:pt x="116" y="132"/>
                      </a:cubicBezTo>
                      <a:cubicBezTo>
                        <a:pt x="100" y="137"/>
                        <a:pt x="93" y="141"/>
                        <a:pt x="72" y="132"/>
                      </a:cubicBezTo>
                      <a:cubicBezTo>
                        <a:pt x="68" y="130"/>
                        <a:pt x="71" y="123"/>
                        <a:pt x="68" y="120"/>
                      </a:cubicBezTo>
                      <a:cubicBezTo>
                        <a:pt x="65" y="116"/>
                        <a:pt x="60" y="115"/>
                        <a:pt x="56" y="112"/>
                      </a:cubicBezTo>
                      <a:cubicBezTo>
                        <a:pt x="38" y="118"/>
                        <a:pt x="31" y="116"/>
                        <a:pt x="20" y="100"/>
                      </a:cubicBezTo>
                      <a:cubicBezTo>
                        <a:pt x="16" y="86"/>
                        <a:pt x="0" y="60"/>
                        <a:pt x="0" y="60"/>
                      </a:cubicBezTo>
                      <a:cubicBezTo>
                        <a:pt x="7" y="38"/>
                        <a:pt x="25" y="43"/>
                        <a:pt x="48" y="40"/>
                      </a:cubicBezTo>
                      <a:cubicBezTo>
                        <a:pt x="51" y="44"/>
                        <a:pt x="51" y="51"/>
                        <a:pt x="56" y="52"/>
                      </a:cubicBezTo>
                      <a:cubicBezTo>
                        <a:pt x="64" y="53"/>
                        <a:pt x="80" y="44"/>
                        <a:pt x="80" y="44"/>
                      </a:cubicBezTo>
                      <a:cubicBezTo>
                        <a:pt x="85" y="45"/>
                        <a:pt x="91" y="46"/>
                        <a:pt x="96" y="48"/>
                      </a:cubicBezTo>
                      <a:cubicBezTo>
                        <a:pt x="100" y="49"/>
                        <a:pt x="106" y="56"/>
                        <a:pt x="108" y="52"/>
                      </a:cubicBezTo>
                      <a:cubicBezTo>
                        <a:pt x="113" y="42"/>
                        <a:pt x="101" y="27"/>
                        <a:pt x="96" y="20"/>
                      </a:cubicBezTo>
                      <a:cubicBezTo>
                        <a:pt x="110" y="11"/>
                        <a:pt x="148" y="0"/>
                        <a:pt x="164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999400" y="997920"/>
                  <a:ext cx="362520" cy="208800"/>
                </a:xfrm>
                <a:custGeom>
                  <a:avLst/>
                  <a:gdLst/>
                  <a:ahLst/>
                  <a:rect l="l" t="t" r="r" b="b"/>
                  <a:pathLst>
                    <a:path w="208" h="118">
                      <a:moveTo>
                        <a:pt x="16" y="26"/>
                      </a:moveTo>
                      <a:cubicBezTo>
                        <a:pt x="41" y="9"/>
                        <a:pt x="15" y="22"/>
                        <a:pt x="40" y="22"/>
                      </a:cubicBezTo>
                      <a:cubicBezTo>
                        <a:pt x="51" y="22"/>
                        <a:pt x="55" y="14"/>
                        <a:pt x="64" y="10"/>
                      </a:cubicBezTo>
                      <a:cubicBezTo>
                        <a:pt x="72" y="7"/>
                        <a:pt x="88" y="2"/>
                        <a:pt x="88" y="2"/>
                      </a:cubicBezTo>
                      <a:cubicBezTo>
                        <a:pt x="110" y="5"/>
                        <a:pt x="132" y="0"/>
                        <a:pt x="152" y="6"/>
                      </a:cubicBezTo>
                      <a:cubicBezTo>
                        <a:pt x="160" y="8"/>
                        <a:pt x="176" y="14"/>
                        <a:pt x="176" y="14"/>
                      </a:cubicBezTo>
                      <a:cubicBezTo>
                        <a:pt x="172" y="35"/>
                        <a:pt x="158" y="61"/>
                        <a:pt x="184" y="70"/>
                      </a:cubicBezTo>
                      <a:cubicBezTo>
                        <a:pt x="193" y="83"/>
                        <a:pt x="203" y="87"/>
                        <a:pt x="208" y="102"/>
                      </a:cubicBezTo>
                      <a:cubicBezTo>
                        <a:pt x="204" y="103"/>
                        <a:pt x="200" y="106"/>
                        <a:pt x="196" y="106"/>
                      </a:cubicBezTo>
                      <a:cubicBezTo>
                        <a:pt x="192" y="106"/>
                        <a:pt x="188" y="100"/>
                        <a:pt x="184" y="102"/>
                      </a:cubicBezTo>
                      <a:cubicBezTo>
                        <a:pt x="180" y="104"/>
                        <a:pt x="183" y="111"/>
                        <a:pt x="180" y="114"/>
                      </a:cubicBezTo>
                      <a:cubicBezTo>
                        <a:pt x="176" y="117"/>
                        <a:pt x="169" y="117"/>
                        <a:pt x="164" y="118"/>
                      </a:cubicBezTo>
                      <a:cubicBezTo>
                        <a:pt x="126" y="113"/>
                        <a:pt x="127" y="116"/>
                        <a:pt x="144" y="90"/>
                      </a:cubicBezTo>
                      <a:cubicBezTo>
                        <a:pt x="127" y="84"/>
                        <a:pt x="104" y="93"/>
                        <a:pt x="112" y="70"/>
                      </a:cubicBezTo>
                      <a:cubicBezTo>
                        <a:pt x="96" y="59"/>
                        <a:pt x="90" y="68"/>
                        <a:pt x="72" y="62"/>
                      </a:cubicBezTo>
                      <a:cubicBezTo>
                        <a:pt x="65" y="41"/>
                        <a:pt x="45" y="56"/>
                        <a:pt x="24" y="50"/>
                      </a:cubicBezTo>
                      <a:cubicBezTo>
                        <a:pt x="16" y="48"/>
                        <a:pt x="0" y="42"/>
                        <a:pt x="0" y="42"/>
                      </a:cubicBezTo>
                      <a:cubicBezTo>
                        <a:pt x="14" y="32"/>
                        <a:pt x="10" y="38"/>
                        <a:pt x="16" y="2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776200" y="1293120"/>
                  <a:ext cx="145080" cy="127080"/>
                </a:xfrm>
                <a:custGeom>
                  <a:avLst/>
                  <a:gdLst/>
                  <a:ahLst/>
                  <a:rect l="l" t="t" r="r" b="b"/>
                  <a:pathLst>
                    <a:path w="84" h="72">
                      <a:moveTo>
                        <a:pt x="12" y="8"/>
                      </a:moveTo>
                      <a:cubicBezTo>
                        <a:pt x="29" y="4"/>
                        <a:pt x="33" y="0"/>
                        <a:pt x="52" y="12"/>
                      </a:cubicBezTo>
                      <a:cubicBezTo>
                        <a:pt x="60" y="17"/>
                        <a:pt x="76" y="28"/>
                        <a:pt x="76" y="28"/>
                      </a:cubicBezTo>
                      <a:cubicBezTo>
                        <a:pt x="84" y="53"/>
                        <a:pt x="80" y="28"/>
                        <a:pt x="68" y="48"/>
                      </a:cubicBezTo>
                      <a:cubicBezTo>
                        <a:pt x="64" y="55"/>
                        <a:pt x="60" y="72"/>
                        <a:pt x="60" y="72"/>
                      </a:cubicBezTo>
                      <a:cubicBezTo>
                        <a:pt x="53" y="71"/>
                        <a:pt x="46" y="71"/>
                        <a:pt x="40" y="68"/>
                      </a:cubicBezTo>
                      <a:cubicBezTo>
                        <a:pt x="31" y="64"/>
                        <a:pt x="16" y="52"/>
                        <a:pt x="16" y="52"/>
                      </a:cubicBezTo>
                      <a:cubicBezTo>
                        <a:pt x="13" y="34"/>
                        <a:pt x="0" y="20"/>
                        <a:pt x="12" y="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756040" y="1198440"/>
                  <a:ext cx="67680" cy="8712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7" y="33"/>
                      </a:moveTo>
                      <a:cubicBezTo>
                        <a:pt x="34" y="6"/>
                        <a:pt x="25" y="0"/>
                        <a:pt x="39" y="21"/>
                      </a:cubicBezTo>
                      <a:cubicBezTo>
                        <a:pt x="30" y="49"/>
                        <a:pt x="39" y="42"/>
                        <a:pt x="19" y="49"/>
                      </a:cubicBezTo>
                      <a:cubicBezTo>
                        <a:pt x="15" y="48"/>
                        <a:pt x="9" y="49"/>
                        <a:pt x="7" y="45"/>
                      </a:cubicBezTo>
                      <a:cubicBezTo>
                        <a:pt x="0" y="32"/>
                        <a:pt x="19" y="33"/>
                        <a:pt x="7" y="3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866200" y="1218240"/>
                  <a:ext cx="169560" cy="97560"/>
                </a:xfrm>
                <a:custGeom>
                  <a:avLst/>
                  <a:gdLst/>
                  <a:ahLst/>
                  <a:rect l="l" t="t" r="r" b="b"/>
                  <a:pathLst>
                    <a:path w="97" h="55">
                      <a:moveTo>
                        <a:pt x="0" y="10"/>
                      </a:moveTo>
                      <a:cubicBezTo>
                        <a:pt x="21" y="13"/>
                        <a:pt x="39" y="28"/>
                        <a:pt x="32" y="6"/>
                      </a:cubicBezTo>
                      <a:cubicBezTo>
                        <a:pt x="51" y="0"/>
                        <a:pt x="75" y="15"/>
                        <a:pt x="92" y="26"/>
                      </a:cubicBezTo>
                      <a:cubicBezTo>
                        <a:pt x="83" y="53"/>
                        <a:pt x="97" y="25"/>
                        <a:pt x="60" y="34"/>
                      </a:cubicBezTo>
                      <a:cubicBezTo>
                        <a:pt x="56" y="35"/>
                        <a:pt x="59" y="43"/>
                        <a:pt x="56" y="46"/>
                      </a:cubicBezTo>
                      <a:cubicBezTo>
                        <a:pt x="53" y="49"/>
                        <a:pt x="48" y="49"/>
                        <a:pt x="44" y="50"/>
                      </a:cubicBezTo>
                      <a:cubicBezTo>
                        <a:pt x="15" y="40"/>
                        <a:pt x="48" y="55"/>
                        <a:pt x="28" y="30"/>
                      </a:cubicBezTo>
                      <a:cubicBezTo>
                        <a:pt x="22" y="22"/>
                        <a:pt x="8" y="26"/>
                        <a:pt x="0" y="1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852160" y="1171440"/>
                  <a:ext cx="45000" cy="52200"/>
                </a:xfrm>
                <a:custGeom>
                  <a:avLst/>
                  <a:gdLst/>
                  <a:ahLst/>
                  <a:rect l="l" t="t" r="r" b="b"/>
                  <a:pathLst>
                    <a:path w="26" h="29">
                      <a:moveTo>
                        <a:pt x="4" y="0"/>
                      </a:moveTo>
                      <a:cubicBezTo>
                        <a:pt x="25" y="7"/>
                        <a:pt x="26" y="29"/>
                        <a:pt x="0" y="20"/>
                      </a:cubicBezTo>
                      <a:cubicBezTo>
                        <a:pt x="5" y="5"/>
                        <a:pt x="4" y="12"/>
                        <a:pt x="4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964120" y="1061280"/>
                  <a:ext cx="167760" cy="141120"/>
                </a:xfrm>
                <a:custGeom>
                  <a:avLst/>
                  <a:gdLst/>
                  <a:ahLst/>
                  <a:rect l="l" t="t" r="r" b="b"/>
                  <a:pathLst>
                    <a:path w="96" h="79">
                      <a:moveTo>
                        <a:pt x="20" y="30"/>
                      </a:moveTo>
                      <a:cubicBezTo>
                        <a:pt x="0" y="0"/>
                        <a:pt x="35" y="18"/>
                        <a:pt x="48" y="22"/>
                      </a:cubicBezTo>
                      <a:cubicBezTo>
                        <a:pt x="65" y="28"/>
                        <a:pt x="79" y="36"/>
                        <a:pt x="96" y="42"/>
                      </a:cubicBezTo>
                      <a:cubicBezTo>
                        <a:pt x="87" y="79"/>
                        <a:pt x="74" y="48"/>
                        <a:pt x="44" y="58"/>
                      </a:cubicBezTo>
                      <a:cubicBezTo>
                        <a:pt x="43" y="54"/>
                        <a:pt x="43" y="48"/>
                        <a:pt x="40" y="46"/>
                      </a:cubicBezTo>
                      <a:cubicBezTo>
                        <a:pt x="17" y="30"/>
                        <a:pt x="11" y="48"/>
                        <a:pt x="20" y="3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6058440" y="1198440"/>
                  <a:ext cx="124200" cy="8136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10" y="5"/>
                      </a:moveTo>
                      <a:cubicBezTo>
                        <a:pt x="14" y="4"/>
                        <a:pt x="18" y="0"/>
                        <a:pt x="22" y="1"/>
                      </a:cubicBezTo>
                      <a:cubicBezTo>
                        <a:pt x="31" y="4"/>
                        <a:pt x="46" y="17"/>
                        <a:pt x="46" y="17"/>
                      </a:cubicBezTo>
                      <a:cubicBezTo>
                        <a:pt x="65" y="46"/>
                        <a:pt x="71" y="39"/>
                        <a:pt x="46" y="45"/>
                      </a:cubicBezTo>
                      <a:cubicBezTo>
                        <a:pt x="32" y="42"/>
                        <a:pt x="6" y="33"/>
                        <a:pt x="6" y="33"/>
                      </a:cubicBezTo>
                      <a:cubicBezTo>
                        <a:pt x="2" y="21"/>
                        <a:pt x="0" y="15"/>
                        <a:pt x="10" y="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6138720" y="1288800"/>
                  <a:ext cx="147960" cy="108360"/>
                </a:xfrm>
                <a:custGeom>
                  <a:avLst/>
                  <a:gdLst/>
                  <a:ahLst/>
                  <a:rect l="l" t="t" r="r" b="b"/>
                  <a:pathLst>
                    <a:path w="85" h="61">
                      <a:moveTo>
                        <a:pt x="4" y="2"/>
                      </a:moveTo>
                      <a:cubicBezTo>
                        <a:pt x="34" y="7"/>
                        <a:pt x="40" y="14"/>
                        <a:pt x="64" y="30"/>
                      </a:cubicBezTo>
                      <a:cubicBezTo>
                        <a:pt x="85" y="61"/>
                        <a:pt x="36" y="42"/>
                        <a:pt x="24" y="34"/>
                      </a:cubicBezTo>
                      <a:cubicBezTo>
                        <a:pt x="7" y="23"/>
                        <a:pt x="15" y="29"/>
                        <a:pt x="0" y="14"/>
                      </a:cubicBezTo>
                      <a:cubicBezTo>
                        <a:pt x="3" y="10"/>
                        <a:pt x="4" y="4"/>
                        <a:pt x="8" y="2"/>
                      </a:cubicBezTo>
                      <a:cubicBezTo>
                        <a:pt x="12" y="0"/>
                        <a:pt x="24" y="6"/>
                        <a:pt x="20" y="6"/>
                      </a:cubicBezTo>
                      <a:cubicBezTo>
                        <a:pt x="15" y="6"/>
                        <a:pt x="9" y="3"/>
                        <a:pt x="4" y="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6234840" y="1288800"/>
                  <a:ext cx="133920" cy="81720"/>
                </a:xfrm>
                <a:custGeom>
                  <a:avLst/>
                  <a:gdLst/>
                  <a:ahLst/>
                  <a:rect l="l" t="t" r="r" b="b"/>
                  <a:pathLst>
                    <a:path w="77" h="46">
                      <a:moveTo>
                        <a:pt x="21" y="6"/>
                      </a:moveTo>
                      <a:cubicBezTo>
                        <a:pt x="57" y="18"/>
                        <a:pt x="0" y="0"/>
                        <a:pt x="53" y="14"/>
                      </a:cubicBezTo>
                      <a:cubicBezTo>
                        <a:pt x="61" y="16"/>
                        <a:pt x="77" y="22"/>
                        <a:pt x="77" y="22"/>
                      </a:cubicBezTo>
                      <a:cubicBezTo>
                        <a:pt x="71" y="46"/>
                        <a:pt x="65" y="43"/>
                        <a:pt x="41" y="38"/>
                      </a:cubicBezTo>
                      <a:cubicBezTo>
                        <a:pt x="3" y="12"/>
                        <a:pt x="21" y="34"/>
                        <a:pt x="21" y="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6215400" y="1213920"/>
                  <a:ext cx="245520" cy="66240"/>
                </a:xfrm>
                <a:custGeom>
                  <a:avLst/>
                  <a:gdLst/>
                  <a:ahLst/>
                  <a:rect l="l" t="t" r="r" b="b"/>
                  <a:pathLst>
                    <a:path w="141" h="37">
                      <a:moveTo>
                        <a:pt x="32" y="16"/>
                      </a:moveTo>
                      <a:cubicBezTo>
                        <a:pt x="64" y="5"/>
                        <a:pt x="24" y="16"/>
                        <a:pt x="56" y="16"/>
                      </a:cubicBezTo>
                      <a:cubicBezTo>
                        <a:pt x="72" y="16"/>
                        <a:pt x="87" y="9"/>
                        <a:pt x="100" y="0"/>
                      </a:cubicBezTo>
                      <a:cubicBezTo>
                        <a:pt x="108" y="1"/>
                        <a:pt x="117" y="0"/>
                        <a:pt x="124" y="4"/>
                      </a:cubicBezTo>
                      <a:cubicBezTo>
                        <a:pt x="141" y="14"/>
                        <a:pt x="119" y="30"/>
                        <a:pt x="112" y="32"/>
                      </a:cubicBezTo>
                      <a:cubicBezTo>
                        <a:pt x="107" y="31"/>
                        <a:pt x="101" y="27"/>
                        <a:pt x="96" y="28"/>
                      </a:cubicBezTo>
                      <a:cubicBezTo>
                        <a:pt x="88" y="29"/>
                        <a:pt x="72" y="36"/>
                        <a:pt x="72" y="36"/>
                      </a:cubicBezTo>
                      <a:cubicBezTo>
                        <a:pt x="63" y="35"/>
                        <a:pt x="0" y="37"/>
                        <a:pt x="32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391800" y="1257840"/>
                  <a:ext cx="761040" cy="379800"/>
                </a:xfrm>
                <a:custGeom>
                  <a:avLst/>
                  <a:gdLst/>
                  <a:ahLst/>
                  <a:rect l="l" t="t" r="r" b="b"/>
                  <a:pathLst>
                    <a:path w="436" h="214">
                      <a:moveTo>
                        <a:pt x="47" y="64"/>
                      </a:moveTo>
                      <a:cubicBezTo>
                        <a:pt x="40" y="44"/>
                        <a:pt x="24" y="43"/>
                        <a:pt x="7" y="32"/>
                      </a:cubicBezTo>
                      <a:cubicBezTo>
                        <a:pt x="0" y="12"/>
                        <a:pt x="12" y="15"/>
                        <a:pt x="27" y="20"/>
                      </a:cubicBezTo>
                      <a:cubicBezTo>
                        <a:pt x="56" y="0"/>
                        <a:pt x="44" y="24"/>
                        <a:pt x="67" y="32"/>
                      </a:cubicBezTo>
                      <a:cubicBezTo>
                        <a:pt x="91" y="24"/>
                        <a:pt x="112" y="32"/>
                        <a:pt x="135" y="40"/>
                      </a:cubicBezTo>
                      <a:cubicBezTo>
                        <a:pt x="143" y="43"/>
                        <a:pt x="159" y="48"/>
                        <a:pt x="159" y="48"/>
                      </a:cubicBezTo>
                      <a:cubicBezTo>
                        <a:pt x="178" y="42"/>
                        <a:pt x="191" y="45"/>
                        <a:pt x="207" y="56"/>
                      </a:cubicBezTo>
                      <a:cubicBezTo>
                        <a:pt x="225" y="84"/>
                        <a:pt x="273" y="82"/>
                        <a:pt x="303" y="92"/>
                      </a:cubicBezTo>
                      <a:cubicBezTo>
                        <a:pt x="311" y="89"/>
                        <a:pt x="319" y="87"/>
                        <a:pt x="327" y="84"/>
                      </a:cubicBezTo>
                      <a:cubicBezTo>
                        <a:pt x="337" y="81"/>
                        <a:pt x="359" y="92"/>
                        <a:pt x="359" y="92"/>
                      </a:cubicBezTo>
                      <a:cubicBezTo>
                        <a:pt x="365" y="110"/>
                        <a:pt x="362" y="114"/>
                        <a:pt x="347" y="124"/>
                      </a:cubicBezTo>
                      <a:cubicBezTo>
                        <a:pt x="334" y="120"/>
                        <a:pt x="324" y="112"/>
                        <a:pt x="311" y="108"/>
                      </a:cubicBezTo>
                      <a:cubicBezTo>
                        <a:pt x="304" y="109"/>
                        <a:pt x="296" y="107"/>
                        <a:pt x="291" y="112"/>
                      </a:cubicBezTo>
                      <a:cubicBezTo>
                        <a:pt x="288" y="115"/>
                        <a:pt x="299" y="114"/>
                        <a:pt x="303" y="116"/>
                      </a:cubicBezTo>
                      <a:cubicBezTo>
                        <a:pt x="327" y="129"/>
                        <a:pt x="330" y="134"/>
                        <a:pt x="355" y="140"/>
                      </a:cubicBezTo>
                      <a:cubicBezTo>
                        <a:pt x="370" y="150"/>
                        <a:pt x="388" y="154"/>
                        <a:pt x="403" y="164"/>
                      </a:cubicBezTo>
                      <a:cubicBezTo>
                        <a:pt x="436" y="214"/>
                        <a:pt x="380" y="191"/>
                        <a:pt x="359" y="188"/>
                      </a:cubicBezTo>
                      <a:cubicBezTo>
                        <a:pt x="346" y="175"/>
                        <a:pt x="329" y="166"/>
                        <a:pt x="311" y="160"/>
                      </a:cubicBezTo>
                      <a:cubicBezTo>
                        <a:pt x="292" y="163"/>
                        <a:pt x="273" y="166"/>
                        <a:pt x="255" y="172"/>
                      </a:cubicBezTo>
                      <a:cubicBezTo>
                        <a:pt x="233" y="165"/>
                        <a:pt x="245" y="155"/>
                        <a:pt x="259" y="148"/>
                      </a:cubicBezTo>
                      <a:cubicBezTo>
                        <a:pt x="263" y="146"/>
                        <a:pt x="267" y="143"/>
                        <a:pt x="271" y="140"/>
                      </a:cubicBezTo>
                      <a:cubicBezTo>
                        <a:pt x="255" y="129"/>
                        <a:pt x="252" y="138"/>
                        <a:pt x="235" y="132"/>
                      </a:cubicBezTo>
                      <a:cubicBezTo>
                        <a:pt x="239" y="129"/>
                        <a:pt x="243" y="126"/>
                        <a:pt x="247" y="124"/>
                      </a:cubicBezTo>
                      <a:cubicBezTo>
                        <a:pt x="251" y="122"/>
                        <a:pt x="258" y="124"/>
                        <a:pt x="259" y="120"/>
                      </a:cubicBezTo>
                      <a:cubicBezTo>
                        <a:pt x="263" y="105"/>
                        <a:pt x="234" y="105"/>
                        <a:pt x="231" y="104"/>
                      </a:cubicBezTo>
                      <a:cubicBezTo>
                        <a:pt x="196" y="95"/>
                        <a:pt x="165" y="75"/>
                        <a:pt x="131" y="64"/>
                      </a:cubicBezTo>
                      <a:cubicBezTo>
                        <a:pt x="127" y="65"/>
                        <a:pt x="123" y="68"/>
                        <a:pt x="119" y="68"/>
                      </a:cubicBezTo>
                      <a:cubicBezTo>
                        <a:pt x="115" y="68"/>
                        <a:pt x="111" y="64"/>
                        <a:pt x="107" y="64"/>
                      </a:cubicBezTo>
                      <a:cubicBezTo>
                        <a:pt x="93" y="66"/>
                        <a:pt x="81" y="73"/>
                        <a:pt x="67" y="76"/>
                      </a:cubicBezTo>
                      <a:cubicBezTo>
                        <a:pt x="51" y="71"/>
                        <a:pt x="58" y="75"/>
                        <a:pt x="47" y="6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693840" y="1409040"/>
                  <a:ext cx="74880" cy="69120"/>
                </a:xfrm>
                <a:custGeom>
                  <a:avLst/>
                  <a:gdLst/>
                  <a:ahLst/>
                  <a:rect l="l" t="t" r="r" b="b"/>
                  <a:pathLst>
                    <a:path w="43" h="39">
                      <a:moveTo>
                        <a:pt x="18" y="27"/>
                      </a:moveTo>
                      <a:cubicBezTo>
                        <a:pt x="0" y="0"/>
                        <a:pt x="22" y="11"/>
                        <a:pt x="34" y="19"/>
                      </a:cubicBezTo>
                      <a:cubicBezTo>
                        <a:pt x="37" y="23"/>
                        <a:pt x="43" y="26"/>
                        <a:pt x="42" y="31"/>
                      </a:cubicBezTo>
                      <a:cubicBezTo>
                        <a:pt x="40" y="39"/>
                        <a:pt x="18" y="27"/>
                        <a:pt x="18" y="27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668640" y="1520640"/>
                  <a:ext cx="114120" cy="77760"/>
                </a:xfrm>
                <a:custGeom>
                  <a:avLst/>
                  <a:gdLst/>
                  <a:ahLst/>
                  <a:rect l="l" t="t" r="r" b="b"/>
                  <a:pathLst>
                    <a:path w="65" h="44">
                      <a:moveTo>
                        <a:pt x="16" y="12"/>
                      </a:moveTo>
                      <a:cubicBezTo>
                        <a:pt x="31" y="17"/>
                        <a:pt x="41" y="11"/>
                        <a:pt x="56" y="16"/>
                      </a:cubicBezTo>
                      <a:cubicBezTo>
                        <a:pt x="59" y="20"/>
                        <a:pt x="65" y="23"/>
                        <a:pt x="64" y="28"/>
                      </a:cubicBezTo>
                      <a:cubicBezTo>
                        <a:pt x="61" y="41"/>
                        <a:pt x="28" y="44"/>
                        <a:pt x="28" y="44"/>
                      </a:cubicBezTo>
                      <a:cubicBezTo>
                        <a:pt x="19" y="31"/>
                        <a:pt x="9" y="25"/>
                        <a:pt x="0" y="12"/>
                      </a:cubicBezTo>
                      <a:cubicBezTo>
                        <a:pt x="14" y="2"/>
                        <a:pt x="10" y="0"/>
                        <a:pt x="16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6788520" y="1605240"/>
                  <a:ext cx="32040" cy="4068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4" y="8"/>
                      </a:moveTo>
                      <a:cubicBezTo>
                        <a:pt x="8" y="7"/>
                        <a:pt x="14" y="0"/>
                        <a:pt x="16" y="4"/>
                      </a:cubicBezTo>
                      <a:cubicBezTo>
                        <a:pt x="19" y="9"/>
                        <a:pt x="16" y="17"/>
                        <a:pt x="12" y="20"/>
                      </a:cubicBezTo>
                      <a:cubicBezTo>
                        <a:pt x="9" y="23"/>
                        <a:pt x="4" y="17"/>
                        <a:pt x="0" y="16"/>
                      </a:cubicBezTo>
                      <a:cubicBezTo>
                        <a:pt x="4" y="3"/>
                        <a:pt x="4" y="0"/>
                        <a:pt x="4" y="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935680" y="1335240"/>
                  <a:ext cx="335880" cy="151200"/>
                </a:xfrm>
                <a:custGeom>
                  <a:avLst/>
                  <a:gdLst/>
                  <a:ahLst/>
                  <a:rect l="l" t="t" r="r" b="b"/>
                  <a:pathLst>
                    <a:path w="192" h="85">
                      <a:moveTo>
                        <a:pt x="8" y="0"/>
                      </a:moveTo>
                      <a:cubicBezTo>
                        <a:pt x="28" y="7"/>
                        <a:pt x="48" y="9"/>
                        <a:pt x="68" y="16"/>
                      </a:cubicBezTo>
                      <a:cubicBezTo>
                        <a:pt x="72" y="15"/>
                        <a:pt x="77" y="15"/>
                        <a:pt x="80" y="12"/>
                      </a:cubicBezTo>
                      <a:cubicBezTo>
                        <a:pt x="84" y="9"/>
                        <a:pt x="83" y="1"/>
                        <a:pt x="88" y="0"/>
                      </a:cubicBezTo>
                      <a:cubicBezTo>
                        <a:pt x="89" y="0"/>
                        <a:pt x="119" y="16"/>
                        <a:pt x="124" y="20"/>
                      </a:cubicBezTo>
                      <a:cubicBezTo>
                        <a:pt x="128" y="24"/>
                        <a:pt x="131" y="29"/>
                        <a:pt x="136" y="32"/>
                      </a:cubicBezTo>
                      <a:cubicBezTo>
                        <a:pt x="143" y="36"/>
                        <a:pt x="160" y="40"/>
                        <a:pt x="160" y="40"/>
                      </a:cubicBezTo>
                      <a:cubicBezTo>
                        <a:pt x="178" y="34"/>
                        <a:pt x="182" y="37"/>
                        <a:pt x="192" y="52"/>
                      </a:cubicBezTo>
                      <a:cubicBezTo>
                        <a:pt x="191" y="58"/>
                        <a:pt x="192" y="81"/>
                        <a:pt x="176" y="76"/>
                      </a:cubicBezTo>
                      <a:cubicBezTo>
                        <a:pt x="167" y="73"/>
                        <a:pt x="152" y="60"/>
                        <a:pt x="152" y="60"/>
                      </a:cubicBezTo>
                      <a:cubicBezTo>
                        <a:pt x="138" y="69"/>
                        <a:pt x="128" y="72"/>
                        <a:pt x="112" y="76"/>
                      </a:cubicBezTo>
                      <a:cubicBezTo>
                        <a:pt x="108" y="79"/>
                        <a:pt x="105" y="85"/>
                        <a:pt x="100" y="84"/>
                      </a:cubicBezTo>
                      <a:cubicBezTo>
                        <a:pt x="91" y="82"/>
                        <a:pt x="76" y="68"/>
                        <a:pt x="76" y="68"/>
                      </a:cubicBezTo>
                      <a:cubicBezTo>
                        <a:pt x="86" y="39"/>
                        <a:pt x="91" y="49"/>
                        <a:pt x="72" y="36"/>
                      </a:cubicBezTo>
                      <a:cubicBezTo>
                        <a:pt x="57" y="40"/>
                        <a:pt x="47" y="47"/>
                        <a:pt x="32" y="52"/>
                      </a:cubicBezTo>
                      <a:cubicBezTo>
                        <a:pt x="4" y="45"/>
                        <a:pt x="24" y="40"/>
                        <a:pt x="0" y="32"/>
                      </a:cubicBezTo>
                      <a:cubicBezTo>
                        <a:pt x="3" y="24"/>
                        <a:pt x="5" y="16"/>
                        <a:pt x="8" y="8"/>
                      </a:cubicBezTo>
                      <a:cubicBezTo>
                        <a:pt x="9" y="4"/>
                        <a:pt x="20" y="8"/>
                        <a:pt x="20" y="4"/>
                      </a:cubicBezTo>
                      <a:cubicBezTo>
                        <a:pt x="20" y="0"/>
                        <a:pt x="12" y="1"/>
                        <a:pt x="8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185800" y="1389240"/>
                  <a:ext cx="2675520" cy="895680"/>
                </a:xfrm>
                <a:custGeom>
                  <a:avLst/>
                  <a:gdLst/>
                  <a:ahLst/>
                  <a:rect l="l" t="t" r="r" b="b"/>
                  <a:pathLst>
                    <a:path w="1533" h="504">
                      <a:moveTo>
                        <a:pt x="82" y="34"/>
                      </a:moveTo>
                      <a:cubicBezTo>
                        <a:pt x="95" y="38"/>
                        <a:pt x="104" y="53"/>
                        <a:pt x="118" y="54"/>
                      </a:cubicBezTo>
                      <a:cubicBezTo>
                        <a:pt x="172" y="57"/>
                        <a:pt x="249" y="49"/>
                        <a:pt x="298" y="82"/>
                      </a:cubicBezTo>
                      <a:cubicBezTo>
                        <a:pt x="326" y="64"/>
                        <a:pt x="290" y="72"/>
                        <a:pt x="318" y="54"/>
                      </a:cubicBezTo>
                      <a:cubicBezTo>
                        <a:pt x="322" y="55"/>
                        <a:pt x="327" y="55"/>
                        <a:pt x="330" y="58"/>
                      </a:cubicBezTo>
                      <a:cubicBezTo>
                        <a:pt x="334" y="61"/>
                        <a:pt x="334" y="73"/>
                        <a:pt x="338" y="70"/>
                      </a:cubicBezTo>
                      <a:cubicBezTo>
                        <a:pt x="345" y="65"/>
                        <a:pt x="346" y="46"/>
                        <a:pt x="346" y="46"/>
                      </a:cubicBezTo>
                      <a:cubicBezTo>
                        <a:pt x="354" y="47"/>
                        <a:pt x="362" y="51"/>
                        <a:pt x="370" y="50"/>
                      </a:cubicBezTo>
                      <a:cubicBezTo>
                        <a:pt x="375" y="49"/>
                        <a:pt x="377" y="43"/>
                        <a:pt x="382" y="42"/>
                      </a:cubicBezTo>
                      <a:cubicBezTo>
                        <a:pt x="391" y="41"/>
                        <a:pt x="402" y="49"/>
                        <a:pt x="410" y="50"/>
                      </a:cubicBezTo>
                      <a:cubicBezTo>
                        <a:pt x="430" y="52"/>
                        <a:pt x="450" y="53"/>
                        <a:pt x="470" y="54"/>
                      </a:cubicBezTo>
                      <a:cubicBezTo>
                        <a:pt x="502" y="65"/>
                        <a:pt x="486" y="61"/>
                        <a:pt x="518" y="66"/>
                      </a:cubicBezTo>
                      <a:cubicBezTo>
                        <a:pt x="539" y="87"/>
                        <a:pt x="547" y="79"/>
                        <a:pt x="574" y="74"/>
                      </a:cubicBezTo>
                      <a:cubicBezTo>
                        <a:pt x="591" y="80"/>
                        <a:pt x="594" y="71"/>
                        <a:pt x="610" y="82"/>
                      </a:cubicBezTo>
                      <a:cubicBezTo>
                        <a:pt x="597" y="42"/>
                        <a:pt x="617" y="54"/>
                        <a:pt x="642" y="62"/>
                      </a:cubicBezTo>
                      <a:cubicBezTo>
                        <a:pt x="654" y="58"/>
                        <a:pt x="668" y="62"/>
                        <a:pt x="678" y="54"/>
                      </a:cubicBezTo>
                      <a:cubicBezTo>
                        <a:pt x="690" y="44"/>
                        <a:pt x="653" y="31"/>
                        <a:pt x="650" y="30"/>
                      </a:cubicBezTo>
                      <a:cubicBezTo>
                        <a:pt x="641" y="16"/>
                        <a:pt x="630" y="9"/>
                        <a:pt x="650" y="2"/>
                      </a:cubicBezTo>
                      <a:cubicBezTo>
                        <a:pt x="658" y="7"/>
                        <a:pt x="666" y="13"/>
                        <a:pt x="674" y="18"/>
                      </a:cubicBezTo>
                      <a:cubicBezTo>
                        <a:pt x="678" y="21"/>
                        <a:pt x="686" y="26"/>
                        <a:pt x="686" y="26"/>
                      </a:cubicBezTo>
                      <a:cubicBezTo>
                        <a:pt x="694" y="38"/>
                        <a:pt x="718" y="54"/>
                        <a:pt x="718" y="54"/>
                      </a:cubicBezTo>
                      <a:cubicBezTo>
                        <a:pt x="712" y="36"/>
                        <a:pt x="699" y="35"/>
                        <a:pt x="718" y="22"/>
                      </a:cubicBezTo>
                      <a:cubicBezTo>
                        <a:pt x="736" y="28"/>
                        <a:pt x="737" y="38"/>
                        <a:pt x="754" y="26"/>
                      </a:cubicBezTo>
                      <a:cubicBezTo>
                        <a:pt x="758" y="27"/>
                        <a:pt x="763" y="27"/>
                        <a:pt x="766" y="30"/>
                      </a:cubicBezTo>
                      <a:cubicBezTo>
                        <a:pt x="770" y="33"/>
                        <a:pt x="770" y="39"/>
                        <a:pt x="774" y="42"/>
                      </a:cubicBezTo>
                      <a:cubicBezTo>
                        <a:pt x="781" y="46"/>
                        <a:pt x="798" y="50"/>
                        <a:pt x="798" y="50"/>
                      </a:cubicBezTo>
                      <a:cubicBezTo>
                        <a:pt x="793" y="34"/>
                        <a:pt x="790" y="27"/>
                        <a:pt x="774" y="22"/>
                      </a:cubicBezTo>
                      <a:cubicBezTo>
                        <a:pt x="781" y="0"/>
                        <a:pt x="797" y="12"/>
                        <a:pt x="814" y="18"/>
                      </a:cubicBezTo>
                      <a:cubicBezTo>
                        <a:pt x="825" y="35"/>
                        <a:pt x="842" y="35"/>
                        <a:pt x="858" y="46"/>
                      </a:cubicBezTo>
                      <a:cubicBezTo>
                        <a:pt x="861" y="54"/>
                        <a:pt x="874" y="73"/>
                        <a:pt x="866" y="70"/>
                      </a:cubicBezTo>
                      <a:cubicBezTo>
                        <a:pt x="853" y="66"/>
                        <a:pt x="843" y="58"/>
                        <a:pt x="830" y="54"/>
                      </a:cubicBezTo>
                      <a:cubicBezTo>
                        <a:pt x="804" y="63"/>
                        <a:pt x="825" y="69"/>
                        <a:pt x="838" y="78"/>
                      </a:cubicBezTo>
                      <a:cubicBezTo>
                        <a:pt x="841" y="82"/>
                        <a:pt x="845" y="85"/>
                        <a:pt x="846" y="90"/>
                      </a:cubicBezTo>
                      <a:cubicBezTo>
                        <a:pt x="850" y="125"/>
                        <a:pt x="816" y="102"/>
                        <a:pt x="798" y="98"/>
                      </a:cubicBezTo>
                      <a:cubicBezTo>
                        <a:pt x="770" y="107"/>
                        <a:pt x="777" y="98"/>
                        <a:pt x="770" y="118"/>
                      </a:cubicBezTo>
                      <a:cubicBezTo>
                        <a:pt x="793" y="126"/>
                        <a:pt x="815" y="128"/>
                        <a:pt x="838" y="134"/>
                      </a:cubicBezTo>
                      <a:cubicBezTo>
                        <a:pt x="839" y="138"/>
                        <a:pt x="842" y="142"/>
                        <a:pt x="842" y="146"/>
                      </a:cubicBezTo>
                      <a:cubicBezTo>
                        <a:pt x="841" y="154"/>
                        <a:pt x="834" y="170"/>
                        <a:pt x="834" y="170"/>
                      </a:cubicBezTo>
                      <a:cubicBezTo>
                        <a:pt x="844" y="199"/>
                        <a:pt x="835" y="189"/>
                        <a:pt x="854" y="202"/>
                      </a:cubicBezTo>
                      <a:cubicBezTo>
                        <a:pt x="867" y="222"/>
                        <a:pt x="885" y="211"/>
                        <a:pt x="902" y="226"/>
                      </a:cubicBezTo>
                      <a:cubicBezTo>
                        <a:pt x="906" y="230"/>
                        <a:pt x="909" y="235"/>
                        <a:pt x="914" y="238"/>
                      </a:cubicBezTo>
                      <a:cubicBezTo>
                        <a:pt x="921" y="242"/>
                        <a:pt x="938" y="246"/>
                        <a:pt x="938" y="246"/>
                      </a:cubicBezTo>
                      <a:cubicBezTo>
                        <a:pt x="954" y="241"/>
                        <a:pt x="966" y="237"/>
                        <a:pt x="982" y="242"/>
                      </a:cubicBezTo>
                      <a:cubicBezTo>
                        <a:pt x="983" y="246"/>
                        <a:pt x="982" y="253"/>
                        <a:pt x="986" y="254"/>
                      </a:cubicBezTo>
                      <a:cubicBezTo>
                        <a:pt x="1009" y="262"/>
                        <a:pt x="1043" y="261"/>
                        <a:pt x="1070" y="270"/>
                      </a:cubicBezTo>
                      <a:cubicBezTo>
                        <a:pt x="1074" y="283"/>
                        <a:pt x="1098" y="298"/>
                        <a:pt x="1098" y="298"/>
                      </a:cubicBezTo>
                      <a:cubicBezTo>
                        <a:pt x="1108" y="328"/>
                        <a:pt x="1093" y="297"/>
                        <a:pt x="1114" y="302"/>
                      </a:cubicBezTo>
                      <a:cubicBezTo>
                        <a:pt x="1123" y="304"/>
                        <a:pt x="1120" y="320"/>
                        <a:pt x="1126" y="326"/>
                      </a:cubicBezTo>
                      <a:cubicBezTo>
                        <a:pt x="1134" y="334"/>
                        <a:pt x="1140" y="335"/>
                        <a:pt x="1150" y="338"/>
                      </a:cubicBezTo>
                      <a:cubicBezTo>
                        <a:pt x="1157" y="318"/>
                        <a:pt x="1150" y="302"/>
                        <a:pt x="1134" y="290"/>
                      </a:cubicBezTo>
                      <a:cubicBezTo>
                        <a:pt x="1126" y="284"/>
                        <a:pt x="1110" y="274"/>
                        <a:pt x="1110" y="274"/>
                      </a:cubicBezTo>
                      <a:cubicBezTo>
                        <a:pt x="1099" y="257"/>
                        <a:pt x="1111" y="231"/>
                        <a:pt x="1098" y="218"/>
                      </a:cubicBezTo>
                      <a:cubicBezTo>
                        <a:pt x="1091" y="211"/>
                        <a:pt x="1082" y="207"/>
                        <a:pt x="1074" y="202"/>
                      </a:cubicBezTo>
                      <a:cubicBezTo>
                        <a:pt x="1067" y="197"/>
                        <a:pt x="1050" y="194"/>
                        <a:pt x="1050" y="194"/>
                      </a:cubicBezTo>
                      <a:cubicBezTo>
                        <a:pt x="1026" y="202"/>
                        <a:pt x="1043" y="201"/>
                        <a:pt x="1034" y="166"/>
                      </a:cubicBezTo>
                      <a:cubicBezTo>
                        <a:pt x="1031" y="155"/>
                        <a:pt x="1022" y="152"/>
                        <a:pt x="1014" y="146"/>
                      </a:cubicBezTo>
                      <a:cubicBezTo>
                        <a:pt x="1013" y="142"/>
                        <a:pt x="1013" y="137"/>
                        <a:pt x="1010" y="134"/>
                      </a:cubicBezTo>
                      <a:cubicBezTo>
                        <a:pt x="997" y="124"/>
                        <a:pt x="983" y="138"/>
                        <a:pt x="1006" y="122"/>
                      </a:cubicBezTo>
                      <a:cubicBezTo>
                        <a:pt x="1012" y="123"/>
                        <a:pt x="1031" y="126"/>
                        <a:pt x="1038" y="130"/>
                      </a:cubicBezTo>
                      <a:cubicBezTo>
                        <a:pt x="1046" y="135"/>
                        <a:pt x="1062" y="146"/>
                        <a:pt x="1062" y="146"/>
                      </a:cubicBezTo>
                      <a:cubicBezTo>
                        <a:pt x="1108" y="131"/>
                        <a:pt x="1096" y="148"/>
                        <a:pt x="1114" y="170"/>
                      </a:cubicBezTo>
                      <a:cubicBezTo>
                        <a:pt x="1122" y="180"/>
                        <a:pt x="1150" y="186"/>
                        <a:pt x="1150" y="186"/>
                      </a:cubicBezTo>
                      <a:cubicBezTo>
                        <a:pt x="1161" y="169"/>
                        <a:pt x="1157" y="166"/>
                        <a:pt x="1146" y="150"/>
                      </a:cubicBezTo>
                      <a:cubicBezTo>
                        <a:pt x="1168" y="143"/>
                        <a:pt x="1163" y="153"/>
                        <a:pt x="1174" y="166"/>
                      </a:cubicBezTo>
                      <a:cubicBezTo>
                        <a:pt x="1182" y="176"/>
                        <a:pt x="1195" y="176"/>
                        <a:pt x="1206" y="178"/>
                      </a:cubicBezTo>
                      <a:cubicBezTo>
                        <a:pt x="1214" y="183"/>
                        <a:pt x="1218" y="193"/>
                        <a:pt x="1226" y="198"/>
                      </a:cubicBezTo>
                      <a:cubicBezTo>
                        <a:pt x="1232" y="202"/>
                        <a:pt x="1257" y="208"/>
                        <a:pt x="1266" y="210"/>
                      </a:cubicBezTo>
                      <a:cubicBezTo>
                        <a:pt x="1279" y="229"/>
                        <a:pt x="1269" y="220"/>
                        <a:pt x="1298" y="230"/>
                      </a:cubicBezTo>
                      <a:cubicBezTo>
                        <a:pt x="1306" y="233"/>
                        <a:pt x="1322" y="238"/>
                        <a:pt x="1322" y="238"/>
                      </a:cubicBezTo>
                      <a:cubicBezTo>
                        <a:pt x="1330" y="261"/>
                        <a:pt x="1350" y="251"/>
                        <a:pt x="1370" y="258"/>
                      </a:cubicBezTo>
                      <a:cubicBezTo>
                        <a:pt x="1403" y="291"/>
                        <a:pt x="1381" y="292"/>
                        <a:pt x="1426" y="298"/>
                      </a:cubicBezTo>
                      <a:cubicBezTo>
                        <a:pt x="1448" y="313"/>
                        <a:pt x="1433" y="326"/>
                        <a:pt x="1458" y="334"/>
                      </a:cubicBezTo>
                      <a:cubicBezTo>
                        <a:pt x="1462" y="333"/>
                        <a:pt x="1466" y="330"/>
                        <a:pt x="1470" y="330"/>
                      </a:cubicBezTo>
                      <a:cubicBezTo>
                        <a:pt x="1478" y="331"/>
                        <a:pt x="1494" y="338"/>
                        <a:pt x="1494" y="338"/>
                      </a:cubicBezTo>
                      <a:cubicBezTo>
                        <a:pt x="1503" y="352"/>
                        <a:pt x="1510" y="357"/>
                        <a:pt x="1526" y="362"/>
                      </a:cubicBezTo>
                      <a:cubicBezTo>
                        <a:pt x="1533" y="384"/>
                        <a:pt x="1519" y="382"/>
                        <a:pt x="1502" y="378"/>
                      </a:cubicBezTo>
                      <a:cubicBezTo>
                        <a:pt x="1474" y="360"/>
                        <a:pt x="1487" y="359"/>
                        <a:pt x="1466" y="366"/>
                      </a:cubicBezTo>
                      <a:cubicBezTo>
                        <a:pt x="1415" y="356"/>
                        <a:pt x="1434" y="311"/>
                        <a:pt x="1394" y="298"/>
                      </a:cubicBezTo>
                      <a:cubicBezTo>
                        <a:pt x="1379" y="344"/>
                        <a:pt x="1398" y="325"/>
                        <a:pt x="1318" y="330"/>
                      </a:cubicBezTo>
                      <a:cubicBezTo>
                        <a:pt x="1310" y="353"/>
                        <a:pt x="1328" y="377"/>
                        <a:pt x="1302" y="394"/>
                      </a:cubicBezTo>
                      <a:cubicBezTo>
                        <a:pt x="1295" y="414"/>
                        <a:pt x="1310" y="415"/>
                        <a:pt x="1318" y="398"/>
                      </a:cubicBezTo>
                      <a:cubicBezTo>
                        <a:pt x="1325" y="383"/>
                        <a:pt x="1324" y="368"/>
                        <a:pt x="1334" y="354"/>
                      </a:cubicBezTo>
                      <a:cubicBezTo>
                        <a:pt x="1337" y="354"/>
                        <a:pt x="1399" y="362"/>
                        <a:pt x="1362" y="374"/>
                      </a:cubicBezTo>
                      <a:cubicBezTo>
                        <a:pt x="1379" y="385"/>
                        <a:pt x="1385" y="403"/>
                        <a:pt x="1402" y="414"/>
                      </a:cubicBezTo>
                      <a:cubicBezTo>
                        <a:pt x="1433" y="404"/>
                        <a:pt x="1411" y="396"/>
                        <a:pt x="1450" y="402"/>
                      </a:cubicBezTo>
                      <a:cubicBezTo>
                        <a:pt x="1456" y="419"/>
                        <a:pt x="1452" y="424"/>
                        <a:pt x="1442" y="438"/>
                      </a:cubicBezTo>
                      <a:cubicBezTo>
                        <a:pt x="1439" y="457"/>
                        <a:pt x="1441" y="478"/>
                        <a:pt x="1418" y="470"/>
                      </a:cubicBezTo>
                      <a:cubicBezTo>
                        <a:pt x="1417" y="459"/>
                        <a:pt x="1419" y="447"/>
                        <a:pt x="1414" y="438"/>
                      </a:cubicBezTo>
                      <a:cubicBezTo>
                        <a:pt x="1412" y="434"/>
                        <a:pt x="1406" y="442"/>
                        <a:pt x="1402" y="442"/>
                      </a:cubicBezTo>
                      <a:cubicBezTo>
                        <a:pt x="1398" y="442"/>
                        <a:pt x="1394" y="440"/>
                        <a:pt x="1390" y="438"/>
                      </a:cubicBezTo>
                      <a:cubicBezTo>
                        <a:pt x="1382" y="433"/>
                        <a:pt x="1366" y="422"/>
                        <a:pt x="1366" y="422"/>
                      </a:cubicBezTo>
                      <a:cubicBezTo>
                        <a:pt x="1345" y="427"/>
                        <a:pt x="1333" y="442"/>
                        <a:pt x="1314" y="454"/>
                      </a:cubicBezTo>
                      <a:cubicBezTo>
                        <a:pt x="1303" y="461"/>
                        <a:pt x="1286" y="462"/>
                        <a:pt x="1274" y="466"/>
                      </a:cubicBezTo>
                      <a:cubicBezTo>
                        <a:pt x="1262" y="485"/>
                        <a:pt x="1273" y="484"/>
                        <a:pt x="1290" y="490"/>
                      </a:cubicBezTo>
                      <a:cubicBezTo>
                        <a:pt x="1273" y="501"/>
                        <a:pt x="1271" y="491"/>
                        <a:pt x="1254" y="502"/>
                      </a:cubicBezTo>
                      <a:cubicBezTo>
                        <a:pt x="1245" y="501"/>
                        <a:pt x="1234" y="504"/>
                        <a:pt x="1226" y="498"/>
                      </a:cubicBezTo>
                      <a:cubicBezTo>
                        <a:pt x="1222" y="495"/>
                        <a:pt x="1236" y="495"/>
                        <a:pt x="1238" y="490"/>
                      </a:cubicBezTo>
                      <a:cubicBezTo>
                        <a:pt x="1244" y="473"/>
                        <a:pt x="1196" y="435"/>
                        <a:pt x="1230" y="458"/>
                      </a:cubicBezTo>
                      <a:cubicBezTo>
                        <a:pt x="1249" y="486"/>
                        <a:pt x="1249" y="450"/>
                        <a:pt x="1226" y="442"/>
                      </a:cubicBezTo>
                      <a:cubicBezTo>
                        <a:pt x="1223" y="433"/>
                        <a:pt x="1224" y="424"/>
                        <a:pt x="1210" y="426"/>
                      </a:cubicBezTo>
                      <a:cubicBezTo>
                        <a:pt x="1202" y="427"/>
                        <a:pt x="1186" y="434"/>
                        <a:pt x="1186" y="434"/>
                      </a:cubicBezTo>
                      <a:cubicBezTo>
                        <a:pt x="1178" y="457"/>
                        <a:pt x="1187" y="442"/>
                        <a:pt x="1174" y="434"/>
                      </a:cubicBezTo>
                      <a:cubicBezTo>
                        <a:pt x="1169" y="431"/>
                        <a:pt x="1163" y="431"/>
                        <a:pt x="1158" y="430"/>
                      </a:cubicBezTo>
                      <a:cubicBezTo>
                        <a:pt x="1149" y="404"/>
                        <a:pt x="1123" y="394"/>
                        <a:pt x="1098" y="386"/>
                      </a:cubicBezTo>
                      <a:cubicBezTo>
                        <a:pt x="1079" y="391"/>
                        <a:pt x="1078" y="399"/>
                        <a:pt x="1062" y="410"/>
                      </a:cubicBezTo>
                      <a:cubicBezTo>
                        <a:pt x="1030" y="399"/>
                        <a:pt x="1046" y="403"/>
                        <a:pt x="1014" y="398"/>
                      </a:cubicBezTo>
                      <a:cubicBezTo>
                        <a:pt x="1006" y="399"/>
                        <a:pt x="998" y="403"/>
                        <a:pt x="990" y="402"/>
                      </a:cubicBezTo>
                      <a:cubicBezTo>
                        <a:pt x="962" y="399"/>
                        <a:pt x="966" y="350"/>
                        <a:pt x="950" y="334"/>
                      </a:cubicBezTo>
                      <a:cubicBezTo>
                        <a:pt x="936" y="320"/>
                        <a:pt x="929" y="319"/>
                        <a:pt x="914" y="314"/>
                      </a:cubicBezTo>
                      <a:cubicBezTo>
                        <a:pt x="889" y="322"/>
                        <a:pt x="910" y="334"/>
                        <a:pt x="886" y="326"/>
                      </a:cubicBezTo>
                      <a:cubicBezTo>
                        <a:pt x="869" y="300"/>
                        <a:pt x="843" y="290"/>
                        <a:pt x="818" y="274"/>
                      </a:cubicBezTo>
                      <a:cubicBezTo>
                        <a:pt x="824" y="256"/>
                        <a:pt x="820" y="245"/>
                        <a:pt x="810" y="230"/>
                      </a:cubicBezTo>
                      <a:cubicBezTo>
                        <a:pt x="778" y="241"/>
                        <a:pt x="823" y="222"/>
                        <a:pt x="794" y="258"/>
                      </a:cubicBezTo>
                      <a:cubicBezTo>
                        <a:pt x="788" y="265"/>
                        <a:pt x="778" y="250"/>
                        <a:pt x="770" y="246"/>
                      </a:cubicBezTo>
                      <a:cubicBezTo>
                        <a:pt x="762" y="243"/>
                        <a:pt x="746" y="238"/>
                        <a:pt x="746" y="238"/>
                      </a:cubicBezTo>
                      <a:cubicBezTo>
                        <a:pt x="742" y="212"/>
                        <a:pt x="742" y="210"/>
                        <a:pt x="718" y="202"/>
                      </a:cubicBezTo>
                      <a:cubicBezTo>
                        <a:pt x="698" y="206"/>
                        <a:pt x="689" y="206"/>
                        <a:pt x="682" y="226"/>
                      </a:cubicBezTo>
                      <a:cubicBezTo>
                        <a:pt x="664" y="220"/>
                        <a:pt x="651" y="212"/>
                        <a:pt x="634" y="206"/>
                      </a:cubicBezTo>
                      <a:cubicBezTo>
                        <a:pt x="640" y="189"/>
                        <a:pt x="644" y="171"/>
                        <a:pt x="650" y="154"/>
                      </a:cubicBezTo>
                      <a:cubicBezTo>
                        <a:pt x="632" y="148"/>
                        <a:pt x="628" y="151"/>
                        <a:pt x="618" y="166"/>
                      </a:cubicBezTo>
                      <a:cubicBezTo>
                        <a:pt x="610" y="163"/>
                        <a:pt x="602" y="161"/>
                        <a:pt x="594" y="158"/>
                      </a:cubicBezTo>
                      <a:cubicBezTo>
                        <a:pt x="590" y="157"/>
                        <a:pt x="582" y="154"/>
                        <a:pt x="582" y="154"/>
                      </a:cubicBezTo>
                      <a:cubicBezTo>
                        <a:pt x="591" y="191"/>
                        <a:pt x="578" y="153"/>
                        <a:pt x="598" y="178"/>
                      </a:cubicBezTo>
                      <a:cubicBezTo>
                        <a:pt x="601" y="181"/>
                        <a:pt x="606" y="189"/>
                        <a:pt x="602" y="190"/>
                      </a:cubicBezTo>
                      <a:cubicBezTo>
                        <a:pt x="591" y="192"/>
                        <a:pt x="570" y="182"/>
                        <a:pt x="570" y="182"/>
                      </a:cubicBezTo>
                      <a:cubicBezTo>
                        <a:pt x="553" y="171"/>
                        <a:pt x="538" y="165"/>
                        <a:pt x="522" y="154"/>
                      </a:cubicBezTo>
                      <a:cubicBezTo>
                        <a:pt x="506" y="131"/>
                        <a:pt x="487" y="137"/>
                        <a:pt x="522" y="114"/>
                      </a:cubicBezTo>
                      <a:cubicBezTo>
                        <a:pt x="521" y="109"/>
                        <a:pt x="522" y="101"/>
                        <a:pt x="518" y="98"/>
                      </a:cubicBezTo>
                      <a:cubicBezTo>
                        <a:pt x="515" y="95"/>
                        <a:pt x="510" y="104"/>
                        <a:pt x="506" y="102"/>
                      </a:cubicBezTo>
                      <a:cubicBezTo>
                        <a:pt x="502" y="100"/>
                        <a:pt x="505" y="93"/>
                        <a:pt x="502" y="90"/>
                      </a:cubicBezTo>
                      <a:cubicBezTo>
                        <a:pt x="499" y="87"/>
                        <a:pt x="494" y="87"/>
                        <a:pt x="490" y="86"/>
                      </a:cubicBezTo>
                      <a:cubicBezTo>
                        <a:pt x="482" y="89"/>
                        <a:pt x="474" y="91"/>
                        <a:pt x="466" y="94"/>
                      </a:cubicBezTo>
                      <a:cubicBezTo>
                        <a:pt x="462" y="95"/>
                        <a:pt x="454" y="98"/>
                        <a:pt x="454" y="98"/>
                      </a:cubicBezTo>
                      <a:cubicBezTo>
                        <a:pt x="461" y="118"/>
                        <a:pt x="454" y="118"/>
                        <a:pt x="442" y="134"/>
                      </a:cubicBezTo>
                      <a:cubicBezTo>
                        <a:pt x="436" y="142"/>
                        <a:pt x="426" y="158"/>
                        <a:pt x="426" y="158"/>
                      </a:cubicBezTo>
                      <a:cubicBezTo>
                        <a:pt x="419" y="188"/>
                        <a:pt x="441" y="225"/>
                        <a:pt x="410" y="246"/>
                      </a:cubicBezTo>
                      <a:cubicBezTo>
                        <a:pt x="409" y="250"/>
                        <a:pt x="410" y="256"/>
                        <a:pt x="406" y="258"/>
                      </a:cubicBezTo>
                      <a:cubicBezTo>
                        <a:pt x="398" y="262"/>
                        <a:pt x="385" y="244"/>
                        <a:pt x="382" y="242"/>
                      </a:cubicBezTo>
                      <a:cubicBezTo>
                        <a:pt x="371" y="236"/>
                        <a:pt x="351" y="233"/>
                        <a:pt x="338" y="230"/>
                      </a:cubicBezTo>
                      <a:cubicBezTo>
                        <a:pt x="330" y="231"/>
                        <a:pt x="322" y="231"/>
                        <a:pt x="314" y="234"/>
                      </a:cubicBezTo>
                      <a:cubicBezTo>
                        <a:pt x="309" y="236"/>
                        <a:pt x="307" y="243"/>
                        <a:pt x="302" y="242"/>
                      </a:cubicBezTo>
                      <a:cubicBezTo>
                        <a:pt x="298" y="241"/>
                        <a:pt x="301" y="233"/>
                        <a:pt x="298" y="230"/>
                      </a:cubicBezTo>
                      <a:cubicBezTo>
                        <a:pt x="292" y="223"/>
                        <a:pt x="282" y="221"/>
                        <a:pt x="274" y="218"/>
                      </a:cubicBezTo>
                      <a:cubicBezTo>
                        <a:pt x="262" y="237"/>
                        <a:pt x="261" y="246"/>
                        <a:pt x="238" y="254"/>
                      </a:cubicBezTo>
                      <a:cubicBezTo>
                        <a:pt x="230" y="229"/>
                        <a:pt x="250" y="241"/>
                        <a:pt x="234" y="218"/>
                      </a:cubicBezTo>
                      <a:cubicBezTo>
                        <a:pt x="220" y="227"/>
                        <a:pt x="211" y="234"/>
                        <a:pt x="206" y="250"/>
                      </a:cubicBezTo>
                      <a:cubicBezTo>
                        <a:pt x="212" y="274"/>
                        <a:pt x="208" y="277"/>
                        <a:pt x="234" y="282"/>
                      </a:cubicBezTo>
                      <a:cubicBezTo>
                        <a:pt x="236" y="289"/>
                        <a:pt x="245" y="302"/>
                        <a:pt x="226" y="302"/>
                      </a:cubicBezTo>
                      <a:cubicBezTo>
                        <a:pt x="218" y="302"/>
                        <a:pt x="202" y="294"/>
                        <a:pt x="202" y="294"/>
                      </a:cubicBezTo>
                      <a:cubicBezTo>
                        <a:pt x="184" y="321"/>
                        <a:pt x="148" y="329"/>
                        <a:pt x="122" y="346"/>
                      </a:cubicBezTo>
                      <a:cubicBezTo>
                        <a:pt x="116" y="364"/>
                        <a:pt x="99" y="371"/>
                        <a:pt x="82" y="378"/>
                      </a:cubicBezTo>
                      <a:cubicBezTo>
                        <a:pt x="74" y="381"/>
                        <a:pt x="58" y="386"/>
                        <a:pt x="58" y="386"/>
                      </a:cubicBezTo>
                      <a:cubicBezTo>
                        <a:pt x="26" y="375"/>
                        <a:pt x="82" y="375"/>
                        <a:pt x="86" y="374"/>
                      </a:cubicBezTo>
                      <a:cubicBezTo>
                        <a:pt x="96" y="360"/>
                        <a:pt x="104" y="359"/>
                        <a:pt x="118" y="350"/>
                      </a:cubicBezTo>
                      <a:cubicBezTo>
                        <a:pt x="132" y="329"/>
                        <a:pt x="145" y="318"/>
                        <a:pt x="170" y="314"/>
                      </a:cubicBezTo>
                      <a:cubicBezTo>
                        <a:pt x="172" y="309"/>
                        <a:pt x="178" y="290"/>
                        <a:pt x="178" y="286"/>
                      </a:cubicBezTo>
                      <a:cubicBezTo>
                        <a:pt x="177" y="278"/>
                        <a:pt x="170" y="262"/>
                        <a:pt x="170" y="262"/>
                      </a:cubicBezTo>
                      <a:cubicBezTo>
                        <a:pt x="146" y="265"/>
                        <a:pt x="134" y="263"/>
                        <a:pt x="126" y="286"/>
                      </a:cubicBezTo>
                      <a:cubicBezTo>
                        <a:pt x="92" y="275"/>
                        <a:pt x="141" y="296"/>
                        <a:pt x="118" y="258"/>
                      </a:cubicBezTo>
                      <a:cubicBezTo>
                        <a:pt x="114" y="251"/>
                        <a:pt x="102" y="253"/>
                        <a:pt x="94" y="250"/>
                      </a:cubicBezTo>
                      <a:cubicBezTo>
                        <a:pt x="90" y="249"/>
                        <a:pt x="82" y="246"/>
                        <a:pt x="82" y="246"/>
                      </a:cubicBezTo>
                      <a:cubicBezTo>
                        <a:pt x="65" y="258"/>
                        <a:pt x="54" y="250"/>
                        <a:pt x="34" y="246"/>
                      </a:cubicBezTo>
                      <a:cubicBezTo>
                        <a:pt x="66" y="235"/>
                        <a:pt x="90" y="253"/>
                        <a:pt x="62" y="210"/>
                      </a:cubicBezTo>
                      <a:cubicBezTo>
                        <a:pt x="68" y="192"/>
                        <a:pt x="76" y="191"/>
                        <a:pt x="94" y="186"/>
                      </a:cubicBezTo>
                      <a:cubicBezTo>
                        <a:pt x="92" y="175"/>
                        <a:pt x="95" y="160"/>
                        <a:pt x="78" y="162"/>
                      </a:cubicBezTo>
                      <a:cubicBezTo>
                        <a:pt x="70" y="163"/>
                        <a:pt x="54" y="170"/>
                        <a:pt x="54" y="170"/>
                      </a:cubicBezTo>
                      <a:cubicBezTo>
                        <a:pt x="41" y="166"/>
                        <a:pt x="18" y="150"/>
                        <a:pt x="18" y="150"/>
                      </a:cubicBezTo>
                      <a:cubicBezTo>
                        <a:pt x="12" y="131"/>
                        <a:pt x="22" y="131"/>
                        <a:pt x="38" y="126"/>
                      </a:cubicBezTo>
                      <a:cubicBezTo>
                        <a:pt x="46" y="129"/>
                        <a:pt x="54" y="131"/>
                        <a:pt x="62" y="134"/>
                      </a:cubicBezTo>
                      <a:cubicBezTo>
                        <a:pt x="70" y="137"/>
                        <a:pt x="86" y="126"/>
                        <a:pt x="86" y="126"/>
                      </a:cubicBezTo>
                      <a:cubicBezTo>
                        <a:pt x="69" y="109"/>
                        <a:pt x="56" y="117"/>
                        <a:pt x="30" y="114"/>
                      </a:cubicBezTo>
                      <a:cubicBezTo>
                        <a:pt x="17" y="110"/>
                        <a:pt x="0" y="99"/>
                        <a:pt x="14" y="82"/>
                      </a:cubicBezTo>
                      <a:cubicBezTo>
                        <a:pt x="20" y="75"/>
                        <a:pt x="31" y="76"/>
                        <a:pt x="38" y="70"/>
                      </a:cubicBezTo>
                      <a:cubicBezTo>
                        <a:pt x="69" y="44"/>
                        <a:pt x="32" y="70"/>
                        <a:pt x="62" y="50"/>
                      </a:cubicBezTo>
                      <a:cubicBezTo>
                        <a:pt x="72" y="34"/>
                        <a:pt x="65" y="40"/>
                        <a:pt x="82" y="3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5873400" y="1577160"/>
                  <a:ext cx="1050480" cy="597240"/>
                </a:xfrm>
                <a:custGeom>
                  <a:avLst/>
                  <a:gdLst/>
                  <a:ahLst/>
                  <a:rect l="l" t="t" r="r" b="b"/>
                  <a:pathLst>
                    <a:path w="602" h="336">
                      <a:moveTo>
                        <a:pt x="312" y="336"/>
                      </a:moveTo>
                      <a:cubicBezTo>
                        <a:pt x="279" y="314"/>
                        <a:pt x="238" y="290"/>
                        <a:pt x="200" y="280"/>
                      </a:cubicBezTo>
                      <a:cubicBezTo>
                        <a:pt x="197" y="276"/>
                        <a:pt x="193" y="273"/>
                        <a:pt x="192" y="268"/>
                      </a:cubicBezTo>
                      <a:cubicBezTo>
                        <a:pt x="191" y="264"/>
                        <a:pt x="199" y="259"/>
                        <a:pt x="196" y="256"/>
                      </a:cubicBezTo>
                      <a:cubicBezTo>
                        <a:pt x="191" y="251"/>
                        <a:pt x="183" y="254"/>
                        <a:pt x="176" y="252"/>
                      </a:cubicBezTo>
                      <a:cubicBezTo>
                        <a:pt x="152" y="245"/>
                        <a:pt x="157" y="247"/>
                        <a:pt x="140" y="236"/>
                      </a:cubicBezTo>
                      <a:cubicBezTo>
                        <a:pt x="136" y="237"/>
                        <a:pt x="128" y="236"/>
                        <a:pt x="128" y="240"/>
                      </a:cubicBezTo>
                      <a:cubicBezTo>
                        <a:pt x="128" y="240"/>
                        <a:pt x="153" y="255"/>
                        <a:pt x="148" y="260"/>
                      </a:cubicBezTo>
                      <a:cubicBezTo>
                        <a:pt x="144" y="264"/>
                        <a:pt x="137" y="257"/>
                        <a:pt x="132" y="256"/>
                      </a:cubicBezTo>
                      <a:cubicBezTo>
                        <a:pt x="117" y="241"/>
                        <a:pt x="102" y="238"/>
                        <a:pt x="124" y="224"/>
                      </a:cubicBezTo>
                      <a:cubicBezTo>
                        <a:pt x="119" y="203"/>
                        <a:pt x="122" y="197"/>
                        <a:pt x="100" y="192"/>
                      </a:cubicBezTo>
                      <a:cubicBezTo>
                        <a:pt x="76" y="155"/>
                        <a:pt x="41" y="162"/>
                        <a:pt x="8" y="140"/>
                      </a:cubicBezTo>
                      <a:cubicBezTo>
                        <a:pt x="18" y="111"/>
                        <a:pt x="14" y="124"/>
                        <a:pt x="20" y="100"/>
                      </a:cubicBezTo>
                      <a:cubicBezTo>
                        <a:pt x="14" y="68"/>
                        <a:pt x="0" y="25"/>
                        <a:pt x="32" y="4"/>
                      </a:cubicBezTo>
                      <a:cubicBezTo>
                        <a:pt x="49" y="10"/>
                        <a:pt x="62" y="3"/>
                        <a:pt x="80" y="0"/>
                      </a:cubicBezTo>
                      <a:cubicBezTo>
                        <a:pt x="89" y="28"/>
                        <a:pt x="80" y="27"/>
                        <a:pt x="100" y="20"/>
                      </a:cubicBezTo>
                      <a:cubicBezTo>
                        <a:pt x="108" y="23"/>
                        <a:pt x="116" y="25"/>
                        <a:pt x="124" y="28"/>
                      </a:cubicBezTo>
                      <a:cubicBezTo>
                        <a:pt x="128" y="29"/>
                        <a:pt x="136" y="32"/>
                        <a:pt x="136" y="32"/>
                      </a:cubicBezTo>
                      <a:cubicBezTo>
                        <a:pt x="143" y="53"/>
                        <a:pt x="167" y="65"/>
                        <a:pt x="188" y="72"/>
                      </a:cubicBezTo>
                      <a:cubicBezTo>
                        <a:pt x="187" y="77"/>
                        <a:pt x="182" y="83"/>
                        <a:pt x="184" y="88"/>
                      </a:cubicBezTo>
                      <a:cubicBezTo>
                        <a:pt x="188" y="100"/>
                        <a:pt x="220" y="104"/>
                        <a:pt x="220" y="104"/>
                      </a:cubicBezTo>
                      <a:cubicBezTo>
                        <a:pt x="243" y="89"/>
                        <a:pt x="271" y="102"/>
                        <a:pt x="292" y="116"/>
                      </a:cubicBezTo>
                      <a:cubicBezTo>
                        <a:pt x="296" y="127"/>
                        <a:pt x="294" y="132"/>
                        <a:pt x="308" y="132"/>
                      </a:cubicBezTo>
                      <a:cubicBezTo>
                        <a:pt x="322" y="132"/>
                        <a:pt x="344" y="112"/>
                        <a:pt x="344" y="112"/>
                      </a:cubicBezTo>
                      <a:cubicBezTo>
                        <a:pt x="356" y="120"/>
                        <a:pt x="368" y="128"/>
                        <a:pt x="380" y="136"/>
                      </a:cubicBezTo>
                      <a:cubicBezTo>
                        <a:pt x="387" y="141"/>
                        <a:pt x="404" y="144"/>
                        <a:pt x="404" y="144"/>
                      </a:cubicBezTo>
                      <a:cubicBezTo>
                        <a:pt x="410" y="162"/>
                        <a:pt x="418" y="163"/>
                        <a:pt x="436" y="168"/>
                      </a:cubicBezTo>
                      <a:cubicBezTo>
                        <a:pt x="449" y="177"/>
                        <a:pt x="457" y="187"/>
                        <a:pt x="472" y="192"/>
                      </a:cubicBezTo>
                      <a:cubicBezTo>
                        <a:pt x="479" y="199"/>
                        <a:pt x="484" y="209"/>
                        <a:pt x="492" y="216"/>
                      </a:cubicBezTo>
                      <a:cubicBezTo>
                        <a:pt x="503" y="225"/>
                        <a:pt x="538" y="239"/>
                        <a:pt x="552" y="244"/>
                      </a:cubicBezTo>
                      <a:cubicBezTo>
                        <a:pt x="570" y="271"/>
                        <a:pt x="548" y="260"/>
                        <a:pt x="536" y="252"/>
                      </a:cubicBezTo>
                      <a:cubicBezTo>
                        <a:pt x="526" y="238"/>
                        <a:pt x="518" y="237"/>
                        <a:pt x="504" y="228"/>
                      </a:cubicBezTo>
                      <a:cubicBezTo>
                        <a:pt x="503" y="225"/>
                        <a:pt x="497" y="197"/>
                        <a:pt x="492" y="228"/>
                      </a:cubicBezTo>
                      <a:cubicBezTo>
                        <a:pt x="491" y="237"/>
                        <a:pt x="510" y="260"/>
                        <a:pt x="516" y="264"/>
                      </a:cubicBezTo>
                      <a:cubicBezTo>
                        <a:pt x="533" y="275"/>
                        <a:pt x="568" y="275"/>
                        <a:pt x="584" y="276"/>
                      </a:cubicBezTo>
                      <a:cubicBezTo>
                        <a:pt x="601" y="282"/>
                        <a:pt x="602" y="287"/>
                        <a:pt x="596" y="304"/>
                      </a:cubicBezTo>
                      <a:cubicBezTo>
                        <a:pt x="579" y="298"/>
                        <a:pt x="566" y="308"/>
                        <a:pt x="548" y="308"/>
                      </a:cubicBezTo>
                      <a:lnTo>
                        <a:pt x="312" y="336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153400" y="1705680"/>
                  <a:ext cx="57600" cy="4356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28" y="20"/>
                      </a:moveTo>
                      <a:cubicBezTo>
                        <a:pt x="12" y="15"/>
                        <a:pt x="0" y="8"/>
                        <a:pt x="24" y="0"/>
                      </a:cubicBezTo>
                      <a:cubicBezTo>
                        <a:pt x="27" y="4"/>
                        <a:pt x="31" y="7"/>
                        <a:pt x="32" y="12"/>
                      </a:cubicBezTo>
                      <a:cubicBezTo>
                        <a:pt x="33" y="16"/>
                        <a:pt x="30" y="20"/>
                        <a:pt x="28" y="24"/>
                      </a:cubicBezTo>
                      <a:cubicBezTo>
                        <a:pt x="27" y="25"/>
                        <a:pt x="28" y="21"/>
                        <a:pt x="28" y="2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885200" y="1464120"/>
                  <a:ext cx="87120" cy="2808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34" y="16"/>
                      </a:moveTo>
                      <a:cubicBezTo>
                        <a:pt x="0" y="8"/>
                        <a:pt x="27" y="5"/>
                        <a:pt x="42" y="0"/>
                      </a:cubicBezTo>
                      <a:cubicBezTo>
                        <a:pt x="47" y="16"/>
                        <a:pt x="50" y="11"/>
                        <a:pt x="34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859640" y="2027520"/>
                  <a:ext cx="66240" cy="6624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21" y="23"/>
                      </a:moveTo>
                      <a:cubicBezTo>
                        <a:pt x="0" y="9"/>
                        <a:pt x="9" y="0"/>
                        <a:pt x="29" y="7"/>
                      </a:cubicBezTo>
                      <a:cubicBezTo>
                        <a:pt x="32" y="11"/>
                        <a:pt x="38" y="14"/>
                        <a:pt x="37" y="19"/>
                      </a:cubicBezTo>
                      <a:cubicBezTo>
                        <a:pt x="33" y="38"/>
                        <a:pt x="25" y="27"/>
                        <a:pt x="21" y="2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951440" y="2046240"/>
                  <a:ext cx="40680" cy="3636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12" y="16"/>
                      </a:moveTo>
                      <a:cubicBezTo>
                        <a:pt x="9" y="12"/>
                        <a:pt x="1" y="7"/>
                        <a:pt x="4" y="4"/>
                      </a:cubicBezTo>
                      <a:cubicBezTo>
                        <a:pt x="8" y="0"/>
                        <a:pt x="17" y="4"/>
                        <a:pt x="20" y="8"/>
                      </a:cubicBezTo>
                      <a:cubicBezTo>
                        <a:pt x="23" y="11"/>
                        <a:pt x="17" y="16"/>
                        <a:pt x="16" y="20"/>
                      </a:cubicBezTo>
                      <a:cubicBezTo>
                        <a:pt x="2" y="10"/>
                        <a:pt x="0" y="10"/>
                        <a:pt x="12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434840" y="2229840"/>
                  <a:ext cx="72000" cy="522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197240" y="1299960"/>
                  <a:ext cx="272160" cy="98640"/>
                </a:xfrm>
                <a:custGeom>
                  <a:avLst/>
                  <a:gdLst/>
                  <a:ahLst/>
                  <a:rect l="l" t="t" r="r" b="b"/>
                  <a:pathLst>
                    <a:path w="156" h="56">
                      <a:moveTo>
                        <a:pt x="16" y="32"/>
                      </a:moveTo>
                      <a:cubicBezTo>
                        <a:pt x="4" y="13"/>
                        <a:pt x="6" y="5"/>
                        <a:pt x="28" y="0"/>
                      </a:cubicBezTo>
                      <a:cubicBezTo>
                        <a:pt x="57" y="10"/>
                        <a:pt x="44" y="6"/>
                        <a:pt x="68" y="12"/>
                      </a:cubicBezTo>
                      <a:cubicBezTo>
                        <a:pt x="85" y="24"/>
                        <a:pt x="110" y="17"/>
                        <a:pt x="132" y="20"/>
                      </a:cubicBezTo>
                      <a:cubicBezTo>
                        <a:pt x="156" y="56"/>
                        <a:pt x="115" y="35"/>
                        <a:pt x="104" y="28"/>
                      </a:cubicBezTo>
                      <a:cubicBezTo>
                        <a:pt x="71" y="39"/>
                        <a:pt x="123" y="24"/>
                        <a:pt x="56" y="28"/>
                      </a:cubicBezTo>
                      <a:cubicBezTo>
                        <a:pt x="48" y="29"/>
                        <a:pt x="32" y="36"/>
                        <a:pt x="32" y="36"/>
                      </a:cubicBezTo>
                      <a:cubicBezTo>
                        <a:pt x="5" y="27"/>
                        <a:pt x="0" y="24"/>
                        <a:pt x="16" y="3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3552120" y="1122120"/>
                  <a:ext cx="122400" cy="46440"/>
                </a:xfrm>
                <a:custGeom>
                  <a:avLst/>
                  <a:gdLst/>
                  <a:ahLst/>
                  <a:rect l="l" t="t" r="r" b="b"/>
                  <a:pathLst>
                    <a:path w="71" h="26">
                      <a:moveTo>
                        <a:pt x="54" y="16"/>
                      </a:moveTo>
                      <a:cubicBezTo>
                        <a:pt x="29" y="24"/>
                        <a:pt x="0" y="14"/>
                        <a:pt x="42" y="0"/>
                      </a:cubicBezTo>
                      <a:cubicBezTo>
                        <a:pt x="50" y="3"/>
                        <a:pt x="58" y="5"/>
                        <a:pt x="66" y="8"/>
                      </a:cubicBezTo>
                      <a:cubicBezTo>
                        <a:pt x="71" y="10"/>
                        <a:pt x="67" y="21"/>
                        <a:pt x="62" y="24"/>
                      </a:cubicBezTo>
                      <a:cubicBezTo>
                        <a:pt x="59" y="26"/>
                        <a:pt x="57" y="19"/>
                        <a:pt x="54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3597120" y="1164600"/>
                  <a:ext cx="114120" cy="70200"/>
                </a:xfrm>
                <a:custGeom>
                  <a:avLst/>
                  <a:gdLst/>
                  <a:ahLst/>
                  <a:rect l="l" t="t" r="r" b="b"/>
                  <a:pathLst>
                    <a:path w="66" h="40">
                      <a:moveTo>
                        <a:pt x="0" y="12"/>
                      </a:moveTo>
                      <a:cubicBezTo>
                        <a:pt x="23" y="9"/>
                        <a:pt x="39" y="3"/>
                        <a:pt x="60" y="8"/>
                      </a:cubicBezTo>
                      <a:cubicBezTo>
                        <a:pt x="66" y="26"/>
                        <a:pt x="59" y="30"/>
                        <a:pt x="44" y="40"/>
                      </a:cubicBezTo>
                      <a:cubicBezTo>
                        <a:pt x="27" y="34"/>
                        <a:pt x="17" y="33"/>
                        <a:pt x="4" y="20"/>
                      </a:cubicBezTo>
                      <a:cubicBezTo>
                        <a:pt x="9" y="0"/>
                        <a:pt x="12" y="0"/>
                        <a:pt x="0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3694680" y="1206720"/>
                  <a:ext cx="95760" cy="5076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0" y="20"/>
                      </a:moveTo>
                      <a:cubicBezTo>
                        <a:pt x="4" y="16"/>
                        <a:pt x="7" y="11"/>
                        <a:pt x="12" y="8"/>
                      </a:cubicBezTo>
                      <a:cubicBezTo>
                        <a:pt x="19" y="4"/>
                        <a:pt x="36" y="0"/>
                        <a:pt x="36" y="0"/>
                      </a:cubicBezTo>
                      <a:cubicBezTo>
                        <a:pt x="55" y="28"/>
                        <a:pt x="18" y="16"/>
                        <a:pt x="0" y="2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2423880" y="1264680"/>
                  <a:ext cx="2773080" cy="1599120"/>
                </a:xfrm>
                <a:custGeom>
                  <a:avLst/>
                  <a:gdLst/>
                  <a:ahLst/>
                  <a:rect l="l" t="t" r="r" b="b"/>
                  <a:pathLst>
                    <a:path w="1589" h="900">
                      <a:moveTo>
                        <a:pt x="240" y="144"/>
                      </a:moveTo>
                      <a:cubicBezTo>
                        <a:pt x="246" y="127"/>
                        <a:pt x="252" y="118"/>
                        <a:pt x="256" y="100"/>
                      </a:cubicBezTo>
                      <a:cubicBezTo>
                        <a:pt x="265" y="114"/>
                        <a:pt x="272" y="119"/>
                        <a:pt x="288" y="124"/>
                      </a:cubicBezTo>
                      <a:cubicBezTo>
                        <a:pt x="291" y="128"/>
                        <a:pt x="292" y="133"/>
                        <a:pt x="296" y="136"/>
                      </a:cubicBezTo>
                      <a:cubicBezTo>
                        <a:pt x="303" y="140"/>
                        <a:pt x="320" y="144"/>
                        <a:pt x="320" y="144"/>
                      </a:cubicBezTo>
                      <a:cubicBezTo>
                        <a:pt x="316" y="131"/>
                        <a:pt x="316" y="118"/>
                        <a:pt x="328" y="108"/>
                      </a:cubicBezTo>
                      <a:cubicBezTo>
                        <a:pt x="335" y="102"/>
                        <a:pt x="344" y="97"/>
                        <a:pt x="352" y="92"/>
                      </a:cubicBezTo>
                      <a:cubicBezTo>
                        <a:pt x="356" y="89"/>
                        <a:pt x="364" y="84"/>
                        <a:pt x="364" y="84"/>
                      </a:cubicBezTo>
                      <a:cubicBezTo>
                        <a:pt x="374" y="69"/>
                        <a:pt x="378" y="66"/>
                        <a:pt x="396" y="72"/>
                      </a:cubicBezTo>
                      <a:cubicBezTo>
                        <a:pt x="407" y="89"/>
                        <a:pt x="404" y="93"/>
                        <a:pt x="388" y="104"/>
                      </a:cubicBezTo>
                      <a:cubicBezTo>
                        <a:pt x="364" y="140"/>
                        <a:pt x="350" y="168"/>
                        <a:pt x="304" y="180"/>
                      </a:cubicBezTo>
                      <a:cubicBezTo>
                        <a:pt x="305" y="184"/>
                        <a:pt x="304" y="191"/>
                        <a:pt x="308" y="192"/>
                      </a:cubicBezTo>
                      <a:cubicBezTo>
                        <a:pt x="316" y="193"/>
                        <a:pt x="332" y="184"/>
                        <a:pt x="332" y="184"/>
                      </a:cubicBezTo>
                      <a:cubicBezTo>
                        <a:pt x="336" y="180"/>
                        <a:pt x="339" y="175"/>
                        <a:pt x="344" y="172"/>
                      </a:cubicBezTo>
                      <a:cubicBezTo>
                        <a:pt x="348" y="170"/>
                        <a:pt x="353" y="171"/>
                        <a:pt x="356" y="168"/>
                      </a:cubicBezTo>
                      <a:cubicBezTo>
                        <a:pt x="360" y="165"/>
                        <a:pt x="361" y="159"/>
                        <a:pt x="364" y="156"/>
                      </a:cubicBezTo>
                      <a:cubicBezTo>
                        <a:pt x="367" y="153"/>
                        <a:pt x="372" y="151"/>
                        <a:pt x="376" y="148"/>
                      </a:cubicBezTo>
                      <a:cubicBezTo>
                        <a:pt x="404" y="166"/>
                        <a:pt x="397" y="173"/>
                        <a:pt x="404" y="152"/>
                      </a:cubicBezTo>
                      <a:cubicBezTo>
                        <a:pt x="382" y="130"/>
                        <a:pt x="388" y="124"/>
                        <a:pt x="412" y="108"/>
                      </a:cubicBezTo>
                      <a:cubicBezTo>
                        <a:pt x="417" y="92"/>
                        <a:pt x="424" y="80"/>
                        <a:pt x="432" y="104"/>
                      </a:cubicBezTo>
                      <a:cubicBezTo>
                        <a:pt x="444" y="69"/>
                        <a:pt x="436" y="75"/>
                        <a:pt x="476" y="88"/>
                      </a:cubicBezTo>
                      <a:cubicBezTo>
                        <a:pt x="482" y="105"/>
                        <a:pt x="478" y="110"/>
                        <a:pt x="468" y="124"/>
                      </a:cubicBezTo>
                      <a:cubicBezTo>
                        <a:pt x="472" y="125"/>
                        <a:pt x="477" y="131"/>
                        <a:pt x="480" y="128"/>
                      </a:cubicBezTo>
                      <a:cubicBezTo>
                        <a:pt x="486" y="122"/>
                        <a:pt x="485" y="112"/>
                        <a:pt x="488" y="104"/>
                      </a:cubicBezTo>
                      <a:cubicBezTo>
                        <a:pt x="489" y="100"/>
                        <a:pt x="492" y="92"/>
                        <a:pt x="492" y="92"/>
                      </a:cubicBezTo>
                      <a:cubicBezTo>
                        <a:pt x="486" y="74"/>
                        <a:pt x="489" y="70"/>
                        <a:pt x="504" y="60"/>
                      </a:cubicBezTo>
                      <a:cubicBezTo>
                        <a:pt x="524" y="64"/>
                        <a:pt x="533" y="62"/>
                        <a:pt x="552" y="56"/>
                      </a:cubicBezTo>
                      <a:cubicBezTo>
                        <a:pt x="584" y="24"/>
                        <a:pt x="643" y="25"/>
                        <a:pt x="684" y="20"/>
                      </a:cubicBezTo>
                      <a:cubicBezTo>
                        <a:pt x="703" y="14"/>
                        <a:pt x="720" y="11"/>
                        <a:pt x="736" y="0"/>
                      </a:cubicBezTo>
                      <a:cubicBezTo>
                        <a:pt x="759" y="8"/>
                        <a:pt x="756" y="13"/>
                        <a:pt x="784" y="8"/>
                      </a:cubicBezTo>
                      <a:cubicBezTo>
                        <a:pt x="801" y="14"/>
                        <a:pt x="807" y="36"/>
                        <a:pt x="788" y="48"/>
                      </a:cubicBezTo>
                      <a:cubicBezTo>
                        <a:pt x="776" y="56"/>
                        <a:pt x="745" y="65"/>
                        <a:pt x="732" y="68"/>
                      </a:cubicBezTo>
                      <a:cubicBezTo>
                        <a:pt x="720" y="76"/>
                        <a:pt x="693" y="83"/>
                        <a:pt x="720" y="92"/>
                      </a:cubicBezTo>
                      <a:cubicBezTo>
                        <a:pt x="747" y="74"/>
                        <a:pt x="764" y="69"/>
                        <a:pt x="796" y="64"/>
                      </a:cubicBezTo>
                      <a:cubicBezTo>
                        <a:pt x="799" y="68"/>
                        <a:pt x="799" y="76"/>
                        <a:pt x="804" y="76"/>
                      </a:cubicBezTo>
                      <a:cubicBezTo>
                        <a:pt x="815" y="77"/>
                        <a:pt x="836" y="68"/>
                        <a:pt x="836" y="68"/>
                      </a:cubicBezTo>
                      <a:cubicBezTo>
                        <a:pt x="850" y="77"/>
                        <a:pt x="860" y="80"/>
                        <a:pt x="876" y="84"/>
                      </a:cubicBezTo>
                      <a:cubicBezTo>
                        <a:pt x="894" y="78"/>
                        <a:pt x="886" y="70"/>
                        <a:pt x="904" y="64"/>
                      </a:cubicBezTo>
                      <a:cubicBezTo>
                        <a:pt x="922" y="70"/>
                        <a:pt x="917" y="82"/>
                        <a:pt x="936" y="76"/>
                      </a:cubicBezTo>
                      <a:cubicBezTo>
                        <a:pt x="939" y="80"/>
                        <a:pt x="946" y="84"/>
                        <a:pt x="944" y="88"/>
                      </a:cubicBezTo>
                      <a:cubicBezTo>
                        <a:pt x="939" y="96"/>
                        <a:pt x="920" y="104"/>
                        <a:pt x="920" y="104"/>
                      </a:cubicBezTo>
                      <a:cubicBezTo>
                        <a:pt x="928" y="116"/>
                        <a:pt x="931" y="126"/>
                        <a:pt x="952" y="120"/>
                      </a:cubicBezTo>
                      <a:cubicBezTo>
                        <a:pt x="956" y="119"/>
                        <a:pt x="953" y="111"/>
                        <a:pt x="956" y="108"/>
                      </a:cubicBezTo>
                      <a:cubicBezTo>
                        <a:pt x="959" y="105"/>
                        <a:pt x="964" y="105"/>
                        <a:pt x="968" y="104"/>
                      </a:cubicBezTo>
                      <a:cubicBezTo>
                        <a:pt x="976" y="107"/>
                        <a:pt x="984" y="109"/>
                        <a:pt x="992" y="112"/>
                      </a:cubicBezTo>
                      <a:cubicBezTo>
                        <a:pt x="996" y="113"/>
                        <a:pt x="1004" y="116"/>
                        <a:pt x="1004" y="116"/>
                      </a:cubicBezTo>
                      <a:cubicBezTo>
                        <a:pt x="1019" y="111"/>
                        <a:pt x="1025" y="117"/>
                        <a:pt x="1040" y="112"/>
                      </a:cubicBezTo>
                      <a:cubicBezTo>
                        <a:pt x="1043" y="108"/>
                        <a:pt x="1049" y="105"/>
                        <a:pt x="1048" y="100"/>
                      </a:cubicBezTo>
                      <a:cubicBezTo>
                        <a:pt x="1047" y="95"/>
                        <a:pt x="1038" y="96"/>
                        <a:pt x="1036" y="92"/>
                      </a:cubicBezTo>
                      <a:cubicBezTo>
                        <a:pt x="1032" y="82"/>
                        <a:pt x="1047" y="75"/>
                        <a:pt x="1052" y="72"/>
                      </a:cubicBezTo>
                      <a:cubicBezTo>
                        <a:pt x="1067" y="77"/>
                        <a:pt x="1076" y="81"/>
                        <a:pt x="1092" y="76"/>
                      </a:cubicBezTo>
                      <a:cubicBezTo>
                        <a:pt x="1096" y="77"/>
                        <a:pt x="1107" y="77"/>
                        <a:pt x="1104" y="80"/>
                      </a:cubicBezTo>
                      <a:cubicBezTo>
                        <a:pt x="1098" y="86"/>
                        <a:pt x="1080" y="88"/>
                        <a:pt x="1080" y="88"/>
                      </a:cubicBezTo>
                      <a:cubicBezTo>
                        <a:pt x="1085" y="92"/>
                        <a:pt x="1100" y="99"/>
                        <a:pt x="1100" y="108"/>
                      </a:cubicBezTo>
                      <a:cubicBezTo>
                        <a:pt x="1100" y="113"/>
                        <a:pt x="1090" y="116"/>
                        <a:pt x="1092" y="120"/>
                      </a:cubicBezTo>
                      <a:cubicBezTo>
                        <a:pt x="1094" y="124"/>
                        <a:pt x="1100" y="117"/>
                        <a:pt x="1104" y="116"/>
                      </a:cubicBezTo>
                      <a:cubicBezTo>
                        <a:pt x="1115" y="82"/>
                        <a:pt x="1118" y="94"/>
                        <a:pt x="1148" y="100"/>
                      </a:cubicBezTo>
                      <a:cubicBezTo>
                        <a:pt x="1147" y="104"/>
                        <a:pt x="1142" y="109"/>
                        <a:pt x="1144" y="112"/>
                      </a:cubicBezTo>
                      <a:cubicBezTo>
                        <a:pt x="1150" y="120"/>
                        <a:pt x="1168" y="128"/>
                        <a:pt x="1168" y="128"/>
                      </a:cubicBezTo>
                      <a:cubicBezTo>
                        <a:pt x="1184" y="123"/>
                        <a:pt x="1201" y="124"/>
                        <a:pt x="1216" y="132"/>
                      </a:cubicBezTo>
                      <a:cubicBezTo>
                        <a:pt x="1224" y="137"/>
                        <a:pt x="1240" y="148"/>
                        <a:pt x="1240" y="148"/>
                      </a:cubicBezTo>
                      <a:cubicBezTo>
                        <a:pt x="1271" y="195"/>
                        <a:pt x="1247" y="173"/>
                        <a:pt x="1260" y="160"/>
                      </a:cubicBezTo>
                      <a:cubicBezTo>
                        <a:pt x="1268" y="152"/>
                        <a:pt x="1281" y="154"/>
                        <a:pt x="1292" y="152"/>
                      </a:cubicBezTo>
                      <a:cubicBezTo>
                        <a:pt x="1317" y="160"/>
                        <a:pt x="1305" y="140"/>
                        <a:pt x="1328" y="156"/>
                      </a:cubicBezTo>
                      <a:cubicBezTo>
                        <a:pt x="1330" y="163"/>
                        <a:pt x="1339" y="178"/>
                        <a:pt x="1344" y="172"/>
                      </a:cubicBezTo>
                      <a:cubicBezTo>
                        <a:pt x="1349" y="166"/>
                        <a:pt x="1344" y="155"/>
                        <a:pt x="1348" y="148"/>
                      </a:cubicBezTo>
                      <a:cubicBezTo>
                        <a:pt x="1350" y="144"/>
                        <a:pt x="1356" y="145"/>
                        <a:pt x="1360" y="144"/>
                      </a:cubicBezTo>
                      <a:cubicBezTo>
                        <a:pt x="1390" y="164"/>
                        <a:pt x="1362" y="148"/>
                        <a:pt x="1432" y="156"/>
                      </a:cubicBezTo>
                      <a:cubicBezTo>
                        <a:pt x="1456" y="159"/>
                        <a:pt x="1499" y="198"/>
                        <a:pt x="1528" y="208"/>
                      </a:cubicBezTo>
                      <a:cubicBezTo>
                        <a:pt x="1557" y="198"/>
                        <a:pt x="1531" y="222"/>
                        <a:pt x="1560" y="212"/>
                      </a:cubicBezTo>
                      <a:cubicBezTo>
                        <a:pt x="1589" y="222"/>
                        <a:pt x="1560" y="228"/>
                        <a:pt x="1548" y="232"/>
                      </a:cubicBezTo>
                      <a:cubicBezTo>
                        <a:pt x="1539" y="258"/>
                        <a:pt x="1527" y="238"/>
                        <a:pt x="1508" y="232"/>
                      </a:cubicBezTo>
                      <a:cubicBezTo>
                        <a:pt x="1500" y="229"/>
                        <a:pt x="1484" y="224"/>
                        <a:pt x="1484" y="224"/>
                      </a:cubicBezTo>
                      <a:cubicBezTo>
                        <a:pt x="1475" y="197"/>
                        <a:pt x="1475" y="232"/>
                        <a:pt x="1456" y="244"/>
                      </a:cubicBezTo>
                      <a:cubicBezTo>
                        <a:pt x="1460" y="257"/>
                        <a:pt x="1476" y="280"/>
                        <a:pt x="1476" y="280"/>
                      </a:cubicBezTo>
                      <a:cubicBezTo>
                        <a:pt x="1459" y="286"/>
                        <a:pt x="1443" y="281"/>
                        <a:pt x="1424" y="284"/>
                      </a:cubicBezTo>
                      <a:cubicBezTo>
                        <a:pt x="1386" y="297"/>
                        <a:pt x="1402" y="325"/>
                        <a:pt x="1368" y="336"/>
                      </a:cubicBezTo>
                      <a:cubicBezTo>
                        <a:pt x="1362" y="330"/>
                        <a:pt x="1354" y="319"/>
                        <a:pt x="1344" y="320"/>
                      </a:cubicBezTo>
                      <a:cubicBezTo>
                        <a:pt x="1336" y="321"/>
                        <a:pt x="1320" y="328"/>
                        <a:pt x="1320" y="328"/>
                      </a:cubicBezTo>
                      <a:cubicBezTo>
                        <a:pt x="1319" y="324"/>
                        <a:pt x="1320" y="314"/>
                        <a:pt x="1316" y="316"/>
                      </a:cubicBezTo>
                      <a:cubicBezTo>
                        <a:pt x="1303" y="324"/>
                        <a:pt x="1288" y="363"/>
                        <a:pt x="1284" y="376"/>
                      </a:cubicBezTo>
                      <a:cubicBezTo>
                        <a:pt x="1289" y="397"/>
                        <a:pt x="1281" y="412"/>
                        <a:pt x="1276" y="432"/>
                      </a:cubicBezTo>
                      <a:cubicBezTo>
                        <a:pt x="1272" y="429"/>
                        <a:pt x="1269" y="423"/>
                        <a:pt x="1264" y="424"/>
                      </a:cubicBezTo>
                      <a:cubicBezTo>
                        <a:pt x="1257" y="425"/>
                        <a:pt x="1255" y="444"/>
                        <a:pt x="1252" y="448"/>
                      </a:cubicBezTo>
                      <a:cubicBezTo>
                        <a:pt x="1242" y="464"/>
                        <a:pt x="1226" y="482"/>
                        <a:pt x="1208" y="488"/>
                      </a:cubicBezTo>
                      <a:cubicBezTo>
                        <a:pt x="1196" y="453"/>
                        <a:pt x="1197" y="382"/>
                        <a:pt x="1240" y="368"/>
                      </a:cubicBezTo>
                      <a:cubicBezTo>
                        <a:pt x="1251" y="351"/>
                        <a:pt x="1270" y="343"/>
                        <a:pt x="1280" y="324"/>
                      </a:cubicBezTo>
                      <a:cubicBezTo>
                        <a:pt x="1286" y="312"/>
                        <a:pt x="1300" y="288"/>
                        <a:pt x="1300" y="288"/>
                      </a:cubicBezTo>
                      <a:cubicBezTo>
                        <a:pt x="1269" y="267"/>
                        <a:pt x="1270" y="311"/>
                        <a:pt x="1256" y="332"/>
                      </a:cubicBezTo>
                      <a:cubicBezTo>
                        <a:pt x="1237" y="326"/>
                        <a:pt x="1250" y="322"/>
                        <a:pt x="1244" y="304"/>
                      </a:cubicBezTo>
                      <a:cubicBezTo>
                        <a:pt x="1204" y="314"/>
                        <a:pt x="1245" y="299"/>
                        <a:pt x="1224" y="320"/>
                      </a:cubicBezTo>
                      <a:cubicBezTo>
                        <a:pt x="1217" y="327"/>
                        <a:pt x="1200" y="336"/>
                        <a:pt x="1200" y="336"/>
                      </a:cubicBezTo>
                      <a:cubicBezTo>
                        <a:pt x="1206" y="355"/>
                        <a:pt x="1196" y="355"/>
                        <a:pt x="1180" y="360"/>
                      </a:cubicBezTo>
                      <a:cubicBezTo>
                        <a:pt x="1168" y="359"/>
                        <a:pt x="1154" y="362"/>
                        <a:pt x="1144" y="356"/>
                      </a:cubicBezTo>
                      <a:cubicBezTo>
                        <a:pt x="1140" y="354"/>
                        <a:pt x="1153" y="349"/>
                        <a:pt x="1152" y="344"/>
                      </a:cubicBezTo>
                      <a:cubicBezTo>
                        <a:pt x="1151" y="340"/>
                        <a:pt x="1144" y="341"/>
                        <a:pt x="1140" y="340"/>
                      </a:cubicBezTo>
                      <a:cubicBezTo>
                        <a:pt x="1126" y="350"/>
                        <a:pt x="1121" y="354"/>
                        <a:pt x="1104" y="348"/>
                      </a:cubicBezTo>
                      <a:cubicBezTo>
                        <a:pt x="1079" y="354"/>
                        <a:pt x="1054" y="349"/>
                        <a:pt x="1032" y="364"/>
                      </a:cubicBezTo>
                      <a:cubicBezTo>
                        <a:pt x="1023" y="378"/>
                        <a:pt x="1016" y="383"/>
                        <a:pt x="1000" y="388"/>
                      </a:cubicBezTo>
                      <a:cubicBezTo>
                        <a:pt x="984" y="404"/>
                        <a:pt x="971" y="410"/>
                        <a:pt x="964" y="432"/>
                      </a:cubicBezTo>
                      <a:cubicBezTo>
                        <a:pt x="968" y="433"/>
                        <a:pt x="972" y="438"/>
                        <a:pt x="976" y="436"/>
                      </a:cubicBezTo>
                      <a:cubicBezTo>
                        <a:pt x="980" y="434"/>
                        <a:pt x="976" y="424"/>
                        <a:pt x="980" y="424"/>
                      </a:cubicBezTo>
                      <a:cubicBezTo>
                        <a:pt x="985" y="424"/>
                        <a:pt x="991" y="445"/>
                        <a:pt x="992" y="448"/>
                      </a:cubicBezTo>
                      <a:cubicBezTo>
                        <a:pt x="1000" y="443"/>
                        <a:pt x="1006" y="434"/>
                        <a:pt x="1016" y="444"/>
                      </a:cubicBezTo>
                      <a:cubicBezTo>
                        <a:pt x="1023" y="451"/>
                        <a:pt x="1044" y="460"/>
                        <a:pt x="1032" y="468"/>
                      </a:cubicBezTo>
                      <a:cubicBezTo>
                        <a:pt x="1017" y="513"/>
                        <a:pt x="1007" y="571"/>
                        <a:pt x="976" y="608"/>
                      </a:cubicBezTo>
                      <a:cubicBezTo>
                        <a:pt x="962" y="625"/>
                        <a:pt x="951" y="635"/>
                        <a:pt x="932" y="648"/>
                      </a:cubicBezTo>
                      <a:cubicBezTo>
                        <a:pt x="928" y="651"/>
                        <a:pt x="920" y="656"/>
                        <a:pt x="920" y="656"/>
                      </a:cubicBezTo>
                      <a:cubicBezTo>
                        <a:pt x="886" y="633"/>
                        <a:pt x="904" y="648"/>
                        <a:pt x="880" y="664"/>
                      </a:cubicBezTo>
                      <a:cubicBezTo>
                        <a:pt x="872" y="689"/>
                        <a:pt x="870" y="693"/>
                        <a:pt x="848" y="708"/>
                      </a:cubicBezTo>
                      <a:cubicBezTo>
                        <a:pt x="842" y="720"/>
                        <a:pt x="855" y="724"/>
                        <a:pt x="850" y="740"/>
                      </a:cubicBezTo>
                      <a:cubicBezTo>
                        <a:pt x="851" y="750"/>
                        <a:pt x="855" y="759"/>
                        <a:pt x="856" y="766"/>
                      </a:cubicBezTo>
                      <a:cubicBezTo>
                        <a:pt x="857" y="773"/>
                        <a:pt x="859" y="777"/>
                        <a:pt x="858" y="784"/>
                      </a:cubicBezTo>
                      <a:cubicBezTo>
                        <a:pt x="857" y="791"/>
                        <a:pt x="856" y="806"/>
                        <a:pt x="850" y="810"/>
                      </a:cubicBezTo>
                      <a:cubicBezTo>
                        <a:pt x="844" y="814"/>
                        <a:pt x="831" y="802"/>
                        <a:pt x="824" y="806"/>
                      </a:cubicBezTo>
                      <a:cubicBezTo>
                        <a:pt x="816" y="832"/>
                        <a:pt x="827" y="824"/>
                        <a:pt x="804" y="832"/>
                      </a:cubicBezTo>
                      <a:cubicBezTo>
                        <a:pt x="798" y="814"/>
                        <a:pt x="810" y="779"/>
                        <a:pt x="816" y="760"/>
                      </a:cubicBezTo>
                      <a:cubicBezTo>
                        <a:pt x="816" y="744"/>
                        <a:pt x="795" y="750"/>
                        <a:pt x="794" y="744"/>
                      </a:cubicBezTo>
                      <a:cubicBezTo>
                        <a:pt x="793" y="738"/>
                        <a:pt x="806" y="729"/>
                        <a:pt x="808" y="724"/>
                      </a:cubicBezTo>
                      <a:cubicBezTo>
                        <a:pt x="807" y="720"/>
                        <a:pt x="808" y="713"/>
                        <a:pt x="804" y="712"/>
                      </a:cubicBezTo>
                      <a:cubicBezTo>
                        <a:pt x="796" y="711"/>
                        <a:pt x="761" y="725"/>
                        <a:pt x="752" y="728"/>
                      </a:cubicBezTo>
                      <a:cubicBezTo>
                        <a:pt x="744" y="703"/>
                        <a:pt x="769" y="708"/>
                        <a:pt x="744" y="700"/>
                      </a:cubicBezTo>
                      <a:cubicBezTo>
                        <a:pt x="731" y="719"/>
                        <a:pt x="718" y="723"/>
                        <a:pt x="696" y="728"/>
                      </a:cubicBezTo>
                      <a:cubicBezTo>
                        <a:pt x="703" y="757"/>
                        <a:pt x="720" y="749"/>
                        <a:pt x="752" y="752"/>
                      </a:cubicBezTo>
                      <a:cubicBezTo>
                        <a:pt x="747" y="773"/>
                        <a:pt x="729" y="777"/>
                        <a:pt x="716" y="796"/>
                      </a:cubicBezTo>
                      <a:lnTo>
                        <a:pt x="730" y="822"/>
                      </a:lnTo>
                      <a:lnTo>
                        <a:pt x="740" y="858"/>
                      </a:lnTo>
                      <a:lnTo>
                        <a:pt x="724" y="862"/>
                      </a:lnTo>
                      <a:lnTo>
                        <a:pt x="736" y="876"/>
                      </a:lnTo>
                      <a:lnTo>
                        <a:pt x="720" y="900"/>
                      </a:lnTo>
                      <a:lnTo>
                        <a:pt x="0" y="892"/>
                      </a:lnTo>
                      <a:lnTo>
                        <a:pt x="240" y="144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217400" y="2043360"/>
                  <a:ext cx="81720" cy="293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4169160" y="2290320"/>
                  <a:ext cx="241200" cy="1821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3907800" y="2462760"/>
                  <a:ext cx="327240" cy="3801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4128120" y="2571480"/>
                  <a:ext cx="226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2295360" y="2832840"/>
                  <a:ext cx="1416240" cy="100116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2543760" y="3523680"/>
                  <a:ext cx="75960" cy="1512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3629520" y="2999520"/>
                  <a:ext cx="77760" cy="1310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3840120" y="2939040"/>
                  <a:ext cx="33840" cy="532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36360" y="2451600"/>
                  <a:ext cx="1771920" cy="2475000"/>
                </a:xfrm>
                <a:custGeom>
                  <a:avLst/>
                  <a:gdLst/>
                  <a:ahLst/>
                  <a:rect l="l" t="t" r="r" b="b"/>
                  <a:pathLst>
                    <a:path w="1015" h="1392">
                      <a:moveTo>
                        <a:pt x="824" y="1168"/>
                      </a:moveTo>
                      <a:lnTo>
                        <a:pt x="804" y="1204"/>
                      </a:lnTo>
                      <a:lnTo>
                        <a:pt x="816" y="1252"/>
                      </a:lnTo>
                      <a:lnTo>
                        <a:pt x="836" y="1300"/>
                      </a:lnTo>
                      <a:lnTo>
                        <a:pt x="816" y="1324"/>
                      </a:lnTo>
                      <a:lnTo>
                        <a:pt x="820" y="1360"/>
                      </a:lnTo>
                      <a:lnTo>
                        <a:pt x="820" y="1392"/>
                      </a:lnTo>
                      <a:lnTo>
                        <a:pt x="716" y="880"/>
                      </a:lnTo>
                      <a:lnTo>
                        <a:pt x="704" y="852"/>
                      </a:lnTo>
                      <a:lnTo>
                        <a:pt x="724" y="856"/>
                      </a:lnTo>
                      <a:lnTo>
                        <a:pt x="736" y="836"/>
                      </a:lnTo>
                      <a:lnTo>
                        <a:pt x="744" y="784"/>
                      </a:lnTo>
                      <a:lnTo>
                        <a:pt x="744" y="704"/>
                      </a:lnTo>
                      <a:lnTo>
                        <a:pt x="460" y="544"/>
                      </a:lnTo>
                      <a:lnTo>
                        <a:pt x="440" y="584"/>
                      </a:lnTo>
                      <a:lnTo>
                        <a:pt x="420" y="656"/>
                      </a:lnTo>
                      <a:lnTo>
                        <a:pt x="608" y="1168"/>
                      </a:lnTo>
                      <a:lnTo>
                        <a:pt x="444" y="1164"/>
                      </a:lnTo>
                      <a:lnTo>
                        <a:pt x="444" y="1112"/>
                      </a:lnTo>
                      <a:lnTo>
                        <a:pt x="444" y="1080"/>
                      </a:lnTo>
                      <a:lnTo>
                        <a:pt x="452" y="1048"/>
                      </a:lnTo>
                      <a:lnTo>
                        <a:pt x="452" y="1016"/>
                      </a:lnTo>
                      <a:cubicBezTo>
                        <a:pt x="423" y="987"/>
                        <a:pt x="441" y="967"/>
                        <a:pt x="420" y="936"/>
                      </a:cubicBezTo>
                      <a:cubicBezTo>
                        <a:pt x="411" y="901"/>
                        <a:pt x="397" y="887"/>
                        <a:pt x="376" y="856"/>
                      </a:cubicBezTo>
                      <a:cubicBezTo>
                        <a:pt x="371" y="848"/>
                        <a:pt x="365" y="840"/>
                        <a:pt x="360" y="832"/>
                      </a:cubicBezTo>
                      <a:lnTo>
                        <a:pt x="352" y="820"/>
                      </a:lnTo>
                      <a:cubicBezTo>
                        <a:pt x="352" y="820"/>
                        <a:pt x="364" y="784"/>
                        <a:pt x="364" y="784"/>
                      </a:cubicBezTo>
                      <a:cubicBezTo>
                        <a:pt x="367" y="776"/>
                        <a:pt x="372" y="760"/>
                        <a:pt x="372" y="760"/>
                      </a:cubicBezTo>
                      <a:cubicBezTo>
                        <a:pt x="371" y="756"/>
                        <a:pt x="368" y="752"/>
                        <a:pt x="368" y="748"/>
                      </a:cubicBezTo>
                      <a:cubicBezTo>
                        <a:pt x="369" y="740"/>
                        <a:pt x="376" y="724"/>
                        <a:pt x="376" y="724"/>
                      </a:cubicBezTo>
                      <a:cubicBezTo>
                        <a:pt x="361" y="701"/>
                        <a:pt x="352" y="704"/>
                        <a:pt x="328" y="712"/>
                      </a:cubicBezTo>
                      <a:cubicBezTo>
                        <a:pt x="323" y="704"/>
                        <a:pt x="313" y="700"/>
                        <a:pt x="308" y="692"/>
                      </a:cubicBezTo>
                      <a:cubicBezTo>
                        <a:pt x="275" y="640"/>
                        <a:pt x="321" y="689"/>
                        <a:pt x="288" y="656"/>
                      </a:cubicBezTo>
                      <a:cubicBezTo>
                        <a:pt x="248" y="661"/>
                        <a:pt x="266" y="657"/>
                        <a:pt x="232" y="668"/>
                      </a:cubicBezTo>
                      <a:cubicBezTo>
                        <a:pt x="228" y="669"/>
                        <a:pt x="220" y="672"/>
                        <a:pt x="220" y="672"/>
                      </a:cubicBezTo>
                      <a:cubicBezTo>
                        <a:pt x="217" y="676"/>
                        <a:pt x="216" y="681"/>
                        <a:pt x="212" y="684"/>
                      </a:cubicBezTo>
                      <a:cubicBezTo>
                        <a:pt x="205" y="688"/>
                        <a:pt x="188" y="692"/>
                        <a:pt x="188" y="692"/>
                      </a:cubicBezTo>
                      <a:cubicBezTo>
                        <a:pt x="157" y="671"/>
                        <a:pt x="173" y="673"/>
                        <a:pt x="140" y="684"/>
                      </a:cubicBezTo>
                      <a:cubicBezTo>
                        <a:pt x="132" y="687"/>
                        <a:pt x="116" y="692"/>
                        <a:pt x="116" y="692"/>
                      </a:cubicBezTo>
                      <a:cubicBezTo>
                        <a:pt x="93" y="727"/>
                        <a:pt x="68" y="656"/>
                        <a:pt x="52" y="640"/>
                      </a:cubicBezTo>
                      <a:cubicBezTo>
                        <a:pt x="47" y="625"/>
                        <a:pt x="35" y="607"/>
                        <a:pt x="32" y="592"/>
                      </a:cubicBezTo>
                      <a:cubicBezTo>
                        <a:pt x="30" y="584"/>
                        <a:pt x="32" y="575"/>
                        <a:pt x="28" y="568"/>
                      </a:cubicBezTo>
                      <a:cubicBezTo>
                        <a:pt x="26" y="564"/>
                        <a:pt x="20" y="563"/>
                        <a:pt x="16" y="560"/>
                      </a:cubicBezTo>
                      <a:cubicBezTo>
                        <a:pt x="5" y="526"/>
                        <a:pt x="22" y="580"/>
                        <a:pt x="8" y="524"/>
                      </a:cubicBezTo>
                      <a:cubicBezTo>
                        <a:pt x="6" y="516"/>
                        <a:pt x="0" y="500"/>
                        <a:pt x="0" y="500"/>
                      </a:cubicBezTo>
                      <a:cubicBezTo>
                        <a:pt x="4" y="480"/>
                        <a:pt x="3" y="471"/>
                        <a:pt x="20" y="460"/>
                      </a:cubicBezTo>
                      <a:cubicBezTo>
                        <a:pt x="30" y="420"/>
                        <a:pt x="25" y="438"/>
                        <a:pt x="36" y="404"/>
                      </a:cubicBezTo>
                      <a:cubicBezTo>
                        <a:pt x="39" y="396"/>
                        <a:pt x="44" y="380"/>
                        <a:pt x="44" y="380"/>
                      </a:cubicBezTo>
                      <a:cubicBezTo>
                        <a:pt x="39" y="365"/>
                        <a:pt x="36" y="363"/>
                        <a:pt x="48" y="344"/>
                      </a:cubicBezTo>
                      <a:cubicBezTo>
                        <a:pt x="53" y="336"/>
                        <a:pt x="64" y="320"/>
                        <a:pt x="64" y="320"/>
                      </a:cubicBezTo>
                      <a:cubicBezTo>
                        <a:pt x="55" y="294"/>
                        <a:pt x="53" y="290"/>
                        <a:pt x="76" y="272"/>
                      </a:cubicBezTo>
                      <a:cubicBezTo>
                        <a:pt x="84" y="266"/>
                        <a:pt x="100" y="256"/>
                        <a:pt x="100" y="256"/>
                      </a:cubicBezTo>
                      <a:cubicBezTo>
                        <a:pt x="108" y="245"/>
                        <a:pt x="112" y="231"/>
                        <a:pt x="120" y="220"/>
                      </a:cubicBezTo>
                      <a:cubicBezTo>
                        <a:pt x="132" y="203"/>
                        <a:pt x="152" y="199"/>
                        <a:pt x="168" y="188"/>
                      </a:cubicBezTo>
                      <a:cubicBezTo>
                        <a:pt x="186" y="162"/>
                        <a:pt x="222" y="145"/>
                        <a:pt x="248" y="128"/>
                      </a:cubicBezTo>
                      <a:cubicBezTo>
                        <a:pt x="259" y="111"/>
                        <a:pt x="260" y="95"/>
                        <a:pt x="280" y="88"/>
                      </a:cubicBezTo>
                      <a:cubicBezTo>
                        <a:pt x="294" y="74"/>
                        <a:pt x="310" y="68"/>
                        <a:pt x="328" y="56"/>
                      </a:cubicBezTo>
                      <a:cubicBezTo>
                        <a:pt x="332" y="53"/>
                        <a:pt x="340" y="48"/>
                        <a:pt x="340" y="48"/>
                      </a:cubicBezTo>
                      <a:cubicBezTo>
                        <a:pt x="352" y="30"/>
                        <a:pt x="364" y="19"/>
                        <a:pt x="384" y="12"/>
                      </a:cubicBezTo>
                      <a:cubicBezTo>
                        <a:pt x="400" y="59"/>
                        <a:pt x="448" y="11"/>
                        <a:pt x="476" y="8"/>
                      </a:cubicBezTo>
                      <a:cubicBezTo>
                        <a:pt x="497" y="6"/>
                        <a:pt x="519" y="5"/>
                        <a:pt x="540" y="4"/>
                      </a:cubicBezTo>
                      <a:cubicBezTo>
                        <a:pt x="549" y="5"/>
                        <a:pt x="559" y="9"/>
                        <a:pt x="568" y="8"/>
                      </a:cubicBezTo>
                      <a:cubicBezTo>
                        <a:pt x="576" y="7"/>
                        <a:pt x="592" y="0"/>
                        <a:pt x="592" y="0"/>
                      </a:cubicBezTo>
                      <a:cubicBezTo>
                        <a:pt x="617" y="16"/>
                        <a:pt x="604" y="31"/>
                        <a:pt x="596" y="56"/>
                      </a:cubicBezTo>
                      <a:cubicBezTo>
                        <a:pt x="593" y="64"/>
                        <a:pt x="572" y="64"/>
                        <a:pt x="572" y="64"/>
                      </a:cubicBezTo>
                      <a:cubicBezTo>
                        <a:pt x="564" y="89"/>
                        <a:pt x="592" y="97"/>
                        <a:pt x="612" y="104"/>
                      </a:cubicBezTo>
                      <a:cubicBezTo>
                        <a:pt x="623" y="136"/>
                        <a:pt x="626" y="149"/>
                        <a:pt x="660" y="160"/>
                      </a:cubicBezTo>
                      <a:cubicBezTo>
                        <a:pt x="686" y="134"/>
                        <a:pt x="647" y="124"/>
                        <a:pt x="696" y="108"/>
                      </a:cubicBezTo>
                      <a:cubicBezTo>
                        <a:pt x="717" y="115"/>
                        <a:pt x="722" y="132"/>
                        <a:pt x="740" y="140"/>
                      </a:cubicBezTo>
                      <a:cubicBezTo>
                        <a:pt x="752" y="145"/>
                        <a:pt x="764" y="148"/>
                        <a:pt x="776" y="152"/>
                      </a:cubicBezTo>
                      <a:cubicBezTo>
                        <a:pt x="780" y="153"/>
                        <a:pt x="788" y="156"/>
                        <a:pt x="788" y="156"/>
                      </a:cubicBezTo>
                      <a:cubicBezTo>
                        <a:pt x="814" y="147"/>
                        <a:pt x="814" y="145"/>
                        <a:pt x="836" y="160"/>
                      </a:cubicBezTo>
                      <a:cubicBezTo>
                        <a:pt x="843" y="180"/>
                        <a:pt x="841" y="164"/>
                        <a:pt x="832" y="184"/>
                      </a:cubicBezTo>
                      <a:cubicBezTo>
                        <a:pt x="829" y="192"/>
                        <a:pt x="824" y="208"/>
                        <a:pt x="824" y="208"/>
                      </a:cubicBezTo>
                      <a:cubicBezTo>
                        <a:pt x="828" y="250"/>
                        <a:pt x="827" y="319"/>
                        <a:pt x="852" y="356"/>
                      </a:cubicBezTo>
                      <a:cubicBezTo>
                        <a:pt x="845" y="376"/>
                        <a:pt x="840" y="395"/>
                        <a:pt x="836" y="416"/>
                      </a:cubicBezTo>
                      <a:cubicBezTo>
                        <a:pt x="840" y="431"/>
                        <a:pt x="847" y="441"/>
                        <a:pt x="852" y="456"/>
                      </a:cubicBezTo>
                      <a:cubicBezTo>
                        <a:pt x="853" y="468"/>
                        <a:pt x="852" y="481"/>
                        <a:pt x="856" y="492"/>
                      </a:cubicBezTo>
                      <a:cubicBezTo>
                        <a:pt x="858" y="498"/>
                        <a:pt x="885" y="515"/>
                        <a:pt x="892" y="536"/>
                      </a:cubicBezTo>
                      <a:cubicBezTo>
                        <a:pt x="884" y="559"/>
                        <a:pt x="898" y="581"/>
                        <a:pt x="920" y="588"/>
                      </a:cubicBezTo>
                      <a:cubicBezTo>
                        <a:pt x="938" y="582"/>
                        <a:pt x="949" y="584"/>
                        <a:pt x="960" y="568"/>
                      </a:cubicBezTo>
                      <a:cubicBezTo>
                        <a:pt x="982" y="572"/>
                        <a:pt x="987" y="575"/>
                        <a:pt x="1000" y="556"/>
                      </a:cubicBezTo>
                      <a:cubicBezTo>
                        <a:pt x="1004" y="557"/>
                        <a:pt x="1011" y="556"/>
                        <a:pt x="1012" y="560"/>
                      </a:cubicBezTo>
                      <a:cubicBezTo>
                        <a:pt x="1015" y="571"/>
                        <a:pt x="1003" y="608"/>
                        <a:pt x="1000" y="620"/>
                      </a:cubicBezTo>
                      <a:cubicBezTo>
                        <a:pt x="994" y="645"/>
                        <a:pt x="999" y="619"/>
                        <a:pt x="988" y="644"/>
                      </a:cubicBezTo>
                      <a:cubicBezTo>
                        <a:pt x="971" y="683"/>
                        <a:pt x="962" y="723"/>
                        <a:pt x="924" y="748"/>
                      </a:cubicBezTo>
                      <a:cubicBezTo>
                        <a:pt x="914" y="762"/>
                        <a:pt x="906" y="763"/>
                        <a:pt x="892" y="772"/>
                      </a:cubicBezTo>
                      <a:cubicBezTo>
                        <a:pt x="878" y="793"/>
                        <a:pt x="862" y="814"/>
                        <a:pt x="844" y="832"/>
                      </a:cubicBezTo>
                      <a:cubicBezTo>
                        <a:pt x="834" y="861"/>
                        <a:pt x="826" y="891"/>
                        <a:pt x="816" y="920"/>
                      </a:cubicBezTo>
                      <a:cubicBezTo>
                        <a:pt x="817" y="927"/>
                        <a:pt x="818" y="933"/>
                        <a:pt x="820" y="940"/>
                      </a:cubicBezTo>
                      <a:cubicBezTo>
                        <a:pt x="822" y="948"/>
                        <a:pt x="828" y="964"/>
                        <a:pt x="828" y="964"/>
                      </a:cubicBezTo>
                      <a:cubicBezTo>
                        <a:pt x="832" y="993"/>
                        <a:pt x="835" y="1019"/>
                        <a:pt x="856" y="1040"/>
                      </a:cubicBezTo>
                      <a:cubicBezTo>
                        <a:pt x="859" y="1048"/>
                        <a:pt x="861" y="1056"/>
                        <a:pt x="864" y="1064"/>
                      </a:cubicBezTo>
                      <a:cubicBezTo>
                        <a:pt x="865" y="1068"/>
                        <a:pt x="868" y="1076"/>
                        <a:pt x="868" y="1076"/>
                      </a:cubicBezTo>
                      <a:cubicBezTo>
                        <a:pt x="865" y="1095"/>
                        <a:pt x="853" y="1168"/>
                        <a:pt x="824" y="116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20720" y="3159000"/>
                  <a:ext cx="747000" cy="2001600"/>
                </a:xfrm>
                <a:custGeom>
                  <a:avLst/>
                  <a:gdLst/>
                  <a:ahLst/>
                  <a:rect l="l" t="t" r="r" b="b"/>
                  <a:pathLst>
                    <a:path w="428" h="1126">
                      <a:moveTo>
                        <a:pt x="52" y="762"/>
                      </a:moveTo>
                      <a:lnTo>
                        <a:pt x="120" y="870"/>
                      </a:lnTo>
                      <a:lnTo>
                        <a:pt x="136" y="898"/>
                      </a:lnTo>
                      <a:lnTo>
                        <a:pt x="168" y="962"/>
                      </a:lnTo>
                      <a:cubicBezTo>
                        <a:pt x="196" y="1018"/>
                        <a:pt x="169" y="983"/>
                        <a:pt x="196" y="998"/>
                      </a:cubicBezTo>
                      <a:cubicBezTo>
                        <a:pt x="204" y="1003"/>
                        <a:pt x="220" y="1014"/>
                        <a:pt x="220" y="1014"/>
                      </a:cubicBezTo>
                      <a:cubicBezTo>
                        <a:pt x="229" y="1028"/>
                        <a:pt x="244" y="1045"/>
                        <a:pt x="260" y="1050"/>
                      </a:cubicBezTo>
                      <a:cubicBezTo>
                        <a:pt x="272" y="1062"/>
                        <a:pt x="279" y="1070"/>
                        <a:pt x="284" y="1086"/>
                      </a:cubicBezTo>
                      <a:cubicBezTo>
                        <a:pt x="280" y="1098"/>
                        <a:pt x="276" y="1099"/>
                        <a:pt x="288" y="1110"/>
                      </a:cubicBezTo>
                      <a:cubicBezTo>
                        <a:pt x="295" y="1116"/>
                        <a:pt x="312" y="1126"/>
                        <a:pt x="312" y="1126"/>
                      </a:cubicBezTo>
                      <a:cubicBezTo>
                        <a:pt x="347" y="1114"/>
                        <a:pt x="376" y="1092"/>
                        <a:pt x="412" y="1086"/>
                      </a:cubicBezTo>
                      <a:cubicBezTo>
                        <a:pt x="418" y="1068"/>
                        <a:pt x="424" y="1052"/>
                        <a:pt x="428" y="1034"/>
                      </a:cubicBezTo>
                      <a:cubicBezTo>
                        <a:pt x="422" y="1016"/>
                        <a:pt x="424" y="1026"/>
                        <a:pt x="424" y="1002"/>
                      </a:cubicBezTo>
                      <a:lnTo>
                        <a:pt x="424" y="938"/>
                      </a:lnTo>
                      <a:lnTo>
                        <a:pt x="416" y="878"/>
                      </a:lnTo>
                      <a:lnTo>
                        <a:pt x="400" y="698"/>
                      </a:lnTo>
                      <a:lnTo>
                        <a:pt x="348" y="570"/>
                      </a:lnTo>
                      <a:lnTo>
                        <a:pt x="324" y="546"/>
                      </a:lnTo>
                      <a:lnTo>
                        <a:pt x="320" y="510"/>
                      </a:lnTo>
                      <a:lnTo>
                        <a:pt x="312" y="482"/>
                      </a:lnTo>
                      <a:lnTo>
                        <a:pt x="312" y="434"/>
                      </a:lnTo>
                      <a:lnTo>
                        <a:pt x="308" y="406"/>
                      </a:lnTo>
                      <a:lnTo>
                        <a:pt x="340" y="382"/>
                      </a:lnTo>
                      <a:lnTo>
                        <a:pt x="384" y="374"/>
                      </a:lnTo>
                      <a:lnTo>
                        <a:pt x="384" y="258"/>
                      </a:lnTo>
                      <a:cubicBezTo>
                        <a:pt x="311" y="226"/>
                        <a:pt x="19" y="0"/>
                        <a:pt x="80" y="182"/>
                      </a:cubicBezTo>
                      <a:cubicBezTo>
                        <a:pt x="54" y="200"/>
                        <a:pt x="85" y="183"/>
                        <a:pt x="48" y="186"/>
                      </a:cubicBezTo>
                      <a:cubicBezTo>
                        <a:pt x="40" y="187"/>
                        <a:pt x="24" y="194"/>
                        <a:pt x="24" y="194"/>
                      </a:cubicBezTo>
                      <a:lnTo>
                        <a:pt x="0" y="282"/>
                      </a:lnTo>
                      <a:lnTo>
                        <a:pt x="168" y="734"/>
                      </a:lnTo>
                      <a:lnTo>
                        <a:pt x="52" y="762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647360" y="4295160"/>
                  <a:ext cx="162000" cy="505800"/>
                </a:xfrm>
                <a:custGeom>
                  <a:avLst/>
                  <a:gdLst/>
                  <a:ahLst/>
                  <a:rect l="l" t="t" r="r" b="b"/>
                  <a:pathLst>
                    <a:path w="93" h="284">
                      <a:moveTo>
                        <a:pt x="25" y="83"/>
                      </a:moveTo>
                      <a:cubicBezTo>
                        <a:pt x="47" y="68"/>
                        <a:pt x="49" y="53"/>
                        <a:pt x="53" y="27"/>
                      </a:cubicBezTo>
                      <a:cubicBezTo>
                        <a:pt x="48" y="7"/>
                        <a:pt x="53" y="0"/>
                        <a:pt x="73" y="7"/>
                      </a:cubicBezTo>
                      <a:cubicBezTo>
                        <a:pt x="79" y="25"/>
                        <a:pt x="87" y="38"/>
                        <a:pt x="93" y="55"/>
                      </a:cubicBezTo>
                      <a:cubicBezTo>
                        <a:pt x="84" y="91"/>
                        <a:pt x="88" y="77"/>
                        <a:pt x="81" y="99"/>
                      </a:cubicBezTo>
                      <a:cubicBezTo>
                        <a:pt x="77" y="130"/>
                        <a:pt x="74" y="129"/>
                        <a:pt x="81" y="163"/>
                      </a:cubicBezTo>
                      <a:cubicBezTo>
                        <a:pt x="83" y="175"/>
                        <a:pt x="93" y="199"/>
                        <a:pt x="93" y="199"/>
                      </a:cubicBezTo>
                      <a:cubicBezTo>
                        <a:pt x="92" y="223"/>
                        <a:pt x="92" y="247"/>
                        <a:pt x="89" y="271"/>
                      </a:cubicBezTo>
                      <a:cubicBezTo>
                        <a:pt x="88" y="276"/>
                        <a:pt x="86" y="282"/>
                        <a:pt x="81" y="283"/>
                      </a:cubicBezTo>
                      <a:cubicBezTo>
                        <a:pt x="73" y="284"/>
                        <a:pt x="57" y="275"/>
                        <a:pt x="57" y="275"/>
                      </a:cubicBezTo>
                      <a:cubicBezTo>
                        <a:pt x="50" y="253"/>
                        <a:pt x="48" y="244"/>
                        <a:pt x="29" y="231"/>
                      </a:cubicBezTo>
                      <a:cubicBezTo>
                        <a:pt x="12" y="205"/>
                        <a:pt x="0" y="210"/>
                        <a:pt x="21" y="179"/>
                      </a:cubicBezTo>
                      <a:cubicBezTo>
                        <a:pt x="17" y="159"/>
                        <a:pt x="12" y="139"/>
                        <a:pt x="5" y="119"/>
                      </a:cubicBezTo>
                      <a:cubicBezTo>
                        <a:pt x="9" y="103"/>
                        <a:pt x="13" y="95"/>
                        <a:pt x="25" y="8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1593720" y="4276800"/>
                  <a:ext cx="30960" cy="3492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14"/>
                      </a:moveTo>
                      <a:cubicBezTo>
                        <a:pt x="1" y="10"/>
                        <a:pt x="0" y="4"/>
                        <a:pt x="4" y="2"/>
                      </a:cubicBezTo>
                      <a:cubicBezTo>
                        <a:pt x="8" y="0"/>
                        <a:pt x="14" y="2"/>
                        <a:pt x="16" y="6"/>
                      </a:cubicBezTo>
                      <a:cubicBezTo>
                        <a:pt x="18" y="10"/>
                        <a:pt x="16" y="16"/>
                        <a:pt x="12" y="18"/>
                      </a:cubicBezTo>
                      <a:cubicBezTo>
                        <a:pt x="8" y="20"/>
                        <a:pt x="4" y="15"/>
                        <a:pt x="0" y="1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895760" y="4008240"/>
                  <a:ext cx="32400" cy="648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859040" y="3405240"/>
                  <a:ext cx="37800" cy="34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244800" y="2661840"/>
                  <a:ext cx="100080" cy="536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479240" y="2174760"/>
                  <a:ext cx="1209960" cy="123732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657360" y="1383480"/>
                  <a:ext cx="2229480" cy="1182240"/>
                </a:xfrm>
                <a:custGeom>
                  <a:avLst/>
                  <a:gdLst/>
                  <a:ahLst/>
                  <a:rect l="l" t="t" r="r" b="b"/>
                  <a:pathLst>
                    <a:path w="1277" h="665">
                      <a:moveTo>
                        <a:pt x="1180" y="541"/>
                      </a:moveTo>
                      <a:cubicBezTo>
                        <a:pt x="1212" y="377"/>
                        <a:pt x="1247" y="214"/>
                        <a:pt x="1276" y="49"/>
                      </a:cubicBezTo>
                      <a:cubicBezTo>
                        <a:pt x="1277" y="44"/>
                        <a:pt x="1267" y="54"/>
                        <a:pt x="1264" y="57"/>
                      </a:cubicBezTo>
                      <a:cubicBezTo>
                        <a:pt x="1255" y="66"/>
                        <a:pt x="1232" y="77"/>
                        <a:pt x="1232" y="77"/>
                      </a:cubicBezTo>
                      <a:cubicBezTo>
                        <a:pt x="1216" y="66"/>
                        <a:pt x="1203" y="63"/>
                        <a:pt x="1184" y="69"/>
                      </a:cubicBezTo>
                      <a:cubicBezTo>
                        <a:pt x="1164" y="64"/>
                        <a:pt x="1150" y="71"/>
                        <a:pt x="1164" y="49"/>
                      </a:cubicBezTo>
                      <a:cubicBezTo>
                        <a:pt x="1132" y="38"/>
                        <a:pt x="1153" y="59"/>
                        <a:pt x="1140" y="69"/>
                      </a:cubicBezTo>
                      <a:cubicBezTo>
                        <a:pt x="1132" y="75"/>
                        <a:pt x="1121" y="74"/>
                        <a:pt x="1112" y="77"/>
                      </a:cubicBezTo>
                      <a:cubicBezTo>
                        <a:pt x="1102" y="48"/>
                        <a:pt x="1093" y="65"/>
                        <a:pt x="1080" y="85"/>
                      </a:cubicBezTo>
                      <a:cubicBezTo>
                        <a:pt x="1075" y="92"/>
                        <a:pt x="1063" y="92"/>
                        <a:pt x="1056" y="97"/>
                      </a:cubicBezTo>
                      <a:cubicBezTo>
                        <a:pt x="1053" y="101"/>
                        <a:pt x="1053" y="108"/>
                        <a:pt x="1048" y="109"/>
                      </a:cubicBezTo>
                      <a:cubicBezTo>
                        <a:pt x="1040" y="110"/>
                        <a:pt x="1024" y="101"/>
                        <a:pt x="1024" y="101"/>
                      </a:cubicBezTo>
                      <a:cubicBezTo>
                        <a:pt x="1020" y="104"/>
                        <a:pt x="1015" y="106"/>
                        <a:pt x="1012" y="109"/>
                      </a:cubicBezTo>
                      <a:cubicBezTo>
                        <a:pt x="1009" y="112"/>
                        <a:pt x="1008" y="118"/>
                        <a:pt x="1004" y="121"/>
                      </a:cubicBezTo>
                      <a:cubicBezTo>
                        <a:pt x="997" y="127"/>
                        <a:pt x="980" y="137"/>
                        <a:pt x="980" y="137"/>
                      </a:cubicBezTo>
                      <a:cubicBezTo>
                        <a:pt x="932" y="132"/>
                        <a:pt x="917" y="132"/>
                        <a:pt x="952" y="97"/>
                      </a:cubicBezTo>
                      <a:cubicBezTo>
                        <a:pt x="957" y="81"/>
                        <a:pt x="952" y="66"/>
                        <a:pt x="972" y="73"/>
                      </a:cubicBezTo>
                      <a:cubicBezTo>
                        <a:pt x="973" y="77"/>
                        <a:pt x="979" y="96"/>
                        <a:pt x="984" y="97"/>
                      </a:cubicBezTo>
                      <a:cubicBezTo>
                        <a:pt x="1000" y="99"/>
                        <a:pt x="1016" y="88"/>
                        <a:pt x="1032" y="85"/>
                      </a:cubicBezTo>
                      <a:cubicBezTo>
                        <a:pt x="1039" y="64"/>
                        <a:pt x="1025" y="40"/>
                        <a:pt x="1008" y="29"/>
                      </a:cubicBezTo>
                      <a:cubicBezTo>
                        <a:pt x="980" y="36"/>
                        <a:pt x="985" y="18"/>
                        <a:pt x="956" y="37"/>
                      </a:cubicBezTo>
                      <a:cubicBezTo>
                        <a:pt x="955" y="33"/>
                        <a:pt x="949" y="28"/>
                        <a:pt x="952" y="25"/>
                      </a:cubicBezTo>
                      <a:cubicBezTo>
                        <a:pt x="958" y="19"/>
                        <a:pt x="968" y="20"/>
                        <a:pt x="976" y="17"/>
                      </a:cubicBezTo>
                      <a:cubicBezTo>
                        <a:pt x="980" y="16"/>
                        <a:pt x="988" y="13"/>
                        <a:pt x="988" y="13"/>
                      </a:cubicBezTo>
                      <a:cubicBezTo>
                        <a:pt x="984" y="10"/>
                        <a:pt x="981" y="5"/>
                        <a:pt x="976" y="5"/>
                      </a:cubicBezTo>
                      <a:cubicBezTo>
                        <a:pt x="958" y="5"/>
                        <a:pt x="942" y="14"/>
                        <a:pt x="924" y="17"/>
                      </a:cubicBezTo>
                      <a:cubicBezTo>
                        <a:pt x="918" y="34"/>
                        <a:pt x="913" y="35"/>
                        <a:pt x="896" y="29"/>
                      </a:cubicBezTo>
                      <a:cubicBezTo>
                        <a:pt x="900" y="16"/>
                        <a:pt x="898" y="15"/>
                        <a:pt x="912" y="9"/>
                      </a:cubicBezTo>
                      <a:cubicBezTo>
                        <a:pt x="920" y="6"/>
                        <a:pt x="936" y="1"/>
                        <a:pt x="936" y="1"/>
                      </a:cubicBezTo>
                      <a:cubicBezTo>
                        <a:pt x="936" y="1"/>
                        <a:pt x="928" y="4"/>
                        <a:pt x="924" y="5"/>
                      </a:cubicBezTo>
                      <a:cubicBezTo>
                        <a:pt x="915" y="7"/>
                        <a:pt x="905" y="8"/>
                        <a:pt x="896" y="9"/>
                      </a:cubicBezTo>
                      <a:cubicBezTo>
                        <a:pt x="856" y="22"/>
                        <a:pt x="917" y="0"/>
                        <a:pt x="872" y="25"/>
                      </a:cubicBezTo>
                      <a:cubicBezTo>
                        <a:pt x="855" y="34"/>
                        <a:pt x="834" y="35"/>
                        <a:pt x="816" y="41"/>
                      </a:cubicBezTo>
                      <a:cubicBezTo>
                        <a:pt x="802" y="62"/>
                        <a:pt x="785" y="69"/>
                        <a:pt x="760" y="73"/>
                      </a:cubicBezTo>
                      <a:cubicBezTo>
                        <a:pt x="746" y="83"/>
                        <a:pt x="741" y="87"/>
                        <a:pt x="724" y="81"/>
                      </a:cubicBezTo>
                      <a:cubicBezTo>
                        <a:pt x="700" y="89"/>
                        <a:pt x="691" y="113"/>
                        <a:pt x="680" y="117"/>
                      </a:cubicBezTo>
                      <a:cubicBezTo>
                        <a:pt x="667" y="121"/>
                        <a:pt x="653" y="120"/>
                        <a:pt x="640" y="121"/>
                      </a:cubicBezTo>
                      <a:cubicBezTo>
                        <a:pt x="623" y="127"/>
                        <a:pt x="608" y="138"/>
                        <a:pt x="592" y="145"/>
                      </a:cubicBezTo>
                      <a:cubicBezTo>
                        <a:pt x="549" y="164"/>
                        <a:pt x="583" y="143"/>
                        <a:pt x="556" y="161"/>
                      </a:cubicBezTo>
                      <a:cubicBezTo>
                        <a:pt x="552" y="174"/>
                        <a:pt x="544" y="184"/>
                        <a:pt x="540" y="197"/>
                      </a:cubicBezTo>
                      <a:cubicBezTo>
                        <a:pt x="548" y="220"/>
                        <a:pt x="565" y="207"/>
                        <a:pt x="580" y="197"/>
                      </a:cubicBezTo>
                      <a:cubicBezTo>
                        <a:pt x="581" y="193"/>
                        <a:pt x="581" y="187"/>
                        <a:pt x="584" y="185"/>
                      </a:cubicBezTo>
                      <a:cubicBezTo>
                        <a:pt x="591" y="180"/>
                        <a:pt x="608" y="177"/>
                        <a:pt x="608" y="177"/>
                      </a:cubicBezTo>
                      <a:cubicBezTo>
                        <a:pt x="621" y="196"/>
                        <a:pt x="608" y="190"/>
                        <a:pt x="592" y="201"/>
                      </a:cubicBezTo>
                      <a:cubicBezTo>
                        <a:pt x="574" y="229"/>
                        <a:pt x="579" y="216"/>
                        <a:pt x="572" y="237"/>
                      </a:cubicBezTo>
                      <a:cubicBezTo>
                        <a:pt x="573" y="241"/>
                        <a:pt x="572" y="247"/>
                        <a:pt x="576" y="249"/>
                      </a:cubicBezTo>
                      <a:cubicBezTo>
                        <a:pt x="584" y="253"/>
                        <a:pt x="597" y="235"/>
                        <a:pt x="600" y="233"/>
                      </a:cubicBezTo>
                      <a:cubicBezTo>
                        <a:pt x="610" y="226"/>
                        <a:pt x="625" y="223"/>
                        <a:pt x="636" y="217"/>
                      </a:cubicBezTo>
                      <a:cubicBezTo>
                        <a:pt x="645" y="212"/>
                        <a:pt x="650" y="201"/>
                        <a:pt x="660" y="197"/>
                      </a:cubicBezTo>
                      <a:cubicBezTo>
                        <a:pt x="671" y="192"/>
                        <a:pt x="684" y="193"/>
                        <a:pt x="696" y="189"/>
                      </a:cubicBezTo>
                      <a:cubicBezTo>
                        <a:pt x="691" y="169"/>
                        <a:pt x="691" y="165"/>
                        <a:pt x="708" y="153"/>
                      </a:cubicBezTo>
                      <a:cubicBezTo>
                        <a:pt x="720" y="134"/>
                        <a:pt x="743" y="136"/>
                        <a:pt x="764" y="129"/>
                      </a:cubicBezTo>
                      <a:cubicBezTo>
                        <a:pt x="777" y="125"/>
                        <a:pt x="800" y="109"/>
                        <a:pt x="800" y="109"/>
                      </a:cubicBezTo>
                      <a:cubicBezTo>
                        <a:pt x="813" y="89"/>
                        <a:pt x="816" y="88"/>
                        <a:pt x="840" y="93"/>
                      </a:cubicBezTo>
                      <a:cubicBezTo>
                        <a:pt x="829" y="126"/>
                        <a:pt x="789" y="124"/>
                        <a:pt x="764" y="141"/>
                      </a:cubicBezTo>
                      <a:cubicBezTo>
                        <a:pt x="752" y="158"/>
                        <a:pt x="739" y="159"/>
                        <a:pt x="732" y="181"/>
                      </a:cubicBezTo>
                      <a:cubicBezTo>
                        <a:pt x="733" y="185"/>
                        <a:pt x="732" y="192"/>
                        <a:pt x="736" y="193"/>
                      </a:cubicBezTo>
                      <a:cubicBezTo>
                        <a:pt x="744" y="194"/>
                        <a:pt x="760" y="185"/>
                        <a:pt x="760" y="185"/>
                      </a:cubicBezTo>
                      <a:cubicBezTo>
                        <a:pt x="792" y="196"/>
                        <a:pt x="776" y="196"/>
                        <a:pt x="808" y="185"/>
                      </a:cubicBezTo>
                      <a:cubicBezTo>
                        <a:pt x="816" y="182"/>
                        <a:pt x="832" y="177"/>
                        <a:pt x="832" y="177"/>
                      </a:cubicBezTo>
                      <a:cubicBezTo>
                        <a:pt x="836" y="180"/>
                        <a:pt x="844" y="180"/>
                        <a:pt x="844" y="185"/>
                      </a:cubicBezTo>
                      <a:cubicBezTo>
                        <a:pt x="844" y="190"/>
                        <a:pt x="837" y="191"/>
                        <a:pt x="832" y="193"/>
                      </a:cubicBezTo>
                      <a:cubicBezTo>
                        <a:pt x="809" y="202"/>
                        <a:pt x="783" y="205"/>
                        <a:pt x="760" y="213"/>
                      </a:cubicBezTo>
                      <a:cubicBezTo>
                        <a:pt x="753" y="235"/>
                        <a:pt x="739" y="223"/>
                        <a:pt x="724" y="213"/>
                      </a:cubicBezTo>
                      <a:cubicBezTo>
                        <a:pt x="708" y="218"/>
                        <a:pt x="709" y="227"/>
                        <a:pt x="700" y="241"/>
                      </a:cubicBezTo>
                      <a:cubicBezTo>
                        <a:pt x="672" y="232"/>
                        <a:pt x="684" y="230"/>
                        <a:pt x="664" y="237"/>
                      </a:cubicBezTo>
                      <a:cubicBezTo>
                        <a:pt x="660" y="249"/>
                        <a:pt x="648" y="262"/>
                        <a:pt x="636" y="269"/>
                      </a:cubicBezTo>
                      <a:cubicBezTo>
                        <a:pt x="629" y="273"/>
                        <a:pt x="620" y="274"/>
                        <a:pt x="612" y="277"/>
                      </a:cubicBezTo>
                      <a:cubicBezTo>
                        <a:pt x="608" y="278"/>
                        <a:pt x="600" y="281"/>
                        <a:pt x="600" y="281"/>
                      </a:cubicBezTo>
                      <a:cubicBezTo>
                        <a:pt x="592" y="278"/>
                        <a:pt x="585" y="267"/>
                        <a:pt x="576" y="269"/>
                      </a:cubicBezTo>
                      <a:cubicBezTo>
                        <a:pt x="571" y="270"/>
                        <a:pt x="572" y="278"/>
                        <a:pt x="568" y="281"/>
                      </a:cubicBezTo>
                      <a:cubicBezTo>
                        <a:pt x="560" y="286"/>
                        <a:pt x="549" y="286"/>
                        <a:pt x="540" y="289"/>
                      </a:cubicBezTo>
                      <a:cubicBezTo>
                        <a:pt x="536" y="288"/>
                        <a:pt x="499" y="276"/>
                        <a:pt x="520" y="265"/>
                      </a:cubicBezTo>
                      <a:cubicBezTo>
                        <a:pt x="528" y="261"/>
                        <a:pt x="539" y="262"/>
                        <a:pt x="548" y="261"/>
                      </a:cubicBezTo>
                      <a:cubicBezTo>
                        <a:pt x="554" y="243"/>
                        <a:pt x="562" y="237"/>
                        <a:pt x="544" y="225"/>
                      </a:cubicBezTo>
                      <a:cubicBezTo>
                        <a:pt x="517" y="232"/>
                        <a:pt x="524" y="249"/>
                        <a:pt x="500" y="257"/>
                      </a:cubicBezTo>
                      <a:cubicBezTo>
                        <a:pt x="488" y="275"/>
                        <a:pt x="473" y="278"/>
                        <a:pt x="456" y="289"/>
                      </a:cubicBezTo>
                      <a:cubicBezTo>
                        <a:pt x="436" y="282"/>
                        <a:pt x="448" y="284"/>
                        <a:pt x="420" y="293"/>
                      </a:cubicBezTo>
                      <a:cubicBezTo>
                        <a:pt x="411" y="296"/>
                        <a:pt x="396" y="309"/>
                        <a:pt x="396" y="309"/>
                      </a:cubicBezTo>
                      <a:cubicBezTo>
                        <a:pt x="391" y="328"/>
                        <a:pt x="388" y="336"/>
                        <a:pt x="368" y="329"/>
                      </a:cubicBezTo>
                      <a:cubicBezTo>
                        <a:pt x="351" y="335"/>
                        <a:pt x="333" y="339"/>
                        <a:pt x="316" y="345"/>
                      </a:cubicBezTo>
                      <a:cubicBezTo>
                        <a:pt x="290" y="341"/>
                        <a:pt x="284" y="340"/>
                        <a:pt x="276" y="365"/>
                      </a:cubicBezTo>
                      <a:cubicBezTo>
                        <a:pt x="248" y="356"/>
                        <a:pt x="260" y="354"/>
                        <a:pt x="240" y="361"/>
                      </a:cubicBezTo>
                      <a:cubicBezTo>
                        <a:pt x="225" y="384"/>
                        <a:pt x="241" y="417"/>
                        <a:pt x="212" y="437"/>
                      </a:cubicBezTo>
                      <a:cubicBezTo>
                        <a:pt x="193" y="466"/>
                        <a:pt x="197" y="456"/>
                        <a:pt x="172" y="473"/>
                      </a:cubicBezTo>
                      <a:cubicBezTo>
                        <a:pt x="160" y="469"/>
                        <a:pt x="148" y="465"/>
                        <a:pt x="136" y="461"/>
                      </a:cubicBezTo>
                      <a:cubicBezTo>
                        <a:pt x="132" y="460"/>
                        <a:pt x="124" y="457"/>
                        <a:pt x="124" y="457"/>
                      </a:cubicBezTo>
                      <a:cubicBezTo>
                        <a:pt x="113" y="458"/>
                        <a:pt x="101" y="456"/>
                        <a:pt x="92" y="461"/>
                      </a:cubicBezTo>
                      <a:cubicBezTo>
                        <a:pt x="80" y="468"/>
                        <a:pt x="69" y="498"/>
                        <a:pt x="56" y="509"/>
                      </a:cubicBezTo>
                      <a:cubicBezTo>
                        <a:pt x="48" y="516"/>
                        <a:pt x="40" y="523"/>
                        <a:pt x="32" y="529"/>
                      </a:cubicBezTo>
                      <a:cubicBezTo>
                        <a:pt x="24" y="535"/>
                        <a:pt x="8" y="545"/>
                        <a:pt x="8" y="545"/>
                      </a:cubicBezTo>
                      <a:cubicBezTo>
                        <a:pt x="14" y="562"/>
                        <a:pt x="10" y="567"/>
                        <a:pt x="0" y="581"/>
                      </a:cubicBezTo>
                      <a:cubicBezTo>
                        <a:pt x="25" y="585"/>
                        <a:pt x="32" y="585"/>
                        <a:pt x="24" y="609"/>
                      </a:cubicBezTo>
                      <a:cubicBezTo>
                        <a:pt x="40" y="614"/>
                        <a:pt x="71" y="603"/>
                        <a:pt x="88" y="601"/>
                      </a:cubicBezTo>
                      <a:cubicBezTo>
                        <a:pt x="105" y="595"/>
                        <a:pt x="108" y="604"/>
                        <a:pt x="124" y="593"/>
                      </a:cubicBezTo>
                      <a:cubicBezTo>
                        <a:pt x="133" y="565"/>
                        <a:pt x="124" y="572"/>
                        <a:pt x="144" y="565"/>
                      </a:cubicBezTo>
                      <a:cubicBezTo>
                        <a:pt x="148" y="561"/>
                        <a:pt x="153" y="558"/>
                        <a:pt x="156" y="553"/>
                      </a:cubicBezTo>
                      <a:cubicBezTo>
                        <a:pt x="158" y="549"/>
                        <a:pt x="157" y="544"/>
                        <a:pt x="160" y="541"/>
                      </a:cubicBezTo>
                      <a:cubicBezTo>
                        <a:pt x="166" y="533"/>
                        <a:pt x="208" y="513"/>
                        <a:pt x="220" y="509"/>
                      </a:cubicBezTo>
                      <a:cubicBezTo>
                        <a:pt x="238" y="481"/>
                        <a:pt x="227" y="488"/>
                        <a:pt x="248" y="481"/>
                      </a:cubicBezTo>
                      <a:cubicBezTo>
                        <a:pt x="265" y="487"/>
                        <a:pt x="266" y="499"/>
                        <a:pt x="284" y="493"/>
                      </a:cubicBezTo>
                      <a:cubicBezTo>
                        <a:pt x="296" y="481"/>
                        <a:pt x="306" y="478"/>
                        <a:pt x="320" y="469"/>
                      </a:cubicBezTo>
                      <a:cubicBezTo>
                        <a:pt x="336" y="493"/>
                        <a:pt x="323" y="469"/>
                        <a:pt x="332" y="513"/>
                      </a:cubicBezTo>
                      <a:cubicBezTo>
                        <a:pt x="336" y="532"/>
                        <a:pt x="346" y="543"/>
                        <a:pt x="352" y="561"/>
                      </a:cubicBezTo>
                      <a:cubicBezTo>
                        <a:pt x="337" y="571"/>
                        <a:pt x="341" y="579"/>
                        <a:pt x="324" y="585"/>
                      </a:cubicBezTo>
                      <a:cubicBezTo>
                        <a:pt x="308" y="609"/>
                        <a:pt x="302" y="596"/>
                        <a:pt x="280" y="589"/>
                      </a:cubicBezTo>
                      <a:cubicBezTo>
                        <a:pt x="284" y="605"/>
                        <a:pt x="298" y="624"/>
                        <a:pt x="312" y="633"/>
                      </a:cubicBezTo>
                      <a:cubicBezTo>
                        <a:pt x="324" y="598"/>
                        <a:pt x="314" y="613"/>
                        <a:pt x="344" y="597"/>
                      </a:cubicBezTo>
                      <a:cubicBezTo>
                        <a:pt x="352" y="592"/>
                        <a:pt x="368" y="581"/>
                        <a:pt x="368" y="581"/>
                      </a:cubicBezTo>
                      <a:cubicBezTo>
                        <a:pt x="369" y="572"/>
                        <a:pt x="365" y="560"/>
                        <a:pt x="372" y="553"/>
                      </a:cubicBezTo>
                      <a:cubicBezTo>
                        <a:pt x="376" y="549"/>
                        <a:pt x="378" y="564"/>
                        <a:pt x="384" y="565"/>
                      </a:cubicBezTo>
                      <a:cubicBezTo>
                        <a:pt x="389" y="566"/>
                        <a:pt x="392" y="560"/>
                        <a:pt x="396" y="557"/>
                      </a:cubicBezTo>
                      <a:cubicBezTo>
                        <a:pt x="390" y="538"/>
                        <a:pt x="374" y="528"/>
                        <a:pt x="368" y="509"/>
                      </a:cubicBezTo>
                      <a:cubicBezTo>
                        <a:pt x="371" y="501"/>
                        <a:pt x="379" y="493"/>
                        <a:pt x="376" y="485"/>
                      </a:cubicBezTo>
                      <a:cubicBezTo>
                        <a:pt x="373" y="477"/>
                        <a:pt x="368" y="461"/>
                        <a:pt x="368" y="461"/>
                      </a:cubicBezTo>
                      <a:cubicBezTo>
                        <a:pt x="380" y="443"/>
                        <a:pt x="385" y="449"/>
                        <a:pt x="396" y="465"/>
                      </a:cubicBezTo>
                      <a:cubicBezTo>
                        <a:pt x="402" y="488"/>
                        <a:pt x="411" y="497"/>
                        <a:pt x="424" y="517"/>
                      </a:cubicBezTo>
                      <a:cubicBezTo>
                        <a:pt x="418" y="536"/>
                        <a:pt x="430" y="537"/>
                        <a:pt x="412" y="549"/>
                      </a:cubicBezTo>
                      <a:cubicBezTo>
                        <a:pt x="389" y="583"/>
                        <a:pt x="414" y="540"/>
                        <a:pt x="408" y="573"/>
                      </a:cubicBezTo>
                      <a:cubicBezTo>
                        <a:pt x="407" y="582"/>
                        <a:pt x="399" y="589"/>
                        <a:pt x="396" y="597"/>
                      </a:cubicBezTo>
                      <a:cubicBezTo>
                        <a:pt x="402" y="614"/>
                        <a:pt x="398" y="619"/>
                        <a:pt x="388" y="633"/>
                      </a:cubicBezTo>
                      <a:cubicBezTo>
                        <a:pt x="399" y="665"/>
                        <a:pt x="419" y="636"/>
                        <a:pt x="440" y="629"/>
                      </a:cubicBezTo>
                      <a:cubicBezTo>
                        <a:pt x="445" y="614"/>
                        <a:pt x="439" y="608"/>
                        <a:pt x="444" y="593"/>
                      </a:cubicBezTo>
                      <a:cubicBezTo>
                        <a:pt x="440" y="581"/>
                        <a:pt x="428" y="567"/>
                        <a:pt x="444" y="557"/>
                      </a:cubicBezTo>
                      <a:cubicBezTo>
                        <a:pt x="451" y="553"/>
                        <a:pt x="468" y="549"/>
                        <a:pt x="468" y="549"/>
                      </a:cubicBezTo>
                      <a:cubicBezTo>
                        <a:pt x="484" y="554"/>
                        <a:pt x="483" y="563"/>
                        <a:pt x="492" y="577"/>
                      </a:cubicBezTo>
                      <a:cubicBezTo>
                        <a:pt x="504" y="542"/>
                        <a:pt x="492" y="552"/>
                        <a:pt x="536" y="557"/>
                      </a:cubicBezTo>
                      <a:cubicBezTo>
                        <a:pt x="528" y="526"/>
                        <a:pt x="542" y="527"/>
                        <a:pt x="568" y="521"/>
                      </a:cubicBezTo>
                      <a:cubicBezTo>
                        <a:pt x="569" y="517"/>
                        <a:pt x="576" y="490"/>
                        <a:pt x="584" y="485"/>
                      </a:cubicBezTo>
                      <a:cubicBezTo>
                        <a:pt x="591" y="481"/>
                        <a:pt x="608" y="477"/>
                        <a:pt x="608" y="477"/>
                      </a:cubicBezTo>
                      <a:cubicBezTo>
                        <a:pt x="639" y="485"/>
                        <a:pt x="614" y="492"/>
                        <a:pt x="640" y="501"/>
                      </a:cubicBezTo>
                      <a:cubicBezTo>
                        <a:pt x="644" y="497"/>
                        <a:pt x="646" y="490"/>
                        <a:pt x="652" y="489"/>
                      </a:cubicBezTo>
                      <a:cubicBezTo>
                        <a:pt x="661" y="487"/>
                        <a:pt x="672" y="497"/>
                        <a:pt x="680" y="493"/>
                      </a:cubicBezTo>
                      <a:cubicBezTo>
                        <a:pt x="685" y="491"/>
                        <a:pt x="680" y="481"/>
                        <a:pt x="676" y="477"/>
                      </a:cubicBezTo>
                      <a:cubicBezTo>
                        <a:pt x="670" y="472"/>
                        <a:pt x="660" y="472"/>
                        <a:pt x="652" y="469"/>
                      </a:cubicBezTo>
                      <a:cubicBezTo>
                        <a:pt x="648" y="468"/>
                        <a:pt x="640" y="465"/>
                        <a:pt x="640" y="465"/>
                      </a:cubicBezTo>
                      <a:cubicBezTo>
                        <a:pt x="654" y="455"/>
                        <a:pt x="659" y="451"/>
                        <a:pt x="676" y="457"/>
                      </a:cubicBezTo>
                      <a:cubicBezTo>
                        <a:pt x="685" y="455"/>
                        <a:pt x="694" y="448"/>
                        <a:pt x="704" y="449"/>
                      </a:cubicBezTo>
                      <a:cubicBezTo>
                        <a:pt x="718" y="451"/>
                        <a:pt x="759" y="463"/>
                        <a:pt x="772" y="469"/>
                      </a:cubicBezTo>
                      <a:cubicBezTo>
                        <a:pt x="784" y="475"/>
                        <a:pt x="808" y="485"/>
                        <a:pt x="808" y="485"/>
                      </a:cubicBezTo>
                      <a:cubicBezTo>
                        <a:pt x="814" y="484"/>
                        <a:pt x="833" y="481"/>
                        <a:pt x="840" y="477"/>
                      </a:cubicBezTo>
                      <a:cubicBezTo>
                        <a:pt x="848" y="472"/>
                        <a:pt x="864" y="461"/>
                        <a:pt x="864" y="461"/>
                      </a:cubicBezTo>
                      <a:cubicBezTo>
                        <a:pt x="869" y="462"/>
                        <a:pt x="889" y="465"/>
                        <a:pt x="892" y="473"/>
                      </a:cubicBezTo>
                      <a:cubicBezTo>
                        <a:pt x="897" y="486"/>
                        <a:pt x="876" y="498"/>
                        <a:pt x="868" y="501"/>
                      </a:cubicBezTo>
                      <a:cubicBezTo>
                        <a:pt x="856" y="513"/>
                        <a:pt x="845" y="513"/>
                        <a:pt x="840" y="529"/>
                      </a:cubicBezTo>
                      <a:cubicBezTo>
                        <a:pt x="845" y="545"/>
                        <a:pt x="839" y="557"/>
                        <a:pt x="844" y="573"/>
                      </a:cubicBezTo>
                      <a:cubicBezTo>
                        <a:pt x="854" y="558"/>
                        <a:pt x="858" y="555"/>
                        <a:pt x="876" y="561"/>
                      </a:cubicBezTo>
                      <a:cubicBezTo>
                        <a:pt x="885" y="588"/>
                        <a:pt x="895" y="558"/>
                        <a:pt x="908" y="549"/>
                      </a:cubicBezTo>
                      <a:cubicBezTo>
                        <a:pt x="911" y="545"/>
                        <a:pt x="912" y="540"/>
                        <a:pt x="916" y="537"/>
                      </a:cubicBezTo>
                      <a:cubicBezTo>
                        <a:pt x="919" y="534"/>
                        <a:pt x="925" y="536"/>
                        <a:pt x="928" y="533"/>
                      </a:cubicBezTo>
                      <a:cubicBezTo>
                        <a:pt x="931" y="530"/>
                        <a:pt x="930" y="525"/>
                        <a:pt x="932" y="521"/>
                      </a:cubicBezTo>
                      <a:cubicBezTo>
                        <a:pt x="939" y="506"/>
                        <a:pt x="949" y="502"/>
                        <a:pt x="964" y="497"/>
                      </a:cubicBezTo>
                      <a:cubicBezTo>
                        <a:pt x="987" y="500"/>
                        <a:pt x="1017" y="513"/>
                        <a:pt x="1040" y="513"/>
                      </a:cubicBezTo>
                      <a:lnTo>
                        <a:pt x="1180" y="541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093680" y="1684440"/>
                  <a:ext cx="392040" cy="302040"/>
                </a:xfrm>
                <a:custGeom>
                  <a:avLst/>
                  <a:gdLst/>
                  <a:ahLst/>
                  <a:rect l="l" t="t" r="r" b="b"/>
                  <a:pathLst>
                    <a:path w="225" h="170">
                      <a:moveTo>
                        <a:pt x="14" y="156"/>
                      </a:moveTo>
                      <a:cubicBezTo>
                        <a:pt x="22" y="153"/>
                        <a:pt x="30" y="151"/>
                        <a:pt x="38" y="148"/>
                      </a:cubicBezTo>
                      <a:cubicBezTo>
                        <a:pt x="42" y="147"/>
                        <a:pt x="50" y="144"/>
                        <a:pt x="50" y="144"/>
                      </a:cubicBezTo>
                      <a:cubicBezTo>
                        <a:pt x="56" y="126"/>
                        <a:pt x="43" y="122"/>
                        <a:pt x="62" y="116"/>
                      </a:cubicBezTo>
                      <a:cubicBezTo>
                        <a:pt x="80" y="89"/>
                        <a:pt x="56" y="119"/>
                        <a:pt x="94" y="100"/>
                      </a:cubicBezTo>
                      <a:cubicBezTo>
                        <a:pt x="102" y="96"/>
                        <a:pt x="106" y="85"/>
                        <a:pt x="114" y="80"/>
                      </a:cubicBezTo>
                      <a:cubicBezTo>
                        <a:pt x="131" y="55"/>
                        <a:pt x="104" y="46"/>
                        <a:pt x="146" y="32"/>
                      </a:cubicBezTo>
                      <a:cubicBezTo>
                        <a:pt x="153" y="11"/>
                        <a:pt x="180" y="12"/>
                        <a:pt x="198" y="0"/>
                      </a:cubicBezTo>
                      <a:cubicBezTo>
                        <a:pt x="225" y="9"/>
                        <a:pt x="203" y="16"/>
                        <a:pt x="190" y="20"/>
                      </a:cubicBezTo>
                      <a:cubicBezTo>
                        <a:pt x="198" y="43"/>
                        <a:pt x="175" y="34"/>
                        <a:pt x="158" y="40"/>
                      </a:cubicBezTo>
                      <a:cubicBezTo>
                        <a:pt x="144" y="60"/>
                        <a:pt x="146" y="91"/>
                        <a:pt x="126" y="104"/>
                      </a:cubicBezTo>
                      <a:cubicBezTo>
                        <a:pt x="127" y="108"/>
                        <a:pt x="131" y="112"/>
                        <a:pt x="130" y="116"/>
                      </a:cubicBezTo>
                      <a:cubicBezTo>
                        <a:pt x="127" y="125"/>
                        <a:pt x="114" y="140"/>
                        <a:pt x="114" y="140"/>
                      </a:cubicBezTo>
                      <a:cubicBezTo>
                        <a:pt x="143" y="150"/>
                        <a:pt x="95" y="153"/>
                        <a:pt x="78" y="164"/>
                      </a:cubicBezTo>
                      <a:cubicBezTo>
                        <a:pt x="68" y="161"/>
                        <a:pt x="0" y="170"/>
                        <a:pt x="14" y="15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076760" y="1782000"/>
                  <a:ext cx="205560" cy="118440"/>
                </a:xfrm>
                <a:custGeom>
                  <a:avLst/>
                  <a:gdLst/>
                  <a:ahLst/>
                  <a:rect l="l" t="t" r="r" b="b"/>
                  <a:pathLst>
                    <a:path w="118" h="67">
                      <a:moveTo>
                        <a:pt x="12" y="49"/>
                      </a:moveTo>
                      <a:cubicBezTo>
                        <a:pt x="23" y="42"/>
                        <a:pt x="48" y="33"/>
                        <a:pt x="48" y="33"/>
                      </a:cubicBezTo>
                      <a:cubicBezTo>
                        <a:pt x="56" y="8"/>
                        <a:pt x="70" y="12"/>
                        <a:pt x="96" y="9"/>
                      </a:cubicBezTo>
                      <a:cubicBezTo>
                        <a:pt x="100" y="6"/>
                        <a:pt x="103" y="0"/>
                        <a:pt x="108" y="1"/>
                      </a:cubicBezTo>
                      <a:cubicBezTo>
                        <a:pt x="113" y="2"/>
                        <a:pt x="118" y="9"/>
                        <a:pt x="116" y="13"/>
                      </a:cubicBezTo>
                      <a:cubicBezTo>
                        <a:pt x="106" y="37"/>
                        <a:pt x="95" y="36"/>
                        <a:pt x="76" y="41"/>
                      </a:cubicBezTo>
                      <a:cubicBezTo>
                        <a:pt x="62" y="50"/>
                        <a:pt x="54" y="51"/>
                        <a:pt x="44" y="65"/>
                      </a:cubicBezTo>
                      <a:cubicBezTo>
                        <a:pt x="39" y="64"/>
                        <a:pt x="33" y="61"/>
                        <a:pt x="28" y="61"/>
                      </a:cubicBezTo>
                      <a:cubicBezTo>
                        <a:pt x="24" y="61"/>
                        <a:pt x="20" y="67"/>
                        <a:pt x="16" y="65"/>
                      </a:cubicBezTo>
                      <a:cubicBezTo>
                        <a:pt x="0" y="59"/>
                        <a:pt x="7" y="54"/>
                        <a:pt x="12" y="4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1383480" y="1379160"/>
                  <a:ext cx="234360" cy="132840"/>
                </a:xfrm>
                <a:custGeom>
                  <a:avLst/>
                  <a:gdLst/>
                  <a:ahLst/>
                  <a:rect l="l" t="t" r="r" b="b"/>
                  <a:pathLst>
                    <a:path w="134" h="74">
                      <a:moveTo>
                        <a:pt x="8" y="59"/>
                      </a:moveTo>
                      <a:cubicBezTo>
                        <a:pt x="2" y="42"/>
                        <a:pt x="3" y="37"/>
                        <a:pt x="20" y="31"/>
                      </a:cubicBezTo>
                      <a:cubicBezTo>
                        <a:pt x="40" y="0"/>
                        <a:pt x="60" y="18"/>
                        <a:pt x="92" y="23"/>
                      </a:cubicBezTo>
                      <a:cubicBezTo>
                        <a:pt x="134" y="37"/>
                        <a:pt x="105" y="42"/>
                        <a:pt x="88" y="51"/>
                      </a:cubicBezTo>
                      <a:cubicBezTo>
                        <a:pt x="68" y="61"/>
                        <a:pt x="49" y="64"/>
                        <a:pt x="28" y="71"/>
                      </a:cubicBezTo>
                      <a:cubicBezTo>
                        <a:pt x="1" y="67"/>
                        <a:pt x="0" y="74"/>
                        <a:pt x="8" y="5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641600" y="972360"/>
                  <a:ext cx="614160" cy="341640"/>
                </a:xfrm>
                <a:custGeom>
                  <a:avLst/>
                  <a:gdLst/>
                  <a:ahLst/>
                  <a:rect l="l" t="t" r="r" b="b"/>
                  <a:pathLst>
                    <a:path w="352" h="192">
                      <a:moveTo>
                        <a:pt x="0" y="156"/>
                      </a:moveTo>
                      <a:cubicBezTo>
                        <a:pt x="11" y="172"/>
                        <a:pt x="2" y="175"/>
                        <a:pt x="8" y="192"/>
                      </a:cubicBezTo>
                      <a:cubicBezTo>
                        <a:pt x="23" y="187"/>
                        <a:pt x="27" y="177"/>
                        <a:pt x="40" y="168"/>
                      </a:cubicBezTo>
                      <a:cubicBezTo>
                        <a:pt x="63" y="134"/>
                        <a:pt x="90" y="135"/>
                        <a:pt x="128" y="132"/>
                      </a:cubicBezTo>
                      <a:cubicBezTo>
                        <a:pt x="170" y="121"/>
                        <a:pt x="120" y="136"/>
                        <a:pt x="156" y="120"/>
                      </a:cubicBezTo>
                      <a:cubicBezTo>
                        <a:pt x="164" y="117"/>
                        <a:pt x="180" y="112"/>
                        <a:pt x="180" y="112"/>
                      </a:cubicBezTo>
                      <a:cubicBezTo>
                        <a:pt x="183" y="108"/>
                        <a:pt x="184" y="103"/>
                        <a:pt x="188" y="100"/>
                      </a:cubicBezTo>
                      <a:cubicBezTo>
                        <a:pt x="188" y="100"/>
                        <a:pt x="218" y="90"/>
                        <a:pt x="224" y="88"/>
                      </a:cubicBezTo>
                      <a:cubicBezTo>
                        <a:pt x="241" y="82"/>
                        <a:pt x="255" y="70"/>
                        <a:pt x="272" y="64"/>
                      </a:cubicBezTo>
                      <a:cubicBezTo>
                        <a:pt x="296" y="40"/>
                        <a:pt x="319" y="43"/>
                        <a:pt x="352" y="40"/>
                      </a:cubicBezTo>
                      <a:cubicBezTo>
                        <a:pt x="328" y="32"/>
                        <a:pt x="324" y="25"/>
                        <a:pt x="324" y="0"/>
                      </a:cubicBezTo>
                      <a:lnTo>
                        <a:pt x="200" y="52"/>
                      </a:lnTo>
                      <a:lnTo>
                        <a:pt x="76" y="108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2374560" y="1086840"/>
                  <a:ext cx="327240" cy="148320"/>
                </a:xfrm>
                <a:custGeom>
                  <a:avLst/>
                  <a:gdLst/>
                  <a:ahLst/>
                  <a:rect l="l" t="t" r="r" b="b"/>
                  <a:pathLst>
                    <a:path w="187" h="84">
                      <a:moveTo>
                        <a:pt x="8" y="68"/>
                      </a:moveTo>
                      <a:cubicBezTo>
                        <a:pt x="29" y="63"/>
                        <a:pt x="35" y="47"/>
                        <a:pt x="56" y="40"/>
                      </a:cubicBezTo>
                      <a:cubicBezTo>
                        <a:pt x="62" y="23"/>
                        <a:pt x="61" y="14"/>
                        <a:pt x="76" y="4"/>
                      </a:cubicBezTo>
                      <a:cubicBezTo>
                        <a:pt x="84" y="7"/>
                        <a:pt x="91" y="15"/>
                        <a:pt x="100" y="16"/>
                      </a:cubicBezTo>
                      <a:cubicBezTo>
                        <a:pt x="110" y="18"/>
                        <a:pt x="127" y="3"/>
                        <a:pt x="136" y="0"/>
                      </a:cubicBezTo>
                      <a:cubicBezTo>
                        <a:pt x="163" y="9"/>
                        <a:pt x="137" y="25"/>
                        <a:pt x="164" y="16"/>
                      </a:cubicBezTo>
                      <a:cubicBezTo>
                        <a:pt x="171" y="17"/>
                        <a:pt x="180" y="15"/>
                        <a:pt x="184" y="20"/>
                      </a:cubicBezTo>
                      <a:cubicBezTo>
                        <a:pt x="187" y="24"/>
                        <a:pt x="185" y="33"/>
                        <a:pt x="180" y="36"/>
                      </a:cubicBezTo>
                      <a:cubicBezTo>
                        <a:pt x="175" y="39"/>
                        <a:pt x="169" y="33"/>
                        <a:pt x="164" y="32"/>
                      </a:cubicBezTo>
                      <a:cubicBezTo>
                        <a:pt x="135" y="42"/>
                        <a:pt x="147" y="45"/>
                        <a:pt x="128" y="32"/>
                      </a:cubicBezTo>
                      <a:cubicBezTo>
                        <a:pt x="115" y="35"/>
                        <a:pt x="91" y="37"/>
                        <a:pt x="100" y="48"/>
                      </a:cubicBezTo>
                      <a:cubicBezTo>
                        <a:pt x="105" y="55"/>
                        <a:pt x="124" y="56"/>
                        <a:pt x="124" y="56"/>
                      </a:cubicBezTo>
                      <a:cubicBezTo>
                        <a:pt x="113" y="72"/>
                        <a:pt x="109" y="75"/>
                        <a:pt x="92" y="64"/>
                      </a:cubicBezTo>
                      <a:cubicBezTo>
                        <a:pt x="82" y="49"/>
                        <a:pt x="78" y="46"/>
                        <a:pt x="60" y="52"/>
                      </a:cubicBezTo>
                      <a:cubicBezTo>
                        <a:pt x="57" y="56"/>
                        <a:pt x="56" y="62"/>
                        <a:pt x="52" y="64"/>
                      </a:cubicBezTo>
                      <a:cubicBezTo>
                        <a:pt x="45" y="68"/>
                        <a:pt x="36" y="66"/>
                        <a:pt x="28" y="68"/>
                      </a:cubicBezTo>
                      <a:cubicBezTo>
                        <a:pt x="2" y="74"/>
                        <a:pt x="0" y="84"/>
                        <a:pt x="8" y="6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2950560" y="1082520"/>
                  <a:ext cx="310320" cy="81720"/>
                </a:xfrm>
                <a:custGeom>
                  <a:avLst/>
                  <a:gdLst/>
                  <a:ahLst/>
                  <a:rect l="l" t="t" r="r" b="b"/>
                  <a:pathLst>
                    <a:path w="178" h="46">
                      <a:moveTo>
                        <a:pt x="6" y="18"/>
                      </a:moveTo>
                      <a:cubicBezTo>
                        <a:pt x="41" y="6"/>
                        <a:pt x="52" y="12"/>
                        <a:pt x="78" y="38"/>
                      </a:cubicBezTo>
                      <a:cubicBezTo>
                        <a:pt x="89" y="31"/>
                        <a:pt x="114" y="22"/>
                        <a:pt x="114" y="22"/>
                      </a:cubicBezTo>
                      <a:cubicBezTo>
                        <a:pt x="129" y="0"/>
                        <a:pt x="148" y="14"/>
                        <a:pt x="166" y="26"/>
                      </a:cubicBezTo>
                      <a:cubicBezTo>
                        <a:pt x="116" y="39"/>
                        <a:pt x="178" y="26"/>
                        <a:pt x="138" y="26"/>
                      </a:cubicBezTo>
                      <a:cubicBezTo>
                        <a:pt x="119" y="26"/>
                        <a:pt x="103" y="40"/>
                        <a:pt x="86" y="46"/>
                      </a:cubicBezTo>
                      <a:cubicBezTo>
                        <a:pt x="70" y="41"/>
                        <a:pt x="15" y="29"/>
                        <a:pt x="2" y="22"/>
                      </a:cubicBezTo>
                      <a:cubicBezTo>
                        <a:pt x="0" y="21"/>
                        <a:pt x="5" y="19"/>
                        <a:pt x="6" y="1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2779920" y="1243800"/>
                  <a:ext cx="419040" cy="190440"/>
                </a:xfrm>
                <a:custGeom>
                  <a:avLst/>
                  <a:gdLst/>
                  <a:ahLst/>
                  <a:rect l="l" t="t" r="r" b="b"/>
                  <a:pathLst>
                    <a:path w="240" h="108">
                      <a:moveTo>
                        <a:pt x="36" y="108"/>
                      </a:moveTo>
                      <a:cubicBezTo>
                        <a:pt x="19" y="102"/>
                        <a:pt x="6" y="107"/>
                        <a:pt x="0" y="88"/>
                      </a:cubicBezTo>
                      <a:cubicBezTo>
                        <a:pt x="5" y="72"/>
                        <a:pt x="14" y="73"/>
                        <a:pt x="28" y="64"/>
                      </a:cubicBezTo>
                      <a:cubicBezTo>
                        <a:pt x="29" y="60"/>
                        <a:pt x="29" y="54"/>
                        <a:pt x="32" y="52"/>
                      </a:cubicBezTo>
                      <a:cubicBezTo>
                        <a:pt x="39" y="47"/>
                        <a:pt x="56" y="44"/>
                        <a:pt x="56" y="44"/>
                      </a:cubicBezTo>
                      <a:cubicBezTo>
                        <a:pt x="57" y="40"/>
                        <a:pt x="57" y="35"/>
                        <a:pt x="60" y="32"/>
                      </a:cubicBezTo>
                      <a:cubicBezTo>
                        <a:pt x="73" y="22"/>
                        <a:pt x="148" y="7"/>
                        <a:pt x="168" y="4"/>
                      </a:cubicBezTo>
                      <a:cubicBezTo>
                        <a:pt x="172" y="5"/>
                        <a:pt x="176" y="8"/>
                        <a:pt x="180" y="8"/>
                      </a:cubicBezTo>
                      <a:cubicBezTo>
                        <a:pt x="188" y="7"/>
                        <a:pt x="204" y="0"/>
                        <a:pt x="204" y="0"/>
                      </a:cubicBezTo>
                      <a:cubicBezTo>
                        <a:pt x="221" y="6"/>
                        <a:pt x="240" y="4"/>
                        <a:pt x="216" y="20"/>
                      </a:cubicBezTo>
                      <a:cubicBezTo>
                        <a:pt x="199" y="14"/>
                        <a:pt x="164" y="31"/>
                        <a:pt x="144" y="36"/>
                      </a:cubicBezTo>
                      <a:cubicBezTo>
                        <a:pt x="110" y="25"/>
                        <a:pt x="93" y="46"/>
                        <a:pt x="64" y="56"/>
                      </a:cubicBezTo>
                      <a:cubicBezTo>
                        <a:pt x="70" y="73"/>
                        <a:pt x="69" y="78"/>
                        <a:pt x="52" y="84"/>
                      </a:cubicBezTo>
                      <a:cubicBezTo>
                        <a:pt x="48" y="90"/>
                        <a:pt x="42" y="108"/>
                        <a:pt x="36" y="10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1147320" y="2266200"/>
                  <a:ext cx="54720" cy="536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1086480" y="2338200"/>
                  <a:ext cx="77760" cy="5652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1339560" y="2554560"/>
                  <a:ext cx="132480" cy="320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565280" y="2550600"/>
                  <a:ext cx="73440" cy="77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966600" y="2334240"/>
                  <a:ext cx="53280" cy="536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47520" y="896760"/>
                <a:ext cx="9030960" cy="4962600"/>
                <a:chOff x="47520" y="896760"/>
                <a:chExt cx="9030960" cy="496260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3497040" y="4196520"/>
                  <a:ext cx="1026000" cy="948960"/>
                </a:xfrm>
                <a:custGeom>
                  <a:avLst/>
                  <a:gdLst/>
                  <a:ahLst/>
                  <a:rect l="l" t="t" r="r" b="b"/>
                  <a:pathLst>
                    <a:path w="588" h="534">
                      <a:moveTo>
                        <a:pt x="270" y="12"/>
                      </a:moveTo>
                      <a:lnTo>
                        <a:pt x="288" y="22"/>
                      </a:lnTo>
                      <a:lnTo>
                        <a:pt x="306" y="26"/>
                      </a:lnTo>
                      <a:lnTo>
                        <a:pt x="332" y="28"/>
                      </a:lnTo>
                      <a:cubicBezTo>
                        <a:pt x="334" y="37"/>
                        <a:pt x="332" y="40"/>
                        <a:pt x="328" y="48"/>
                      </a:cubicBezTo>
                      <a:cubicBezTo>
                        <a:pt x="326" y="52"/>
                        <a:pt x="320" y="60"/>
                        <a:pt x="320" y="60"/>
                      </a:cubicBezTo>
                      <a:cubicBezTo>
                        <a:pt x="319" y="67"/>
                        <a:pt x="317" y="75"/>
                        <a:pt x="318" y="82"/>
                      </a:cubicBezTo>
                      <a:cubicBezTo>
                        <a:pt x="319" y="92"/>
                        <a:pt x="358" y="108"/>
                        <a:pt x="366" y="114"/>
                      </a:cubicBezTo>
                      <a:cubicBezTo>
                        <a:pt x="372" y="118"/>
                        <a:pt x="378" y="122"/>
                        <a:pt x="384" y="126"/>
                      </a:cubicBezTo>
                      <a:cubicBezTo>
                        <a:pt x="386" y="127"/>
                        <a:pt x="390" y="130"/>
                        <a:pt x="390" y="130"/>
                      </a:cubicBezTo>
                      <a:cubicBezTo>
                        <a:pt x="403" y="126"/>
                        <a:pt x="405" y="108"/>
                        <a:pt x="408" y="96"/>
                      </a:cubicBezTo>
                      <a:cubicBezTo>
                        <a:pt x="410" y="80"/>
                        <a:pt x="412" y="78"/>
                        <a:pt x="404" y="66"/>
                      </a:cubicBezTo>
                      <a:cubicBezTo>
                        <a:pt x="407" y="50"/>
                        <a:pt x="407" y="26"/>
                        <a:pt x="410" y="12"/>
                      </a:cubicBezTo>
                      <a:cubicBezTo>
                        <a:pt x="411" y="7"/>
                        <a:pt x="418" y="0"/>
                        <a:pt x="418" y="0"/>
                      </a:cubicBezTo>
                      <a:cubicBezTo>
                        <a:pt x="435" y="6"/>
                        <a:pt x="429" y="25"/>
                        <a:pt x="436" y="38"/>
                      </a:cubicBezTo>
                      <a:cubicBezTo>
                        <a:pt x="441" y="47"/>
                        <a:pt x="447" y="53"/>
                        <a:pt x="450" y="62"/>
                      </a:cubicBezTo>
                      <a:cubicBezTo>
                        <a:pt x="447" y="71"/>
                        <a:pt x="452" y="73"/>
                        <a:pt x="460" y="76"/>
                      </a:cubicBezTo>
                      <a:cubicBezTo>
                        <a:pt x="464" y="82"/>
                        <a:pt x="466" y="88"/>
                        <a:pt x="470" y="94"/>
                      </a:cubicBezTo>
                      <a:cubicBezTo>
                        <a:pt x="475" y="117"/>
                        <a:pt x="483" y="138"/>
                        <a:pt x="490" y="160"/>
                      </a:cubicBezTo>
                      <a:cubicBezTo>
                        <a:pt x="491" y="164"/>
                        <a:pt x="499" y="165"/>
                        <a:pt x="502" y="166"/>
                      </a:cubicBezTo>
                      <a:cubicBezTo>
                        <a:pt x="506" y="168"/>
                        <a:pt x="514" y="174"/>
                        <a:pt x="514" y="174"/>
                      </a:cubicBezTo>
                      <a:cubicBezTo>
                        <a:pt x="520" y="184"/>
                        <a:pt x="524" y="196"/>
                        <a:pt x="534" y="202"/>
                      </a:cubicBezTo>
                      <a:cubicBezTo>
                        <a:pt x="538" y="208"/>
                        <a:pt x="535" y="218"/>
                        <a:pt x="538" y="220"/>
                      </a:cubicBezTo>
                      <a:cubicBezTo>
                        <a:pt x="541" y="222"/>
                        <a:pt x="550" y="224"/>
                        <a:pt x="550" y="224"/>
                      </a:cubicBezTo>
                      <a:cubicBezTo>
                        <a:pt x="552" y="238"/>
                        <a:pt x="552" y="246"/>
                        <a:pt x="564" y="254"/>
                      </a:cubicBezTo>
                      <a:cubicBezTo>
                        <a:pt x="568" y="261"/>
                        <a:pt x="575" y="270"/>
                        <a:pt x="582" y="272"/>
                      </a:cubicBezTo>
                      <a:cubicBezTo>
                        <a:pt x="579" y="288"/>
                        <a:pt x="585" y="301"/>
                        <a:pt x="588" y="316"/>
                      </a:cubicBezTo>
                      <a:cubicBezTo>
                        <a:pt x="587" y="333"/>
                        <a:pt x="587" y="373"/>
                        <a:pt x="576" y="390"/>
                      </a:cubicBezTo>
                      <a:cubicBezTo>
                        <a:pt x="567" y="403"/>
                        <a:pt x="557" y="417"/>
                        <a:pt x="552" y="432"/>
                      </a:cubicBezTo>
                      <a:cubicBezTo>
                        <a:pt x="554" y="444"/>
                        <a:pt x="556" y="447"/>
                        <a:pt x="546" y="454"/>
                      </a:cubicBezTo>
                      <a:cubicBezTo>
                        <a:pt x="540" y="464"/>
                        <a:pt x="543" y="458"/>
                        <a:pt x="538" y="472"/>
                      </a:cubicBezTo>
                      <a:cubicBezTo>
                        <a:pt x="537" y="474"/>
                        <a:pt x="536" y="478"/>
                        <a:pt x="536" y="478"/>
                      </a:cubicBezTo>
                      <a:cubicBezTo>
                        <a:pt x="535" y="488"/>
                        <a:pt x="536" y="497"/>
                        <a:pt x="526" y="502"/>
                      </a:cubicBezTo>
                      <a:cubicBezTo>
                        <a:pt x="520" y="505"/>
                        <a:pt x="508" y="512"/>
                        <a:pt x="508" y="512"/>
                      </a:cubicBezTo>
                      <a:cubicBezTo>
                        <a:pt x="493" y="534"/>
                        <a:pt x="507" y="519"/>
                        <a:pt x="494" y="526"/>
                      </a:cubicBezTo>
                      <a:cubicBezTo>
                        <a:pt x="490" y="528"/>
                        <a:pt x="482" y="534"/>
                        <a:pt x="482" y="534"/>
                      </a:cubicBezTo>
                      <a:cubicBezTo>
                        <a:pt x="473" y="528"/>
                        <a:pt x="470" y="520"/>
                        <a:pt x="462" y="514"/>
                      </a:cubicBezTo>
                      <a:cubicBezTo>
                        <a:pt x="457" y="521"/>
                        <a:pt x="457" y="525"/>
                        <a:pt x="450" y="530"/>
                      </a:cubicBezTo>
                      <a:cubicBezTo>
                        <a:pt x="438" y="527"/>
                        <a:pt x="429" y="517"/>
                        <a:pt x="418" y="514"/>
                      </a:cubicBezTo>
                      <a:cubicBezTo>
                        <a:pt x="413" y="513"/>
                        <a:pt x="402" y="510"/>
                        <a:pt x="402" y="510"/>
                      </a:cubicBezTo>
                      <a:cubicBezTo>
                        <a:pt x="394" y="505"/>
                        <a:pt x="390" y="503"/>
                        <a:pt x="396" y="494"/>
                      </a:cubicBezTo>
                      <a:cubicBezTo>
                        <a:pt x="394" y="488"/>
                        <a:pt x="392" y="482"/>
                        <a:pt x="390" y="476"/>
                      </a:cubicBezTo>
                      <a:cubicBezTo>
                        <a:pt x="388" y="471"/>
                        <a:pt x="378" y="468"/>
                        <a:pt x="378" y="468"/>
                      </a:cubicBezTo>
                      <a:cubicBezTo>
                        <a:pt x="372" y="474"/>
                        <a:pt x="368" y="477"/>
                        <a:pt x="360" y="480"/>
                      </a:cubicBezTo>
                      <a:cubicBezTo>
                        <a:pt x="353" y="469"/>
                        <a:pt x="359" y="456"/>
                        <a:pt x="366" y="446"/>
                      </a:cubicBezTo>
                      <a:cubicBezTo>
                        <a:pt x="365" y="439"/>
                        <a:pt x="362" y="431"/>
                        <a:pt x="362" y="424"/>
                      </a:cubicBezTo>
                      <a:cubicBezTo>
                        <a:pt x="362" y="421"/>
                        <a:pt x="366" y="418"/>
                        <a:pt x="364" y="416"/>
                      </a:cubicBezTo>
                      <a:cubicBezTo>
                        <a:pt x="362" y="414"/>
                        <a:pt x="361" y="420"/>
                        <a:pt x="360" y="422"/>
                      </a:cubicBezTo>
                      <a:cubicBezTo>
                        <a:pt x="358" y="426"/>
                        <a:pt x="357" y="430"/>
                        <a:pt x="356" y="434"/>
                      </a:cubicBezTo>
                      <a:cubicBezTo>
                        <a:pt x="353" y="443"/>
                        <a:pt x="347" y="451"/>
                        <a:pt x="338" y="454"/>
                      </a:cubicBezTo>
                      <a:cubicBezTo>
                        <a:pt x="337" y="456"/>
                        <a:pt x="338" y="460"/>
                        <a:pt x="336" y="460"/>
                      </a:cubicBezTo>
                      <a:cubicBezTo>
                        <a:pt x="326" y="460"/>
                        <a:pt x="326" y="435"/>
                        <a:pt x="322" y="428"/>
                      </a:cubicBezTo>
                      <a:cubicBezTo>
                        <a:pt x="315" y="413"/>
                        <a:pt x="305" y="409"/>
                        <a:pt x="290" y="406"/>
                      </a:cubicBezTo>
                      <a:cubicBezTo>
                        <a:pt x="284" y="402"/>
                        <a:pt x="268" y="398"/>
                        <a:pt x="268" y="398"/>
                      </a:cubicBezTo>
                      <a:cubicBezTo>
                        <a:pt x="246" y="400"/>
                        <a:pt x="227" y="404"/>
                        <a:pt x="206" y="410"/>
                      </a:cubicBezTo>
                      <a:cubicBezTo>
                        <a:pt x="185" y="416"/>
                        <a:pt x="215" y="406"/>
                        <a:pt x="186" y="416"/>
                      </a:cubicBezTo>
                      <a:cubicBezTo>
                        <a:pt x="184" y="417"/>
                        <a:pt x="180" y="418"/>
                        <a:pt x="180" y="418"/>
                      </a:cubicBezTo>
                      <a:cubicBezTo>
                        <a:pt x="174" y="426"/>
                        <a:pt x="168" y="433"/>
                        <a:pt x="162" y="442"/>
                      </a:cubicBezTo>
                      <a:cubicBezTo>
                        <a:pt x="160" y="446"/>
                        <a:pt x="150" y="446"/>
                        <a:pt x="150" y="446"/>
                      </a:cubicBezTo>
                      <a:cubicBezTo>
                        <a:pt x="143" y="444"/>
                        <a:pt x="135" y="442"/>
                        <a:pt x="128" y="440"/>
                      </a:cubicBezTo>
                      <a:cubicBezTo>
                        <a:pt x="116" y="444"/>
                        <a:pt x="113" y="456"/>
                        <a:pt x="100" y="460"/>
                      </a:cubicBezTo>
                      <a:cubicBezTo>
                        <a:pt x="94" y="462"/>
                        <a:pt x="82" y="466"/>
                        <a:pt x="82" y="466"/>
                      </a:cubicBezTo>
                      <a:cubicBezTo>
                        <a:pt x="66" y="462"/>
                        <a:pt x="59" y="457"/>
                        <a:pt x="46" y="448"/>
                      </a:cubicBezTo>
                      <a:cubicBezTo>
                        <a:pt x="43" y="438"/>
                        <a:pt x="50" y="425"/>
                        <a:pt x="52" y="414"/>
                      </a:cubicBezTo>
                      <a:cubicBezTo>
                        <a:pt x="48" y="400"/>
                        <a:pt x="47" y="381"/>
                        <a:pt x="40" y="368"/>
                      </a:cubicBezTo>
                      <a:cubicBezTo>
                        <a:pt x="30" y="349"/>
                        <a:pt x="15" y="335"/>
                        <a:pt x="8" y="314"/>
                      </a:cubicBezTo>
                      <a:cubicBezTo>
                        <a:pt x="10" y="293"/>
                        <a:pt x="12" y="296"/>
                        <a:pt x="8" y="282"/>
                      </a:cubicBezTo>
                      <a:cubicBezTo>
                        <a:pt x="6" y="274"/>
                        <a:pt x="0" y="258"/>
                        <a:pt x="0" y="258"/>
                      </a:cubicBezTo>
                      <a:cubicBezTo>
                        <a:pt x="3" y="240"/>
                        <a:pt x="2" y="223"/>
                        <a:pt x="18" y="212"/>
                      </a:cubicBezTo>
                      <a:cubicBezTo>
                        <a:pt x="24" y="202"/>
                        <a:pt x="28" y="190"/>
                        <a:pt x="40" y="186"/>
                      </a:cubicBezTo>
                      <a:cubicBezTo>
                        <a:pt x="67" y="190"/>
                        <a:pt x="79" y="172"/>
                        <a:pt x="102" y="164"/>
                      </a:cubicBezTo>
                      <a:cubicBezTo>
                        <a:pt x="105" y="156"/>
                        <a:pt x="111" y="147"/>
                        <a:pt x="116" y="140"/>
                      </a:cubicBezTo>
                      <a:cubicBezTo>
                        <a:pt x="117" y="125"/>
                        <a:pt x="115" y="118"/>
                        <a:pt x="126" y="110"/>
                      </a:cubicBezTo>
                      <a:cubicBezTo>
                        <a:pt x="132" y="112"/>
                        <a:pt x="140" y="124"/>
                        <a:pt x="140" y="124"/>
                      </a:cubicBezTo>
                      <a:cubicBezTo>
                        <a:pt x="143" y="123"/>
                        <a:pt x="147" y="124"/>
                        <a:pt x="148" y="122"/>
                      </a:cubicBezTo>
                      <a:cubicBezTo>
                        <a:pt x="149" y="120"/>
                        <a:pt x="146" y="117"/>
                        <a:pt x="146" y="114"/>
                      </a:cubicBezTo>
                      <a:cubicBezTo>
                        <a:pt x="146" y="106"/>
                        <a:pt x="154" y="91"/>
                        <a:pt x="162" y="88"/>
                      </a:cubicBezTo>
                      <a:cubicBezTo>
                        <a:pt x="160" y="77"/>
                        <a:pt x="159" y="74"/>
                        <a:pt x="168" y="68"/>
                      </a:cubicBezTo>
                      <a:cubicBezTo>
                        <a:pt x="171" y="60"/>
                        <a:pt x="174" y="57"/>
                        <a:pt x="182" y="54"/>
                      </a:cubicBezTo>
                      <a:cubicBezTo>
                        <a:pt x="195" y="58"/>
                        <a:pt x="196" y="76"/>
                        <a:pt x="208" y="84"/>
                      </a:cubicBezTo>
                      <a:cubicBezTo>
                        <a:pt x="216" y="81"/>
                        <a:pt x="217" y="78"/>
                        <a:pt x="220" y="70"/>
                      </a:cubicBezTo>
                      <a:cubicBezTo>
                        <a:pt x="228" y="73"/>
                        <a:pt x="231" y="80"/>
                        <a:pt x="234" y="70"/>
                      </a:cubicBezTo>
                      <a:cubicBezTo>
                        <a:pt x="231" y="61"/>
                        <a:pt x="223" y="54"/>
                        <a:pt x="236" y="50"/>
                      </a:cubicBezTo>
                      <a:cubicBezTo>
                        <a:pt x="237" y="46"/>
                        <a:pt x="235" y="42"/>
                        <a:pt x="236" y="38"/>
                      </a:cubicBezTo>
                      <a:cubicBezTo>
                        <a:pt x="239" y="31"/>
                        <a:pt x="254" y="32"/>
                        <a:pt x="260" y="30"/>
                      </a:cubicBezTo>
                      <a:cubicBezTo>
                        <a:pt x="261" y="28"/>
                        <a:pt x="264" y="26"/>
                        <a:pt x="264" y="24"/>
                      </a:cubicBezTo>
                      <a:cubicBezTo>
                        <a:pt x="264" y="20"/>
                        <a:pt x="260" y="12"/>
                        <a:pt x="260" y="12"/>
                      </a:cubicBezTo>
                      <a:cubicBezTo>
                        <a:pt x="267" y="10"/>
                        <a:pt x="264" y="9"/>
                        <a:pt x="270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298760" y="5171400"/>
                  <a:ext cx="106920" cy="138240"/>
                </a:xfrm>
                <a:custGeom>
                  <a:avLst/>
                  <a:gdLst/>
                  <a:ahLst/>
                  <a:rect l="l" t="t" r="r" b="b"/>
                  <a:pathLst>
                    <a:path w="61" h="78">
                      <a:moveTo>
                        <a:pt x="4" y="24"/>
                      </a:moveTo>
                      <a:cubicBezTo>
                        <a:pt x="13" y="27"/>
                        <a:pt x="22" y="25"/>
                        <a:pt x="32" y="28"/>
                      </a:cubicBezTo>
                      <a:cubicBezTo>
                        <a:pt x="48" y="23"/>
                        <a:pt x="39" y="4"/>
                        <a:pt x="52" y="0"/>
                      </a:cubicBezTo>
                      <a:cubicBezTo>
                        <a:pt x="57" y="7"/>
                        <a:pt x="59" y="10"/>
                        <a:pt x="56" y="18"/>
                      </a:cubicBezTo>
                      <a:cubicBezTo>
                        <a:pt x="61" y="42"/>
                        <a:pt x="50" y="70"/>
                        <a:pt x="26" y="78"/>
                      </a:cubicBezTo>
                      <a:cubicBezTo>
                        <a:pt x="21" y="70"/>
                        <a:pt x="19" y="62"/>
                        <a:pt x="16" y="54"/>
                      </a:cubicBezTo>
                      <a:cubicBezTo>
                        <a:pt x="13" y="45"/>
                        <a:pt x="3" y="40"/>
                        <a:pt x="0" y="30"/>
                      </a:cubicBezTo>
                      <a:cubicBezTo>
                        <a:pt x="2" y="23"/>
                        <a:pt x="0" y="24"/>
                        <a:pt x="4" y="2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4838400" y="5138640"/>
                  <a:ext cx="197280" cy="270000"/>
                </a:xfrm>
                <a:custGeom>
                  <a:avLst/>
                  <a:gdLst/>
                  <a:ahLst/>
                  <a:rect l="l" t="t" r="r" b="b"/>
                  <a:pathLst>
                    <a:path w="113" h="152">
                      <a:moveTo>
                        <a:pt x="75" y="0"/>
                      </a:moveTo>
                      <a:cubicBezTo>
                        <a:pt x="87" y="2"/>
                        <a:pt x="86" y="6"/>
                        <a:pt x="95" y="12"/>
                      </a:cubicBezTo>
                      <a:cubicBezTo>
                        <a:pt x="105" y="10"/>
                        <a:pt x="110" y="8"/>
                        <a:pt x="113" y="18"/>
                      </a:cubicBezTo>
                      <a:cubicBezTo>
                        <a:pt x="108" y="34"/>
                        <a:pt x="97" y="54"/>
                        <a:pt x="83" y="64"/>
                      </a:cubicBezTo>
                      <a:cubicBezTo>
                        <a:pt x="82" y="68"/>
                        <a:pt x="83" y="74"/>
                        <a:pt x="79" y="76"/>
                      </a:cubicBezTo>
                      <a:cubicBezTo>
                        <a:pt x="75" y="79"/>
                        <a:pt x="67" y="84"/>
                        <a:pt x="67" y="84"/>
                      </a:cubicBezTo>
                      <a:cubicBezTo>
                        <a:pt x="60" y="95"/>
                        <a:pt x="57" y="108"/>
                        <a:pt x="53" y="120"/>
                      </a:cubicBezTo>
                      <a:cubicBezTo>
                        <a:pt x="52" y="124"/>
                        <a:pt x="53" y="131"/>
                        <a:pt x="49" y="132"/>
                      </a:cubicBezTo>
                      <a:cubicBezTo>
                        <a:pt x="43" y="134"/>
                        <a:pt x="31" y="138"/>
                        <a:pt x="31" y="138"/>
                      </a:cubicBezTo>
                      <a:cubicBezTo>
                        <a:pt x="28" y="146"/>
                        <a:pt x="25" y="149"/>
                        <a:pt x="17" y="152"/>
                      </a:cubicBezTo>
                      <a:cubicBezTo>
                        <a:pt x="12" y="144"/>
                        <a:pt x="12" y="141"/>
                        <a:pt x="21" y="138"/>
                      </a:cubicBezTo>
                      <a:cubicBezTo>
                        <a:pt x="18" y="130"/>
                        <a:pt x="15" y="129"/>
                        <a:pt x="7" y="126"/>
                      </a:cubicBezTo>
                      <a:cubicBezTo>
                        <a:pt x="0" y="104"/>
                        <a:pt x="19" y="73"/>
                        <a:pt x="41" y="68"/>
                      </a:cubicBezTo>
                      <a:cubicBezTo>
                        <a:pt x="56" y="46"/>
                        <a:pt x="75" y="30"/>
                        <a:pt x="75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979520" y="4931280"/>
                  <a:ext cx="169200" cy="246960"/>
                </a:xfrm>
                <a:custGeom>
                  <a:avLst/>
                  <a:gdLst/>
                  <a:ahLst/>
                  <a:rect l="l" t="t" r="r" b="b"/>
                  <a:pathLst>
                    <a:path w="97" h="139">
                      <a:moveTo>
                        <a:pt x="62" y="97"/>
                      </a:moveTo>
                      <a:cubicBezTo>
                        <a:pt x="61" y="102"/>
                        <a:pt x="64" y="113"/>
                        <a:pt x="60" y="117"/>
                      </a:cubicBezTo>
                      <a:cubicBezTo>
                        <a:pt x="57" y="120"/>
                        <a:pt x="48" y="125"/>
                        <a:pt x="48" y="125"/>
                      </a:cubicBezTo>
                      <a:cubicBezTo>
                        <a:pt x="39" y="139"/>
                        <a:pt x="45" y="139"/>
                        <a:pt x="34" y="135"/>
                      </a:cubicBezTo>
                      <a:cubicBezTo>
                        <a:pt x="35" y="129"/>
                        <a:pt x="41" y="117"/>
                        <a:pt x="36" y="111"/>
                      </a:cubicBezTo>
                      <a:cubicBezTo>
                        <a:pt x="33" y="107"/>
                        <a:pt x="24" y="103"/>
                        <a:pt x="24" y="103"/>
                      </a:cubicBezTo>
                      <a:cubicBezTo>
                        <a:pt x="22" y="96"/>
                        <a:pt x="20" y="94"/>
                        <a:pt x="24" y="85"/>
                      </a:cubicBezTo>
                      <a:cubicBezTo>
                        <a:pt x="26" y="81"/>
                        <a:pt x="32" y="73"/>
                        <a:pt x="32" y="73"/>
                      </a:cubicBezTo>
                      <a:cubicBezTo>
                        <a:pt x="27" y="59"/>
                        <a:pt x="25" y="35"/>
                        <a:pt x="12" y="27"/>
                      </a:cubicBezTo>
                      <a:cubicBezTo>
                        <a:pt x="9" y="18"/>
                        <a:pt x="3" y="12"/>
                        <a:pt x="0" y="3"/>
                      </a:cubicBezTo>
                      <a:cubicBezTo>
                        <a:pt x="9" y="0"/>
                        <a:pt x="11" y="2"/>
                        <a:pt x="18" y="9"/>
                      </a:cubicBezTo>
                      <a:cubicBezTo>
                        <a:pt x="20" y="22"/>
                        <a:pt x="23" y="23"/>
                        <a:pt x="30" y="33"/>
                      </a:cubicBezTo>
                      <a:cubicBezTo>
                        <a:pt x="33" y="51"/>
                        <a:pt x="34" y="53"/>
                        <a:pt x="50" y="57"/>
                      </a:cubicBezTo>
                      <a:cubicBezTo>
                        <a:pt x="53" y="66"/>
                        <a:pt x="47" y="67"/>
                        <a:pt x="56" y="73"/>
                      </a:cubicBezTo>
                      <a:cubicBezTo>
                        <a:pt x="68" y="71"/>
                        <a:pt x="73" y="73"/>
                        <a:pt x="76" y="61"/>
                      </a:cubicBezTo>
                      <a:cubicBezTo>
                        <a:pt x="97" y="68"/>
                        <a:pt x="79" y="83"/>
                        <a:pt x="66" y="87"/>
                      </a:cubicBezTo>
                      <a:cubicBezTo>
                        <a:pt x="67" y="89"/>
                        <a:pt x="69" y="91"/>
                        <a:pt x="68" y="93"/>
                      </a:cubicBezTo>
                      <a:cubicBezTo>
                        <a:pt x="67" y="95"/>
                        <a:pt x="62" y="97"/>
                        <a:pt x="62" y="97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4790520" y="4493160"/>
                  <a:ext cx="84240" cy="101520"/>
                </a:xfrm>
                <a:custGeom>
                  <a:avLst/>
                  <a:gdLst/>
                  <a:ahLst/>
                  <a:rect l="l" t="t" r="r" b="b"/>
                  <a:pathLst>
                    <a:path w="49" h="57">
                      <a:moveTo>
                        <a:pt x="9" y="5"/>
                      </a:moveTo>
                      <a:cubicBezTo>
                        <a:pt x="6" y="4"/>
                        <a:pt x="2" y="5"/>
                        <a:pt x="1" y="3"/>
                      </a:cubicBezTo>
                      <a:cubicBezTo>
                        <a:pt x="0" y="1"/>
                        <a:pt x="5" y="0"/>
                        <a:pt x="7" y="1"/>
                      </a:cubicBezTo>
                      <a:cubicBezTo>
                        <a:pt x="9" y="2"/>
                        <a:pt x="16" y="10"/>
                        <a:pt x="17" y="13"/>
                      </a:cubicBezTo>
                      <a:cubicBezTo>
                        <a:pt x="20" y="19"/>
                        <a:pt x="18" y="28"/>
                        <a:pt x="23" y="33"/>
                      </a:cubicBezTo>
                      <a:cubicBezTo>
                        <a:pt x="28" y="37"/>
                        <a:pt x="36" y="37"/>
                        <a:pt x="41" y="41"/>
                      </a:cubicBezTo>
                      <a:cubicBezTo>
                        <a:pt x="46" y="57"/>
                        <a:pt x="49" y="54"/>
                        <a:pt x="31" y="51"/>
                      </a:cubicBezTo>
                      <a:cubicBezTo>
                        <a:pt x="26" y="47"/>
                        <a:pt x="23" y="46"/>
                        <a:pt x="19" y="41"/>
                      </a:cubicBezTo>
                      <a:cubicBezTo>
                        <a:pt x="16" y="37"/>
                        <a:pt x="11" y="29"/>
                        <a:pt x="11" y="29"/>
                      </a:cubicBezTo>
                      <a:cubicBezTo>
                        <a:pt x="10" y="24"/>
                        <a:pt x="7" y="20"/>
                        <a:pt x="7" y="15"/>
                      </a:cubicBezTo>
                      <a:cubicBezTo>
                        <a:pt x="7" y="12"/>
                        <a:pt x="9" y="5"/>
                        <a:pt x="9" y="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4815720" y="4319640"/>
                  <a:ext cx="19800" cy="2232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3"/>
                      </a:moveTo>
                      <a:cubicBezTo>
                        <a:pt x="9" y="0"/>
                        <a:pt x="11" y="5"/>
                        <a:pt x="8" y="13"/>
                      </a:cubicBezTo>
                      <a:cubicBezTo>
                        <a:pt x="2" y="11"/>
                        <a:pt x="0" y="10"/>
                        <a:pt x="0" y="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846680" y="432360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8" y="0"/>
                      </a:moveTo>
                      <a:cubicBezTo>
                        <a:pt x="19" y="4"/>
                        <a:pt x="15" y="13"/>
                        <a:pt x="6" y="16"/>
                      </a:cubicBezTo>
                      <a:cubicBezTo>
                        <a:pt x="2" y="9"/>
                        <a:pt x="0" y="4"/>
                        <a:pt x="8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849560" y="4356000"/>
                  <a:ext cx="45000" cy="20880"/>
                </a:xfrm>
                <a:custGeom>
                  <a:avLst/>
                  <a:gdLst/>
                  <a:ahLst/>
                  <a:rect l="l" t="t" r="r" b="b"/>
                  <a:pathLst>
                    <a:path w="26" h="12">
                      <a:moveTo>
                        <a:pt x="9" y="0"/>
                      </a:moveTo>
                      <a:cubicBezTo>
                        <a:pt x="19" y="2"/>
                        <a:pt x="26" y="5"/>
                        <a:pt x="15" y="12"/>
                      </a:cubicBezTo>
                      <a:cubicBezTo>
                        <a:pt x="13" y="11"/>
                        <a:pt x="10" y="11"/>
                        <a:pt x="9" y="10"/>
                      </a:cubicBezTo>
                      <a:cubicBezTo>
                        <a:pt x="0" y="1"/>
                        <a:pt x="20" y="0"/>
                        <a:pt x="9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883400" y="441000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3" y="6"/>
                      </a:moveTo>
                      <a:cubicBezTo>
                        <a:pt x="12" y="0"/>
                        <a:pt x="14" y="5"/>
                        <a:pt x="11" y="14"/>
                      </a:cubicBezTo>
                      <a:cubicBezTo>
                        <a:pt x="8" y="13"/>
                        <a:pt x="3" y="14"/>
                        <a:pt x="1" y="12"/>
                      </a:cubicBezTo>
                      <a:cubicBezTo>
                        <a:pt x="0" y="11"/>
                        <a:pt x="3" y="6"/>
                        <a:pt x="3" y="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293080" y="4530240"/>
                  <a:ext cx="37800" cy="3636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1" y="0"/>
                      </a:moveTo>
                      <a:cubicBezTo>
                        <a:pt x="14" y="9"/>
                        <a:pt x="22" y="16"/>
                        <a:pt x="9" y="20"/>
                      </a:cubicBezTo>
                      <a:cubicBezTo>
                        <a:pt x="0" y="11"/>
                        <a:pt x="4" y="10"/>
                        <a:pt x="11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133240" y="4384440"/>
                  <a:ext cx="38160" cy="4536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2" y="6"/>
                      </a:moveTo>
                      <a:cubicBezTo>
                        <a:pt x="11" y="0"/>
                        <a:pt x="16" y="1"/>
                        <a:pt x="22" y="10"/>
                      </a:cubicBezTo>
                      <a:cubicBezTo>
                        <a:pt x="19" y="25"/>
                        <a:pt x="16" y="22"/>
                        <a:pt x="2" y="20"/>
                      </a:cubicBezTo>
                      <a:cubicBezTo>
                        <a:pt x="0" y="13"/>
                        <a:pt x="2" y="13"/>
                        <a:pt x="2" y="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164560" y="4349160"/>
                  <a:ext cx="35280" cy="3240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6" y="18"/>
                      </a:moveTo>
                      <a:cubicBezTo>
                        <a:pt x="1" y="10"/>
                        <a:pt x="0" y="3"/>
                        <a:pt x="10" y="0"/>
                      </a:cubicBezTo>
                      <a:cubicBezTo>
                        <a:pt x="20" y="3"/>
                        <a:pt x="15" y="10"/>
                        <a:pt x="12" y="18"/>
                      </a:cubicBezTo>
                      <a:cubicBezTo>
                        <a:pt x="5" y="16"/>
                        <a:pt x="6" y="14"/>
                        <a:pt x="6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103720" y="4094640"/>
                  <a:ext cx="26640" cy="40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411520" y="4237560"/>
                  <a:ext cx="34920" cy="40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4543200" y="4003200"/>
                  <a:ext cx="51840" cy="7488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917880" y="4072320"/>
                  <a:ext cx="43200" cy="28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729960" y="4107600"/>
                  <a:ext cx="114120" cy="81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608280" y="4099320"/>
                  <a:ext cx="119880" cy="831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966040" y="3638520"/>
                  <a:ext cx="619560" cy="4914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345840" y="3603240"/>
                  <a:ext cx="272160" cy="3657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611160" y="3772800"/>
                  <a:ext cx="190440" cy="6768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3601440" y="3852000"/>
                  <a:ext cx="132480" cy="1850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3822840" y="3751560"/>
                  <a:ext cx="64800" cy="1083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837240" y="3919680"/>
                  <a:ext cx="84600" cy="504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3924720" y="3840480"/>
                  <a:ext cx="105480" cy="860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954240" y="3880080"/>
                  <a:ext cx="498240" cy="3232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4385160" y="3915360"/>
                  <a:ext cx="135720" cy="1386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4674600" y="3620160"/>
                  <a:ext cx="29520" cy="320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4843800" y="3833640"/>
                  <a:ext cx="45360" cy="39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4290480" y="3353040"/>
                  <a:ext cx="34920" cy="2664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4001040" y="3578040"/>
                  <a:ext cx="34920" cy="262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684600" y="3510000"/>
                  <a:ext cx="139680" cy="1422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3636720" y="3204720"/>
                  <a:ext cx="163800" cy="30924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681720" y="3432240"/>
                  <a:ext cx="54720" cy="8892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566160" y="3453480"/>
                  <a:ext cx="74520" cy="889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7288200" y="3346200"/>
                  <a:ext cx="1790280" cy="2513160"/>
                </a:xfrm>
                <a:custGeom>
                  <a:avLst/>
                  <a:gdLst/>
                  <a:ahLst/>
                  <a:rect l="l" t="t" r="r" b="b"/>
                  <a:pathLst>
                    <a:path w="1026" h="1413">
                      <a:moveTo>
                        <a:pt x="363" y="69"/>
                      </a:moveTo>
                      <a:cubicBezTo>
                        <a:pt x="376" y="78"/>
                        <a:pt x="383" y="74"/>
                        <a:pt x="396" y="66"/>
                      </a:cubicBezTo>
                      <a:cubicBezTo>
                        <a:pt x="391" y="42"/>
                        <a:pt x="396" y="27"/>
                        <a:pt x="420" y="21"/>
                      </a:cubicBezTo>
                      <a:cubicBezTo>
                        <a:pt x="430" y="15"/>
                        <a:pt x="437" y="6"/>
                        <a:pt x="447" y="0"/>
                      </a:cubicBezTo>
                      <a:cubicBezTo>
                        <a:pt x="450" y="1"/>
                        <a:pt x="456" y="0"/>
                        <a:pt x="456" y="3"/>
                      </a:cubicBezTo>
                      <a:cubicBezTo>
                        <a:pt x="459" y="22"/>
                        <a:pt x="437" y="24"/>
                        <a:pt x="462" y="18"/>
                      </a:cubicBezTo>
                      <a:cubicBezTo>
                        <a:pt x="465" y="15"/>
                        <a:pt x="467" y="9"/>
                        <a:pt x="471" y="9"/>
                      </a:cubicBezTo>
                      <a:cubicBezTo>
                        <a:pt x="477" y="8"/>
                        <a:pt x="483" y="13"/>
                        <a:pt x="489" y="15"/>
                      </a:cubicBezTo>
                      <a:cubicBezTo>
                        <a:pt x="492" y="16"/>
                        <a:pt x="498" y="18"/>
                        <a:pt x="498" y="18"/>
                      </a:cubicBezTo>
                      <a:cubicBezTo>
                        <a:pt x="506" y="31"/>
                        <a:pt x="517" y="25"/>
                        <a:pt x="534" y="27"/>
                      </a:cubicBezTo>
                      <a:cubicBezTo>
                        <a:pt x="538" y="39"/>
                        <a:pt x="543" y="41"/>
                        <a:pt x="555" y="45"/>
                      </a:cubicBezTo>
                      <a:cubicBezTo>
                        <a:pt x="561" y="41"/>
                        <a:pt x="567" y="37"/>
                        <a:pt x="573" y="33"/>
                      </a:cubicBezTo>
                      <a:cubicBezTo>
                        <a:pt x="576" y="31"/>
                        <a:pt x="582" y="27"/>
                        <a:pt x="582" y="27"/>
                      </a:cubicBezTo>
                      <a:cubicBezTo>
                        <a:pt x="615" y="49"/>
                        <a:pt x="585" y="37"/>
                        <a:pt x="615" y="27"/>
                      </a:cubicBezTo>
                      <a:cubicBezTo>
                        <a:pt x="633" y="33"/>
                        <a:pt x="624" y="50"/>
                        <a:pt x="639" y="60"/>
                      </a:cubicBezTo>
                      <a:cubicBezTo>
                        <a:pt x="643" y="73"/>
                        <a:pt x="658" y="104"/>
                        <a:pt x="669" y="111"/>
                      </a:cubicBezTo>
                      <a:cubicBezTo>
                        <a:pt x="683" y="132"/>
                        <a:pt x="674" y="127"/>
                        <a:pt x="690" y="132"/>
                      </a:cubicBezTo>
                      <a:cubicBezTo>
                        <a:pt x="696" y="131"/>
                        <a:pt x="702" y="130"/>
                        <a:pt x="708" y="129"/>
                      </a:cubicBezTo>
                      <a:cubicBezTo>
                        <a:pt x="714" y="127"/>
                        <a:pt x="726" y="123"/>
                        <a:pt x="726" y="123"/>
                      </a:cubicBezTo>
                      <a:cubicBezTo>
                        <a:pt x="738" y="126"/>
                        <a:pt x="746" y="128"/>
                        <a:pt x="756" y="135"/>
                      </a:cubicBezTo>
                      <a:cubicBezTo>
                        <a:pt x="777" y="167"/>
                        <a:pt x="744" y="118"/>
                        <a:pt x="771" y="153"/>
                      </a:cubicBezTo>
                      <a:cubicBezTo>
                        <a:pt x="775" y="159"/>
                        <a:pt x="783" y="171"/>
                        <a:pt x="783" y="171"/>
                      </a:cubicBezTo>
                      <a:cubicBezTo>
                        <a:pt x="787" y="185"/>
                        <a:pt x="793" y="196"/>
                        <a:pt x="798" y="210"/>
                      </a:cubicBezTo>
                      <a:cubicBezTo>
                        <a:pt x="800" y="216"/>
                        <a:pt x="802" y="222"/>
                        <a:pt x="804" y="228"/>
                      </a:cubicBezTo>
                      <a:cubicBezTo>
                        <a:pt x="805" y="231"/>
                        <a:pt x="807" y="237"/>
                        <a:pt x="807" y="237"/>
                      </a:cubicBezTo>
                      <a:cubicBezTo>
                        <a:pt x="803" y="250"/>
                        <a:pt x="791" y="255"/>
                        <a:pt x="786" y="270"/>
                      </a:cubicBezTo>
                      <a:cubicBezTo>
                        <a:pt x="791" y="286"/>
                        <a:pt x="797" y="277"/>
                        <a:pt x="804" y="267"/>
                      </a:cubicBezTo>
                      <a:cubicBezTo>
                        <a:pt x="833" y="271"/>
                        <a:pt x="829" y="269"/>
                        <a:pt x="834" y="294"/>
                      </a:cubicBezTo>
                      <a:cubicBezTo>
                        <a:pt x="847" y="285"/>
                        <a:pt x="854" y="289"/>
                        <a:pt x="867" y="297"/>
                      </a:cubicBezTo>
                      <a:cubicBezTo>
                        <a:pt x="874" y="308"/>
                        <a:pt x="879" y="314"/>
                        <a:pt x="891" y="318"/>
                      </a:cubicBezTo>
                      <a:cubicBezTo>
                        <a:pt x="892" y="321"/>
                        <a:pt x="895" y="324"/>
                        <a:pt x="894" y="327"/>
                      </a:cubicBezTo>
                      <a:cubicBezTo>
                        <a:pt x="891" y="334"/>
                        <a:pt x="873" y="326"/>
                        <a:pt x="894" y="333"/>
                      </a:cubicBezTo>
                      <a:cubicBezTo>
                        <a:pt x="900" y="331"/>
                        <a:pt x="906" y="329"/>
                        <a:pt x="912" y="327"/>
                      </a:cubicBezTo>
                      <a:cubicBezTo>
                        <a:pt x="915" y="326"/>
                        <a:pt x="921" y="324"/>
                        <a:pt x="921" y="324"/>
                      </a:cubicBezTo>
                      <a:cubicBezTo>
                        <a:pt x="940" y="336"/>
                        <a:pt x="960" y="339"/>
                        <a:pt x="978" y="351"/>
                      </a:cubicBezTo>
                      <a:cubicBezTo>
                        <a:pt x="981" y="361"/>
                        <a:pt x="987" y="368"/>
                        <a:pt x="990" y="378"/>
                      </a:cubicBezTo>
                      <a:cubicBezTo>
                        <a:pt x="999" y="376"/>
                        <a:pt x="1010" y="370"/>
                        <a:pt x="1017" y="381"/>
                      </a:cubicBezTo>
                      <a:cubicBezTo>
                        <a:pt x="1022" y="389"/>
                        <a:pt x="1026" y="408"/>
                        <a:pt x="1026" y="408"/>
                      </a:cubicBezTo>
                      <a:cubicBezTo>
                        <a:pt x="1022" y="438"/>
                        <a:pt x="1023" y="471"/>
                        <a:pt x="996" y="489"/>
                      </a:cubicBezTo>
                      <a:cubicBezTo>
                        <a:pt x="991" y="497"/>
                        <a:pt x="976" y="514"/>
                        <a:pt x="972" y="525"/>
                      </a:cubicBezTo>
                      <a:cubicBezTo>
                        <a:pt x="970" y="531"/>
                        <a:pt x="972" y="541"/>
                        <a:pt x="966" y="543"/>
                      </a:cubicBezTo>
                      <a:cubicBezTo>
                        <a:pt x="951" y="548"/>
                        <a:pt x="943" y="558"/>
                        <a:pt x="930" y="567"/>
                      </a:cubicBezTo>
                      <a:cubicBezTo>
                        <a:pt x="925" y="583"/>
                        <a:pt x="916" y="596"/>
                        <a:pt x="912" y="612"/>
                      </a:cubicBezTo>
                      <a:cubicBezTo>
                        <a:pt x="909" y="623"/>
                        <a:pt x="909" y="635"/>
                        <a:pt x="903" y="645"/>
                      </a:cubicBezTo>
                      <a:cubicBezTo>
                        <a:pt x="899" y="651"/>
                        <a:pt x="893" y="656"/>
                        <a:pt x="891" y="663"/>
                      </a:cubicBezTo>
                      <a:cubicBezTo>
                        <a:pt x="881" y="692"/>
                        <a:pt x="870" y="723"/>
                        <a:pt x="843" y="741"/>
                      </a:cubicBezTo>
                      <a:cubicBezTo>
                        <a:pt x="837" y="758"/>
                        <a:pt x="830" y="759"/>
                        <a:pt x="816" y="768"/>
                      </a:cubicBezTo>
                      <a:cubicBezTo>
                        <a:pt x="805" y="784"/>
                        <a:pt x="789" y="787"/>
                        <a:pt x="771" y="792"/>
                      </a:cubicBezTo>
                      <a:cubicBezTo>
                        <a:pt x="750" y="806"/>
                        <a:pt x="760" y="802"/>
                        <a:pt x="744" y="807"/>
                      </a:cubicBezTo>
                      <a:cubicBezTo>
                        <a:pt x="735" y="804"/>
                        <a:pt x="717" y="810"/>
                        <a:pt x="717" y="810"/>
                      </a:cubicBezTo>
                      <a:cubicBezTo>
                        <a:pt x="713" y="816"/>
                        <a:pt x="710" y="823"/>
                        <a:pt x="705" y="828"/>
                      </a:cubicBezTo>
                      <a:cubicBezTo>
                        <a:pt x="702" y="831"/>
                        <a:pt x="698" y="834"/>
                        <a:pt x="696" y="837"/>
                      </a:cubicBezTo>
                      <a:cubicBezTo>
                        <a:pt x="684" y="853"/>
                        <a:pt x="680" y="880"/>
                        <a:pt x="666" y="894"/>
                      </a:cubicBezTo>
                      <a:cubicBezTo>
                        <a:pt x="659" y="901"/>
                        <a:pt x="698" y="916"/>
                        <a:pt x="642" y="906"/>
                      </a:cubicBezTo>
                      <a:lnTo>
                        <a:pt x="606" y="948"/>
                      </a:lnTo>
                      <a:lnTo>
                        <a:pt x="549" y="987"/>
                      </a:lnTo>
                      <a:lnTo>
                        <a:pt x="525" y="1023"/>
                      </a:lnTo>
                      <a:lnTo>
                        <a:pt x="480" y="1023"/>
                      </a:lnTo>
                      <a:lnTo>
                        <a:pt x="459" y="1017"/>
                      </a:lnTo>
                      <a:lnTo>
                        <a:pt x="459" y="1044"/>
                      </a:lnTo>
                      <a:lnTo>
                        <a:pt x="435" y="1080"/>
                      </a:lnTo>
                      <a:lnTo>
                        <a:pt x="402" y="1098"/>
                      </a:lnTo>
                      <a:lnTo>
                        <a:pt x="351" y="1101"/>
                      </a:lnTo>
                      <a:lnTo>
                        <a:pt x="333" y="1125"/>
                      </a:lnTo>
                      <a:lnTo>
                        <a:pt x="306" y="1146"/>
                      </a:lnTo>
                      <a:lnTo>
                        <a:pt x="291" y="1125"/>
                      </a:lnTo>
                      <a:lnTo>
                        <a:pt x="276" y="1158"/>
                      </a:lnTo>
                      <a:lnTo>
                        <a:pt x="282" y="1176"/>
                      </a:lnTo>
                      <a:lnTo>
                        <a:pt x="249" y="1191"/>
                      </a:lnTo>
                      <a:lnTo>
                        <a:pt x="228" y="1218"/>
                      </a:lnTo>
                      <a:lnTo>
                        <a:pt x="201" y="1215"/>
                      </a:lnTo>
                      <a:lnTo>
                        <a:pt x="174" y="1248"/>
                      </a:lnTo>
                      <a:lnTo>
                        <a:pt x="177" y="1263"/>
                      </a:lnTo>
                      <a:lnTo>
                        <a:pt x="156" y="1284"/>
                      </a:lnTo>
                      <a:lnTo>
                        <a:pt x="138" y="1290"/>
                      </a:lnTo>
                      <a:lnTo>
                        <a:pt x="117" y="1314"/>
                      </a:lnTo>
                      <a:lnTo>
                        <a:pt x="96" y="1314"/>
                      </a:lnTo>
                      <a:lnTo>
                        <a:pt x="63" y="1347"/>
                      </a:lnTo>
                      <a:lnTo>
                        <a:pt x="39" y="1368"/>
                      </a:lnTo>
                      <a:lnTo>
                        <a:pt x="54" y="1380"/>
                      </a:lnTo>
                      <a:lnTo>
                        <a:pt x="66" y="1413"/>
                      </a:lnTo>
                      <a:lnTo>
                        <a:pt x="39" y="1410"/>
                      </a:lnTo>
                      <a:lnTo>
                        <a:pt x="0" y="1392"/>
                      </a:lnTo>
                      <a:lnTo>
                        <a:pt x="18" y="1371"/>
                      </a:lnTo>
                      <a:lnTo>
                        <a:pt x="9" y="1344"/>
                      </a:lnTo>
                      <a:lnTo>
                        <a:pt x="21" y="1332"/>
                      </a:lnTo>
                      <a:lnTo>
                        <a:pt x="45" y="1305"/>
                      </a:lnTo>
                      <a:lnTo>
                        <a:pt x="105" y="1215"/>
                      </a:lnTo>
                      <a:lnTo>
                        <a:pt x="159" y="1134"/>
                      </a:lnTo>
                      <a:lnTo>
                        <a:pt x="201" y="1095"/>
                      </a:lnTo>
                      <a:lnTo>
                        <a:pt x="219" y="1053"/>
                      </a:lnTo>
                      <a:lnTo>
                        <a:pt x="234" y="1047"/>
                      </a:lnTo>
                      <a:lnTo>
                        <a:pt x="300" y="966"/>
                      </a:lnTo>
                      <a:lnTo>
                        <a:pt x="315" y="924"/>
                      </a:lnTo>
                      <a:lnTo>
                        <a:pt x="333" y="912"/>
                      </a:lnTo>
                      <a:lnTo>
                        <a:pt x="339" y="882"/>
                      </a:lnTo>
                      <a:lnTo>
                        <a:pt x="357" y="858"/>
                      </a:lnTo>
                      <a:cubicBezTo>
                        <a:pt x="364" y="844"/>
                        <a:pt x="370" y="833"/>
                        <a:pt x="381" y="822"/>
                      </a:cubicBezTo>
                      <a:cubicBezTo>
                        <a:pt x="386" y="806"/>
                        <a:pt x="382" y="816"/>
                        <a:pt x="396" y="795"/>
                      </a:cubicBezTo>
                      <a:cubicBezTo>
                        <a:pt x="401" y="787"/>
                        <a:pt x="405" y="769"/>
                        <a:pt x="408" y="759"/>
                      </a:cubicBezTo>
                      <a:cubicBezTo>
                        <a:pt x="418" y="728"/>
                        <a:pt x="428" y="697"/>
                        <a:pt x="438" y="666"/>
                      </a:cubicBezTo>
                      <a:cubicBezTo>
                        <a:pt x="434" y="648"/>
                        <a:pt x="429" y="637"/>
                        <a:pt x="414" y="627"/>
                      </a:cubicBezTo>
                      <a:lnTo>
                        <a:pt x="387" y="597"/>
                      </a:lnTo>
                      <a:cubicBezTo>
                        <a:pt x="387" y="597"/>
                        <a:pt x="378" y="570"/>
                        <a:pt x="378" y="570"/>
                      </a:cubicBezTo>
                      <a:cubicBezTo>
                        <a:pt x="377" y="567"/>
                        <a:pt x="375" y="561"/>
                        <a:pt x="375" y="561"/>
                      </a:cubicBezTo>
                      <a:cubicBezTo>
                        <a:pt x="374" y="551"/>
                        <a:pt x="372" y="516"/>
                        <a:pt x="369" y="501"/>
                      </a:cubicBezTo>
                      <a:cubicBezTo>
                        <a:pt x="369" y="501"/>
                        <a:pt x="362" y="479"/>
                        <a:pt x="360" y="474"/>
                      </a:cubicBezTo>
                      <a:cubicBezTo>
                        <a:pt x="359" y="471"/>
                        <a:pt x="357" y="465"/>
                        <a:pt x="357" y="465"/>
                      </a:cubicBezTo>
                      <a:cubicBezTo>
                        <a:pt x="356" y="460"/>
                        <a:pt x="354" y="420"/>
                        <a:pt x="348" y="414"/>
                      </a:cubicBezTo>
                      <a:cubicBezTo>
                        <a:pt x="344" y="410"/>
                        <a:pt x="330" y="408"/>
                        <a:pt x="330" y="408"/>
                      </a:cubicBezTo>
                      <a:cubicBezTo>
                        <a:pt x="325" y="393"/>
                        <a:pt x="329" y="379"/>
                        <a:pt x="324" y="363"/>
                      </a:cubicBezTo>
                      <a:cubicBezTo>
                        <a:pt x="328" y="351"/>
                        <a:pt x="335" y="353"/>
                        <a:pt x="342" y="342"/>
                      </a:cubicBezTo>
                      <a:cubicBezTo>
                        <a:pt x="346" y="327"/>
                        <a:pt x="346" y="321"/>
                        <a:pt x="333" y="312"/>
                      </a:cubicBezTo>
                      <a:cubicBezTo>
                        <a:pt x="331" y="309"/>
                        <a:pt x="327" y="307"/>
                        <a:pt x="327" y="303"/>
                      </a:cubicBezTo>
                      <a:cubicBezTo>
                        <a:pt x="327" y="285"/>
                        <a:pt x="348" y="234"/>
                        <a:pt x="366" y="228"/>
                      </a:cubicBezTo>
                      <a:cubicBezTo>
                        <a:pt x="372" y="211"/>
                        <a:pt x="384" y="200"/>
                        <a:pt x="390" y="183"/>
                      </a:cubicBezTo>
                      <a:cubicBezTo>
                        <a:pt x="382" y="158"/>
                        <a:pt x="381" y="161"/>
                        <a:pt x="387" y="132"/>
                      </a:cubicBezTo>
                      <a:cubicBezTo>
                        <a:pt x="381" y="114"/>
                        <a:pt x="376" y="91"/>
                        <a:pt x="360" y="81"/>
                      </a:cubicBezTo>
                      <a:cubicBezTo>
                        <a:pt x="352" y="69"/>
                        <a:pt x="339" y="70"/>
                        <a:pt x="354" y="60"/>
                      </a:cubicBezTo>
                      <a:cubicBezTo>
                        <a:pt x="365" y="64"/>
                        <a:pt x="363" y="60"/>
                        <a:pt x="363" y="6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7560720" y="5736600"/>
                  <a:ext cx="81720" cy="69120"/>
                </a:xfrm>
                <a:custGeom>
                  <a:avLst/>
                  <a:gdLst/>
                  <a:ahLst/>
                  <a:rect l="l" t="t" r="r" b="b"/>
                  <a:pathLst>
                    <a:path w="47" h="39">
                      <a:moveTo>
                        <a:pt x="0" y="24"/>
                      </a:moveTo>
                      <a:cubicBezTo>
                        <a:pt x="3" y="10"/>
                        <a:pt x="4" y="5"/>
                        <a:pt x="18" y="0"/>
                      </a:cubicBezTo>
                      <a:cubicBezTo>
                        <a:pt x="31" y="9"/>
                        <a:pt x="26" y="14"/>
                        <a:pt x="42" y="18"/>
                      </a:cubicBezTo>
                      <a:cubicBezTo>
                        <a:pt x="47" y="33"/>
                        <a:pt x="38" y="36"/>
                        <a:pt x="24" y="39"/>
                      </a:cubicBezTo>
                      <a:cubicBezTo>
                        <a:pt x="21" y="38"/>
                        <a:pt x="17" y="38"/>
                        <a:pt x="15" y="36"/>
                      </a:cubicBezTo>
                      <a:cubicBezTo>
                        <a:pt x="13" y="34"/>
                        <a:pt x="14" y="29"/>
                        <a:pt x="12" y="27"/>
                      </a:cubicBezTo>
                      <a:cubicBezTo>
                        <a:pt x="9" y="24"/>
                        <a:pt x="0" y="24"/>
                        <a:pt x="0" y="2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6236280" y="2045160"/>
                  <a:ext cx="1718280" cy="15001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706720" y="3094560"/>
                  <a:ext cx="61920" cy="8460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661720" y="3063600"/>
                  <a:ext cx="61920" cy="6660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7644240" y="2906640"/>
                  <a:ext cx="296280" cy="17064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7957800" y="3051000"/>
                  <a:ext cx="241200" cy="788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7830360" y="3092040"/>
                  <a:ext cx="100080" cy="7452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7764120" y="2865960"/>
                  <a:ext cx="67320" cy="928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8286480" y="3149640"/>
                  <a:ext cx="75960" cy="14112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6359040" y="896760"/>
                  <a:ext cx="1212840" cy="668160"/>
                </a:xfrm>
                <a:custGeom>
                  <a:avLst/>
                  <a:gdLst/>
                  <a:ahLst/>
                  <a:rect l="l" t="t" r="r" b="b"/>
                  <a:pathLst>
                    <a:path w="695" h="376">
                      <a:moveTo>
                        <a:pt x="164" y="0"/>
                      </a:moveTo>
                      <a:lnTo>
                        <a:pt x="340" y="68"/>
                      </a:lnTo>
                      <a:lnTo>
                        <a:pt x="484" y="132"/>
                      </a:lnTo>
                      <a:cubicBezTo>
                        <a:pt x="527" y="155"/>
                        <a:pt x="573" y="171"/>
                        <a:pt x="612" y="200"/>
                      </a:cubicBezTo>
                      <a:cubicBezTo>
                        <a:pt x="619" y="205"/>
                        <a:pt x="588" y="208"/>
                        <a:pt x="588" y="208"/>
                      </a:cubicBezTo>
                      <a:cubicBezTo>
                        <a:pt x="577" y="225"/>
                        <a:pt x="568" y="240"/>
                        <a:pt x="592" y="248"/>
                      </a:cubicBezTo>
                      <a:cubicBezTo>
                        <a:pt x="616" y="240"/>
                        <a:pt x="607" y="257"/>
                        <a:pt x="596" y="268"/>
                      </a:cubicBezTo>
                      <a:cubicBezTo>
                        <a:pt x="589" y="289"/>
                        <a:pt x="590" y="276"/>
                        <a:pt x="608" y="304"/>
                      </a:cubicBezTo>
                      <a:cubicBezTo>
                        <a:pt x="613" y="312"/>
                        <a:pt x="615" y="325"/>
                        <a:pt x="624" y="328"/>
                      </a:cubicBezTo>
                      <a:cubicBezTo>
                        <a:pt x="645" y="335"/>
                        <a:pt x="665" y="343"/>
                        <a:pt x="684" y="356"/>
                      </a:cubicBezTo>
                      <a:cubicBezTo>
                        <a:pt x="686" y="363"/>
                        <a:pt x="695" y="376"/>
                        <a:pt x="676" y="376"/>
                      </a:cubicBezTo>
                      <a:cubicBezTo>
                        <a:pt x="658" y="376"/>
                        <a:pt x="591" y="347"/>
                        <a:pt x="572" y="340"/>
                      </a:cubicBezTo>
                      <a:cubicBezTo>
                        <a:pt x="562" y="336"/>
                        <a:pt x="540" y="332"/>
                        <a:pt x="540" y="332"/>
                      </a:cubicBezTo>
                      <a:cubicBezTo>
                        <a:pt x="531" y="304"/>
                        <a:pt x="540" y="311"/>
                        <a:pt x="520" y="304"/>
                      </a:cubicBezTo>
                      <a:cubicBezTo>
                        <a:pt x="519" y="308"/>
                        <a:pt x="520" y="315"/>
                        <a:pt x="516" y="316"/>
                      </a:cubicBezTo>
                      <a:cubicBezTo>
                        <a:pt x="515" y="316"/>
                        <a:pt x="486" y="300"/>
                        <a:pt x="480" y="296"/>
                      </a:cubicBezTo>
                      <a:cubicBezTo>
                        <a:pt x="467" y="277"/>
                        <a:pt x="443" y="277"/>
                        <a:pt x="424" y="264"/>
                      </a:cubicBezTo>
                      <a:cubicBezTo>
                        <a:pt x="414" y="249"/>
                        <a:pt x="406" y="253"/>
                        <a:pt x="400" y="236"/>
                      </a:cubicBezTo>
                      <a:cubicBezTo>
                        <a:pt x="408" y="212"/>
                        <a:pt x="385" y="221"/>
                        <a:pt x="368" y="224"/>
                      </a:cubicBezTo>
                      <a:cubicBezTo>
                        <a:pt x="330" y="216"/>
                        <a:pt x="355" y="200"/>
                        <a:pt x="308" y="192"/>
                      </a:cubicBezTo>
                      <a:cubicBezTo>
                        <a:pt x="282" y="201"/>
                        <a:pt x="294" y="173"/>
                        <a:pt x="264" y="168"/>
                      </a:cubicBezTo>
                      <a:cubicBezTo>
                        <a:pt x="233" y="163"/>
                        <a:pt x="206" y="153"/>
                        <a:pt x="180" y="136"/>
                      </a:cubicBezTo>
                      <a:cubicBezTo>
                        <a:pt x="157" y="141"/>
                        <a:pt x="139" y="138"/>
                        <a:pt x="116" y="132"/>
                      </a:cubicBezTo>
                      <a:cubicBezTo>
                        <a:pt x="100" y="137"/>
                        <a:pt x="93" y="141"/>
                        <a:pt x="72" y="132"/>
                      </a:cubicBezTo>
                      <a:cubicBezTo>
                        <a:pt x="68" y="130"/>
                        <a:pt x="71" y="123"/>
                        <a:pt x="68" y="120"/>
                      </a:cubicBezTo>
                      <a:cubicBezTo>
                        <a:pt x="65" y="116"/>
                        <a:pt x="60" y="115"/>
                        <a:pt x="56" y="112"/>
                      </a:cubicBezTo>
                      <a:cubicBezTo>
                        <a:pt x="38" y="118"/>
                        <a:pt x="31" y="116"/>
                        <a:pt x="20" y="100"/>
                      </a:cubicBezTo>
                      <a:cubicBezTo>
                        <a:pt x="16" y="86"/>
                        <a:pt x="0" y="60"/>
                        <a:pt x="0" y="60"/>
                      </a:cubicBezTo>
                      <a:cubicBezTo>
                        <a:pt x="7" y="38"/>
                        <a:pt x="25" y="43"/>
                        <a:pt x="48" y="40"/>
                      </a:cubicBezTo>
                      <a:cubicBezTo>
                        <a:pt x="51" y="44"/>
                        <a:pt x="51" y="51"/>
                        <a:pt x="56" y="52"/>
                      </a:cubicBezTo>
                      <a:cubicBezTo>
                        <a:pt x="64" y="53"/>
                        <a:pt x="80" y="44"/>
                        <a:pt x="80" y="44"/>
                      </a:cubicBezTo>
                      <a:cubicBezTo>
                        <a:pt x="85" y="45"/>
                        <a:pt x="91" y="46"/>
                        <a:pt x="96" y="48"/>
                      </a:cubicBezTo>
                      <a:cubicBezTo>
                        <a:pt x="100" y="49"/>
                        <a:pt x="106" y="56"/>
                        <a:pt x="108" y="52"/>
                      </a:cubicBezTo>
                      <a:cubicBezTo>
                        <a:pt x="113" y="42"/>
                        <a:pt x="101" y="27"/>
                        <a:pt x="96" y="20"/>
                      </a:cubicBezTo>
                      <a:cubicBezTo>
                        <a:pt x="110" y="11"/>
                        <a:pt x="148" y="0"/>
                        <a:pt x="164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6010560" y="964440"/>
                  <a:ext cx="362520" cy="208800"/>
                </a:xfrm>
                <a:custGeom>
                  <a:avLst/>
                  <a:gdLst/>
                  <a:ahLst/>
                  <a:rect l="l" t="t" r="r" b="b"/>
                  <a:pathLst>
                    <a:path w="208" h="118">
                      <a:moveTo>
                        <a:pt x="16" y="26"/>
                      </a:moveTo>
                      <a:cubicBezTo>
                        <a:pt x="41" y="9"/>
                        <a:pt x="15" y="22"/>
                        <a:pt x="40" y="22"/>
                      </a:cubicBezTo>
                      <a:cubicBezTo>
                        <a:pt x="51" y="22"/>
                        <a:pt x="55" y="14"/>
                        <a:pt x="64" y="10"/>
                      </a:cubicBezTo>
                      <a:cubicBezTo>
                        <a:pt x="72" y="7"/>
                        <a:pt x="88" y="2"/>
                        <a:pt x="88" y="2"/>
                      </a:cubicBezTo>
                      <a:cubicBezTo>
                        <a:pt x="110" y="5"/>
                        <a:pt x="132" y="0"/>
                        <a:pt x="152" y="6"/>
                      </a:cubicBezTo>
                      <a:cubicBezTo>
                        <a:pt x="160" y="8"/>
                        <a:pt x="176" y="14"/>
                        <a:pt x="176" y="14"/>
                      </a:cubicBezTo>
                      <a:cubicBezTo>
                        <a:pt x="172" y="35"/>
                        <a:pt x="158" y="61"/>
                        <a:pt x="184" y="70"/>
                      </a:cubicBezTo>
                      <a:cubicBezTo>
                        <a:pt x="193" y="83"/>
                        <a:pt x="203" y="87"/>
                        <a:pt x="208" y="102"/>
                      </a:cubicBezTo>
                      <a:cubicBezTo>
                        <a:pt x="204" y="103"/>
                        <a:pt x="200" y="106"/>
                        <a:pt x="196" y="106"/>
                      </a:cubicBezTo>
                      <a:cubicBezTo>
                        <a:pt x="192" y="106"/>
                        <a:pt x="188" y="100"/>
                        <a:pt x="184" y="102"/>
                      </a:cubicBezTo>
                      <a:cubicBezTo>
                        <a:pt x="180" y="104"/>
                        <a:pt x="183" y="111"/>
                        <a:pt x="180" y="114"/>
                      </a:cubicBezTo>
                      <a:cubicBezTo>
                        <a:pt x="176" y="117"/>
                        <a:pt x="169" y="117"/>
                        <a:pt x="164" y="118"/>
                      </a:cubicBezTo>
                      <a:cubicBezTo>
                        <a:pt x="126" y="113"/>
                        <a:pt x="127" y="116"/>
                        <a:pt x="144" y="90"/>
                      </a:cubicBezTo>
                      <a:cubicBezTo>
                        <a:pt x="127" y="84"/>
                        <a:pt x="104" y="93"/>
                        <a:pt x="112" y="70"/>
                      </a:cubicBezTo>
                      <a:cubicBezTo>
                        <a:pt x="96" y="59"/>
                        <a:pt x="90" y="68"/>
                        <a:pt x="72" y="62"/>
                      </a:cubicBezTo>
                      <a:cubicBezTo>
                        <a:pt x="65" y="41"/>
                        <a:pt x="45" y="56"/>
                        <a:pt x="24" y="50"/>
                      </a:cubicBezTo>
                      <a:cubicBezTo>
                        <a:pt x="16" y="48"/>
                        <a:pt x="0" y="42"/>
                        <a:pt x="0" y="42"/>
                      </a:cubicBezTo>
                      <a:cubicBezTo>
                        <a:pt x="14" y="32"/>
                        <a:pt x="10" y="38"/>
                        <a:pt x="16" y="2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5787360" y="1259640"/>
                  <a:ext cx="145080" cy="127080"/>
                </a:xfrm>
                <a:custGeom>
                  <a:avLst/>
                  <a:gdLst/>
                  <a:ahLst/>
                  <a:rect l="l" t="t" r="r" b="b"/>
                  <a:pathLst>
                    <a:path w="84" h="72">
                      <a:moveTo>
                        <a:pt x="12" y="8"/>
                      </a:moveTo>
                      <a:cubicBezTo>
                        <a:pt x="29" y="4"/>
                        <a:pt x="33" y="0"/>
                        <a:pt x="52" y="12"/>
                      </a:cubicBezTo>
                      <a:cubicBezTo>
                        <a:pt x="60" y="17"/>
                        <a:pt x="76" y="28"/>
                        <a:pt x="76" y="28"/>
                      </a:cubicBezTo>
                      <a:cubicBezTo>
                        <a:pt x="84" y="53"/>
                        <a:pt x="80" y="28"/>
                        <a:pt x="68" y="48"/>
                      </a:cubicBezTo>
                      <a:cubicBezTo>
                        <a:pt x="64" y="55"/>
                        <a:pt x="60" y="72"/>
                        <a:pt x="60" y="72"/>
                      </a:cubicBezTo>
                      <a:cubicBezTo>
                        <a:pt x="53" y="71"/>
                        <a:pt x="46" y="71"/>
                        <a:pt x="40" y="68"/>
                      </a:cubicBezTo>
                      <a:cubicBezTo>
                        <a:pt x="31" y="64"/>
                        <a:pt x="16" y="52"/>
                        <a:pt x="16" y="52"/>
                      </a:cubicBezTo>
                      <a:cubicBezTo>
                        <a:pt x="13" y="34"/>
                        <a:pt x="0" y="20"/>
                        <a:pt x="12" y="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5767200" y="1164960"/>
                  <a:ext cx="67680" cy="8712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7" y="33"/>
                      </a:moveTo>
                      <a:cubicBezTo>
                        <a:pt x="34" y="6"/>
                        <a:pt x="25" y="0"/>
                        <a:pt x="39" y="21"/>
                      </a:cubicBezTo>
                      <a:cubicBezTo>
                        <a:pt x="30" y="49"/>
                        <a:pt x="39" y="42"/>
                        <a:pt x="19" y="49"/>
                      </a:cubicBezTo>
                      <a:cubicBezTo>
                        <a:pt x="15" y="48"/>
                        <a:pt x="9" y="49"/>
                        <a:pt x="7" y="45"/>
                      </a:cubicBezTo>
                      <a:cubicBezTo>
                        <a:pt x="0" y="32"/>
                        <a:pt x="19" y="33"/>
                        <a:pt x="7" y="3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5877360" y="1184760"/>
                  <a:ext cx="169560" cy="97560"/>
                </a:xfrm>
                <a:custGeom>
                  <a:avLst/>
                  <a:gdLst/>
                  <a:ahLst/>
                  <a:rect l="l" t="t" r="r" b="b"/>
                  <a:pathLst>
                    <a:path w="97" h="55">
                      <a:moveTo>
                        <a:pt x="0" y="10"/>
                      </a:moveTo>
                      <a:cubicBezTo>
                        <a:pt x="21" y="13"/>
                        <a:pt x="39" y="28"/>
                        <a:pt x="32" y="6"/>
                      </a:cubicBezTo>
                      <a:cubicBezTo>
                        <a:pt x="51" y="0"/>
                        <a:pt x="75" y="15"/>
                        <a:pt x="92" y="26"/>
                      </a:cubicBezTo>
                      <a:cubicBezTo>
                        <a:pt x="83" y="53"/>
                        <a:pt x="97" y="25"/>
                        <a:pt x="60" y="34"/>
                      </a:cubicBezTo>
                      <a:cubicBezTo>
                        <a:pt x="56" y="35"/>
                        <a:pt x="59" y="43"/>
                        <a:pt x="56" y="46"/>
                      </a:cubicBezTo>
                      <a:cubicBezTo>
                        <a:pt x="53" y="49"/>
                        <a:pt x="48" y="49"/>
                        <a:pt x="44" y="50"/>
                      </a:cubicBezTo>
                      <a:cubicBezTo>
                        <a:pt x="15" y="40"/>
                        <a:pt x="48" y="55"/>
                        <a:pt x="28" y="30"/>
                      </a:cubicBezTo>
                      <a:cubicBezTo>
                        <a:pt x="22" y="22"/>
                        <a:pt x="8" y="26"/>
                        <a:pt x="0" y="1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5863320" y="1137960"/>
                  <a:ext cx="45000" cy="52200"/>
                </a:xfrm>
                <a:custGeom>
                  <a:avLst/>
                  <a:gdLst/>
                  <a:ahLst/>
                  <a:rect l="l" t="t" r="r" b="b"/>
                  <a:pathLst>
                    <a:path w="26" h="29">
                      <a:moveTo>
                        <a:pt x="4" y="0"/>
                      </a:moveTo>
                      <a:cubicBezTo>
                        <a:pt x="25" y="7"/>
                        <a:pt x="26" y="29"/>
                        <a:pt x="0" y="20"/>
                      </a:cubicBezTo>
                      <a:cubicBezTo>
                        <a:pt x="5" y="5"/>
                        <a:pt x="4" y="12"/>
                        <a:pt x="4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5975280" y="1027800"/>
                  <a:ext cx="167760" cy="141120"/>
                </a:xfrm>
                <a:custGeom>
                  <a:avLst/>
                  <a:gdLst/>
                  <a:ahLst/>
                  <a:rect l="l" t="t" r="r" b="b"/>
                  <a:pathLst>
                    <a:path w="96" h="79">
                      <a:moveTo>
                        <a:pt x="20" y="30"/>
                      </a:moveTo>
                      <a:cubicBezTo>
                        <a:pt x="0" y="0"/>
                        <a:pt x="35" y="18"/>
                        <a:pt x="48" y="22"/>
                      </a:cubicBezTo>
                      <a:cubicBezTo>
                        <a:pt x="65" y="28"/>
                        <a:pt x="79" y="36"/>
                        <a:pt x="96" y="42"/>
                      </a:cubicBezTo>
                      <a:cubicBezTo>
                        <a:pt x="87" y="79"/>
                        <a:pt x="74" y="48"/>
                        <a:pt x="44" y="58"/>
                      </a:cubicBezTo>
                      <a:cubicBezTo>
                        <a:pt x="43" y="54"/>
                        <a:pt x="43" y="48"/>
                        <a:pt x="40" y="46"/>
                      </a:cubicBezTo>
                      <a:cubicBezTo>
                        <a:pt x="17" y="30"/>
                        <a:pt x="11" y="48"/>
                        <a:pt x="20" y="3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6069600" y="1164960"/>
                  <a:ext cx="124200" cy="8136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10" y="5"/>
                      </a:moveTo>
                      <a:cubicBezTo>
                        <a:pt x="14" y="4"/>
                        <a:pt x="18" y="0"/>
                        <a:pt x="22" y="1"/>
                      </a:cubicBezTo>
                      <a:cubicBezTo>
                        <a:pt x="31" y="4"/>
                        <a:pt x="46" y="17"/>
                        <a:pt x="46" y="17"/>
                      </a:cubicBezTo>
                      <a:cubicBezTo>
                        <a:pt x="65" y="46"/>
                        <a:pt x="71" y="39"/>
                        <a:pt x="46" y="45"/>
                      </a:cubicBezTo>
                      <a:cubicBezTo>
                        <a:pt x="32" y="42"/>
                        <a:pt x="6" y="33"/>
                        <a:pt x="6" y="33"/>
                      </a:cubicBezTo>
                      <a:cubicBezTo>
                        <a:pt x="2" y="21"/>
                        <a:pt x="0" y="15"/>
                        <a:pt x="10" y="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6149880" y="1255320"/>
                  <a:ext cx="147960" cy="108360"/>
                </a:xfrm>
                <a:custGeom>
                  <a:avLst/>
                  <a:gdLst/>
                  <a:ahLst/>
                  <a:rect l="l" t="t" r="r" b="b"/>
                  <a:pathLst>
                    <a:path w="85" h="61">
                      <a:moveTo>
                        <a:pt x="4" y="2"/>
                      </a:moveTo>
                      <a:cubicBezTo>
                        <a:pt x="34" y="7"/>
                        <a:pt x="40" y="14"/>
                        <a:pt x="64" y="30"/>
                      </a:cubicBezTo>
                      <a:cubicBezTo>
                        <a:pt x="85" y="61"/>
                        <a:pt x="36" y="42"/>
                        <a:pt x="24" y="34"/>
                      </a:cubicBezTo>
                      <a:cubicBezTo>
                        <a:pt x="7" y="23"/>
                        <a:pt x="15" y="29"/>
                        <a:pt x="0" y="14"/>
                      </a:cubicBezTo>
                      <a:cubicBezTo>
                        <a:pt x="3" y="10"/>
                        <a:pt x="4" y="4"/>
                        <a:pt x="8" y="2"/>
                      </a:cubicBezTo>
                      <a:cubicBezTo>
                        <a:pt x="12" y="0"/>
                        <a:pt x="24" y="6"/>
                        <a:pt x="20" y="6"/>
                      </a:cubicBezTo>
                      <a:cubicBezTo>
                        <a:pt x="15" y="6"/>
                        <a:pt x="9" y="3"/>
                        <a:pt x="4" y="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6246000" y="1255320"/>
                  <a:ext cx="133920" cy="81720"/>
                </a:xfrm>
                <a:custGeom>
                  <a:avLst/>
                  <a:gdLst/>
                  <a:ahLst/>
                  <a:rect l="l" t="t" r="r" b="b"/>
                  <a:pathLst>
                    <a:path w="77" h="46">
                      <a:moveTo>
                        <a:pt x="21" y="6"/>
                      </a:moveTo>
                      <a:cubicBezTo>
                        <a:pt x="57" y="18"/>
                        <a:pt x="0" y="0"/>
                        <a:pt x="53" y="14"/>
                      </a:cubicBezTo>
                      <a:cubicBezTo>
                        <a:pt x="61" y="16"/>
                        <a:pt x="77" y="22"/>
                        <a:pt x="77" y="22"/>
                      </a:cubicBezTo>
                      <a:cubicBezTo>
                        <a:pt x="71" y="46"/>
                        <a:pt x="65" y="43"/>
                        <a:pt x="41" y="38"/>
                      </a:cubicBezTo>
                      <a:cubicBezTo>
                        <a:pt x="3" y="12"/>
                        <a:pt x="21" y="34"/>
                        <a:pt x="21" y="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6226560" y="1180440"/>
                  <a:ext cx="245520" cy="66240"/>
                </a:xfrm>
                <a:custGeom>
                  <a:avLst/>
                  <a:gdLst/>
                  <a:ahLst/>
                  <a:rect l="l" t="t" r="r" b="b"/>
                  <a:pathLst>
                    <a:path w="141" h="37">
                      <a:moveTo>
                        <a:pt x="32" y="16"/>
                      </a:moveTo>
                      <a:cubicBezTo>
                        <a:pt x="64" y="5"/>
                        <a:pt x="24" y="16"/>
                        <a:pt x="56" y="16"/>
                      </a:cubicBezTo>
                      <a:cubicBezTo>
                        <a:pt x="72" y="16"/>
                        <a:pt x="87" y="9"/>
                        <a:pt x="100" y="0"/>
                      </a:cubicBezTo>
                      <a:cubicBezTo>
                        <a:pt x="108" y="1"/>
                        <a:pt x="117" y="0"/>
                        <a:pt x="124" y="4"/>
                      </a:cubicBezTo>
                      <a:cubicBezTo>
                        <a:pt x="141" y="14"/>
                        <a:pt x="119" y="30"/>
                        <a:pt x="112" y="32"/>
                      </a:cubicBezTo>
                      <a:cubicBezTo>
                        <a:pt x="107" y="31"/>
                        <a:pt x="101" y="27"/>
                        <a:pt x="96" y="28"/>
                      </a:cubicBezTo>
                      <a:cubicBezTo>
                        <a:pt x="88" y="29"/>
                        <a:pt x="72" y="36"/>
                        <a:pt x="72" y="36"/>
                      </a:cubicBezTo>
                      <a:cubicBezTo>
                        <a:pt x="63" y="35"/>
                        <a:pt x="0" y="37"/>
                        <a:pt x="32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6402960" y="1224360"/>
                  <a:ext cx="761040" cy="379800"/>
                </a:xfrm>
                <a:custGeom>
                  <a:avLst/>
                  <a:gdLst/>
                  <a:ahLst/>
                  <a:rect l="l" t="t" r="r" b="b"/>
                  <a:pathLst>
                    <a:path w="436" h="214">
                      <a:moveTo>
                        <a:pt x="47" y="64"/>
                      </a:moveTo>
                      <a:cubicBezTo>
                        <a:pt x="40" y="44"/>
                        <a:pt x="24" y="43"/>
                        <a:pt x="7" y="32"/>
                      </a:cubicBezTo>
                      <a:cubicBezTo>
                        <a:pt x="0" y="12"/>
                        <a:pt x="12" y="15"/>
                        <a:pt x="27" y="20"/>
                      </a:cubicBezTo>
                      <a:cubicBezTo>
                        <a:pt x="56" y="0"/>
                        <a:pt x="44" y="24"/>
                        <a:pt x="67" y="32"/>
                      </a:cubicBezTo>
                      <a:cubicBezTo>
                        <a:pt x="91" y="24"/>
                        <a:pt x="112" y="32"/>
                        <a:pt x="135" y="40"/>
                      </a:cubicBezTo>
                      <a:cubicBezTo>
                        <a:pt x="143" y="43"/>
                        <a:pt x="159" y="48"/>
                        <a:pt x="159" y="48"/>
                      </a:cubicBezTo>
                      <a:cubicBezTo>
                        <a:pt x="178" y="42"/>
                        <a:pt x="191" y="45"/>
                        <a:pt x="207" y="56"/>
                      </a:cubicBezTo>
                      <a:cubicBezTo>
                        <a:pt x="225" y="84"/>
                        <a:pt x="273" y="82"/>
                        <a:pt x="303" y="92"/>
                      </a:cubicBezTo>
                      <a:cubicBezTo>
                        <a:pt x="311" y="89"/>
                        <a:pt x="319" y="87"/>
                        <a:pt x="327" y="84"/>
                      </a:cubicBezTo>
                      <a:cubicBezTo>
                        <a:pt x="337" y="81"/>
                        <a:pt x="359" y="92"/>
                        <a:pt x="359" y="92"/>
                      </a:cubicBezTo>
                      <a:cubicBezTo>
                        <a:pt x="365" y="110"/>
                        <a:pt x="362" y="114"/>
                        <a:pt x="347" y="124"/>
                      </a:cubicBezTo>
                      <a:cubicBezTo>
                        <a:pt x="334" y="120"/>
                        <a:pt x="324" y="112"/>
                        <a:pt x="311" y="108"/>
                      </a:cubicBezTo>
                      <a:cubicBezTo>
                        <a:pt x="304" y="109"/>
                        <a:pt x="296" y="107"/>
                        <a:pt x="291" y="112"/>
                      </a:cubicBezTo>
                      <a:cubicBezTo>
                        <a:pt x="288" y="115"/>
                        <a:pt x="299" y="114"/>
                        <a:pt x="303" y="116"/>
                      </a:cubicBezTo>
                      <a:cubicBezTo>
                        <a:pt x="327" y="129"/>
                        <a:pt x="330" y="134"/>
                        <a:pt x="355" y="140"/>
                      </a:cubicBezTo>
                      <a:cubicBezTo>
                        <a:pt x="370" y="150"/>
                        <a:pt x="388" y="154"/>
                        <a:pt x="403" y="164"/>
                      </a:cubicBezTo>
                      <a:cubicBezTo>
                        <a:pt x="436" y="214"/>
                        <a:pt x="380" y="191"/>
                        <a:pt x="359" y="188"/>
                      </a:cubicBezTo>
                      <a:cubicBezTo>
                        <a:pt x="346" y="175"/>
                        <a:pt x="329" y="166"/>
                        <a:pt x="311" y="160"/>
                      </a:cubicBezTo>
                      <a:cubicBezTo>
                        <a:pt x="292" y="163"/>
                        <a:pt x="273" y="166"/>
                        <a:pt x="255" y="172"/>
                      </a:cubicBezTo>
                      <a:cubicBezTo>
                        <a:pt x="233" y="165"/>
                        <a:pt x="245" y="155"/>
                        <a:pt x="259" y="148"/>
                      </a:cubicBezTo>
                      <a:cubicBezTo>
                        <a:pt x="263" y="146"/>
                        <a:pt x="267" y="143"/>
                        <a:pt x="271" y="140"/>
                      </a:cubicBezTo>
                      <a:cubicBezTo>
                        <a:pt x="255" y="129"/>
                        <a:pt x="252" y="138"/>
                        <a:pt x="235" y="132"/>
                      </a:cubicBezTo>
                      <a:cubicBezTo>
                        <a:pt x="239" y="129"/>
                        <a:pt x="243" y="126"/>
                        <a:pt x="247" y="124"/>
                      </a:cubicBezTo>
                      <a:cubicBezTo>
                        <a:pt x="251" y="122"/>
                        <a:pt x="258" y="124"/>
                        <a:pt x="259" y="120"/>
                      </a:cubicBezTo>
                      <a:cubicBezTo>
                        <a:pt x="263" y="105"/>
                        <a:pt x="234" y="105"/>
                        <a:pt x="231" y="104"/>
                      </a:cubicBezTo>
                      <a:cubicBezTo>
                        <a:pt x="196" y="95"/>
                        <a:pt x="165" y="75"/>
                        <a:pt x="131" y="64"/>
                      </a:cubicBezTo>
                      <a:cubicBezTo>
                        <a:pt x="127" y="65"/>
                        <a:pt x="123" y="68"/>
                        <a:pt x="119" y="68"/>
                      </a:cubicBezTo>
                      <a:cubicBezTo>
                        <a:pt x="115" y="68"/>
                        <a:pt x="111" y="64"/>
                        <a:pt x="107" y="64"/>
                      </a:cubicBezTo>
                      <a:cubicBezTo>
                        <a:pt x="93" y="66"/>
                        <a:pt x="81" y="73"/>
                        <a:pt x="67" y="76"/>
                      </a:cubicBezTo>
                      <a:cubicBezTo>
                        <a:pt x="51" y="71"/>
                        <a:pt x="58" y="75"/>
                        <a:pt x="47" y="6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6705000" y="1375560"/>
                  <a:ext cx="74880" cy="69120"/>
                </a:xfrm>
                <a:custGeom>
                  <a:avLst/>
                  <a:gdLst/>
                  <a:ahLst/>
                  <a:rect l="l" t="t" r="r" b="b"/>
                  <a:pathLst>
                    <a:path w="43" h="39">
                      <a:moveTo>
                        <a:pt x="18" y="27"/>
                      </a:moveTo>
                      <a:cubicBezTo>
                        <a:pt x="0" y="0"/>
                        <a:pt x="22" y="11"/>
                        <a:pt x="34" y="19"/>
                      </a:cubicBezTo>
                      <a:cubicBezTo>
                        <a:pt x="37" y="23"/>
                        <a:pt x="43" y="26"/>
                        <a:pt x="42" y="31"/>
                      </a:cubicBezTo>
                      <a:cubicBezTo>
                        <a:pt x="40" y="39"/>
                        <a:pt x="18" y="27"/>
                        <a:pt x="18" y="27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6679800" y="1487160"/>
                  <a:ext cx="114120" cy="77760"/>
                </a:xfrm>
                <a:custGeom>
                  <a:avLst/>
                  <a:gdLst/>
                  <a:ahLst/>
                  <a:rect l="l" t="t" r="r" b="b"/>
                  <a:pathLst>
                    <a:path w="65" h="44">
                      <a:moveTo>
                        <a:pt x="16" y="12"/>
                      </a:moveTo>
                      <a:cubicBezTo>
                        <a:pt x="31" y="17"/>
                        <a:pt x="41" y="11"/>
                        <a:pt x="56" y="16"/>
                      </a:cubicBezTo>
                      <a:cubicBezTo>
                        <a:pt x="59" y="20"/>
                        <a:pt x="65" y="23"/>
                        <a:pt x="64" y="28"/>
                      </a:cubicBezTo>
                      <a:cubicBezTo>
                        <a:pt x="61" y="41"/>
                        <a:pt x="28" y="44"/>
                        <a:pt x="28" y="44"/>
                      </a:cubicBezTo>
                      <a:cubicBezTo>
                        <a:pt x="19" y="31"/>
                        <a:pt x="9" y="25"/>
                        <a:pt x="0" y="12"/>
                      </a:cubicBezTo>
                      <a:cubicBezTo>
                        <a:pt x="14" y="2"/>
                        <a:pt x="10" y="0"/>
                        <a:pt x="16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6799680" y="1571760"/>
                  <a:ext cx="32040" cy="4068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4" y="8"/>
                      </a:moveTo>
                      <a:cubicBezTo>
                        <a:pt x="8" y="7"/>
                        <a:pt x="14" y="0"/>
                        <a:pt x="16" y="4"/>
                      </a:cubicBezTo>
                      <a:cubicBezTo>
                        <a:pt x="19" y="9"/>
                        <a:pt x="16" y="17"/>
                        <a:pt x="12" y="20"/>
                      </a:cubicBezTo>
                      <a:cubicBezTo>
                        <a:pt x="9" y="23"/>
                        <a:pt x="4" y="17"/>
                        <a:pt x="0" y="16"/>
                      </a:cubicBezTo>
                      <a:cubicBezTo>
                        <a:pt x="4" y="3"/>
                        <a:pt x="4" y="0"/>
                        <a:pt x="4" y="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946840" y="1301760"/>
                  <a:ext cx="335880" cy="151200"/>
                </a:xfrm>
                <a:custGeom>
                  <a:avLst/>
                  <a:gdLst/>
                  <a:ahLst/>
                  <a:rect l="l" t="t" r="r" b="b"/>
                  <a:pathLst>
                    <a:path w="192" h="85">
                      <a:moveTo>
                        <a:pt x="8" y="0"/>
                      </a:moveTo>
                      <a:cubicBezTo>
                        <a:pt x="28" y="7"/>
                        <a:pt x="48" y="9"/>
                        <a:pt x="68" y="16"/>
                      </a:cubicBezTo>
                      <a:cubicBezTo>
                        <a:pt x="72" y="15"/>
                        <a:pt x="77" y="15"/>
                        <a:pt x="80" y="12"/>
                      </a:cubicBezTo>
                      <a:cubicBezTo>
                        <a:pt x="84" y="9"/>
                        <a:pt x="83" y="1"/>
                        <a:pt x="88" y="0"/>
                      </a:cubicBezTo>
                      <a:cubicBezTo>
                        <a:pt x="89" y="0"/>
                        <a:pt x="119" y="16"/>
                        <a:pt x="124" y="20"/>
                      </a:cubicBezTo>
                      <a:cubicBezTo>
                        <a:pt x="128" y="24"/>
                        <a:pt x="131" y="29"/>
                        <a:pt x="136" y="32"/>
                      </a:cubicBezTo>
                      <a:cubicBezTo>
                        <a:pt x="143" y="36"/>
                        <a:pt x="160" y="40"/>
                        <a:pt x="160" y="40"/>
                      </a:cubicBezTo>
                      <a:cubicBezTo>
                        <a:pt x="178" y="34"/>
                        <a:pt x="182" y="37"/>
                        <a:pt x="192" y="52"/>
                      </a:cubicBezTo>
                      <a:cubicBezTo>
                        <a:pt x="191" y="58"/>
                        <a:pt x="192" y="81"/>
                        <a:pt x="176" y="76"/>
                      </a:cubicBezTo>
                      <a:cubicBezTo>
                        <a:pt x="167" y="73"/>
                        <a:pt x="152" y="60"/>
                        <a:pt x="152" y="60"/>
                      </a:cubicBezTo>
                      <a:cubicBezTo>
                        <a:pt x="138" y="69"/>
                        <a:pt x="128" y="72"/>
                        <a:pt x="112" y="76"/>
                      </a:cubicBezTo>
                      <a:cubicBezTo>
                        <a:pt x="108" y="79"/>
                        <a:pt x="105" y="85"/>
                        <a:pt x="100" y="84"/>
                      </a:cubicBezTo>
                      <a:cubicBezTo>
                        <a:pt x="91" y="82"/>
                        <a:pt x="76" y="68"/>
                        <a:pt x="76" y="68"/>
                      </a:cubicBezTo>
                      <a:cubicBezTo>
                        <a:pt x="86" y="39"/>
                        <a:pt x="91" y="49"/>
                        <a:pt x="72" y="36"/>
                      </a:cubicBezTo>
                      <a:cubicBezTo>
                        <a:pt x="57" y="40"/>
                        <a:pt x="47" y="47"/>
                        <a:pt x="32" y="52"/>
                      </a:cubicBezTo>
                      <a:cubicBezTo>
                        <a:pt x="4" y="45"/>
                        <a:pt x="24" y="40"/>
                        <a:pt x="0" y="32"/>
                      </a:cubicBezTo>
                      <a:cubicBezTo>
                        <a:pt x="3" y="24"/>
                        <a:pt x="5" y="16"/>
                        <a:pt x="8" y="8"/>
                      </a:cubicBezTo>
                      <a:cubicBezTo>
                        <a:pt x="9" y="4"/>
                        <a:pt x="20" y="8"/>
                        <a:pt x="20" y="4"/>
                      </a:cubicBezTo>
                      <a:cubicBezTo>
                        <a:pt x="20" y="0"/>
                        <a:pt x="12" y="1"/>
                        <a:pt x="8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196960" y="1355760"/>
                  <a:ext cx="2675520" cy="895680"/>
                </a:xfrm>
                <a:custGeom>
                  <a:avLst/>
                  <a:gdLst/>
                  <a:ahLst/>
                  <a:rect l="l" t="t" r="r" b="b"/>
                  <a:pathLst>
                    <a:path w="1533" h="504">
                      <a:moveTo>
                        <a:pt x="82" y="34"/>
                      </a:moveTo>
                      <a:cubicBezTo>
                        <a:pt x="95" y="38"/>
                        <a:pt x="104" y="53"/>
                        <a:pt x="118" y="54"/>
                      </a:cubicBezTo>
                      <a:cubicBezTo>
                        <a:pt x="172" y="57"/>
                        <a:pt x="249" y="49"/>
                        <a:pt x="298" y="82"/>
                      </a:cubicBezTo>
                      <a:cubicBezTo>
                        <a:pt x="326" y="64"/>
                        <a:pt x="290" y="72"/>
                        <a:pt x="318" y="54"/>
                      </a:cubicBezTo>
                      <a:cubicBezTo>
                        <a:pt x="322" y="55"/>
                        <a:pt x="327" y="55"/>
                        <a:pt x="330" y="58"/>
                      </a:cubicBezTo>
                      <a:cubicBezTo>
                        <a:pt x="334" y="61"/>
                        <a:pt x="334" y="73"/>
                        <a:pt x="338" y="70"/>
                      </a:cubicBezTo>
                      <a:cubicBezTo>
                        <a:pt x="345" y="65"/>
                        <a:pt x="346" y="46"/>
                        <a:pt x="346" y="46"/>
                      </a:cubicBezTo>
                      <a:cubicBezTo>
                        <a:pt x="354" y="47"/>
                        <a:pt x="362" y="51"/>
                        <a:pt x="370" y="50"/>
                      </a:cubicBezTo>
                      <a:cubicBezTo>
                        <a:pt x="375" y="49"/>
                        <a:pt x="377" y="43"/>
                        <a:pt x="382" y="42"/>
                      </a:cubicBezTo>
                      <a:cubicBezTo>
                        <a:pt x="391" y="41"/>
                        <a:pt x="402" y="49"/>
                        <a:pt x="410" y="50"/>
                      </a:cubicBezTo>
                      <a:cubicBezTo>
                        <a:pt x="430" y="52"/>
                        <a:pt x="450" y="53"/>
                        <a:pt x="470" y="54"/>
                      </a:cubicBezTo>
                      <a:cubicBezTo>
                        <a:pt x="502" y="65"/>
                        <a:pt x="486" y="61"/>
                        <a:pt x="518" y="66"/>
                      </a:cubicBezTo>
                      <a:cubicBezTo>
                        <a:pt x="539" y="87"/>
                        <a:pt x="547" y="79"/>
                        <a:pt x="574" y="74"/>
                      </a:cubicBezTo>
                      <a:cubicBezTo>
                        <a:pt x="591" y="80"/>
                        <a:pt x="594" y="71"/>
                        <a:pt x="610" y="82"/>
                      </a:cubicBezTo>
                      <a:cubicBezTo>
                        <a:pt x="597" y="42"/>
                        <a:pt x="617" y="54"/>
                        <a:pt x="642" y="62"/>
                      </a:cubicBezTo>
                      <a:cubicBezTo>
                        <a:pt x="654" y="58"/>
                        <a:pt x="668" y="62"/>
                        <a:pt x="678" y="54"/>
                      </a:cubicBezTo>
                      <a:cubicBezTo>
                        <a:pt x="690" y="44"/>
                        <a:pt x="653" y="31"/>
                        <a:pt x="650" y="30"/>
                      </a:cubicBezTo>
                      <a:cubicBezTo>
                        <a:pt x="641" y="16"/>
                        <a:pt x="630" y="9"/>
                        <a:pt x="650" y="2"/>
                      </a:cubicBezTo>
                      <a:cubicBezTo>
                        <a:pt x="658" y="7"/>
                        <a:pt x="666" y="13"/>
                        <a:pt x="674" y="18"/>
                      </a:cubicBezTo>
                      <a:cubicBezTo>
                        <a:pt x="678" y="21"/>
                        <a:pt x="686" y="26"/>
                        <a:pt x="686" y="26"/>
                      </a:cubicBezTo>
                      <a:cubicBezTo>
                        <a:pt x="694" y="38"/>
                        <a:pt x="718" y="54"/>
                        <a:pt x="718" y="54"/>
                      </a:cubicBezTo>
                      <a:cubicBezTo>
                        <a:pt x="712" y="36"/>
                        <a:pt x="699" y="35"/>
                        <a:pt x="718" y="22"/>
                      </a:cubicBezTo>
                      <a:cubicBezTo>
                        <a:pt x="736" y="28"/>
                        <a:pt x="737" y="38"/>
                        <a:pt x="754" y="26"/>
                      </a:cubicBezTo>
                      <a:cubicBezTo>
                        <a:pt x="758" y="27"/>
                        <a:pt x="763" y="27"/>
                        <a:pt x="766" y="30"/>
                      </a:cubicBezTo>
                      <a:cubicBezTo>
                        <a:pt x="770" y="33"/>
                        <a:pt x="770" y="39"/>
                        <a:pt x="774" y="42"/>
                      </a:cubicBezTo>
                      <a:cubicBezTo>
                        <a:pt x="781" y="46"/>
                        <a:pt x="798" y="50"/>
                        <a:pt x="798" y="50"/>
                      </a:cubicBezTo>
                      <a:cubicBezTo>
                        <a:pt x="793" y="34"/>
                        <a:pt x="790" y="27"/>
                        <a:pt x="774" y="22"/>
                      </a:cubicBezTo>
                      <a:cubicBezTo>
                        <a:pt x="781" y="0"/>
                        <a:pt x="797" y="12"/>
                        <a:pt x="814" y="18"/>
                      </a:cubicBezTo>
                      <a:cubicBezTo>
                        <a:pt x="825" y="35"/>
                        <a:pt x="842" y="35"/>
                        <a:pt x="858" y="46"/>
                      </a:cubicBezTo>
                      <a:cubicBezTo>
                        <a:pt x="861" y="54"/>
                        <a:pt x="874" y="73"/>
                        <a:pt x="866" y="70"/>
                      </a:cubicBezTo>
                      <a:cubicBezTo>
                        <a:pt x="853" y="66"/>
                        <a:pt x="843" y="58"/>
                        <a:pt x="830" y="54"/>
                      </a:cubicBezTo>
                      <a:cubicBezTo>
                        <a:pt x="804" y="63"/>
                        <a:pt x="825" y="69"/>
                        <a:pt x="838" y="78"/>
                      </a:cubicBezTo>
                      <a:cubicBezTo>
                        <a:pt x="841" y="82"/>
                        <a:pt x="845" y="85"/>
                        <a:pt x="846" y="90"/>
                      </a:cubicBezTo>
                      <a:cubicBezTo>
                        <a:pt x="850" y="125"/>
                        <a:pt x="816" y="102"/>
                        <a:pt x="798" y="98"/>
                      </a:cubicBezTo>
                      <a:cubicBezTo>
                        <a:pt x="770" y="107"/>
                        <a:pt x="777" y="98"/>
                        <a:pt x="770" y="118"/>
                      </a:cubicBezTo>
                      <a:cubicBezTo>
                        <a:pt x="793" y="126"/>
                        <a:pt x="815" y="128"/>
                        <a:pt x="838" y="134"/>
                      </a:cubicBezTo>
                      <a:cubicBezTo>
                        <a:pt x="839" y="138"/>
                        <a:pt x="842" y="142"/>
                        <a:pt x="842" y="146"/>
                      </a:cubicBezTo>
                      <a:cubicBezTo>
                        <a:pt x="841" y="154"/>
                        <a:pt x="834" y="170"/>
                        <a:pt x="834" y="170"/>
                      </a:cubicBezTo>
                      <a:cubicBezTo>
                        <a:pt x="844" y="199"/>
                        <a:pt x="835" y="189"/>
                        <a:pt x="854" y="202"/>
                      </a:cubicBezTo>
                      <a:cubicBezTo>
                        <a:pt x="867" y="222"/>
                        <a:pt x="885" y="211"/>
                        <a:pt x="902" y="226"/>
                      </a:cubicBezTo>
                      <a:cubicBezTo>
                        <a:pt x="906" y="230"/>
                        <a:pt x="909" y="235"/>
                        <a:pt x="914" y="238"/>
                      </a:cubicBezTo>
                      <a:cubicBezTo>
                        <a:pt x="921" y="242"/>
                        <a:pt x="938" y="246"/>
                        <a:pt x="938" y="246"/>
                      </a:cubicBezTo>
                      <a:cubicBezTo>
                        <a:pt x="954" y="241"/>
                        <a:pt x="966" y="237"/>
                        <a:pt x="982" y="242"/>
                      </a:cubicBezTo>
                      <a:cubicBezTo>
                        <a:pt x="983" y="246"/>
                        <a:pt x="982" y="253"/>
                        <a:pt x="986" y="254"/>
                      </a:cubicBezTo>
                      <a:cubicBezTo>
                        <a:pt x="1009" y="262"/>
                        <a:pt x="1043" y="261"/>
                        <a:pt x="1070" y="270"/>
                      </a:cubicBezTo>
                      <a:cubicBezTo>
                        <a:pt x="1074" y="283"/>
                        <a:pt x="1098" y="298"/>
                        <a:pt x="1098" y="298"/>
                      </a:cubicBezTo>
                      <a:cubicBezTo>
                        <a:pt x="1108" y="328"/>
                        <a:pt x="1093" y="297"/>
                        <a:pt x="1114" y="302"/>
                      </a:cubicBezTo>
                      <a:cubicBezTo>
                        <a:pt x="1123" y="304"/>
                        <a:pt x="1120" y="320"/>
                        <a:pt x="1126" y="326"/>
                      </a:cubicBezTo>
                      <a:cubicBezTo>
                        <a:pt x="1134" y="334"/>
                        <a:pt x="1140" y="335"/>
                        <a:pt x="1150" y="338"/>
                      </a:cubicBezTo>
                      <a:cubicBezTo>
                        <a:pt x="1157" y="318"/>
                        <a:pt x="1150" y="302"/>
                        <a:pt x="1134" y="290"/>
                      </a:cubicBezTo>
                      <a:cubicBezTo>
                        <a:pt x="1126" y="284"/>
                        <a:pt x="1110" y="274"/>
                        <a:pt x="1110" y="274"/>
                      </a:cubicBezTo>
                      <a:cubicBezTo>
                        <a:pt x="1099" y="257"/>
                        <a:pt x="1111" y="231"/>
                        <a:pt x="1098" y="218"/>
                      </a:cubicBezTo>
                      <a:cubicBezTo>
                        <a:pt x="1091" y="211"/>
                        <a:pt x="1082" y="207"/>
                        <a:pt x="1074" y="202"/>
                      </a:cubicBezTo>
                      <a:cubicBezTo>
                        <a:pt x="1067" y="197"/>
                        <a:pt x="1050" y="194"/>
                        <a:pt x="1050" y="194"/>
                      </a:cubicBezTo>
                      <a:cubicBezTo>
                        <a:pt x="1026" y="202"/>
                        <a:pt x="1043" y="201"/>
                        <a:pt x="1034" y="166"/>
                      </a:cubicBezTo>
                      <a:cubicBezTo>
                        <a:pt x="1031" y="155"/>
                        <a:pt x="1022" y="152"/>
                        <a:pt x="1014" y="146"/>
                      </a:cubicBezTo>
                      <a:cubicBezTo>
                        <a:pt x="1013" y="142"/>
                        <a:pt x="1013" y="137"/>
                        <a:pt x="1010" y="134"/>
                      </a:cubicBezTo>
                      <a:cubicBezTo>
                        <a:pt x="997" y="124"/>
                        <a:pt x="983" y="138"/>
                        <a:pt x="1006" y="122"/>
                      </a:cubicBezTo>
                      <a:cubicBezTo>
                        <a:pt x="1012" y="123"/>
                        <a:pt x="1031" y="126"/>
                        <a:pt x="1038" y="130"/>
                      </a:cubicBezTo>
                      <a:cubicBezTo>
                        <a:pt x="1046" y="135"/>
                        <a:pt x="1062" y="146"/>
                        <a:pt x="1062" y="146"/>
                      </a:cubicBezTo>
                      <a:cubicBezTo>
                        <a:pt x="1108" y="131"/>
                        <a:pt x="1096" y="148"/>
                        <a:pt x="1114" y="170"/>
                      </a:cubicBezTo>
                      <a:cubicBezTo>
                        <a:pt x="1122" y="180"/>
                        <a:pt x="1150" y="186"/>
                        <a:pt x="1150" y="186"/>
                      </a:cubicBezTo>
                      <a:cubicBezTo>
                        <a:pt x="1161" y="169"/>
                        <a:pt x="1157" y="166"/>
                        <a:pt x="1146" y="150"/>
                      </a:cubicBezTo>
                      <a:cubicBezTo>
                        <a:pt x="1168" y="143"/>
                        <a:pt x="1163" y="153"/>
                        <a:pt x="1174" y="166"/>
                      </a:cubicBezTo>
                      <a:cubicBezTo>
                        <a:pt x="1182" y="176"/>
                        <a:pt x="1195" y="176"/>
                        <a:pt x="1206" y="178"/>
                      </a:cubicBezTo>
                      <a:cubicBezTo>
                        <a:pt x="1214" y="183"/>
                        <a:pt x="1218" y="193"/>
                        <a:pt x="1226" y="198"/>
                      </a:cubicBezTo>
                      <a:cubicBezTo>
                        <a:pt x="1232" y="202"/>
                        <a:pt x="1257" y="208"/>
                        <a:pt x="1266" y="210"/>
                      </a:cubicBezTo>
                      <a:cubicBezTo>
                        <a:pt x="1279" y="229"/>
                        <a:pt x="1269" y="220"/>
                        <a:pt x="1298" y="230"/>
                      </a:cubicBezTo>
                      <a:cubicBezTo>
                        <a:pt x="1306" y="233"/>
                        <a:pt x="1322" y="238"/>
                        <a:pt x="1322" y="238"/>
                      </a:cubicBezTo>
                      <a:cubicBezTo>
                        <a:pt x="1330" y="261"/>
                        <a:pt x="1350" y="251"/>
                        <a:pt x="1370" y="258"/>
                      </a:cubicBezTo>
                      <a:cubicBezTo>
                        <a:pt x="1403" y="291"/>
                        <a:pt x="1381" y="292"/>
                        <a:pt x="1426" y="298"/>
                      </a:cubicBezTo>
                      <a:cubicBezTo>
                        <a:pt x="1448" y="313"/>
                        <a:pt x="1433" y="326"/>
                        <a:pt x="1458" y="334"/>
                      </a:cubicBezTo>
                      <a:cubicBezTo>
                        <a:pt x="1462" y="333"/>
                        <a:pt x="1466" y="330"/>
                        <a:pt x="1470" y="330"/>
                      </a:cubicBezTo>
                      <a:cubicBezTo>
                        <a:pt x="1478" y="331"/>
                        <a:pt x="1494" y="338"/>
                        <a:pt x="1494" y="338"/>
                      </a:cubicBezTo>
                      <a:cubicBezTo>
                        <a:pt x="1503" y="352"/>
                        <a:pt x="1510" y="357"/>
                        <a:pt x="1526" y="362"/>
                      </a:cubicBezTo>
                      <a:cubicBezTo>
                        <a:pt x="1533" y="384"/>
                        <a:pt x="1519" y="382"/>
                        <a:pt x="1502" y="378"/>
                      </a:cubicBezTo>
                      <a:cubicBezTo>
                        <a:pt x="1474" y="360"/>
                        <a:pt x="1487" y="359"/>
                        <a:pt x="1466" y="366"/>
                      </a:cubicBezTo>
                      <a:cubicBezTo>
                        <a:pt x="1415" y="356"/>
                        <a:pt x="1434" y="311"/>
                        <a:pt x="1394" y="298"/>
                      </a:cubicBezTo>
                      <a:cubicBezTo>
                        <a:pt x="1379" y="344"/>
                        <a:pt x="1398" y="325"/>
                        <a:pt x="1318" y="330"/>
                      </a:cubicBezTo>
                      <a:cubicBezTo>
                        <a:pt x="1310" y="353"/>
                        <a:pt x="1328" y="377"/>
                        <a:pt x="1302" y="394"/>
                      </a:cubicBezTo>
                      <a:cubicBezTo>
                        <a:pt x="1295" y="414"/>
                        <a:pt x="1310" y="415"/>
                        <a:pt x="1318" y="398"/>
                      </a:cubicBezTo>
                      <a:cubicBezTo>
                        <a:pt x="1325" y="383"/>
                        <a:pt x="1324" y="368"/>
                        <a:pt x="1334" y="354"/>
                      </a:cubicBezTo>
                      <a:cubicBezTo>
                        <a:pt x="1337" y="354"/>
                        <a:pt x="1399" y="362"/>
                        <a:pt x="1362" y="374"/>
                      </a:cubicBezTo>
                      <a:cubicBezTo>
                        <a:pt x="1379" y="385"/>
                        <a:pt x="1385" y="403"/>
                        <a:pt x="1402" y="414"/>
                      </a:cubicBezTo>
                      <a:cubicBezTo>
                        <a:pt x="1433" y="404"/>
                        <a:pt x="1411" y="396"/>
                        <a:pt x="1450" y="402"/>
                      </a:cubicBezTo>
                      <a:cubicBezTo>
                        <a:pt x="1456" y="419"/>
                        <a:pt x="1452" y="424"/>
                        <a:pt x="1442" y="438"/>
                      </a:cubicBezTo>
                      <a:cubicBezTo>
                        <a:pt x="1439" y="457"/>
                        <a:pt x="1441" y="478"/>
                        <a:pt x="1418" y="470"/>
                      </a:cubicBezTo>
                      <a:cubicBezTo>
                        <a:pt x="1417" y="459"/>
                        <a:pt x="1419" y="447"/>
                        <a:pt x="1414" y="438"/>
                      </a:cubicBezTo>
                      <a:cubicBezTo>
                        <a:pt x="1412" y="434"/>
                        <a:pt x="1406" y="442"/>
                        <a:pt x="1402" y="442"/>
                      </a:cubicBezTo>
                      <a:cubicBezTo>
                        <a:pt x="1398" y="442"/>
                        <a:pt x="1394" y="440"/>
                        <a:pt x="1390" y="438"/>
                      </a:cubicBezTo>
                      <a:cubicBezTo>
                        <a:pt x="1382" y="433"/>
                        <a:pt x="1366" y="422"/>
                        <a:pt x="1366" y="422"/>
                      </a:cubicBezTo>
                      <a:cubicBezTo>
                        <a:pt x="1345" y="427"/>
                        <a:pt x="1333" y="442"/>
                        <a:pt x="1314" y="454"/>
                      </a:cubicBezTo>
                      <a:cubicBezTo>
                        <a:pt x="1303" y="461"/>
                        <a:pt x="1286" y="462"/>
                        <a:pt x="1274" y="466"/>
                      </a:cubicBezTo>
                      <a:cubicBezTo>
                        <a:pt x="1262" y="485"/>
                        <a:pt x="1273" y="484"/>
                        <a:pt x="1290" y="490"/>
                      </a:cubicBezTo>
                      <a:cubicBezTo>
                        <a:pt x="1273" y="501"/>
                        <a:pt x="1271" y="491"/>
                        <a:pt x="1254" y="502"/>
                      </a:cubicBezTo>
                      <a:cubicBezTo>
                        <a:pt x="1245" y="501"/>
                        <a:pt x="1234" y="504"/>
                        <a:pt x="1226" y="498"/>
                      </a:cubicBezTo>
                      <a:cubicBezTo>
                        <a:pt x="1222" y="495"/>
                        <a:pt x="1236" y="495"/>
                        <a:pt x="1238" y="490"/>
                      </a:cubicBezTo>
                      <a:cubicBezTo>
                        <a:pt x="1244" y="473"/>
                        <a:pt x="1196" y="435"/>
                        <a:pt x="1230" y="458"/>
                      </a:cubicBezTo>
                      <a:cubicBezTo>
                        <a:pt x="1249" y="486"/>
                        <a:pt x="1249" y="450"/>
                        <a:pt x="1226" y="442"/>
                      </a:cubicBezTo>
                      <a:cubicBezTo>
                        <a:pt x="1223" y="433"/>
                        <a:pt x="1224" y="424"/>
                        <a:pt x="1210" y="426"/>
                      </a:cubicBezTo>
                      <a:cubicBezTo>
                        <a:pt x="1202" y="427"/>
                        <a:pt x="1186" y="434"/>
                        <a:pt x="1186" y="434"/>
                      </a:cubicBezTo>
                      <a:cubicBezTo>
                        <a:pt x="1178" y="457"/>
                        <a:pt x="1187" y="442"/>
                        <a:pt x="1174" y="434"/>
                      </a:cubicBezTo>
                      <a:cubicBezTo>
                        <a:pt x="1169" y="431"/>
                        <a:pt x="1163" y="431"/>
                        <a:pt x="1158" y="430"/>
                      </a:cubicBezTo>
                      <a:cubicBezTo>
                        <a:pt x="1149" y="404"/>
                        <a:pt x="1123" y="394"/>
                        <a:pt x="1098" y="386"/>
                      </a:cubicBezTo>
                      <a:cubicBezTo>
                        <a:pt x="1079" y="391"/>
                        <a:pt x="1078" y="399"/>
                        <a:pt x="1062" y="410"/>
                      </a:cubicBezTo>
                      <a:cubicBezTo>
                        <a:pt x="1030" y="399"/>
                        <a:pt x="1046" y="403"/>
                        <a:pt x="1014" y="398"/>
                      </a:cubicBezTo>
                      <a:cubicBezTo>
                        <a:pt x="1006" y="399"/>
                        <a:pt x="998" y="403"/>
                        <a:pt x="990" y="402"/>
                      </a:cubicBezTo>
                      <a:cubicBezTo>
                        <a:pt x="962" y="399"/>
                        <a:pt x="966" y="350"/>
                        <a:pt x="950" y="334"/>
                      </a:cubicBezTo>
                      <a:cubicBezTo>
                        <a:pt x="936" y="320"/>
                        <a:pt x="929" y="319"/>
                        <a:pt x="914" y="314"/>
                      </a:cubicBezTo>
                      <a:cubicBezTo>
                        <a:pt x="889" y="322"/>
                        <a:pt x="910" y="334"/>
                        <a:pt x="886" y="326"/>
                      </a:cubicBezTo>
                      <a:cubicBezTo>
                        <a:pt x="869" y="300"/>
                        <a:pt x="843" y="290"/>
                        <a:pt x="818" y="274"/>
                      </a:cubicBezTo>
                      <a:cubicBezTo>
                        <a:pt x="824" y="256"/>
                        <a:pt x="820" y="245"/>
                        <a:pt x="810" y="230"/>
                      </a:cubicBezTo>
                      <a:cubicBezTo>
                        <a:pt x="778" y="241"/>
                        <a:pt x="823" y="222"/>
                        <a:pt x="794" y="258"/>
                      </a:cubicBezTo>
                      <a:cubicBezTo>
                        <a:pt x="788" y="265"/>
                        <a:pt x="778" y="250"/>
                        <a:pt x="770" y="246"/>
                      </a:cubicBezTo>
                      <a:cubicBezTo>
                        <a:pt x="762" y="243"/>
                        <a:pt x="746" y="238"/>
                        <a:pt x="746" y="238"/>
                      </a:cubicBezTo>
                      <a:cubicBezTo>
                        <a:pt x="742" y="212"/>
                        <a:pt x="742" y="210"/>
                        <a:pt x="718" y="202"/>
                      </a:cubicBezTo>
                      <a:cubicBezTo>
                        <a:pt x="698" y="206"/>
                        <a:pt x="689" y="206"/>
                        <a:pt x="682" y="226"/>
                      </a:cubicBezTo>
                      <a:cubicBezTo>
                        <a:pt x="664" y="220"/>
                        <a:pt x="651" y="212"/>
                        <a:pt x="634" y="206"/>
                      </a:cubicBezTo>
                      <a:cubicBezTo>
                        <a:pt x="640" y="189"/>
                        <a:pt x="644" y="171"/>
                        <a:pt x="650" y="154"/>
                      </a:cubicBezTo>
                      <a:cubicBezTo>
                        <a:pt x="632" y="148"/>
                        <a:pt x="628" y="151"/>
                        <a:pt x="618" y="166"/>
                      </a:cubicBezTo>
                      <a:cubicBezTo>
                        <a:pt x="610" y="163"/>
                        <a:pt x="602" y="161"/>
                        <a:pt x="594" y="158"/>
                      </a:cubicBezTo>
                      <a:cubicBezTo>
                        <a:pt x="590" y="157"/>
                        <a:pt x="582" y="154"/>
                        <a:pt x="582" y="154"/>
                      </a:cubicBezTo>
                      <a:cubicBezTo>
                        <a:pt x="591" y="191"/>
                        <a:pt x="578" y="153"/>
                        <a:pt x="598" y="178"/>
                      </a:cubicBezTo>
                      <a:cubicBezTo>
                        <a:pt x="601" y="181"/>
                        <a:pt x="606" y="189"/>
                        <a:pt x="602" y="190"/>
                      </a:cubicBezTo>
                      <a:cubicBezTo>
                        <a:pt x="591" y="192"/>
                        <a:pt x="570" y="182"/>
                        <a:pt x="570" y="182"/>
                      </a:cubicBezTo>
                      <a:cubicBezTo>
                        <a:pt x="553" y="171"/>
                        <a:pt x="538" y="165"/>
                        <a:pt x="522" y="154"/>
                      </a:cubicBezTo>
                      <a:cubicBezTo>
                        <a:pt x="506" y="131"/>
                        <a:pt x="487" y="137"/>
                        <a:pt x="522" y="114"/>
                      </a:cubicBezTo>
                      <a:cubicBezTo>
                        <a:pt x="521" y="109"/>
                        <a:pt x="522" y="101"/>
                        <a:pt x="518" y="98"/>
                      </a:cubicBezTo>
                      <a:cubicBezTo>
                        <a:pt x="515" y="95"/>
                        <a:pt x="510" y="104"/>
                        <a:pt x="506" y="102"/>
                      </a:cubicBezTo>
                      <a:cubicBezTo>
                        <a:pt x="502" y="100"/>
                        <a:pt x="505" y="93"/>
                        <a:pt x="502" y="90"/>
                      </a:cubicBezTo>
                      <a:cubicBezTo>
                        <a:pt x="499" y="87"/>
                        <a:pt x="494" y="87"/>
                        <a:pt x="490" y="86"/>
                      </a:cubicBezTo>
                      <a:cubicBezTo>
                        <a:pt x="482" y="89"/>
                        <a:pt x="474" y="91"/>
                        <a:pt x="466" y="94"/>
                      </a:cubicBezTo>
                      <a:cubicBezTo>
                        <a:pt x="462" y="95"/>
                        <a:pt x="454" y="98"/>
                        <a:pt x="454" y="98"/>
                      </a:cubicBezTo>
                      <a:cubicBezTo>
                        <a:pt x="461" y="118"/>
                        <a:pt x="454" y="118"/>
                        <a:pt x="442" y="134"/>
                      </a:cubicBezTo>
                      <a:cubicBezTo>
                        <a:pt x="436" y="142"/>
                        <a:pt x="426" y="158"/>
                        <a:pt x="426" y="158"/>
                      </a:cubicBezTo>
                      <a:cubicBezTo>
                        <a:pt x="419" y="188"/>
                        <a:pt x="441" y="225"/>
                        <a:pt x="410" y="246"/>
                      </a:cubicBezTo>
                      <a:cubicBezTo>
                        <a:pt x="409" y="250"/>
                        <a:pt x="410" y="256"/>
                        <a:pt x="406" y="258"/>
                      </a:cubicBezTo>
                      <a:cubicBezTo>
                        <a:pt x="398" y="262"/>
                        <a:pt x="385" y="244"/>
                        <a:pt x="382" y="242"/>
                      </a:cubicBezTo>
                      <a:cubicBezTo>
                        <a:pt x="371" y="236"/>
                        <a:pt x="351" y="233"/>
                        <a:pt x="338" y="230"/>
                      </a:cubicBezTo>
                      <a:cubicBezTo>
                        <a:pt x="330" y="231"/>
                        <a:pt x="322" y="231"/>
                        <a:pt x="314" y="234"/>
                      </a:cubicBezTo>
                      <a:cubicBezTo>
                        <a:pt x="309" y="236"/>
                        <a:pt x="307" y="243"/>
                        <a:pt x="302" y="242"/>
                      </a:cubicBezTo>
                      <a:cubicBezTo>
                        <a:pt x="298" y="241"/>
                        <a:pt x="301" y="233"/>
                        <a:pt x="298" y="230"/>
                      </a:cubicBezTo>
                      <a:cubicBezTo>
                        <a:pt x="292" y="223"/>
                        <a:pt x="282" y="221"/>
                        <a:pt x="274" y="218"/>
                      </a:cubicBezTo>
                      <a:cubicBezTo>
                        <a:pt x="262" y="237"/>
                        <a:pt x="261" y="246"/>
                        <a:pt x="238" y="254"/>
                      </a:cubicBezTo>
                      <a:cubicBezTo>
                        <a:pt x="230" y="229"/>
                        <a:pt x="250" y="241"/>
                        <a:pt x="234" y="218"/>
                      </a:cubicBezTo>
                      <a:cubicBezTo>
                        <a:pt x="220" y="227"/>
                        <a:pt x="211" y="234"/>
                        <a:pt x="206" y="250"/>
                      </a:cubicBezTo>
                      <a:cubicBezTo>
                        <a:pt x="212" y="274"/>
                        <a:pt x="208" y="277"/>
                        <a:pt x="234" y="282"/>
                      </a:cubicBezTo>
                      <a:cubicBezTo>
                        <a:pt x="236" y="289"/>
                        <a:pt x="245" y="302"/>
                        <a:pt x="226" y="302"/>
                      </a:cubicBezTo>
                      <a:cubicBezTo>
                        <a:pt x="218" y="302"/>
                        <a:pt x="202" y="294"/>
                        <a:pt x="202" y="294"/>
                      </a:cubicBezTo>
                      <a:cubicBezTo>
                        <a:pt x="184" y="321"/>
                        <a:pt x="148" y="329"/>
                        <a:pt x="122" y="346"/>
                      </a:cubicBezTo>
                      <a:cubicBezTo>
                        <a:pt x="116" y="364"/>
                        <a:pt x="99" y="371"/>
                        <a:pt x="82" y="378"/>
                      </a:cubicBezTo>
                      <a:cubicBezTo>
                        <a:pt x="74" y="381"/>
                        <a:pt x="58" y="386"/>
                        <a:pt x="58" y="386"/>
                      </a:cubicBezTo>
                      <a:cubicBezTo>
                        <a:pt x="26" y="375"/>
                        <a:pt x="82" y="375"/>
                        <a:pt x="86" y="374"/>
                      </a:cubicBezTo>
                      <a:cubicBezTo>
                        <a:pt x="96" y="360"/>
                        <a:pt x="104" y="359"/>
                        <a:pt x="118" y="350"/>
                      </a:cubicBezTo>
                      <a:cubicBezTo>
                        <a:pt x="132" y="329"/>
                        <a:pt x="145" y="318"/>
                        <a:pt x="170" y="314"/>
                      </a:cubicBezTo>
                      <a:cubicBezTo>
                        <a:pt x="172" y="309"/>
                        <a:pt x="178" y="290"/>
                        <a:pt x="178" y="286"/>
                      </a:cubicBezTo>
                      <a:cubicBezTo>
                        <a:pt x="177" y="278"/>
                        <a:pt x="170" y="262"/>
                        <a:pt x="170" y="262"/>
                      </a:cubicBezTo>
                      <a:cubicBezTo>
                        <a:pt x="146" y="265"/>
                        <a:pt x="134" y="263"/>
                        <a:pt x="126" y="286"/>
                      </a:cubicBezTo>
                      <a:cubicBezTo>
                        <a:pt x="92" y="275"/>
                        <a:pt x="141" y="296"/>
                        <a:pt x="118" y="258"/>
                      </a:cubicBezTo>
                      <a:cubicBezTo>
                        <a:pt x="114" y="251"/>
                        <a:pt x="102" y="253"/>
                        <a:pt x="94" y="250"/>
                      </a:cubicBezTo>
                      <a:cubicBezTo>
                        <a:pt x="90" y="249"/>
                        <a:pt x="82" y="246"/>
                        <a:pt x="82" y="246"/>
                      </a:cubicBezTo>
                      <a:cubicBezTo>
                        <a:pt x="65" y="258"/>
                        <a:pt x="54" y="250"/>
                        <a:pt x="34" y="246"/>
                      </a:cubicBezTo>
                      <a:cubicBezTo>
                        <a:pt x="66" y="235"/>
                        <a:pt x="90" y="253"/>
                        <a:pt x="62" y="210"/>
                      </a:cubicBezTo>
                      <a:cubicBezTo>
                        <a:pt x="68" y="192"/>
                        <a:pt x="76" y="191"/>
                        <a:pt x="94" y="186"/>
                      </a:cubicBezTo>
                      <a:cubicBezTo>
                        <a:pt x="92" y="175"/>
                        <a:pt x="95" y="160"/>
                        <a:pt x="78" y="162"/>
                      </a:cubicBezTo>
                      <a:cubicBezTo>
                        <a:pt x="70" y="163"/>
                        <a:pt x="54" y="170"/>
                        <a:pt x="54" y="170"/>
                      </a:cubicBezTo>
                      <a:cubicBezTo>
                        <a:pt x="41" y="166"/>
                        <a:pt x="18" y="150"/>
                        <a:pt x="18" y="150"/>
                      </a:cubicBezTo>
                      <a:cubicBezTo>
                        <a:pt x="12" y="131"/>
                        <a:pt x="22" y="131"/>
                        <a:pt x="38" y="126"/>
                      </a:cubicBezTo>
                      <a:cubicBezTo>
                        <a:pt x="46" y="129"/>
                        <a:pt x="54" y="131"/>
                        <a:pt x="62" y="134"/>
                      </a:cubicBezTo>
                      <a:cubicBezTo>
                        <a:pt x="70" y="137"/>
                        <a:pt x="86" y="126"/>
                        <a:pt x="86" y="126"/>
                      </a:cubicBezTo>
                      <a:cubicBezTo>
                        <a:pt x="69" y="109"/>
                        <a:pt x="56" y="117"/>
                        <a:pt x="30" y="114"/>
                      </a:cubicBezTo>
                      <a:cubicBezTo>
                        <a:pt x="17" y="110"/>
                        <a:pt x="0" y="99"/>
                        <a:pt x="14" y="82"/>
                      </a:cubicBezTo>
                      <a:cubicBezTo>
                        <a:pt x="20" y="75"/>
                        <a:pt x="31" y="76"/>
                        <a:pt x="38" y="70"/>
                      </a:cubicBezTo>
                      <a:cubicBezTo>
                        <a:pt x="69" y="44"/>
                        <a:pt x="32" y="70"/>
                        <a:pt x="62" y="50"/>
                      </a:cubicBezTo>
                      <a:cubicBezTo>
                        <a:pt x="72" y="34"/>
                        <a:pt x="65" y="40"/>
                        <a:pt x="82" y="3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5884560" y="1543680"/>
                  <a:ext cx="1050480" cy="597240"/>
                </a:xfrm>
                <a:custGeom>
                  <a:avLst/>
                  <a:gdLst/>
                  <a:ahLst/>
                  <a:rect l="l" t="t" r="r" b="b"/>
                  <a:pathLst>
                    <a:path w="602" h="336">
                      <a:moveTo>
                        <a:pt x="312" y="336"/>
                      </a:moveTo>
                      <a:cubicBezTo>
                        <a:pt x="279" y="314"/>
                        <a:pt x="238" y="290"/>
                        <a:pt x="200" y="280"/>
                      </a:cubicBezTo>
                      <a:cubicBezTo>
                        <a:pt x="197" y="276"/>
                        <a:pt x="193" y="273"/>
                        <a:pt x="192" y="268"/>
                      </a:cubicBezTo>
                      <a:cubicBezTo>
                        <a:pt x="191" y="264"/>
                        <a:pt x="199" y="259"/>
                        <a:pt x="196" y="256"/>
                      </a:cubicBezTo>
                      <a:cubicBezTo>
                        <a:pt x="191" y="251"/>
                        <a:pt x="183" y="254"/>
                        <a:pt x="176" y="252"/>
                      </a:cubicBezTo>
                      <a:cubicBezTo>
                        <a:pt x="152" y="245"/>
                        <a:pt x="157" y="247"/>
                        <a:pt x="140" y="236"/>
                      </a:cubicBezTo>
                      <a:cubicBezTo>
                        <a:pt x="136" y="237"/>
                        <a:pt x="128" y="236"/>
                        <a:pt x="128" y="240"/>
                      </a:cubicBezTo>
                      <a:cubicBezTo>
                        <a:pt x="128" y="240"/>
                        <a:pt x="153" y="255"/>
                        <a:pt x="148" y="260"/>
                      </a:cubicBezTo>
                      <a:cubicBezTo>
                        <a:pt x="144" y="264"/>
                        <a:pt x="137" y="257"/>
                        <a:pt x="132" y="256"/>
                      </a:cubicBezTo>
                      <a:cubicBezTo>
                        <a:pt x="117" y="241"/>
                        <a:pt x="102" y="238"/>
                        <a:pt x="124" y="224"/>
                      </a:cubicBezTo>
                      <a:cubicBezTo>
                        <a:pt x="119" y="203"/>
                        <a:pt x="122" y="197"/>
                        <a:pt x="100" y="192"/>
                      </a:cubicBezTo>
                      <a:cubicBezTo>
                        <a:pt x="76" y="155"/>
                        <a:pt x="41" y="162"/>
                        <a:pt x="8" y="140"/>
                      </a:cubicBezTo>
                      <a:cubicBezTo>
                        <a:pt x="18" y="111"/>
                        <a:pt x="14" y="124"/>
                        <a:pt x="20" y="100"/>
                      </a:cubicBezTo>
                      <a:cubicBezTo>
                        <a:pt x="14" y="68"/>
                        <a:pt x="0" y="25"/>
                        <a:pt x="32" y="4"/>
                      </a:cubicBezTo>
                      <a:cubicBezTo>
                        <a:pt x="49" y="10"/>
                        <a:pt x="62" y="3"/>
                        <a:pt x="80" y="0"/>
                      </a:cubicBezTo>
                      <a:cubicBezTo>
                        <a:pt x="89" y="28"/>
                        <a:pt x="80" y="27"/>
                        <a:pt x="100" y="20"/>
                      </a:cubicBezTo>
                      <a:cubicBezTo>
                        <a:pt x="108" y="23"/>
                        <a:pt x="116" y="25"/>
                        <a:pt x="124" y="28"/>
                      </a:cubicBezTo>
                      <a:cubicBezTo>
                        <a:pt x="128" y="29"/>
                        <a:pt x="136" y="32"/>
                        <a:pt x="136" y="32"/>
                      </a:cubicBezTo>
                      <a:cubicBezTo>
                        <a:pt x="143" y="53"/>
                        <a:pt x="167" y="65"/>
                        <a:pt x="188" y="72"/>
                      </a:cubicBezTo>
                      <a:cubicBezTo>
                        <a:pt x="187" y="77"/>
                        <a:pt x="182" y="83"/>
                        <a:pt x="184" y="88"/>
                      </a:cubicBezTo>
                      <a:cubicBezTo>
                        <a:pt x="188" y="100"/>
                        <a:pt x="220" y="104"/>
                        <a:pt x="220" y="104"/>
                      </a:cubicBezTo>
                      <a:cubicBezTo>
                        <a:pt x="243" y="89"/>
                        <a:pt x="271" y="102"/>
                        <a:pt x="292" y="116"/>
                      </a:cubicBezTo>
                      <a:cubicBezTo>
                        <a:pt x="296" y="127"/>
                        <a:pt x="294" y="132"/>
                        <a:pt x="308" y="132"/>
                      </a:cubicBezTo>
                      <a:cubicBezTo>
                        <a:pt x="322" y="132"/>
                        <a:pt x="344" y="112"/>
                        <a:pt x="344" y="112"/>
                      </a:cubicBezTo>
                      <a:cubicBezTo>
                        <a:pt x="356" y="120"/>
                        <a:pt x="368" y="128"/>
                        <a:pt x="380" y="136"/>
                      </a:cubicBezTo>
                      <a:cubicBezTo>
                        <a:pt x="387" y="141"/>
                        <a:pt x="404" y="144"/>
                        <a:pt x="404" y="144"/>
                      </a:cubicBezTo>
                      <a:cubicBezTo>
                        <a:pt x="410" y="162"/>
                        <a:pt x="418" y="163"/>
                        <a:pt x="436" y="168"/>
                      </a:cubicBezTo>
                      <a:cubicBezTo>
                        <a:pt x="449" y="177"/>
                        <a:pt x="457" y="187"/>
                        <a:pt x="472" y="192"/>
                      </a:cubicBezTo>
                      <a:cubicBezTo>
                        <a:pt x="479" y="199"/>
                        <a:pt x="484" y="209"/>
                        <a:pt x="492" y="216"/>
                      </a:cubicBezTo>
                      <a:cubicBezTo>
                        <a:pt x="503" y="225"/>
                        <a:pt x="538" y="239"/>
                        <a:pt x="552" y="244"/>
                      </a:cubicBezTo>
                      <a:cubicBezTo>
                        <a:pt x="570" y="271"/>
                        <a:pt x="548" y="260"/>
                        <a:pt x="536" y="252"/>
                      </a:cubicBezTo>
                      <a:cubicBezTo>
                        <a:pt x="526" y="238"/>
                        <a:pt x="518" y="237"/>
                        <a:pt x="504" y="228"/>
                      </a:cubicBezTo>
                      <a:cubicBezTo>
                        <a:pt x="503" y="225"/>
                        <a:pt x="497" y="197"/>
                        <a:pt x="492" y="228"/>
                      </a:cubicBezTo>
                      <a:cubicBezTo>
                        <a:pt x="491" y="237"/>
                        <a:pt x="510" y="260"/>
                        <a:pt x="516" y="264"/>
                      </a:cubicBezTo>
                      <a:cubicBezTo>
                        <a:pt x="533" y="275"/>
                        <a:pt x="568" y="275"/>
                        <a:pt x="584" y="276"/>
                      </a:cubicBezTo>
                      <a:cubicBezTo>
                        <a:pt x="601" y="282"/>
                        <a:pt x="602" y="287"/>
                        <a:pt x="596" y="304"/>
                      </a:cubicBezTo>
                      <a:cubicBezTo>
                        <a:pt x="579" y="298"/>
                        <a:pt x="566" y="308"/>
                        <a:pt x="548" y="308"/>
                      </a:cubicBezTo>
                      <a:lnTo>
                        <a:pt x="312" y="336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164560" y="1672200"/>
                  <a:ext cx="57600" cy="4356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28" y="20"/>
                      </a:moveTo>
                      <a:cubicBezTo>
                        <a:pt x="12" y="15"/>
                        <a:pt x="0" y="8"/>
                        <a:pt x="24" y="0"/>
                      </a:cubicBezTo>
                      <a:cubicBezTo>
                        <a:pt x="27" y="4"/>
                        <a:pt x="31" y="7"/>
                        <a:pt x="32" y="12"/>
                      </a:cubicBezTo>
                      <a:cubicBezTo>
                        <a:pt x="33" y="16"/>
                        <a:pt x="30" y="20"/>
                        <a:pt x="28" y="24"/>
                      </a:cubicBezTo>
                      <a:cubicBezTo>
                        <a:pt x="27" y="25"/>
                        <a:pt x="28" y="21"/>
                        <a:pt x="28" y="2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896360" y="1430640"/>
                  <a:ext cx="87120" cy="2808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34" y="16"/>
                      </a:moveTo>
                      <a:cubicBezTo>
                        <a:pt x="0" y="8"/>
                        <a:pt x="27" y="5"/>
                        <a:pt x="42" y="0"/>
                      </a:cubicBezTo>
                      <a:cubicBezTo>
                        <a:pt x="47" y="16"/>
                        <a:pt x="50" y="11"/>
                        <a:pt x="34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4870800" y="1994040"/>
                  <a:ext cx="66240" cy="6624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21" y="23"/>
                      </a:moveTo>
                      <a:cubicBezTo>
                        <a:pt x="0" y="9"/>
                        <a:pt x="9" y="0"/>
                        <a:pt x="29" y="7"/>
                      </a:cubicBezTo>
                      <a:cubicBezTo>
                        <a:pt x="32" y="11"/>
                        <a:pt x="38" y="14"/>
                        <a:pt x="37" y="19"/>
                      </a:cubicBezTo>
                      <a:cubicBezTo>
                        <a:pt x="33" y="38"/>
                        <a:pt x="25" y="27"/>
                        <a:pt x="21" y="2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4962600" y="2012760"/>
                  <a:ext cx="40680" cy="3636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12" y="16"/>
                      </a:moveTo>
                      <a:cubicBezTo>
                        <a:pt x="9" y="12"/>
                        <a:pt x="1" y="7"/>
                        <a:pt x="4" y="4"/>
                      </a:cubicBezTo>
                      <a:cubicBezTo>
                        <a:pt x="8" y="0"/>
                        <a:pt x="17" y="4"/>
                        <a:pt x="20" y="8"/>
                      </a:cubicBezTo>
                      <a:cubicBezTo>
                        <a:pt x="23" y="11"/>
                        <a:pt x="17" y="16"/>
                        <a:pt x="16" y="20"/>
                      </a:cubicBezTo>
                      <a:cubicBezTo>
                        <a:pt x="2" y="10"/>
                        <a:pt x="0" y="10"/>
                        <a:pt x="12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4446000" y="2196360"/>
                  <a:ext cx="72000" cy="522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4208400" y="1266480"/>
                  <a:ext cx="272160" cy="98640"/>
                </a:xfrm>
                <a:custGeom>
                  <a:avLst/>
                  <a:gdLst/>
                  <a:ahLst/>
                  <a:rect l="l" t="t" r="r" b="b"/>
                  <a:pathLst>
                    <a:path w="156" h="56">
                      <a:moveTo>
                        <a:pt x="16" y="32"/>
                      </a:moveTo>
                      <a:cubicBezTo>
                        <a:pt x="4" y="13"/>
                        <a:pt x="6" y="5"/>
                        <a:pt x="28" y="0"/>
                      </a:cubicBezTo>
                      <a:cubicBezTo>
                        <a:pt x="57" y="10"/>
                        <a:pt x="44" y="6"/>
                        <a:pt x="68" y="12"/>
                      </a:cubicBezTo>
                      <a:cubicBezTo>
                        <a:pt x="85" y="24"/>
                        <a:pt x="110" y="17"/>
                        <a:pt x="132" y="20"/>
                      </a:cubicBezTo>
                      <a:cubicBezTo>
                        <a:pt x="156" y="56"/>
                        <a:pt x="115" y="35"/>
                        <a:pt x="104" y="28"/>
                      </a:cubicBezTo>
                      <a:cubicBezTo>
                        <a:pt x="71" y="39"/>
                        <a:pt x="123" y="24"/>
                        <a:pt x="56" y="28"/>
                      </a:cubicBezTo>
                      <a:cubicBezTo>
                        <a:pt x="48" y="29"/>
                        <a:pt x="32" y="36"/>
                        <a:pt x="32" y="36"/>
                      </a:cubicBezTo>
                      <a:cubicBezTo>
                        <a:pt x="5" y="27"/>
                        <a:pt x="0" y="24"/>
                        <a:pt x="16" y="3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3563280" y="1088640"/>
                  <a:ext cx="122400" cy="46440"/>
                </a:xfrm>
                <a:custGeom>
                  <a:avLst/>
                  <a:gdLst/>
                  <a:ahLst/>
                  <a:rect l="l" t="t" r="r" b="b"/>
                  <a:pathLst>
                    <a:path w="71" h="26">
                      <a:moveTo>
                        <a:pt x="54" y="16"/>
                      </a:moveTo>
                      <a:cubicBezTo>
                        <a:pt x="29" y="24"/>
                        <a:pt x="0" y="14"/>
                        <a:pt x="42" y="0"/>
                      </a:cubicBezTo>
                      <a:cubicBezTo>
                        <a:pt x="50" y="3"/>
                        <a:pt x="58" y="5"/>
                        <a:pt x="66" y="8"/>
                      </a:cubicBezTo>
                      <a:cubicBezTo>
                        <a:pt x="71" y="10"/>
                        <a:pt x="67" y="21"/>
                        <a:pt x="62" y="24"/>
                      </a:cubicBezTo>
                      <a:cubicBezTo>
                        <a:pt x="59" y="26"/>
                        <a:pt x="57" y="19"/>
                        <a:pt x="54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3608280" y="1131120"/>
                  <a:ext cx="114120" cy="70200"/>
                </a:xfrm>
                <a:custGeom>
                  <a:avLst/>
                  <a:gdLst/>
                  <a:ahLst/>
                  <a:rect l="l" t="t" r="r" b="b"/>
                  <a:pathLst>
                    <a:path w="66" h="40">
                      <a:moveTo>
                        <a:pt x="0" y="12"/>
                      </a:moveTo>
                      <a:cubicBezTo>
                        <a:pt x="23" y="9"/>
                        <a:pt x="39" y="3"/>
                        <a:pt x="60" y="8"/>
                      </a:cubicBezTo>
                      <a:cubicBezTo>
                        <a:pt x="66" y="26"/>
                        <a:pt x="59" y="30"/>
                        <a:pt x="44" y="40"/>
                      </a:cubicBezTo>
                      <a:cubicBezTo>
                        <a:pt x="27" y="34"/>
                        <a:pt x="17" y="33"/>
                        <a:pt x="4" y="20"/>
                      </a:cubicBezTo>
                      <a:cubicBezTo>
                        <a:pt x="9" y="0"/>
                        <a:pt x="12" y="0"/>
                        <a:pt x="0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3705840" y="1173240"/>
                  <a:ext cx="95760" cy="5076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0" y="20"/>
                      </a:moveTo>
                      <a:cubicBezTo>
                        <a:pt x="4" y="16"/>
                        <a:pt x="7" y="11"/>
                        <a:pt x="12" y="8"/>
                      </a:cubicBezTo>
                      <a:cubicBezTo>
                        <a:pt x="19" y="4"/>
                        <a:pt x="36" y="0"/>
                        <a:pt x="36" y="0"/>
                      </a:cubicBezTo>
                      <a:cubicBezTo>
                        <a:pt x="55" y="28"/>
                        <a:pt x="18" y="16"/>
                        <a:pt x="0" y="2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435040" y="1231200"/>
                  <a:ext cx="2773080" cy="1599120"/>
                </a:xfrm>
                <a:custGeom>
                  <a:avLst/>
                  <a:gdLst/>
                  <a:ahLst/>
                  <a:rect l="l" t="t" r="r" b="b"/>
                  <a:pathLst>
                    <a:path w="1589" h="900">
                      <a:moveTo>
                        <a:pt x="240" y="144"/>
                      </a:moveTo>
                      <a:cubicBezTo>
                        <a:pt x="246" y="127"/>
                        <a:pt x="252" y="118"/>
                        <a:pt x="256" y="100"/>
                      </a:cubicBezTo>
                      <a:cubicBezTo>
                        <a:pt x="265" y="114"/>
                        <a:pt x="272" y="119"/>
                        <a:pt x="288" y="124"/>
                      </a:cubicBezTo>
                      <a:cubicBezTo>
                        <a:pt x="291" y="128"/>
                        <a:pt x="292" y="133"/>
                        <a:pt x="296" y="136"/>
                      </a:cubicBezTo>
                      <a:cubicBezTo>
                        <a:pt x="303" y="140"/>
                        <a:pt x="320" y="144"/>
                        <a:pt x="320" y="144"/>
                      </a:cubicBezTo>
                      <a:cubicBezTo>
                        <a:pt x="316" y="131"/>
                        <a:pt x="316" y="118"/>
                        <a:pt x="328" y="108"/>
                      </a:cubicBezTo>
                      <a:cubicBezTo>
                        <a:pt x="335" y="102"/>
                        <a:pt x="344" y="97"/>
                        <a:pt x="352" y="92"/>
                      </a:cubicBezTo>
                      <a:cubicBezTo>
                        <a:pt x="356" y="89"/>
                        <a:pt x="364" y="84"/>
                        <a:pt x="364" y="84"/>
                      </a:cubicBezTo>
                      <a:cubicBezTo>
                        <a:pt x="374" y="69"/>
                        <a:pt x="378" y="66"/>
                        <a:pt x="396" y="72"/>
                      </a:cubicBezTo>
                      <a:cubicBezTo>
                        <a:pt x="407" y="89"/>
                        <a:pt x="404" y="93"/>
                        <a:pt x="388" y="104"/>
                      </a:cubicBezTo>
                      <a:cubicBezTo>
                        <a:pt x="364" y="140"/>
                        <a:pt x="350" y="168"/>
                        <a:pt x="304" y="180"/>
                      </a:cubicBezTo>
                      <a:cubicBezTo>
                        <a:pt x="305" y="184"/>
                        <a:pt x="304" y="191"/>
                        <a:pt x="308" y="192"/>
                      </a:cubicBezTo>
                      <a:cubicBezTo>
                        <a:pt x="316" y="193"/>
                        <a:pt x="332" y="184"/>
                        <a:pt x="332" y="184"/>
                      </a:cubicBezTo>
                      <a:cubicBezTo>
                        <a:pt x="336" y="180"/>
                        <a:pt x="339" y="175"/>
                        <a:pt x="344" y="172"/>
                      </a:cubicBezTo>
                      <a:cubicBezTo>
                        <a:pt x="348" y="170"/>
                        <a:pt x="353" y="171"/>
                        <a:pt x="356" y="168"/>
                      </a:cubicBezTo>
                      <a:cubicBezTo>
                        <a:pt x="360" y="165"/>
                        <a:pt x="361" y="159"/>
                        <a:pt x="364" y="156"/>
                      </a:cubicBezTo>
                      <a:cubicBezTo>
                        <a:pt x="367" y="153"/>
                        <a:pt x="372" y="151"/>
                        <a:pt x="376" y="148"/>
                      </a:cubicBezTo>
                      <a:cubicBezTo>
                        <a:pt x="404" y="166"/>
                        <a:pt x="397" y="173"/>
                        <a:pt x="404" y="152"/>
                      </a:cubicBezTo>
                      <a:cubicBezTo>
                        <a:pt x="382" y="130"/>
                        <a:pt x="388" y="124"/>
                        <a:pt x="412" y="108"/>
                      </a:cubicBezTo>
                      <a:cubicBezTo>
                        <a:pt x="417" y="92"/>
                        <a:pt x="424" y="80"/>
                        <a:pt x="432" y="104"/>
                      </a:cubicBezTo>
                      <a:cubicBezTo>
                        <a:pt x="444" y="69"/>
                        <a:pt x="436" y="75"/>
                        <a:pt x="476" y="88"/>
                      </a:cubicBezTo>
                      <a:cubicBezTo>
                        <a:pt x="482" y="105"/>
                        <a:pt x="478" y="110"/>
                        <a:pt x="468" y="124"/>
                      </a:cubicBezTo>
                      <a:cubicBezTo>
                        <a:pt x="472" y="125"/>
                        <a:pt x="477" y="131"/>
                        <a:pt x="480" y="128"/>
                      </a:cubicBezTo>
                      <a:cubicBezTo>
                        <a:pt x="486" y="122"/>
                        <a:pt x="485" y="112"/>
                        <a:pt x="488" y="104"/>
                      </a:cubicBezTo>
                      <a:cubicBezTo>
                        <a:pt x="489" y="100"/>
                        <a:pt x="492" y="92"/>
                        <a:pt x="492" y="92"/>
                      </a:cubicBezTo>
                      <a:cubicBezTo>
                        <a:pt x="486" y="74"/>
                        <a:pt x="489" y="70"/>
                        <a:pt x="504" y="60"/>
                      </a:cubicBezTo>
                      <a:cubicBezTo>
                        <a:pt x="524" y="64"/>
                        <a:pt x="533" y="62"/>
                        <a:pt x="552" y="56"/>
                      </a:cubicBezTo>
                      <a:cubicBezTo>
                        <a:pt x="584" y="24"/>
                        <a:pt x="643" y="25"/>
                        <a:pt x="684" y="20"/>
                      </a:cubicBezTo>
                      <a:cubicBezTo>
                        <a:pt x="703" y="14"/>
                        <a:pt x="720" y="11"/>
                        <a:pt x="736" y="0"/>
                      </a:cubicBezTo>
                      <a:cubicBezTo>
                        <a:pt x="759" y="8"/>
                        <a:pt x="756" y="13"/>
                        <a:pt x="784" y="8"/>
                      </a:cubicBezTo>
                      <a:cubicBezTo>
                        <a:pt x="801" y="14"/>
                        <a:pt x="807" y="36"/>
                        <a:pt x="788" y="48"/>
                      </a:cubicBezTo>
                      <a:cubicBezTo>
                        <a:pt x="776" y="56"/>
                        <a:pt x="745" y="65"/>
                        <a:pt x="732" y="68"/>
                      </a:cubicBezTo>
                      <a:cubicBezTo>
                        <a:pt x="720" y="76"/>
                        <a:pt x="693" y="83"/>
                        <a:pt x="720" y="92"/>
                      </a:cubicBezTo>
                      <a:cubicBezTo>
                        <a:pt x="747" y="74"/>
                        <a:pt x="764" y="69"/>
                        <a:pt x="796" y="64"/>
                      </a:cubicBezTo>
                      <a:cubicBezTo>
                        <a:pt x="799" y="68"/>
                        <a:pt x="799" y="76"/>
                        <a:pt x="804" y="76"/>
                      </a:cubicBezTo>
                      <a:cubicBezTo>
                        <a:pt x="815" y="77"/>
                        <a:pt x="836" y="68"/>
                        <a:pt x="836" y="68"/>
                      </a:cubicBezTo>
                      <a:cubicBezTo>
                        <a:pt x="850" y="77"/>
                        <a:pt x="860" y="80"/>
                        <a:pt x="876" y="84"/>
                      </a:cubicBezTo>
                      <a:cubicBezTo>
                        <a:pt x="894" y="78"/>
                        <a:pt x="886" y="70"/>
                        <a:pt x="904" y="64"/>
                      </a:cubicBezTo>
                      <a:cubicBezTo>
                        <a:pt x="922" y="70"/>
                        <a:pt x="917" y="82"/>
                        <a:pt x="936" y="76"/>
                      </a:cubicBezTo>
                      <a:cubicBezTo>
                        <a:pt x="939" y="80"/>
                        <a:pt x="946" y="84"/>
                        <a:pt x="944" y="88"/>
                      </a:cubicBezTo>
                      <a:cubicBezTo>
                        <a:pt x="939" y="96"/>
                        <a:pt x="920" y="104"/>
                        <a:pt x="920" y="104"/>
                      </a:cubicBezTo>
                      <a:cubicBezTo>
                        <a:pt x="928" y="116"/>
                        <a:pt x="931" y="126"/>
                        <a:pt x="952" y="120"/>
                      </a:cubicBezTo>
                      <a:cubicBezTo>
                        <a:pt x="956" y="119"/>
                        <a:pt x="953" y="111"/>
                        <a:pt x="956" y="108"/>
                      </a:cubicBezTo>
                      <a:cubicBezTo>
                        <a:pt x="959" y="105"/>
                        <a:pt x="964" y="105"/>
                        <a:pt x="968" y="104"/>
                      </a:cubicBezTo>
                      <a:cubicBezTo>
                        <a:pt x="976" y="107"/>
                        <a:pt x="984" y="109"/>
                        <a:pt x="992" y="112"/>
                      </a:cubicBezTo>
                      <a:cubicBezTo>
                        <a:pt x="996" y="113"/>
                        <a:pt x="1004" y="116"/>
                        <a:pt x="1004" y="116"/>
                      </a:cubicBezTo>
                      <a:cubicBezTo>
                        <a:pt x="1019" y="111"/>
                        <a:pt x="1025" y="117"/>
                        <a:pt x="1040" y="112"/>
                      </a:cubicBezTo>
                      <a:cubicBezTo>
                        <a:pt x="1043" y="108"/>
                        <a:pt x="1049" y="105"/>
                        <a:pt x="1048" y="100"/>
                      </a:cubicBezTo>
                      <a:cubicBezTo>
                        <a:pt x="1047" y="95"/>
                        <a:pt x="1038" y="96"/>
                        <a:pt x="1036" y="92"/>
                      </a:cubicBezTo>
                      <a:cubicBezTo>
                        <a:pt x="1032" y="82"/>
                        <a:pt x="1047" y="75"/>
                        <a:pt x="1052" y="72"/>
                      </a:cubicBezTo>
                      <a:cubicBezTo>
                        <a:pt x="1067" y="77"/>
                        <a:pt x="1076" y="81"/>
                        <a:pt x="1092" y="76"/>
                      </a:cubicBezTo>
                      <a:cubicBezTo>
                        <a:pt x="1096" y="77"/>
                        <a:pt x="1107" y="77"/>
                        <a:pt x="1104" y="80"/>
                      </a:cubicBezTo>
                      <a:cubicBezTo>
                        <a:pt x="1098" y="86"/>
                        <a:pt x="1080" y="88"/>
                        <a:pt x="1080" y="88"/>
                      </a:cubicBezTo>
                      <a:cubicBezTo>
                        <a:pt x="1085" y="92"/>
                        <a:pt x="1100" y="99"/>
                        <a:pt x="1100" y="108"/>
                      </a:cubicBezTo>
                      <a:cubicBezTo>
                        <a:pt x="1100" y="113"/>
                        <a:pt x="1090" y="116"/>
                        <a:pt x="1092" y="120"/>
                      </a:cubicBezTo>
                      <a:cubicBezTo>
                        <a:pt x="1094" y="124"/>
                        <a:pt x="1100" y="117"/>
                        <a:pt x="1104" y="116"/>
                      </a:cubicBezTo>
                      <a:cubicBezTo>
                        <a:pt x="1115" y="82"/>
                        <a:pt x="1118" y="94"/>
                        <a:pt x="1148" y="100"/>
                      </a:cubicBezTo>
                      <a:cubicBezTo>
                        <a:pt x="1147" y="104"/>
                        <a:pt x="1142" y="109"/>
                        <a:pt x="1144" y="112"/>
                      </a:cubicBezTo>
                      <a:cubicBezTo>
                        <a:pt x="1150" y="120"/>
                        <a:pt x="1168" y="128"/>
                        <a:pt x="1168" y="128"/>
                      </a:cubicBezTo>
                      <a:cubicBezTo>
                        <a:pt x="1184" y="123"/>
                        <a:pt x="1201" y="124"/>
                        <a:pt x="1216" y="132"/>
                      </a:cubicBezTo>
                      <a:cubicBezTo>
                        <a:pt x="1224" y="137"/>
                        <a:pt x="1240" y="148"/>
                        <a:pt x="1240" y="148"/>
                      </a:cubicBezTo>
                      <a:cubicBezTo>
                        <a:pt x="1271" y="195"/>
                        <a:pt x="1247" y="173"/>
                        <a:pt x="1260" y="160"/>
                      </a:cubicBezTo>
                      <a:cubicBezTo>
                        <a:pt x="1268" y="152"/>
                        <a:pt x="1281" y="154"/>
                        <a:pt x="1292" y="152"/>
                      </a:cubicBezTo>
                      <a:cubicBezTo>
                        <a:pt x="1317" y="160"/>
                        <a:pt x="1305" y="140"/>
                        <a:pt x="1328" y="156"/>
                      </a:cubicBezTo>
                      <a:cubicBezTo>
                        <a:pt x="1330" y="163"/>
                        <a:pt x="1339" y="178"/>
                        <a:pt x="1344" y="172"/>
                      </a:cubicBezTo>
                      <a:cubicBezTo>
                        <a:pt x="1349" y="166"/>
                        <a:pt x="1344" y="155"/>
                        <a:pt x="1348" y="148"/>
                      </a:cubicBezTo>
                      <a:cubicBezTo>
                        <a:pt x="1350" y="144"/>
                        <a:pt x="1356" y="145"/>
                        <a:pt x="1360" y="144"/>
                      </a:cubicBezTo>
                      <a:cubicBezTo>
                        <a:pt x="1390" y="164"/>
                        <a:pt x="1362" y="148"/>
                        <a:pt x="1432" y="156"/>
                      </a:cubicBezTo>
                      <a:cubicBezTo>
                        <a:pt x="1456" y="159"/>
                        <a:pt x="1499" y="198"/>
                        <a:pt x="1528" y="208"/>
                      </a:cubicBezTo>
                      <a:cubicBezTo>
                        <a:pt x="1557" y="198"/>
                        <a:pt x="1531" y="222"/>
                        <a:pt x="1560" y="212"/>
                      </a:cubicBezTo>
                      <a:cubicBezTo>
                        <a:pt x="1589" y="222"/>
                        <a:pt x="1560" y="228"/>
                        <a:pt x="1548" y="232"/>
                      </a:cubicBezTo>
                      <a:cubicBezTo>
                        <a:pt x="1539" y="258"/>
                        <a:pt x="1527" y="238"/>
                        <a:pt x="1508" y="232"/>
                      </a:cubicBezTo>
                      <a:cubicBezTo>
                        <a:pt x="1500" y="229"/>
                        <a:pt x="1484" y="224"/>
                        <a:pt x="1484" y="224"/>
                      </a:cubicBezTo>
                      <a:cubicBezTo>
                        <a:pt x="1475" y="197"/>
                        <a:pt x="1475" y="232"/>
                        <a:pt x="1456" y="244"/>
                      </a:cubicBezTo>
                      <a:cubicBezTo>
                        <a:pt x="1460" y="257"/>
                        <a:pt x="1476" y="280"/>
                        <a:pt x="1476" y="280"/>
                      </a:cubicBezTo>
                      <a:cubicBezTo>
                        <a:pt x="1459" y="286"/>
                        <a:pt x="1443" y="281"/>
                        <a:pt x="1424" y="284"/>
                      </a:cubicBezTo>
                      <a:cubicBezTo>
                        <a:pt x="1386" y="297"/>
                        <a:pt x="1402" y="325"/>
                        <a:pt x="1368" y="336"/>
                      </a:cubicBezTo>
                      <a:cubicBezTo>
                        <a:pt x="1362" y="330"/>
                        <a:pt x="1354" y="319"/>
                        <a:pt x="1344" y="320"/>
                      </a:cubicBezTo>
                      <a:cubicBezTo>
                        <a:pt x="1336" y="321"/>
                        <a:pt x="1320" y="328"/>
                        <a:pt x="1320" y="328"/>
                      </a:cubicBezTo>
                      <a:cubicBezTo>
                        <a:pt x="1319" y="324"/>
                        <a:pt x="1320" y="314"/>
                        <a:pt x="1316" y="316"/>
                      </a:cubicBezTo>
                      <a:cubicBezTo>
                        <a:pt x="1303" y="324"/>
                        <a:pt x="1288" y="363"/>
                        <a:pt x="1284" y="376"/>
                      </a:cubicBezTo>
                      <a:cubicBezTo>
                        <a:pt x="1289" y="397"/>
                        <a:pt x="1281" y="412"/>
                        <a:pt x="1276" y="432"/>
                      </a:cubicBezTo>
                      <a:cubicBezTo>
                        <a:pt x="1272" y="429"/>
                        <a:pt x="1269" y="423"/>
                        <a:pt x="1264" y="424"/>
                      </a:cubicBezTo>
                      <a:cubicBezTo>
                        <a:pt x="1257" y="425"/>
                        <a:pt x="1255" y="444"/>
                        <a:pt x="1252" y="448"/>
                      </a:cubicBezTo>
                      <a:cubicBezTo>
                        <a:pt x="1242" y="464"/>
                        <a:pt x="1226" y="482"/>
                        <a:pt x="1208" y="488"/>
                      </a:cubicBezTo>
                      <a:cubicBezTo>
                        <a:pt x="1196" y="453"/>
                        <a:pt x="1197" y="382"/>
                        <a:pt x="1240" y="368"/>
                      </a:cubicBezTo>
                      <a:cubicBezTo>
                        <a:pt x="1251" y="351"/>
                        <a:pt x="1270" y="343"/>
                        <a:pt x="1280" y="324"/>
                      </a:cubicBezTo>
                      <a:cubicBezTo>
                        <a:pt x="1286" y="312"/>
                        <a:pt x="1300" y="288"/>
                        <a:pt x="1300" y="288"/>
                      </a:cubicBezTo>
                      <a:cubicBezTo>
                        <a:pt x="1269" y="267"/>
                        <a:pt x="1270" y="311"/>
                        <a:pt x="1256" y="332"/>
                      </a:cubicBezTo>
                      <a:cubicBezTo>
                        <a:pt x="1237" y="326"/>
                        <a:pt x="1250" y="322"/>
                        <a:pt x="1244" y="304"/>
                      </a:cubicBezTo>
                      <a:cubicBezTo>
                        <a:pt x="1204" y="314"/>
                        <a:pt x="1245" y="299"/>
                        <a:pt x="1224" y="320"/>
                      </a:cubicBezTo>
                      <a:cubicBezTo>
                        <a:pt x="1217" y="327"/>
                        <a:pt x="1200" y="336"/>
                        <a:pt x="1200" y="336"/>
                      </a:cubicBezTo>
                      <a:cubicBezTo>
                        <a:pt x="1206" y="355"/>
                        <a:pt x="1196" y="355"/>
                        <a:pt x="1180" y="360"/>
                      </a:cubicBezTo>
                      <a:cubicBezTo>
                        <a:pt x="1168" y="359"/>
                        <a:pt x="1154" y="362"/>
                        <a:pt x="1144" y="356"/>
                      </a:cubicBezTo>
                      <a:cubicBezTo>
                        <a:pt x="1140" y="354"/>
                        <a:pt x="1153" y="349"/>
                        <a:pt x="1152" y="344"/>
                      </a:cubicBezTo>
                      <a:cubicBezTo>
                        <a:pt x="1151" y="340"/>
                        <a:pt x="1144" y="341"/>
                        <a:pt x="1140" y="340"/>
                      </a:cubicBezTo>
                      <a:cubicBezTo>
                        <a:pt x="1126" y="350"/>
                        <a:pt x="1121" y="354"/>
                        <a:pt x="1104" y="348"/>
                      </a:cubicBezTo>
                      <a:cubicBezTo>
                        <a:pt x="1079" y="354"/>
                        <a:pt x="1054" y="349"/>
                        <a:pt x="1032" y="364"/>
                      </a:cubicBezTo>
                      <a:cubicBezTo>
                        <a:pt x="1023" y="378"/>
                        <a:pt x="1016" y="383"/>
                        <a:pt x="1000" y="388"/>
                      </a:cubicBezTo>
                      <a:cubicBezTo>
                        <a:pt x="984" y="404"/>
                        <a:pt x="971" y="410"/>
                        <a:pt x="964" y="432"/>
                      </a:cubicBezTo>
                      <a:cubicBezTo>
                        <a:pt x="968" y="433"/>
                        <a:pt x="972" y="438"/>
                        <a:pt x="976" y="436"/>
                      </a:cubicBezTo>
                      <a:cubicBezTo>
                        <a:pt x="980" y="434"/>
                        <a:pt x="976" y="424"/>
                        <a:pt x="980" y="424"/>
                      </a:cubicBezTo>
                      <a:cubicBezTo>
                        <a:pt x="985" y="424"/>
                        <a:pt x="991" y="445"/>
                        <a:pt x="992" y="448"/>
                      </a:cubicBezTo>
                      <a:cubicBezTo>
                        <a:pt x="1000" y="443"/>
                        <a:pt x="1006" y="434"/>
                        <a:pt x="1016" y="444"/>
                      </a:cubicBezTo>
                      <a:cubicBezTo>
                        <a:pt x="1023" y="451"/>
                        <a:pt x="1044" y="460"/>
                        <a:pt x="1032" y="468"/>
                      </a:cubicBezTo>
                      <a:cubicBezTo>
                        <a:pt x="1017" y="513"/>
                        <a:pt x="1007" y="571"/>
                        <a:pt x="976" y="608"/>
                      </a:cubicBezTo>
                      <a:cubicBezTo>
                        <a:pt x="962" y="625"/>
                        <a:pt x="951" y="635"/>
                        <a:pt x="932" y="648"/>
                      </a:cubicBezTo>
                      <a:cubicBezTo>
                        <a:pt x="928" y="651"/>
                        <a:pt x="920" y="656"/>
                        <a:pt x="920" y="656"/>
                      </a:cubicBezTo>
                      <a:cubicBezTo>
                        <a:pt x="886" y="633"/>
                        <a:pt x="904" y="648"/>
                        <a:pt x="880" y="664"/>
                      </a:cubicBezTo>
                      <a:cubicBezTo>
                        <a:pt x="872" y="689"/>
                        <a:pt x="870" y="693"/>
                        <a:pt x="848" y="708"/>
                      </a:cubicBezTo>
                      <a:cubicBezTo>
                        <a:pt x="842" y="720"/>
                        <a:pt x="855" y="724"/>
                        <a:pt x="850" y="740"/>
                      </a:cubicBezTo>
                      <a:cubicBezTo>
                        <a:pt x="851" y="750"/>
                        <a:pt x="855" y="759"/>
                        <a:pt x="856" y="766"/>
                      </a:cubicBezTo>
                      <a:cubicBezTo>
                        <a:pt x="857" y="773"/>
                        <a:pt x="859" y="777"/>
                        <a:pt x="858" y="784"/>
                      </a:cubicBezTo>
                      <a:cubicBezTo>
                        <a:pt x="857" y="791"/>
                        <a:pt x="856" y="806"/>
                        <a:pt x="850" y="810"/>
                      </a:cubicBezTo>
                      <a:cubicBezTo>
                        <a:pt x="844" y="814"/>
                        <a:pt x="831" y="802"/>
                        <a:pt x="824" y="806"/>
                      </a:cubicBezTo>
                      <a:cubicBezTo>
                        <a:pt x="816" y="832"/>
                        <a:pt x="827" y="824"/>
                        <a:pt x="804" y="832"/>
                      </a:cubicBezTo>
                      <a:cubicBezTo>
                        <a:pt x="798" y="814"/>
                        <a:pt x="810" y="779"/>
                        <a:pt x="816" y="760"/>
                      </a:cubicBezTo>
                      <a:cubicBezTo>
                        <a:pt x="816" y="744"/>
                        <a:pt x="795" y="750"/>
                        <a:pt x="794" y="744"/>
                      </a:cubicBezTo>
                      <a:cubicBezTo>
                        <a:pt x="793" y="738"/>
                        <a:pt x="806" y="729"/>
                        <a:pt x="808" y="724"/>
                      </a:cubicBezTo>
                      <a:cubicBezTo>
                        <a:pt x="807" y="720"/>
                        <a:pt x="808" y="713"/>
                        <a:pt x="804" y="712"/>
                      </a:cubicBezTo>
                      <a:cubicBezTo>
                        <a:pt x="796" y="711"/>
                        <a:pt x="761" y="725"/>
                        <a:pt x="752" y="728"/>
                      </a:cubicBezTo>
                      <a:cubicBezTo>
                        <a:pt x="744" y="703"/>
                        <a:pt x="769" y="708"/>
                        <a:pt x="744" y="700"/>
                      </a:cubicBezTo>
                      <a:cubicBezTo>
                        <a:pt x="731" y="719"/>
                        <a:pt x="718" y="723"/>
                        <a:pt x="696" y="728"/>
                      </a:cubicBezTo>
                      <a:cubicBezTo>
                        <a:pt x="703" y="757"/>
                        <a:pt x="720" y="749"/>
                        <a:pt x="752" y="752"/>
                      </a:cubicBezTo>
                      <a:cubicBezTo>
                        <a:pt x="747" y="773"/>
                        <a:pt x="729" y="777"/>
                        <a:pt x="716" y="796"/>
                      </a:cubicBezTo>
                      <a:lnTo>
                        <a:pt x="730" y="822"/>
                      </a:lnTo>
                      <a:lnTo>
                        <a:pt x="740" y="858"/>
                      </a:lnTo>
                      <a:lnTo>
                        <a:pt x="724" y="862"/>
                      </a:lnTo>
                      <a:lnTo>
                        <a:pt x="736" y="876"/>
                      </a:lnTo>
                      <a:lnTo>
                        <a:pt x="720" y="900"/>
                      </a:lnTo>
                      <a:lnTo>
                        <a:pt x="0" y="892"/>
                      </a:lnTo>
                      <a:lnTo>
                        <a:pt x="240" y="144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4228560" y="2009880"/>
                  <a:ext cx="81720" cy="293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4180320" y="2256840"/>
                  <a:ext cx="241200" cy="1821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3918960" y="2429280"/>
                  <a:ext cx="327240" cy="3801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139280" y="2538000"/>
                  <a:ext cx="226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2306520" y="2799360"/>
                  <a:ext cx="1416240" cy="100116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2554920" y="3490200"/>
                  <a:ext cx="75960" cy="1512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640680" y="2966040"/>
                  <a:ext cx="77760" cy="1310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851280" y="2905560"/>
                  <a:ext cx="33840" cy="532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47520" y="2418120"/>
                  <a:ext cx="1771920" cy="2475000"/>
                </a:xfrm>
                <a:custGeom>
                  <a:avLst/>
                  <a:gdLst/>
                  <a:ahLst/>
                  <a:rect l="l" t="t" r="r" b="b"/>
                  <a:pathLst>
                    <a:path w="1015" h="1392">
                      <a:moveTo>
                        <a:pt x="824" y="1168"/>
                      </a:moveTo>
                      <a:lnTo>
                        <a:pt x="804" y="1204"/>
                      </a:lnTo>
                      <a:lnTo>
                        <a:pt x="816" y="1252"/>
                      </a:lnTo>
                      <a:lnTo>
                        <a:pt x="836" y="1300"/>
                      </a:lnTo>
                      <a:lnTo>
                        <a:pt x="816" y="1324"/>
                      </a:lnTo>
                      <a:lnTo>
                        <a:pt x="820" y="1360"/>
                      </a:lnTo>
                      <a:lnTo>
                        <a:pt x="820" y="1392"/>
                      </a:lnTo>
                      <a:lnTo>
                        <a:pt x="716" y="880"/>
                      </a:lnTo>
                      <a:lnTo>
                        <a:pt x="704" y="852"/>
                      </a:lnTo>
                      <a:lnTo>
                        <a:pt x="724" y="856"/>
                      </a:lnTo>
                      <a:lnTo>
                        <a:pt x="736" y="836"/>
                      </a:lnTo>
                      <a:lnTo>
                        <a:pt x="744" y="784"/>
                      </a:lnTo>
                      <a:lnTo>
                        <a:pt x="744" y="704"/>
                      </a:lnTo>
                      <a:lnTo>
                        <a:pt x="460" y="544"/>
                      </a:lnTo>
                      <a:lnTo>
                        <a:pt x="440" y="584"/>
                      </a:lnTo>
                      <a:lnTo>
                        <a:pt x="420" y="656"/>
                      </a:lnTo>
                      <a:lnTo>
                        <a:pt x="608" y="1168"/>
                      </a:lnTo>
                      <a:lnTo>
                        <a:pt x="444" y="1164"/>
                      </a:lnTo>
                      <a:lnTo>
                        <a:pt x="444" y="1112"/>
                      </a:lnTo>
                      <a:lnTo>
                        <a:pt x="444" y="1080"/>
                      </a:lnTo>
                      <a:lnTo>
                        <a:pt x="452" y="1048"/>
                      </a:lnTo>
                      <a:lnTo>
                        <a:pt x="452" y="1016"/>
                      </a:lnTo>
                      <a:cubicBezTo>
                        <a:pt x="423" y="987"/>
                        <a:pt x="441" y="967"/>
                        <a:pt x="420" y="936"/>
                      </a:cubicBezTo>
                      <a:cubicBezTo>
                        <a:pt x="411" y="901"/>
                        <a:pt x="397" y="887"/>
                        <a:pt x="376" y="856"/>
                      </a:cubicBezTo>
                      <a:cubicBezTo>
                        <a:pt x="371" y="848"/>
                        <a:pt x="365" y="840"/>
                        <a:pt x="360" y="832"/>
                      </a:cubicBezTo>
                      <a:lnTo>
                        <a:pt x="352" y="820"/>
                      </a:lnTo>
                      <a:cubicBezTo>
                        <a:pt x="352" y="820"/>
                        <a:pt x="364" y="784"/>
                        <a:pt x="364" y="784"/>
                      </a:cubicBezTo>
                      <a:cubicBezTo>
                        <a:pt x="367" y="776"/>
                        <a:pt x="372" y="760"/>
                        <a:pt x="372" y="760"/>
                      </a:cubicBezTo>
                      <a:cubicBezTo>
                        <a:pt x="371" y="756"/>
                        <a:pt x="368" y="752"/>
                        <a:pt x="368" y="748"/>
                      </a:cubicBezTo>
                      <a:cubicBezTo>
                        <a:pt x="369" y="740"/>
                        <a:pt x="376" y="724"/>
                        <a:pt x="376" y="724"/>
                      </a:cubicBezTo>
                      <a:cubicBezTo>
                        <a:pt x="361" y="701"/>
                        <a:pt x="352" y="704"/>
                        <a:pt x="328" y="712"/>
                      </a:cubicBezTo>
                      <a:cubicBezTo>
                        <a:pt x="323" y="704"/>
                        <a:pt x="313" y="700"/>
                        <a:pt x="308" y="692"/>
                      </a:cubicBezTo>
                      <a:cubicBezTo>
                        <a:pt x="275" y="640"/>
                        <a:pt x="321" y="689"/>
                        <a:pt x="288" y="656"/>
                      </a:cubicBezTo>
                      <a:cubicBezTo>
                        <a:pt x="248" y="661"/>
                        <a:pt x="266" y="657"/>
                        <a:pt x="232" y="668"/>
                      </a:cubicBezTo>
                      <a:cubicBezTo>
                        <a:pt x="228" y="669"/>
                        <a:pt x="220" y="672"/>
                        <a:pt x="220" y="672"/>
                      </a:cubicBezTo>
                      <a:cubicBezTo>
                        <a:pt x="217" y="676"/>
                        <a:pt x="216" y="681"/>
                        <a:pt x="212" y="684"/>
                      </a:cubicBezTo>
                      <a:cubicBezTo>
                        <a:pt x="205" y="688"/>
                        <a:pt x="188" y="692"/>
                        <a:pt x="188" y="692"/>
                      </a:cubicBezTo>
                      <a:cubicBezTo>
                        <a:pt x="157" y="671"/>
                        <a:pt x="173" y="673"/>
                        <a:pt x="140" y="684"/>
                      </a:cubicBezTo>
                      <a:cubicBezTo>
                        <a:pt x="132" y="687"/>
                        <a:pt x="116" y="692"/>
                        <a:pt x="116" y="692"/>
                      </a:cubicBezTo>
                      <a:cubicBezTo>
                        <a:pt x="93" y="727"/>
                        <a:pt x="68" y="656"/>
                        <a:pt x="52" y="640"/>
                      </a:cubicBezTo>
                      <a:cubicBezTo>
                        <a:pt x="47" y="625"/>
                        <a:pt x="35" y="607"/>
                        <a:pt x="32" y="592"/>
                      </a:cubicBezTo>
                      <a:cubicBezTo>
                        <a:pt x="30" y="584"/>
                        <a:pt x="32" y="575"/>
                        <a:pt x="28" y="568"/>
                      </a:cubicBezTo>
                      <a:cubicBezTo>
                        <a:pt x="26" y="564"/>
                        <a:pt x="20" y="563"/>
                        <a:pt x="16" y="560"/>
                      </a:cubicBezTo>
                      <a:cubicBezTo>
                        <a:pt x="5" y="526"/>
                        <a:pt x="22" y="580"/>
                        <a:pt x="8" y="524"/>
                      </a:cubicBezTo>
                      <a:cubicBezTo>
                        <a:pt x="6" y="516"/>
                        <a:pt x="0" y="500"/>
                        <a:pt x="0" y="500"/>
                      </a:cubicBezTo>
                      <a:cubicBezTo>
                        <a:pt x="4" y="480"/>
                        <a:pt x="3" y="471"/>
                        <a:pt x="20" y="460"/>
                      </a:cubicBezTo>
                      <a:cubicBezTo>
                        <a:pt x="30" y="420"/>
                        <a:pt x="25" y="438"/>
                        <a:pt x="36" y="404"/>
                      </a:cubicBezTo>
                      <a:cubicBezTo>
                        <a:pt x="39" y="396"/>
                        <a:pt x="44" y="380"/>
                        <a:pt x="44" y="380"/>
                      </a:cubicBezTo>
                      <a:cubicBezTo>
                        <a:pt x="39" y="365"/>
                        <a:pt x="36" y="363"/>
                        <a:pt x="48" y="344"/>
                      </a:cubicBezTo>
                      <a:cubicBezTo>
                        <a:pt x="53" y="336"/>
                        <a:pt x="64" y="320"/>
                        <a:pt x="64" y="320"/>
                      </a:cubicBezTo>
                      <a:cubicBezTo>
                        <a:pt x="55" y="294"/>
                        <a:pt x="53" y="290"/>
                        <a:pt x="76" y="272"/>
                      </a:cubicBezTo>
                      <a:cubicBezTo>
                        <a:pt x="84" y="266"/>
                        <a:pt x="100" y="256"/>
                        <a:pt x="100" y="256"/>
                      </a:cubicBezTo>
                      <a:cubicBezTo>
                        <a:pt x="108" y="245"/>
                        <a:pt x="112" y="231"/>
                        <a:pt x="120" y="220"/>
                      </a:cubicBezTo>
                      <a:cubicBezTo>
                        <a:pt x="132" y="203"/>
                        <a:pt x="152" y="199"/>
                        <a:pt x="168" y="188"/>
                      </a:cubicBezTo>
                      <a:cubicBezTo>
                        <a:pt x="186" y="162"/>
                        <a:pt x="222" y="145"/>
                        <a:pt x="248" y="128"/>
                      </a:cubicBezTo>
                      <a:cubicBezTo>
                        <a:pt x="259" y="111"/>
                        <a:pt x="260" y="95"/>
                        <a:pt x="280" y="88"/>
                      </a:cubicBezTo>
                      <a:cubicBezTo>
                        <a:pt x="294" y="74"/>
                        <a:pt x="310" y="68"/>
                        <a:pt x="328" y="56"/>
                      </a:cubicBezTo>
                      <a:cubicBezTo>
                        <a:pt x="332" y="53"/>
                        <a:pt x="340" y="48"/>
                        <a:pt x="340" y="48"/>
                      </a:cubicBezTo>
                      <a:cubicBezTo>
                        <a:pt x="352" y="30"/>
                        <a:pt x="364" y="19"/>
                        <a:pt x="384" y="12"/>
                      </a:cubicBezTo>
                      <a:cubicBezTo>
                        <a:pt x="400" y="59"/>
                        <a:pt x="448" y="11"/>
                        <a:pt x="476" y="8"/>
                      </a:cubicBezTo>
                      <a:cubicBezTo>
                        <a:pt x="497" y="6"/>
                        <a:pt x="519" y="5"/>
                        <a:pt x="540" y="4"/>
                      </a:cubicBezTo>
                      <a:cubicBezTo>
                        <a:pt x="549" y="5"/>
                        <a:pt x="559" y="9"/>
                        <a:pt x="568" y="8"/>
                      </a:cubicBezTo>
                      <a:cubicBezTo>
                        <a:pt x="576" y="7"/>
                        <a:pt x="592" y="0"/>
                        <a:pt x="592" y="0"/>
                      </a:cubicBezTo>
                      <a:cubicBezTo>
                        <a:pt x="617" y="16"/>
                        <a:pt x="604" y="31"/>
                        <a:pt x="596" y="56"/>
                      </a:cubicBezTo>
                      <a:cubicBezTo>
                        <a:pt x="593" y="64"/>
                        <a:pt x="572" y="64"/>
                        <a:pt x="572" y="64"/>
                      </a:cubicBezTo>
                      <a:cubicBezTo>
                        <a:pt x="564" y="89"/>
                        <a:pt x="592" y="97"/>
                        <a:pt x="612" y="104"/>
                      </a:cubicBezTo>
                      <a:cubicBezTo>
                        <a:pt x="623" y="136"/>
                        <a:pt x="626" y="149"/>
                        <a:pt x="660" y="160"/>
                      </a:cubicBezTo>
                      <a:cubicBezTo>
                        <a:pt x="686" y="134"/>
                        <a:pt x="647" y="124"/>
                        <a:pt x="696" y="108"/>
                      </a:cubicBezTo>
                      <a:cubicBezTo>
                        <a:pt x="717" y="115"/>
                        <a:pt x="722" y="132"/>
                        <a:pt x="740" y="140"/>
                      </a:cubicBezTo>
                      <a:cubicBezTo>
                        <a:pt x="752" y="145"/>
                        <a:pt x="764" y="148"/>
                        <a:pt x="776" y="152"/>
                      </a:cubicBezTo>
                      <a:cubicBezTo>
                        <a:pt x="780" y="153"/>
                        <a:pt x="788" y="156"/>
                        <a:pt x="788" y="156"/>
                      </a:cubicBezTo>
                      <a:cubicBezTo>
                        <a:pt x="814" y="147"/>
                        <a:pt x="814" y="145"/>
                        <a:pt x="836" y="160"/>
                      </a:cubicBezTo>
                      <a:cubicBezTo>
                        <a:pt x="843" y="180"/>
                        <a:pt x="841" y="164"/>
                        <a:pt x="832" y="184"/>
                      </a:cubicBezTo>
                      <a:cubicBezTo>
                        <a:pt x="829" y="192"/>
                        <a:pt x="824" y="208"/>
                        <a:pt x="824" y="208"/>
                      </a:cubicBezTo>
                      <a:cubicBezTo>
                        <a:pt x="828" y="250"/>
                        <a:pt x="827" y="319"/>
                        <a:pt x="852" y="356"/>
                      </a:cubicBezTo>
                      <a:cubicBezTo>
                        <a:pt x="845" y="376"/>
                        <a:pt x="840" y="395"/>
                        <a:pt x="836" y="416"/>
                      </a:cubicBezTo>
                      <a:cubicBezTo>
                        <a:pt x="840" y="431"/>
                        <a:pt x="847" y="441"/>
                        <a:pt x="852" y="456"/>
                      </a:cubicBezTo>
                      <a:cubicBezTo>
                        <a:pt x="853" y="468"/>
                        <a:pt x="852" y="481"/>
                        <a:pt x="856" y="492"/>
                      </a:cubicBezTo>
                      <a:cubicBezTo>
                        <a:pt x="858" y="498"/>
                        <a:pt x="885" y="515"/>
                        <a:pt x="892" y="536"/>
                      </a:cubicBezTo>
                      <a:cubicBezTo>
                        <a:pt x="884" y="559"/>
                        <a:pt x="898" y="581"/>
                        <a:pt x="920" y="588"/>
                      </a:cubicBezTo>
                      <a:cubicBezTo>
                        <a:pt x="938" y="582"/>
                        <a:pt x="949" y="584"/>
                        <a:pt x="960" y="568"/>
                      </a:cubicBezTo>
                      <a:cubicBezTo>
                        <a:pt x="982" y="572"/>
                        <a:pt x="987" y="575"/>
                        <a:pt x="1000" y="556"/>
                      </a:cubicBezTo>
                      <a:cubicBezTo>
                        <a:pt x="1004" y="557"/>
                        <a:pt x="1011" y="556"/>
                        <a:pt x="1012" y="560"/>
                      </a:cubicBezTo>
                      <a:cubicBezTo>
                        <a:pt x="1015" y="571"/>
                        <a:pt x="1003" y="608"/>
                        <a:pt x="1000" y="620"/>
                      </a:cubicBezTo>
                      <a:cubicBezTo>
                        <a:pt x="994" y="645"/>
                        <a:pt x="999" y="619"/>
                        <a:pt x="988" y="644"/>
                      </a:cubicBezTo>
                      <a:cubicBezTo>
                        <a:pt x="971" y="683"/>
                        <a:pt x="962" y="723"/>
                        <a:pt x="924" y="748"/>
                      </a:cubicBezTo>
                      <a:cubicBezTo>
                        <a:pt x="914" y="762"/>
                        <a:pt x="906" y="763"/>
                        <a:pt x="892" y="772"/>
                      </a:cubicBezTo>
                      <a:cubicBezTo>
                        <a:pt x="878" y="793"/>
                        <a:pt x="862" y="814"/>
                        <a:pt x="844" y="832"/>
                      </a:cubicBezTo>
                      <a:cubicBezTo>
                        <a:pt x="834" y="861"/>
                        <a:pt x="826" y="891"/>
                        <a:pt x="816" y="920"/>
                      </a:cubicBezTo>
                      <a:cubicBezTo>
                        <a:pt x="817" y="927"/>
                        <a:pt x="818" y="933"/>
                        <a:pt x="820" y="940"/>
                      </a:cubicBezTo>
                      <a:cubicBezTo>
                        <a:pt x="822" y="948"/>
                        <a:pt x="828" y="964"/>
                        <a:pt x="828" y="964"/>
                      </a:cubicBezTo>
                      <a:cubicBezTo>
                        <a:pt x="832" y="993"/>
                        <a:pt x="835" y="1019"/>
                        <a:pt x="856" y="1040"/>
                      </a:cubicBezTo>
                      <a:cubicBezTo>
                        <a:pt x="859" y="1048"/>
                        <a:pt x="861" y="1056"/>
                        <a:pt x="864" y="1064"/>
                      </a:cubicBezTo>
                      <a:cubicBezTo>
                        <a:pt x="865" y="1068"/>
                        <a:pt x="868" y="1076"/>
                        <a:pt x="868" y="1076"/>
                      </a:cubicBezTo>
                      <a:cubicBezTo>
                        <a:pt x="865" y="1095"/>
                        <a:pt x="853" y="1168"/>
                        <a:pt x="824" y="116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731880" y="3125520"/>
                  <a:ext cx="747000" cy="2001600"/>
                </a:xfrm>
                <a:custGeom>
                  <a:avLst/>
                  <a:gdLst/>
                  <a:ahLst/>
                  <a:rect l="l" t="t" r="r" b="b"/>
                  <a:pathLst>
                    <a:path w="428" h="1126">
                      <a:moveTo>
                        <a:pt x="52" y="762"/>
                      </a:moveTo>
                      <a:lnTo>
                        <a:pt x="120" y="870"/>
                      </a:lnTo>
                      <a:lnTo>
                        <a:pt x="136" y="898"/>
                      </a:lnTo>
                      <a:lnTo>
                        <a:pt x="168" y="962"/>
                      </a:lnTo>
                      <a:cubicBezTo>
                        <a:pt x="196" y="1018"/>
                        <a:pt x="169" y="983"/>
                        <a:pt x="196" y="998"/>
                      </a:cubicBezTo>
                      <a:cubicBezTo>
                        <a:pt x="204" y="1003"/>
                        <a:pt x="220" y="1014"/>
                        <a:pt x="220" y="1014"/>
                      </a:cubicBezTo>
                      <a:cubicBezTo>
                        <a:pt x="229" y="1028"/>
                        <a:pt x="244" y="1045"/>
                        <a:pt x="260" y="1050"/>
                      </a:cubicBezTo>
                      <a:cubicBezTo>
                        <a:pt x="272" y="1062"/>
                        <a:pt x="279" y="1070"/>
                        <a:pt x="284" y="1086"/>
                      </a:cubicBezTo>
                      <a:cubicBezTo>
                        <a:pt x="280" y="1098"/>
                        <a:pt x="276" y="1099"/>
                        <a:pt x="288" y="1110"/>
                      </a:cubicBezTo>
                      <a:cubicBezTo>
                        <a:pt x="295" y="1116"/>
                        <a:pt x="312" y="1126"/>
                        <a:pt x="312" y="1126"/>
                      </a:cubicBezTo>
                      <a:cubicBezTo>
                        <a:pt x="347" y="1114"/>
                        <a:pt x="376" y="1092"/>
                        <a:pt x="412" y="1086"/>
                      </a:cubicBezTo>
                      <a:cubicBezTo>
                        <a:pt x="418" y="1068"/>
                        <a:pt x="424" y="1052"/>
                        <a:pt x="428" y="1034"/>
                      </a:cubicBezTo>
                      <a:cubicBezTo>
                        <a:pt x="422" y="1016"/>
                        <a:pt x="424" y="1026"/>
                        <a:pt x="424" y="1002"/>
                      </a:cubicBezTo>
                      <a:lnTo>
                        <a:pt x="424" y="938"/>
                      </a:lnTo>
                      <a:lnTo>
                        <a:pt x="416" y="878"/>
                      </a:lnTo>
                      <a:lnTo>
                        <a:pt x="400" y="698"/>
                      </a:lnTo>
                      <a:lnTo>
                        <a:pt x="348" y="570"/>
                      </a:lnTo>
                      <a:lnTo>
                        <a:pt x="324" y="546"/>
                      </a:lnTo>
                      <a:lnTo>
                        <a:pt x="320" y="510"/>
                      </a:lnTo>
                      <a:lnTo>
                        <a:pt x="312" y="482"/>
                      </a:lnTo>
                      <a:lnTo>
                        <a:pt x="312" y="434"/>
                      </a:lnTo>
                      <a:lnTo>
                        <a:pt x="308" y="406"/>
                      </a:lnTo>
                      <a:lnTo>
                        <a:pt x="340" y="382"/>
                      </a:lnTo>
                      <a:lnTo>
                        <a:pt x="384" y="374"/>
                      </a:lnTo>
                      <a:lnTo>
                        <a:pt x="384" y="258"/>
                      </a:lnTo>
                      <a:cubicBezTo>
                        <a:pt x="311" y="226"/>
                        <a:pt x="19" y="0"/>
                        <a:pt x="80" y="182"/>
                      </a:cubicBezTo>
                      <a:cubicBezTo>
                        <a:pt x="54" y="200"/>
                        <a:pt x="85" y="183"/>
                        <a:pt x="48" y="186"/>
                      </a:cubicBezTo>
                      <a:cubicBezTo>
                        <a:pt x="40" y="187"/>
                        <a:pt x="24" y="194"/>
                        <a:pt x="24" y="194"/>
                      </a:cubicBezTo>
                      <a:lnTo>
                        <a:pt x="0" y="282"/>
                      </a:lnTo>
                      <a:lnTo>
                        <a:pt x="168" y="734"/>
                      </a:lnTo>
                      <a:lnTo>
                        <a:pt x="52" y="762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1658520" y="4261680"/>
                  <a:ext cx="162000" cy="505800"/>
                </a:xfrm>
                <a:custGeom>
                  <a:avLst/>
                  <a:gdLst/>
                  <a:ahLst/>
                  <a:rect l="l" t="t" r="r" b="b"/>
                  <a:pathLst>
                    <a:path w="93" h="284">
                      <a:moveTo>
                        <a:pt x="25" y="83"/>
                      </a:moveTo>
                      <a:cubicBezTo>
                        <a:pt x="47" y="68"/>
                        <a:pt x="49" y="53"/>
                        <a:pt x="53" y="27"/>
                      </a:cubicBezTo>
                      <a:cubicBezTo>
                        <a:pt x="48" y="7"/>
                        <a:pt x="53" y="0"/>
                        <a:pt x="73" y="7"/>
                      </a:cubicBezTo>
                      <a:cubicBezTo>
                        <a:pt x="79" y="25"/>
                        <a:pt x="87" y="38"/>
                        <a:pt x="93" y="55"/>
                      </a:cubicBezTo>
                      <a:cubicBezTo>
                        <a:pt x="84" y="91"/>
                        <a:pt x="88" y="77"/>
                        <a:pt x="81" y="99"/>
                      </a:cubicBezTo>
                      <a:cubicBezTo>
                        <a:pt x="77" y="130"/>
                        <a:pt x="74" y="129"/>
                        <a:pt x="81" y="163"/>
                      </a:cubicBezTo>
                      <a:cubicBezTo>
                        <a:pt x="83" y="175"/>
                        <a:pt x="93" y="199"/>
                        <a:pt x="93" y="199"/>
                      </a:cubicBezTo>
                      <a:cubicBezTo>
                        <a:pt x="92" y="223"/>
                        <a:pt x="92" y="247"/>
                        <a:pt x="89" y="271"/>
                      </a:cubicBezTo>
                      <a:cubicBezTo>
                        <a:pt x="88" y="276"/>
                        <a:pt x="86" y="282"/>
                        <a:pt x="81" y="283"/>
                      </a:cubicBezTo>
                      <a:cubicBezTo>
                        <a:pt x="73" y="284"/>
                        <a:pt x="57" y="275"/>
                        <a:pt x="57" y="275"/>
                      </a:cubicBezTo>
                      <a:cubicBezTo>
                        <a:pt x="50" y="253"/>
                        <a:pt x="48" y="244"/>
                        <a:pt x="29" y="231"/>
                      </a:cubicBezTo>
                      <a:cubicBezTo>
                        <a:pt x="12" y="205"/>
                        <a:pt x="0" y="210"/>
                        <a:pt x="21" y="179"/>
                      </a:cubicBezTo>
                      <a:cubicBezTo>
                        <a:pt x="17" y="159"/>
                        <a:pt x="12" y="139"/>
                        <a:pt x="5" y="119"/>
                      </a:cubicBezTo>
                      <a:cubicBezTo>
                        <a:pt x="9" y="103"/>
                        <a:pt x="13" y="95"/>
                        <a:pt x="25" y="8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604880" y="4243320"/>
                  <a:ext cx="30960" cy="3492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14"/>
                      </a:moveTo>
                      <a:cubicBezTo>
                        <a:pt x="1" y="10"/>
                        <a:pt x="0" y="4"/>
                        <a:pt x="4" y="2"/>
                      </a:cubicBezTo>
                      <a:cubicBezTo>
                        <a:pt x="8" y="0"/>
                        <a:pt x="14" y="2"/>
                        <a:pt x="16" y="6"/>
                      </a:cubicBezTo>
                      <a:cubicBezTo>
                        <a:pt x="18" y="10"/>
                        <a:pt x="16" y="16"/>
                        <a:pt x="12" y="18"/>
                      </a:cubicBezTo>
                      <a:cubicBezTo>
                        <a:pt x="8" y="20"/>
                        <a:pt x="4" y="15"/>
                        <a:pt x="0" y="1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1906920" y="3974760"/>
                  <a:ext cx="32400" cy="648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870200" y="3371760"/>
                  <a:ext cx="37800" cy="34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255960" y="2628360"/>
                  <a:ext cx="100080" cy="536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1490400" y="2141280"/>
                  <a:ext cx="1209960" cy="123732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68520" y="1350000"/>
                  <a:ext cx="2229480" cy="1182240"/>
                </a:xfrm>
                <a:custGeom>
                  <a:avLst/>
                  <a:gdLst/>
                  <a:ahLst/>
                  <a:rect l="l" t="t" r="r" b="b"/>
                  <a:pathLst>
                    <a:path w="1277" h="665">
                      <a:moveTo>
                        <a:pt x="1180" y="541"/>
                      </a:moveTo>
                      <a:cubicBezTo>
                        <a:pt x="1212" y="377"/>
                        <a:pt x="1247" y="214"/>
                        <a:pt x="1276" y="49"/>
                      </a:cubicBezTo>
                      <a:cubicBezTo>
                        <a:pt x="1277" y="44"/>
                        <a:pt x="1267" y="54"/>
                        <a:pt x="1264" y="57"/>
                      </a:cubicBezTo>
                      <a:cubicBezTo>
                        <a:pt x="1255" y="66"/>
                        <a:pt x="1232" y="77"/>
                        <a:pt x="1232" y="77"/>
                      </a:cubicBezTo>
                      <a:cubicBezTo>
                        <a:pt x="1216" y="66"/>
                        <a:pt x="1203" y="63"/>
                        <a:pt x="1184" y="69"/>
                      </a:cubicBezTo>
                      <a:cubicBezTo>
                        <a:pt x="1164" y="64"/>
                        <a:pt x="1150" y="71"/>
                        <a:pt x="1164" y="49"/>
                      </a:cubicBezTo>
                      <a:cubicBezTo>
                        <a:pt x="1132" y="38"/>
                        <a:pt x="1153" y="59"/>
                        <a:pt x="1140" y="69"/>
                      </a:cubicBezTo>
                      <a:cubicBezTo>
                        <a:pt x="1132" y="75"/>
                        <a:pt x="1121" y="74"/>
                        <a:pt x="1112" y="77"/>
                      </a:cubicBezTo>
                      <a:cubicBezTo>
                        <a:pt x="1102" y="48"/>
                        <a:pt x="1093" y="65"/>
                        <a:pt x="1080" y="85"/>
                      </a:cubicBezTo>
                      <a:cubicBezTo>
                        <a:pt x="1075" y="92"/>
                        <a:pt x="1063" y="92"/>
                        <a:pt x="1056" y="97"/>
                      </a:cubicBezTo>
                      <a:cubicBezTo>
                        <a:pt x="1053" y="101"/>
                        <a:pt x="1053" y="108"/>
                        <a:pt x="1048" y="109"/>
                      </a:cubicBezTo>
                      <a:cubicBezTo>
                        <a:pt x="1040" y="110"/>
                        <a:pt x="1024" y="101"/>
                        <a:pt x="1024" y="101"/>
                      </a:cubicBezTo>
                      <a:cubicBezTo>
                        <a:pt x="1020" y="104"/>
                        <a:pt x="1015" y="106"/>
                        <a:pt x="1012" y="109"/>
                      </a:cubicBezTo>
                      <a:cubicBezTo>
                        <a:pt x="1009" y="112"/>
                        <a:pt x="1008" y="118"/>
                        <a:pt x="1004" y="121"/>
                      </a:cubicBezTo>
                      <a:cubicBezTo>
                        <a:pt x="997" y="127"/>
                        <a:pt x="980" y="137"/>
                        <a:pt x="980" y="137"/>
                      </a:cubicBezTo>
                      <a:cubicBezTo>
                        <a:pt x="932" y="132"/>
                        <a:pt x="917" y="132"/>
                        <a:pt x="952" y="97"/>
                      </a:cubicBezTo>
                      <a:cubicBezTo>
                        <a:pt x="957" y="81"/>
                        <a:pt x="952" y="66"/>
                        <a:pt x="972" y="73"/>
                      </a:cubicBezTo>
                      <a:cubicBezTo>
                        <a:pt x="973" y="77"/>
                        <a:pt x="979" y="96"/>
                        <a:pt x="984" y="97"/>
                      </a:cubicBezTo>
                      <a:cubicBezTo>
                        <a:pt x="1000" y="99"/>
                        <a:pt x="1016" y="88"/>
                        <a:pt x="1032" y="85"/>
                      </a:cubicBezTo>
                      <a:cubicBezTo>
                        <a:pt x="1039" y="64"/>
                        <a:pt x="1025" y="40"/>
                        <a:pt x="1008" y="29"/>
                      </a:cubicBezTo>
                      <a:cubicBezTo>
                        <a:pt x="980" y="36"/>
                        <a:pt x="985" y="18"/>
                        <a:pt x="956" y="37"/>
                      </a:cubicBezTo>
                      <a:cubicBezTo>
                        <a:pt x="955" y="33"/>
                        <a:pt x="949" y="28"/>
                        <a:pt x="952" y="25"/>
                      </a:cubicBezTo>
                      <a:cubicBezTo>
                        <a:pt x="958" y="19"/>
                        <a:pt x="968" y="20"/>
                        <a:pt x="976" y="17"/>
                      </a:cubicBezTo>
                      <a:cubicBezTo>
                        <a:pt x="980" y="16"/>
                        <a:pt x="988" y="13"/>
                        <a:pt x="988" y="13"/>
                      </a:cubicBezTo>
                      <a:cubicBezTo>
                        <a:pt x="984" y="10"/>
                        <a:pt x="981" y="5"/>
                        <a:pt x="976" y="5"/>
                      </a:cubicBezTo>
                      <a:cubicBezTo>
                        <a:pt x="958" y="5"/>
                        <a:pt x="942" y="14"/>
                        <a:pt x="924" y="17"/>
                      </a:cubicBezTo>
                      <a:cubicBezTo>
                        <a:pt x="918" y="34"/>
                        <a:pt x="913" y="35"/>
                        <a:pt x="896" y="29"/>
                      </a:cubicBezTo>
                      <a:cubicBezTo>
                        <a:pt x="900" y="16"/>
                        <a:pt x="898" y="15"/>
                        <a:pt x="912" y="9"/>
                      </a:cubicBezTo>
                      <a:cubicBezTo>
                        <a:pt x="920" y="6"/>
                        <a:pt x="936" y="1"/>
                        <a:pt x="936" y="1"/>
                      </a:cubicBezTo>
                      <a:cubicBezTo>
                        <a:pt x="936" y="1"/>
                        <a:pt x="928" y="4"/>
                        <a:pt x="924" y="5"/>
                      </a:cubicBezTo>
                      <a:cubicBezTo>
                        <a:pt x="915" y="7"/>
                        <a:pt x="905" y="8"/>
                        <a:pt x="896" y="9"/>
                      </a:cubicBezTo>
                      <a:cubicBezTo>
                        <a:pt x="856" y="22"/>
                        <a:pt x="917" y="0"/>
                        <a:pt x="872" y="25"/>
                      </a:cubicBezTo>
                      <a:cubicBezTo>
                        <a:pt x="855" y="34"/>
                        <a:pt x="834" y="35"/>
                        <a:pt x="816" y="41"/>
                      </a:cubicBezTo>
                      <a:cubicBezTo>
                        <a:pt x="802" y="62"/>
                        <a:pt x="785" y="69"/>
                        <a:pt x="760" y="73"/>
                      </a:cubicBezTo>
                      <a:cubicBezTo>
                        <a:pt x="746" y="83"/>
                        <a:pt x="741" y="87"/>
                        <a:pt x="724" y="81"/>
                      </a:cubicBezTo>
                      <a:cubicBezTo>
                        <a:pt x="700" y="89"/>
                        <a:pt x="691" y="113"/>
                        <a:pt x="680" y="117"/>
                      </a:cubicBezTo>
                      <a:cubicBezTo>
                        <a:pt x="667" y="121"/>
                        <a:pt x="653" y="120"/>
                        <a:pt x="640" y="121"/>
                      </a:cubicBezTo>
                      <a:cubicBezTo>
                        <a:pt x="623" y="127"/>
                        <a:pt x="608" y="138"/>
                        <a:pt x="592" y="145"/>
                      </a:cubicBezTo>
                      <a:cubicBezTo>
                        <a:pt x="549" y="164"/>
                        <a:pt x="583" y="143"/>
                        <a:pt x="556" y="161"/>
                      </a:cubicBezTo>
                      <a:cubicBezTo>
                        <a:pt x="552" y="174"/>
                        <a:pt x="544" y="184"/>
                        <a:pt x="540" y="197"/>
                      </a:cubicBezTo>
                      <a:cubicBezTo>
                        <a:pt x="548" y="220"/>
                        <a:pt x="565" y="207"/>
                        <a:pt x="580" y="197"/>
                      </a:cubicBezTo>
                      <a:cubicBezTo>
                        <a:pt x="581" y="193"/>
                        <a:pt x="581" y="187"/>
                        <a:pt x="584" y="185"/>
                      </a:cubicBezTo>
                      <a:cubicBezTo>
                        <a:pt x="591" y="180"/>
                        <a:pt x="608" y="177"/>
                        <a:pt x="608" y="177"/>
                      </a:cubicBezTo>
                      <a:cubicBezTo>
                        <a:pt x="621" y="196"/>
                        <a:pt x="608" y="190"/>
                        <a:pt x="592" y="201"/>
                      </a:cubicBezTo>
                      <a:cubicBezTo>
                        <a:pt x="574" y="229"/>
                        <a:pt x="579" y="216"/>
                        <a:pt x="572" y="237"/>
                      </a:cubicBezTo>
                      <a:cubicBezTo>
                        <a:pt x="573" y="241"/>
                        <a:pt x="572" y="247"/>
                        <a:pt x="576" y="249"/>
                      </a:cubicBezTo>
                      <a:cubicBezTo>
                        <a:pt x="584" y="253"/>
                        <a:pt x="597" y="235"/>
                        <a:pt x="600" y="233"/>
                      </a:cubicBezTo>
                      <a:cubicBezTo>
                        <a:pt x="610" y="226"/>
                        <a:pt x="625" y="223"/>
                        <a:pt x="636" y="217"/>
                      </a:cubicBezTo>
                      <a:cubicBezTo>
                        <a:pt x="645" y="212"/>
                        <a:pt x="650" y="201"/>
                        <a:pt x="660" y="197"/>
                      </a:cubicBezTo>
                      <a:cubicBezTo>
                        <a:pt x="671" y="192"/>
                        <a:pt x="684" y="193"/>
                        <a:pt x="696" y="189"/>
                      </a:cubicBezTo>
                      <a:cubicBezTo>
                        <a:pt x="691" y="169"/>
                        <a:pt x="691" y="165"/>
                        <a:pt x="708" y="153"/>
                      </a:cubicBezTo>
                      <a:cubicBezTo>
                        <a:pt x="720" y="134"/>
                        <a:pt x="743" y="136"/>
                        <a:pt x="764" y="129"/>
                      </a:cubicBezTo>
                      <a:cubicBezTo>
                        <a:pt x="777" y="125"/>
                        <a:pt x="800" y="109"/>
                        <a:pt x="800" y="109"/>
                      </a:cubicBezTo>
                      <a:cubicBezTo>
                        <a:pt x="813" y="89"/>
                        <a:pt x="816" y="88"/>
                        <a:pt x="840" y="93"/>
                      </a:cubicBezTo>
                      <a:cubicBezTo>
                        <a:pt x="829" y="126"/>
                        <a:pt x="789" y="124"/>
                        <a:pt x="764" y="141"/>
                      </a:cubicBezTo>
                      <a:cubicBezTo>
                        <a:pt x="752" y="158"/>
                        <a:pt x="739" y="159"/>
                        <a:pt x="732" y="181"/>
                      </a:cubicBezTo>
                      <a:cubicBezTo>
                        <a:pt x="733" y="185"/>
                        <a:pt x="732" y="192"/>
                        <a:pt x="736" y="193"/>
                      </a:cubicBezTo>
                      <a:cubicBezTo>
                        <a:pt x="744" y="194"/>
                        <a:pt x="760" y="185"/>
                        <a:pt x="760" y="185"/>
                      </a:cubicBezTo>
                      <a:cubicBezTo>
                        <a:pt x="792" y="196"/>
                        <a:pt x="776" y="196"/>
                        <a:pt x="808" y="185"/>
                      </a:cubicBezTo>
                      <a:cubicBezTo>
                        <a:pt x="816" y="182"/>
                        <a:pt x="832" y="177"/>
                        <a:pt x="832" y="177"/>
                      </a:cubicBezTo>
                      <a:cubicBezTo>
                        <a:pt x="836" y="180"/>
                        <a:pt x="844" y="180"/>
                        <a:pt x="844" y="185"/>
                      </a:cubicBezTo>
                      <a:cubicBezTo>
                        <a:pt x="844" y="190"/>
                        <a:pt x="837" y="191"/>
                        <a:pt x="832" y="193"/>
                      </a:cubicBezTo>
                      <a:cubicBezTo>
                        <a:pt x="809" y="202"/>
                        <a:pt x="783" y="205"/>
                        <a:pt x="760" y="213"/>
                      </a:cubicBezTo>
                      <a:cubicBezTo>
                        <a:pt x="753" y="235"/>
                        <a:pt x="739" y="223"/>
                        <a:pt x="724" y="213"/>
                      </a:cubicBezTo>
                      <a:cubicBezTo>
                        <a:pt x="708" y="218"/>
                        <a:pt x="709" y="227"/>
                        <a:pt x="700" y="241"/>
                      </a:cubicBezTo>
                      <a:cubicBezTo>
                        <a:pt x="672" y="232"/>
                        <a:pt x="684" y="230"/>
                        <a:pt x="664" y="237"/>
                      </a:cubicBezTo>
                      <a:cubicBezTo>
                        <a:pt x="660" y="249"/>
                        <a:pt x="648" y="262"/>
                        <a:pt x="636" y="269"/>
                      </a:cubicBezTo>
                      <a:cubicBezTo>
                        <a:pt x="629" y="273"/>
                        <a:pt x="620" y="274"/>
                        <a:pt x="612" y="277"/>
                      </a:cubicBezTo>
                      <a:cubicBezTo>
                        <a:pt x="608" y="278"/>
                        <a:pt x="600" y="281"/>
                        <a:pt x="600" y="281"/>
                      </a:cubicBezTo>
                      <a:cubicBezTo>
                        <a:pt x="592" y="278"/>
                        <a:pt x="585" y="267"/>
                        <a:pt x="576" y="269"/>
                      </a:cubicBezTo>
                      <a:cubicBezTo>
                        <a:pt x="571" y="270"/>
                        <a:pt x="572" y="278"/>
                        <a:pt x="568" y="281"/>
                      </a:cubicBezTo>
                      <a:cubicBezTo>
                        <a:pt x="560" y="286"/>
                        <a:pt x="549" y="286"/>
                        <a:pt x="540" y="289"/>
                      </a:cubicBezTo>
                      <a:cubicBezTo>
                        <a:pt x="536" y="288"/>
                        <a:pt x="499" y="276"/>
                        <a:pt x="520" y="265"/>
                      </a:cubicBezTo>
                      <a:cubicBezTo>
                        <a:pt x="528" y="261"/>
                        <a:pt x="539" y="262"/>
                        <a:pt x="548" y="261"/>
                      </a:cubicBezTo>
                      <a:cubicBezTo>
                        <a:pt x="554" y="243"/>
                        <a:pt x="562" y="237"/>
                        <a:pt x="544" y="225"/>
                      </a:cubicBezTo>
                      <a:cubicBezTo>
                        <a:pt x="517" y="232"/>
                        <a:pt x="524" y="249"/>
                        <a:pt x="500" y="257"/>
                      </a:cubicBezTo>
                      <a:cubicBezTo>
                        <a:pt x="488" y="275"/>
                        <a:pt x="473" y="278"/>
                        <a:pt x="456" y="289"/>
                      </a:cubicBezTo>
                      <a:cubicBezTo>
                        <a:pt x="436" y="282"/>
                        <a:pt x="448" y="284"/>
                        <a:pt x="420" y="293"/>
                      </a:cubicBezTo>
                      <a:cubicBezTo>
                        <a:pt x="411" y="296"/>
                        <a:pt x="396" y="309"/>
                        <a:pt x="396" y="309"/>
                      </a:cubicBezTo>
                      <a:cubicBezTo>
                        <a:pt x="391" y="328"/>
                        <a:pt x="388" y="336"/>
                        <a:pt x="368" y="329"/>
                      </a:cubicBezTo>
                      <a:cubicBezTo>
                        <a:pt x="351" y="335"/>
                        <a:pt x="333" y="339"/>
                        <a:pt x="316" y="345"/>
                      </a:cubicBezTo>
                      <a:cubicBezTo>
                        <a:pt x="290" y="341"/>
                        <a:pt x="284" y="340"/>
                        <a:pt x="276" y="365"/>
                      </a:cubicBezTo>
                      <a:cubicBezTo>
                        <a:pt x="248" y="356"/>
                        <a:pt x="260" y="354"/>
                        <a:pt x="240" y="361"/>
                      </a:cubicBezTo>
                      <a:cubicBezTo>
                        <a:pt x="225" y="384"/>
                        <a:pt x="241" y="417"/>
                        <a:pt x="212" y="437"/>
                      </a:cubicBezTo>
                      <a:cubicBezTo>
                        <a:pt x="193" y="466"/>
                        <a:pt x="197" y="456"/>
                        <a:pt x="172" y="473"/>
                      </a:cubicBezTo>
                      <a:cubicBezTo>
                        <a:pt x="160" y="469"/>
                        <a:pt x="148" y="465"/>
                        <a:pt x="136" y="461"/>
                      </a:cubicBezTo>
                      <a:cubicBezTo>
                        <a:pt x="132" y="460"/>
                        <a:pt x="124" y="457"/>
                        <a:pt x="124" y="457"/>
                      </a:cubicBezTo>
                      <a:cubicBezTo>
                        <a:pt x="113" y="458"/>
                        <a:pt x="101" y="456"/>
                        <a:pt x="92" y="461"/>
                      </a:cubicBezTo>
                      <a:cubicBezTo>
                        <a:pt x="80" y="468"/>
                        <a:pt x="69" y="498"/>
                        <a:pt x="56" y="509"/>
                      </a:cubicBezTo>
                      <a:cubicBezTo>
                        <a:pt x="48" y="516"/>
                        <a:pt x="40" y="523"/>
                        <a:pt x="32" y="529"/>
                      </a:cubicBezTo>
                      <a:cubicBezTo>
                        <a:pt x="24" y="535"/>
                        <a:pt x="8" y="545"/>
                        <a:pt x="8" y="545"/>
                      </a:cubicBezTo>
                      <a:cubicBezTo>
                        <a:pt x="14" y="562"/>
                        <a:pt x="10" y="567"/>
                        <a:pt x="0" y="581"/>
                      </a:cubicBezTo>
                      <a:cubicBezTo>
                        <a:pt x="25" y="585"/>
                        <a:pt x="32" y="585"/>
                        <a:pt x="24" y="609"/>
                      </a:cubicBezTo>
                      <a:cubicBezTo>
                        <a:pt x="40" y="614"/>
                        <a:pt x="71" y="603"/>
                        <a:pt x="88" y="601"/>
                      </a:cubicBezTo>
                      <a:cubicBezTo>
                        <a:pt x="105" y="595"/>
                        <a:pt x="108" y="604"/>
                        <a:pt x="124" y="593"/>
                      </a:cubicBezTo>
                      <a:cubicBezTo>
                        <a:pt x="133" y="565"/>
                        <a:pt x="124" y="572"/>
                        <a:pt x="144" y="565"/>
                      </a:cubicBezTo>
                      <a:cubicBezTo>
                        <a:pt x="148" y="561"/>
                        <a:pt x="153" y="558"/>
                        <a:pt x="156" y="553"/>
                      </a:cubicBezTo>
                      <a:cubicBezTo>
                        <a:pt x="158" y="549"/>
                        <a:pt x="157" y="544"/>
                        <a:pt x="160" y="541"/>
                      </a:cubicBezTo>
                      <a:cubicBezTo>
                        <a:pt x="166" y="533"/>
                        <a:pt x="208" y="513"/>
                        <a:pt x="220" y="509"/>
                      </a:cubicBezTo>
                      <a:cubicBezTo>
                        <a:pt x="238" y="481"/>
                        <a:pt x="227" y="488"/>
                        <a:pt x="248" y="481"/>
                      </a:cubicBezTo>
                      <a:cubicBezTo>
                        <a:pt x="265" y="487"/>
                        <a:pt x="266" y="499"/>
                        <a:pt x="284" y="493"/>
                      </a:cubicBezTo>
                      <a:cubicBezTo>
                        <a:pt x="296" y="481"/>
                        <a:pt x="306" y="478"/>
                        <a:pt x="320" y="469"/>
                      </a:cubicBezTo>
                      <a:cubicBezTo>
                        <a:pt x="336" y="493"/>
                        <a:pt x="323" y="469"/>
                        <a:pt x="332" y="513"/>
                      </a:cubicBezTo>
                      <a:cubicBezTo>
                        <a:pt x="336" y="532"/>
                        <a:pt x="346" y="543"/>
                        <a:pt x="352" y="561"/>
                      </a:cubicBezTo>
                      <a:cubicBezTo>
                        <a:pt x="337" y="571"/>
                        <a:pt x="341" y="579"/>
                        <a:pt x="324" y="585"/>
                      </a:cubicBezTo>
                      <a:cubicBezTo>
                        <a:pt x="308" y="609"/>
                        <a:pt x="302" y="596"/>
                        <a:pt x="280" y="589"/>
                      </a:cubicBezTo>
                      <a:cubicBezTo>
                        <a:pt x="284" y="605"/>
                        <a:pt x="298" y="624"/>
                        <a:pt x="312" y="633"/>
                      </a:cubicBezTo>
                      <a:cubicBezTo>
                        <a:pt x="324" y="598"/>
                        <a:pt x="314" y="613"/>
                        <a:pt x="344" y="597"/>
                      </a:cubicBezTo>
                      <a:cubicBezTo>
                        <a:pt x="352" y="592"/>
                        <a:pt x="368" y="581"/>
                        <a:pt x="368" y="581"/>
                      </a:cubicBezTo>
                      <a:cubicBezTo>
                        <a:pt x="369" y="572"/>
                        <a:pt x="365" y="560"/>
                        <a:pt x="372" y="553"/>
                      </a:cubicBezTo>
                      <a:cubicBezTo>
                        <a:pt x="376" y="549"/>
                        <a:pt x="378" y="564"/>
                        <a:pt x="384" y="565"/>
                      </a:cubicBezTo>
                      <a:cubicBezTo>
                        <a:pt x="389" y="566"/>
                        <a:pt x="392" y="560"/>
                        <a:pt x="396" y="557"/>
                      </a:cubicBezTo>
                      <a:cubicBezTo>
                        <a:pt x="390" y="538"/>
                        <a:pt x="374" y="528"/>
                        <a:pt x="368" y="509"/>
                      </a:cubicBezTo>
                      <a:cubicBezTo>
                        <a:pt x="371" y="501"/>
                        <a:pt x="379" y="493"/>
                        <a:pt x="376" y="485"/>
                      </a:cubicBezTo>
                      <a:cubicBezTo>
                        <a:pt x="373" y="477"/>
                        <a:pt x="368" y="461"/>
                        <a:pt x="368" y="461"/>
                      </a:cubicBezTo>
                      <a:cubicBezTo>
                        <a:pt x="380" y="443"/>
                        <a:pt x="385" y="449"/>
                        <a:pt x="396" y="465"/>
                      </a:cubicBezTo>
                      <a:cubicBezTo>
                        <a:pt x="402" y="488"/>
                        <a:pt x="411" y="497"/>
                        <a:pt x="424" y="517"/>
                      </a:cubicBezTo>
                      <a:cubicBezTo>
                        <a:pt x="418" y="536"/>
                        <a:pt x="430" y="537"/>
                        <a:pt x="412" y="549"/>
                      </a:cubicBezTo>
                      <a:cubicBezTo>
                        <a:pt x="389" y="583"/>
                        <a:pt x="414" y="540"/>
                        <a:pt x="408" y="573"/>
                      </a:cubicBezTo>
                      <a:cubicBezTo>
                        <a:pt x="407" y="582"/>
                        <a:pt x="399" y="589"/>
                        <a:pt x="396" y="597"/>
                      </a:cubicBezTo>
                      <a:cubicBezTo>
                        <a:pt x="402" y="614"/>
                        <a:pt x="398" y="619"/>
                        <a:pt x="388" y="633"/>
                      </a:cubicBezTo>
                      <a:cubicBezTo>
                        <a:pt x="399" y="665"/>
                        <a:pt x="419" y="636"/>
                        <a:pt x="440" y="629"/>
                      </a:cubicBezTo>
                      <a:cubicBezTo>
                        <a:pt x="445" y="614"/>
                        <a:pt x="439" y="608"/>
                        <a:pt x="444" y="593"/>
                      </a:cubicBezTo>
                      <a:cubicBezTo>
                        <a:pt x="440" y="581"/>
                        <a:pt x="428" y="567"/>
                        <a:pt x="444" y="557"/>
                      </a:cubicBezTo>
                      <a:cubicBezTo>
                        <a:pt x="451" y="553"/>
                        <a:pt x="468" y="549"/>
                        <a:pt x="468" y="549"/>
                      </a:cubicBezTo>
                      <a:cubicBezTo>
                        <a:pt x="484" y="554"/>
                        <a:pt x="483" y="563"/>
                        <a:pt x="492" y="577"/>
                      </a:cubicBezTo>
                      <a:cubicBezTo>
                        <a:pt x="504" y="542"/>
                        <a:pt x="492" y="552"/>
                        <a:pt x="536" y="557"/>
                      </a:cubicBezTo>
                      <a:cubicBezTo>
                        <a:pt x="528" y="526"/>
                        <a:pt x="542" y="527"/>
                        <a:pt x="568" y="521"/>
                      </a:cubicBezTo>
                      <a:cubicBezTo>
                        <a:pt x="569" y="517"/>
                        <a:pt x="576" y="490"/>
                        <a:pt x="584" y="485"/>
                      </a:cubicBezTo>
                      <a:cubicBezTo>
                        <a:pt x="591" y="481"/>
                        <a:pt x="608" y="477"/>
                        <a:pt x="608" y="477"/>
                      </a:cubicBezTo>
                      <a:cubicBezTo>
                        <a:pt x="639" y="485"/>
                        <a:pt x="614" y="492"/>
                        <a:pt x="640" y="501"/>
                      </a:cubicBezTo>
                      <a:cubicBezTo>
                        <a:pt x="644" y="497"/>
                        <a:pt x="646" y="490"/>
                        <a:pt x="652" y="489"/>
                      </a:cubicBezTo>
                      <a:cubicBezTo>
                        <a:pt x="661" y="487"/>
                        <a:pt x="672" y="497"/>
                        <a:pt x="680" y="493"/>
                      </a:cubicBezTo>
                      <a:cubicBezTo>
                        <a:pt x="685" y="491"/>
                        <a:pt x="680" y="481"/>
                        <a:pt x="676" y="477"/>
                      </a:cubicBezTo>
                      <a:cubicBezTo>
                        <a:pt x="670" y="472"/>
                        <a:pt x="660" y="472"/>
                        <a:pt x="652" y="469"/>
                      </a:cubicBezTo>
                      <a:cubicBezTo>
                        <a:pt x="648" y="468"/>
                        <a:pt x="640" y="465"/>
                        <a:pt x="640" y="465"/>
                      </a:cubicBezTo>
                      <a:cubicBezTo>
                        <a:pt x="654" y="455"/>
                        <a:pt x="659" y="451"/>
                        <a:pt x="676" y="457"/>
                      </a:cubicBezTo>
                      <a:cubicBezTo>
                        <a:pt x="685" y="455"/>
                        <a:pt x="694" y="448"/>
                        <a:pt x="704" y="449"/>
                      </a:cubicBezTo>
                      <a:cubicBezTo>
                        <a:pt x="718" y="451"/>
                        <a:pt x="759" y="463"/>
                        <a:pt x="772" y="469"/>
                      </a:cubicBezTo>
                      <a:cubicBezTo>
                        <a:pt x="784" y="475"/>
                        <a:pt x="808" y="485"/>
                        <a:pt x="808" y="485"/>
                      </a:cubicBezTo>
                      <a:cubicBezTo>
                        <a:pt x="814" y="484"/>
                        <a:pt x="833" y="481"/>
                        <a:pt x="840" y="477"/>
                      </a:cubicBezTo>
                      <a:cubicBezTo>
                        <a:pt x="848" y="472"/>
                        <a:pt x="864" y="461"/>
                        <a:pt x="864" y="461"/>
                      </a:cubicBezTo>
                      <a:cubicBezTo>
                        <a:pt x="869" y="462"/>
                        <a:pt x="889" y="465"/>
                        <a:pt x="892" y="473"/>
                      </a:cubicBezTo>
                      <a:cubicBezTo>
                        <a:pt x="897" y="486"/>
                        <a:pt x="876" y="498"/>
                        <a:pt x="868" y="501"/>
                      </a:cubicBezTo>
                      <a:cubicBezTo>
                        <a:pt x="856" y="513"/>
                        <a:pt x="845" y="513"/>
                        <a:pt x="840" y="529"/>
                      </a:cubicBezTo>
                      <a:cubicBezTo>
                        <a:pt x="845" y="545"/>
                        <a:pt x="839" y="557"/>
                        <a:pt x="844" y="573"/>
                      </a:cubicBezTo>
                      <a:cubicBezTo>
                        <a:pt x="854" y="558"/>
                        <a:pt x="858" y="555"/>
                        <a:pt x="876" y="561"/>
                      </a:cubicBezTo>
                      <a:cubicBezTo>
                        <a:pt x="885" y="588"/>
                        <a:pt x="895" y="558"/>
                        <a:pt x="908" y="549"/>
                      </a:cubicBezTo>
                      <a:cubicBezTo>
                        <a:pt x="911" y="545"/>
                        <a:pt x="912" y="540"/>
                        <a:pt x="916" y="537"/>
                      </a:cubicBezTo>
                      <a:cubicBezTo>
                        <a:pt x="919" y="534"/>
                        <a:pt x="925" y="536"/>
                        <a:pt x="928" y="533"/>
                      </a:cubicBezTo>
                      <a:cubicBezTo>
                        <a:pt x="931" y="530"/>
                        <a:pt x="930" y="525"/>
                        <a:pt x="932" y="521"/>
                      </a:cubicBezTo>
                      <a:cubicBezTo>
                        <a:pt x="939" y="506"/>
                        <a:pt x="949" y="502"/>
                        <a:pt x="964" y="497"/>
                      </a:cubicBezTo>
                      <a:cubicBezTo>
                        <a:pt x="987" y="500"/>
                        <a:pt x="1017" y="513"/>
                        <a:pt x="1040" y="513"/>
                      </a:cubicBezTo>
                      <a:lnTo>
                        <a:pt x="1180" y="541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104840" y="1650960"/>
                  <a:ext cx="392040" cy="302040"/>
                </a:xfrm>
                <a:custGeom>
                  <a:avLst/>
                  <a:gdLst/>
                  <a:ahLst/>
                  <a:rect l="l" t="t" r="r" b="b"/>
                  <a:pathLst>
                    <a:path w="225" h="170">
                      <a:moveTo>
                        <a:pt x="14" y="156"/>
                      </a:moveTo>
                      <a:cubicBezTo>
                        <a:pt x="22" y="153"/>
                        <a:pt x="30" y="151"/>
                        <a:pt x="38" y="148"/>
                      </a:cubicBezTo>
                      <a:cubicBezTo>
                        <a:pt x="42" y="147"/>
                        <a:pt x="50" y="144"/>
                        <a:pt x="50" y="144"/>
                      </a:cubicBezTo>
                      <a:cubicBezTo>
                        <a:pt x="56" y="126"/>
                        <a:pt x="43" y="122"/>
                        <a:pt x="62" y="116"/>
                      </a:cubicBezTo>
                      <a:cubicBezTo>
                        <a:pt x="80" y="89"/>
                        <a:pt x="56" y="119"/>
                        <a:pt x="94" y="100"/>
                      </a:cubicBezTo>
                      <a:cubicBezTo>
                        <a:pt x="102" y="96"/>
                        <a:pt x="106" y="85"/>
                        <a:pt x="114" y="80"/>
                      </a:cubicBezTo>
                      <a:cubicBezTo>
                        <a:pt x="131" y="55"/>
                        <a:pt x="104" y="46"/>
                        <a:pt x="146" y="32"/>
                      </a:cubicBezTo>
                      <a:cubicBezTo>
                        <a:pt x="153" y="11"/>
                        <a:pt x="180" y="12"/>
                        <a:pt x="198" y="0"/>
                      </a:cubicBezTo>
                      <a:cubicBezTo>
                        <a:pt x="225" y="9"/>
                        <a:pt x="203" y="16"/>
                        <a:pt x="190" y="20"/>
                      </a:cubicBezTo>
                      <a:cubicBezTo>
                        <a:pt x="198" y="43"/>
                        <a:pt x="175" y="34"/>
                        <a:pt x="158" y="40"/>
                      </a:cubicBezTo>
                      <a:cubicBezTo>
                        <a:pt x="144" y="60"/>
                        <a:pt x="146" y="91"/>
                        <a:pt x="126" y="104"/>
                      </a:cubicBezTo>
                      <a:cubicBezTo>
                        <a:pt x="127" y="108"/>
                        <a:pt x="131" y="112"/>
                        <a:pt x="130" y="116"/>
                      </a:cubicBezTo>
                      <a:cubicBezTo>
                        <a:pt x="127" y="125"/>
                        <a:pt x="114" y="140"/>
                        <a:pt x="114" y="140"/>
                      </a:cubicBezTo>
                      <a:cubicBezTo>
                        <a:pt x="143" y="150"/>
                        <a:pt x="95" y="153"/>
                        <a:pt x="78" y="164"/>
                      </a:cubicBezTo>
                      <a:cubicBezTo>
                        <a:pt x="68" y="161"/>
                        <a:pt x="0" y="170"/>
                        <a:pt x="14" y="15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087920" y="1748520"/>
                  <a:ext cx="205560" cy="118440"/>
                </a:xfrm>
                <a:custGeom>
                  <a:avLst/>
                  <a:gdLst/>
                  <a:ahLst/>
                  <a:rect l="l" t="t" r="r" b="b"/>
                  <a:pathLst>
                    <a:path w="118" h="67">
                      <a:moveTo>
                        <a:pt x="12" y="49"/>
                      </a:moveTo>
                      <a:cubicBezTo>
                        <a:pt x="23" y="42"/>
                        <a:pt x="48" y="33"/>
                        <a:pt x="48" y="33"/>
                      </a:cubicBezTo>
                      <a:cubicBezTo>
                        <a:pt x="56" y="8"/>
                        <a:pt x="70" y="12"/>
                        <a:pt x="96" y="9"/>
                      </a:cubicBezTo>
                      <a:cubicBezTo>
                        <a:pt x="100" y="6"/>
                        <a:pt x="103" y="0"/>
                        <a:pt x="108" y="1"/>
                      </a:cubicBezTo>
                      <a:cubicBezTo>
                        <a:pt x="113" y="2"/>
                        <a:pt x="118" y="9"/>
                        <a:pt x="116" y="13"/>
                      </a:cubicBezTo>
                      <a:cubicBezTo>
                        <a:pt x="106" y="37"/>
                        <a:pt x="95" y="36"/>
                        <a:pt x="76" y="41"/>
                      </a:cubicBezTo>
                      <a:cubicBezTo>
                        <a:pt x="62" y="50"/>
                        <a:pt x="54" y="51"/>
                        <a:pt x="44" y="65"/>
                      </a:cubicBezTo>
                      <a:cubicBezTo>
                        <a:pt x="39" y="64"/>
                        <a:pt x="33" y="61"/>
                        <a:pt x="28" y="61"/>
                      </a:cubicBezTo>
                      <a:cubicBezTo>
                        <a:pt x="24" y="61"/>
                        <a:pt x="20" y="67"/>
                        <a:pt x="16" y="65"/>
                      </a:cubicBezTo>
                      <a:cubicBezTo>
                        <a:pt x="0" y="59"/>
                        <a:pt x="7" y="54"/>
                        <a:pt x="12" y="4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1394640" y="1345680"/>
                  <a:ext cx="234360" cy="132840"/>
                </a:xfrm>
                <a:custGeom>
                  <a:avLst/>
                  <a:gdLst/>
                  <a:ahLst/>
                  <a:rect l="l" t="t" r="r" b="b"/>
                  <a:pathLst>
                    <a:path w="134" h="74">
                      <a:moveTo>
                        <a:pt x="8" y="59"/>
                      </a:moveTo>
                      <a:cubicBezTo>
                        <a:pt x="2" y="42"/>
                        <a:pt x="3" y="37"/>
                        <a:pt x="20" y="31"/>
                      </a:cubicBezTo>
                      <a:cubicBezTo>
                        <a:pt x="40" y="0"/>
                        <a:pt x="60" y="18"/>
                        <a:pt x="92" y="23"/>
                      </a:cubicBezTo>
                      <a:cubicBezTo>
                        <a:pt x="134" y="37"/>
                        <a:pt x="105" y="42"/>
                        <a:pt x="88" y="51"/>
                      </a:cubicBezTo>
                      <a:cubicBezTo>
                        <a:pt x="68" y="61"/>
                        <a:pt x="49" y="64"/>
                        <a:pt x="28" y="71"/>
                      </a:cubicBezTo>
                      <a:cubicBezTo>
                        <a:pt x="1" y="67"/>
                        <a:pt x="0" y="74"/>
                        <a:pt x="8" y="5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1652760" y="938880"/>
                  <a:ext cx="614160" cy="341640"/>
                </a:xfrm>
                <a:custGeom>
                  <a:avLst/>
                  <a:gdLst/>
                  <a:ahLst/>
                  <a:rect l="l" t="t" r="r" b="b"/>
                  <a:pathLst>
                    <a:path w="352" h="192">
                      <a:moveTo>
                        <a:pt x="0" y="156"/>
                      </a:moveTo>
                      <a:cubicBezTo>
                        <a:pt x="11" y="172"/>
                        <a:pt x="2" y="175"/>
                        <a:pt x="8" y="192"/>
                      </a:cubicBezTo>
                      <a:cubicBezTo>
                        <a:pt x="23" y="187"/>
                        <a:pt x="27" y="177"/>
                        <a:pt x="40" y="168"/>
                      </a:cubicBezTo>
                      <a:cubicBezTo>
                        <a:pt x="63" y="134"/>
                        <a:pt x="90" y="135"/>
                        <a:pt x="128" y="132"/>
                      </a:cubicBezTo>
                      <a:cubicBezTo>
                        <a:pt x="170" y="121"/>
                        <a:pt x="120" y="136"/>
                        <a:pt x="156" y="120"/>
                      </a:cubicBezTo>
                      <a:cubicBezTo>
                        <a:pt x="164" y="117"/>
                        <a:pt x="180" y="112"/>
                        <a:pt x="180" y="112"/>
                      </a:cubicBezTo>
                      <a:cubicBezTo>
                        <a:pt x="183" y="108"/>
                        <a:pt x="184" y="103"/>
                        <a:pt x="188" y="100"/>
                      </a:cubicBezTo>
                      <a:cubicBezTo>
                        <a:pt x="188" y="100"/>
                        <a:pt x="218" y="90"/>
                        <a:pt x="224" y="88"/>
                      </a:cubicBezTo>
                      <a:cubicBezTo>
                        <a:pt x="241" y="82"/>
                        <a:pt x="255" y="70"/>
                        <a:pt x="272" y="64"/>
                      </a:cubicBezTo>
                      <a:cubicBezTo>
                        <a:pt x="296" y="40"/>
                        <a:pt x="319" y="43"/>
                        <a:pt x="352" y="40"/>
                      </a:cubicBezTo>
                      <a:cubicBezTo>
                        <a:pt x="328" y="32"/>
                        <a:pt x="324" y="25"/>
                        <a:pt x="324" y="0"/>
                      </a:cubicBezTo>
                      <a:lnTo>
                        <a:pt x="200" y="52"/>
                      </a:lnTo>
                      <a:lnTo>
                        <a:pt x="76" y="108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2385720" y="1053360"/>
                  <a:ext cx="327240" cy="148320"/>
                </a:xfrm>
                <a:custGeom>
                  <a:avLst/>
                  <a:gdLst/>
                  <a:ahLst/>
                  <a:rect l="l" t="t" r="r" b="b"/>
                  <a:pathLst>
                    <a:path w="187" h="84">
                      <a:moveTo>
                        <a:pt x="8" y="68"/>
                      </a:moveTo>
                      <a:cubicBezTo>
                        <a:pt x="29" y="63"/>
                        <a:pt x="35" y="47"/>
                        <a:pt x="56" y="40"/>
                      </a:cubicBezTo>
                      <a:cubicBezTo>
                        <a:pt x="62" y="23"/>
                        <a:pt x="61" y="14"/>
                        <a:pt x="76" y="4"/>
                      </a:cubicBezTo>
                      <a:cubicBezTo>
                        <a:pt x="84" y="7"/>
                        <a:pt x="91" y="15"/>
                        <a:pt x="100" y="16"/>
                      </a:cubicBezTo>
                      <a:cubicBezTo>
                        <a:pt x="110" y="18"/>
                        <a:pt x="127" y="3"/>
                        <a:pt x="136" y="0"/>
                      </a:cubicBezTo>
                      <a:cubicBezTo>
                        <a:pt x="163" y="9"/>
                        <a:pt x="137" y="25"/>
                        <a:pt x="164" y="16"/>
                      </a:cubicBezTo>
                      <a:cubicBezTo>
                        <a:pt x="171" y="17"/>
                        <a:pt x="180" y="15"/>
                        <a:pt x="184" y="20"/>
                      </a:cubicBezTo>
                      <a:cubicBezTo>
                        <a:pt x="187" y="24"/>
                        <a:pt x="185" y="33"/>
                        <a:pt x="180" y="36"/>
                      </a:cubicBezTo>
                      <a:cubicBezTo>
                        <a:pt x="175" y="39"/>
                        <a:pt x="169" y="33"/>
                        <a:pt x="164" y="32"/>
                      </a:cubicBezTo>
                      <a:cubicBezTo>
                        <a:pt x="135" y="42"/>
                        <a:pt x="147" y="45"/>
                        <a:pt x="128" y="32"/>
                      </a:cubicBezTo>
                      <a:cubicBezTo>
                        <a:pt x="115" y="35"/>
                        <a:pt x="91" y="37"/>
                        <a:pt x="100" y="48"/>
                      </a:cubicBezTo>
                      <a:cubicBezTo>
                        <a:pt x="105" y="55"/>
                        <a:pt x="124" y="56"/>
                        <a:pt x="124" y="56"/>
                      </a:cubicBezTo>
                      <a:cubicBezTo>
                        <a:pt x="113" y="72"/>
                        <a:pt x="109" y="75"/>
                        <a:pt x="92" y="64"/>
                      </a:cubicBezTo>
                      <a:cubicBezTo>
                        <a:pt x="82" y="49"/>
                        <a:pt x="78" y="46"/>
                        <a:pt x="60" y="52"/>
                      </a:cubicBezTo>
                      <a:cubicBezTo>
                        <a:pt x="57" y="56"/>
                        <a:pt x="56" y="62"/>
                        <a:pt x="52" y="64"/>
                      </a:cubicBezTo>
                      <a:cubicBezTo>
                        <a:pt x="45" y="68"/>
                        <a:pt x="36" y="66"/>
                        <a:pt x="28" y="68"/>
                      </a:cubicBezTo>
                      <a:cubicBezTo>
                        <a:pt x="2" y="74"/>
                        <a:pt x="0" y="84"/>
                        <a:pt x="8" y="6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2961720" y="1049040"/>
                  <a:ext cx="310320" cy="81720"/>
                </a:xfrm>
                <a:custGeom>
                  <a:avLst/>
                  <a:gdLst/>
                  <a:ahLst/>
                  <a:rect l="l" t="t" r="r" b="b"/>
                  <a:pathLst>
                    <a:path w="178" h="46">
                      <a:moveTo>
                        <a:pt x="6" y="18"/>
                      </a:moveTo>
                      <a:cubicBezTo>
                        <a:pt x="41" y="6"/>
                        <a:pt x="52" y="12"/>
                        <a:pt x="78" y="38"/>
                      </a:cubicBezTo>
                      <a:cubicBezTo>
                        <a:pt x="89" y="31"/>
                        <a:pt x="114" y="22"/>
                        <a:pt x="114" y="22"/>
                      </a:cubicBezTo>
                      <a:cubicBezTo>
                        <a:pt x="129" y="0"/>
                        <a:pt x="148" y="14"/>
                        <a:pt x="166" y="26"/>
                      </a:cubicBezTo>
                      <a:cubicBezTo>
                        <a:pt x="116" y="39"/>
                        <a:pt x="178" y="26"/>
                        <a:pt x="138" y="26"/>
                      </a:cubicBezTo>
                      <a:cubicBezTo>
                        <a:pt x="119" y="26"/>
                        <a:pt x="103" y="40"/>
                        <a:pt x="86" y="46"/>
                      </a:cubicBezTo>
                      <a:cubicBezTo>
                        <a:pt x="70" y="41"/>
                        <a:pt x="15" y="29"/>
                        <a:pt x="2" y="22"/>
                      </a:cubicBezTo>
                      <a:cubicBezTo>
                        <a:pt x="0" y="21"/>
                        <a:pt x="5" y="19"/>
                        <a:pt x="6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2791080" y="1210320"/>
                  <a:ext cx="419040" cy="190440"/>
                </a:xfrm>
                <a:custGeom>
                  <a:avLst/>
                  <a:gdLst/>
                  <a:ahLst/>
                  <a:rect l="l" t="t" r="r" b="b"/>
                  <a:pathLst>
                    <a:path w="240" h="108">
                      <a:moveTo>
                        <a:pt x="36" y="108"/>
                      </a:moveTo>
                      <a:cubicBezTo>
                        <a:pt x="19" y="102"/>
                        <a:pt x="6" y="107"/>
                        <a:pt x="0" y="88"/>
                      </a:cubicBezTo>
                      <a:cubicBezTo>
                        <a:pt x="5" y="72"/>
                        <a:pt x="14" y="73"/>
                        <a:pt x="28" y="64"/>
                      </a:cubicBezTo>
                      <a:cubicBezTo>
                        <a:pt x="29" y="60"/>
                        <a:pt x="29" y="54"/>
                        <a:pt x="32" y="52"/>
                      </a:cubicBezTo>
                      <a:cubicBezTo>
                        <a:pt x="39" y="47"/>
                        <a:pt x="56" y="44"/>
                        <a:pt x="56" y="44"/>
                      </a:cubicBezTo>
                      <a:cubicBezTo>
                        <a:pt x="57" y="40"/>
                        <a:pt x="57" y="35"/>
                        <a:pt x="60" y="32"/>
                      </a:cubicBezTo>
                      <a:cubicBezTo>
                        <a:pt x="73" y="22"/>
                        <a:pt x="148" y="7"/>
                        <a:pt x="168" y="4"/>
                      </a:cubicBezTo>
                      <a:cubicBezTo>
                        <a:pt x="172" y="5"/>
                        <a:pt x="176" y="8"/>
                        <a:pt x="180" y="8"/>
                      </a:cubicBezTo>
                      <a:cubicBezTo>
                        <a:pt x="188" y="7"/>
                        <a:pt x="204" y="0"/>
                        <a:pt x="204" y="0"/>
                      </a:cubicBezTo>
                      <a:cubicBezTo>
                        <a:pt x="221" y="6"/>
                        <a:pt x="240" y="4"/>
                        <a:pt x="216" y="20"/>
                      </a:cubicBezTo>
                      <a:cubicBezTo>
                        <a:pt x="199" y="14"/>
                        <a:pt x="164" y="31"/>
                        <a:pt x="144" y="36"/>
                      </a:cubicBezTo>
                      <a:cubicBezTo>
                        <a:pt x="110" y="25"/>
                        <a:pt x="93" y="46"/>
                        <a:pt x="64" y="56"/>
                      </a:cubicBezTo>
                      <a:cubicBezTo>
                        <a:pt x="70" y="73"/>
                        <a:pt x="69" y="78"/>
                        <a:pt x="52" y="84"/>
                      </a:cubicBezTo>
                      <a:cubicBezTo>
                        <a:pt x="48" y="90"/>
                        <a:pt x="42" y="108"/>
                        <a:pt x="36" y="10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1158480" y="2232720"/>
                  <a:ext cx="54720" cy="536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1097640" y="2304720"/>
                  <a:ext cx="77760" cy="5652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1350720" y="2521080"/>
                  <a:ext cx="132480" cy="320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1576440" y="2517120"/>
                  <a:ext cx="73440" cy="77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977760" y="2300760"/>
                  <a:ext cx="53280" cy="536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f98b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D0A2-FD20-4E37-B99D-D9A3D9A650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5EE0-B575-4CE1-A6A7-65A14E6ABA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64480"/>
            <a:chOff x="0" y="0"/>
            <a:chExt cx="9144000" cy="6864480"/>
          </a:xfrm>
        </p:grpSpPr>
        <p:sp>
          <p:nvSpPr>
            <p:cNvPr id="123" name=""/>
            <p:cNvSpPr/>
            <p:nvPr/>
          </p:nvSpPr>
          <p:spPr>
            <a:xfrm>
              <a:off x="0" y="525600"/>
              <a:ext cx="9144000" cy="5279760"/>
            </a:xfrm>
            <a:prstGeom prst="rect">
              <a:avLst/>
            </a:prstGeom>
            <a:gradFill rotWithShape="0">
              <a:gsLst>
                <a:gs pos="0">
                  <a:srgbClr val="b9cce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0"/>
              <a:ext cx="9144000" cy="557280"/>
            </a:xfrm>
            <a:prstGeom prst="rect">
              <a:avLst/>
            </a:prstGeom>
            <a:gradFill rotWithShape="0">
              <a:gsLst>
                <a:gs pos="0">
                  <a:srgbClr val="6b94d1"/>
                </a:gs>
                <a:gs pos="100000">
                  <a:srgbClr val="b9cc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533680"/>
              <a:ext cx="9144000" cy="2620800"/>
            </a:xfrm>
            <a:custGeom>
              <a:avLst/>
              <a:gdLst/>
              <a:ahLst/>
              <a:rect l="l" t="t" r="r" b="b"/>
              <a:pathLst>
                <a:path w="5760" h="1651">
                  <a:moveTo>
                    <a:pt x="0" y="960"/>
                  </a:moveTo>
                  <a:cubicBezTo>
                    <a:pt x="237" y="952"/>
                    <a:pt x="517" y="913"/>
                    <a:pt x="773" y="852"/>
                  </a:cubicBezTo>
                  <a:cubicBezTo>
                    <a:pt x="1029" y="791"/>
                    <a:pt x="1259" y="710"/>
                    <a:pt x="1536" y="594"/>
                  </a:cubicBezTo>
                  <a:cubicBezTo>
                    <a:pt x="1814" y="478"/>
                    <a:pt x="2247" y="251"/>
                    <a:pt x="2438" y="156"/>
                  </a:cubicBezTo>
                  <a:cubicBezTo>
                    <a:pt x="2628" y="61"/>
                    <a:pt x="2615" y="45"/>
                    <a:pt x="2678" y="24"/>
                  </a:cubicBezTo>
                  <a:cubicBezTo>
                    <a:pt x="2741" y="3"/>
                    <a:pt x="2783" y="34"/>
                    <a:pt x="2816" y="30"/>
                  </a:cubicBezTo>
                  <a:cubicBezTo>
                    <a:pt x="2849" y="26"/>
                    <a:pt x="2840" y="0"/>
                    <a:pt x="2876" y="0"/>
                  </a:cubicBezTo>
                  <a:cubicBezTo>
                    <a:pt x="2912" y="0"/>
                    <a:pt x="2997" y="28"/>
                    <a:pt x="3032" y="30"/>
                  </a:cubicBezTo>
                  <a:cubicBezTo>
                    <a:pt x="3067" y="32"/>
                    <a:pt x="3061" y="10"/>
                    <a:pt x="3086" y="12"/>
                  </a:cubicBezTo>
                  <a:cubicBezTo>
                    <a:pt x="3112" y="14"/>
                    <a:pt x="3142" y="24"/>
                    <a:pt x="3183" y="42"/>
                  </a:cubicBezTo>
                  <a:cubicBezTo>
                    <a:pt x="3224" y="60"/>
                    <a:pt x="3283" y="88"/>
                    <a:pt x="3333" y="120"/>
                  </a:cubicBezTo>
                  <a:cubicBezTo>
                    <a:pt x="3383" y="152"/>
                    <a:pt x="3415" y="188"/>
                    <a:pt x="3483" y="234"/>
                  </a:cubicBezTo>
                  <a:cubicBezTo>
                    <a:pt x="3551" y="280"/>
                    <a:pt x="3629" y="329"/>
                    <a:pt x="3741" y="396"/>
                  </a:cubicBezTo>
                  <a:cubicBezTo>
                    <a:pt x="3854" y="463"/>
                    <a:pt x="4028" y="574"/>
                    <a:pt x="4156" y="636"/>
                  </a:cubicBezTo>
                  <a:cubicBezTo>
                    <a:pt x="4284" y="698"/>
                    <a:pt x="4384" y="723"/>
                    <a:pt x="4510" y="768"/>
                  </a:cubicBezTo>
                  <a:cubicBezTo>
                    <a:pt x="4637" y="813"/>
                    <a:pt x="4781" y="855"/>
                    <a:pt x="4913" y="906"/>
                  </a:cubicBezTo>
                  <a:cubicBezTo>
                    <a:pt x="5045" y="957"/>
                    <a:pt x="5163" y="1033"/>
                    <a:pt x="5304" y="1074"/>
                  </a:cubicBezTo>
                  <a:cubicBezTo>
                    <a:pt x="5445" y="1115"/>
                    <a:pt x="5543" y="1125"/>
                    <a:pt x="5760" y="1150"/>
                  </a:cubicBezTo>
                  <a:cubicBezTo>
                    <a:pt x="5760" y="1400"/>
                    <a:pt x="5760" y="1651"/>
                    <a:pt x="5760" y="1651"/>
                  </a:cubicBezTo>
                  <a:lnTo>
                    <a:pt x="0" y="1651"/>
                  </a:lnTo>
                  <a:lnTo>
                    <a:pt x="0" y="960"/>
                  </a:lnTo>
                  <a:close/>
                </a:path>
              </a:pathLst>
            </a:custGeom>
            <a:gradFill rotWithShape="0">
              <a:gsLst>
                <a:gs pos="0">
                  <a:srgbClr val="c0d7d8"/>
                </a:gs>
                <a:gs pos="100000">
                  <a:srgbClr val="7f8e8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3360" y="2535120"/>
              <a:ext cx="3960720" cy="1673280"/>
            </a:xfrm>
            <a:custGeom>
              <a:avLst/>
              <a:gdLst/>
              <a:ahLst/>
              <a:rect l="l" t="t" r="r" b="b"/>
              <a:pathLst>
                <a:path w="2495" h="1054">
                  <a:moveTo>
                    <a:pt x="135" y="902"/>
                  </a:moveTo>
                  <a:cubicBezTo>
                    <a:pt x="270" y="859"/>
                    <a:pt x="683" y="732"/>
                    <a:pt x="909" y="650"/>
                  </a:cubicBezTo>
                  <a:cubicBezTo>
                    <a:pt x="1135" y="568"/>
                    <a:pt x="1305" y="499"/>
                    <a:pt x="1491" y="410"/>
                  </a:cubicBezTo>
                  <a:cubicBezTo>
                    <a:pt x="1677" y="321"/>
                    <a:pt x="1911" y="179"/>
                    <a:pt x="2028" y="116"/>
                  </a:cubicBezTo>
                  <a:cubicBezTo>
                    <a:pt x="2145" y="53"/>
                    <a:pt x="2156" y="48"/>
                    <a:pt x="2193" y="32"/>
                  </a:cubicBezTo>
                  <a:cubicBezTo>
                    <a:pt x="2230" y="16"/>
                    <a:pt x="2238" y="22"/>
                    <a:pt x="2253" y="20"/>
                  </a:cubicBezTo>
                  <a:cubicBezTo>
                    <a:pt x="2268" y="18"/>
                    <a:pt x="2278" y="22"/>
                    <a:pt x="2286" y="20"/>
                  </a:cubicBezTo>
                  <a:cubicBezTo>
                    <a:pt x="2294" y="18"/>
                    <a:pt x="2296" y="10"/>
                    <a:pt x="2304" y="8"/>
                  </a:cubicBezTo>
                  <a:cubicBezTo>
                    <a:pt x="2312" y="6"/>
                    <a:pt x="2320" y="6"/>
                    <a:pt x="2334" y="8"/>
                  </a:cubicBezTo>
                  <a:cubicBezTo>
                    <a:pt x="2348" y="10"/>
                    <a:pt x="2372" y="21"/>
                    <a:pt x="2388" y="20"/>
                  </a:cubicBezTo>
                  <a:cubicBezTo>
                    <a:pt x="2404" y="19"/>
                    <a:pt x="2416" y="4"/>
                    <a:pt x="2433" y="2"/>
                  </a:cubicBezTo>
                  <a:cubicBezTo>
                    <a:pt x="2450" y="0"/>
                    <a:pt x="2485" y="4"/>
                    <a:pt x="2490" y="8"/>
                  </a:cubicBezTo>
                  <a:cubicBezTo>
                    <a:pt x="2495" y="12"/>
                    <a:pt x="2474" y="17"/>
                    <a:pt x="2463" y="26"/>
                  </a:cubicBezTo>
                  <a:cubicBezTo>
                    <a:pt x="2452" y="35"/>
                    <a:pt x="2437" y="47"/>
                    <a:pt x="2424" y="62"/>
                  </a:cubicBezTo>
                  <a:cubicBezTo>
                    <a:pt x="2411" y="77"/>
                    <a:pt x="2397" y="103"/>
                    <a:pt x="2385" y="119"/>
                  </a:cubicBezTo>
                  <a:cubicBezTo>
                    <a:pt x="2373" y="135"/>
                    <a:pt x="2358" y="149"/>
                    <a:pt x="2349" y="158"/>
                  </a:cubicBezTo>
                  <a:cubicBezTo>
                    <a:pt x="2340" y="167"/>
                    <a:pt x="2340" y="172"/>
                    <a:pt x="2331" y="176"/>
                  </a:cubicBezTo>
                  <a:cubicBezTo>
                    <a:pt x="2322" y="180"/>
                    <a:pt x="2303" y="174"/>
                    <a:pt x="2295" y="182"/>
                  </a:cubicBezTo>
                  <a:cubicBezTo>
                    <a:pt x="2287" y="190"/>
                    <a:pt x="2284" y="216"/>
                    <a:pt x="2280" y="227"/>
                  </a:cubicBezTo>
                  <a:cubicBezTo>
                    <a:pt x="2276" y="238"/>
                    <a:pt x="2268" y="245"/>
                    <a:pt x="2271" y="251"/>
                  </a:cubicBezTo>
                  <a:cubicBezTo>
                    <a:pt x="2274" y="257"/>
                    <a:pt x="2293" y="253"/>
                    <a:pt x="2298" y="266"/>
                  </a:cubicBezTo>
                  <a:cubicBezTo>
                    <a:pt x="2303" y="279"/>
                    <a:pt x="2309" y="319"/>
                    <a:pt x="2304" y="332"/>
                  </a:cubicBezTo>
                  <a:cubicBezTo>
                    <a:pt x="2299" y="345"/>
                    <a:pt x="2273" y="345"/>
                    <a:pt x="2265" y="344"/>
                  </a:cubicBezTo>
                  <a:cubicBezTo>
                    <a:pt x="2257" y="343"/>
                    <a:pt x="2258" y="326"/>
                    <a:pt x="2253" y="326"/>
                  </a:cubicBezTo>
                  <a:cubicBezTo>
                    <a:pt x="2248" y="326"/>
                    <a:pt x="2236" y="337"/>
                    <a:pt x="2232" y="347"/>
                  </a:cubicBezTo>
                  <a:cubicBezTo>
                    <a:pt x="2228" y="357"/>
                    <a:pt x="2228" y="376"/>
                    <a:pt x="2226" y="386"/>
                  </a:cubicBezTo>
                  <a:cubicBezTo>
                    <a:pt x="2224" y="396"/>
                    <a:pt x="2236" y="390"/>
                    <a:pt x="2220" y="407"/>
                  </a:cubicBezTo>
                  <a:cubicBezTo>
                    <a:pt x="2204" y="424"/>
                    <a:pt x="2157" y="463"/>
                    <a:pt x="2130" y="491"/>
                  </a:cubicBezTo>
                  <a:cubicBezTo>
                    <a:pt x="2103" y="519"/>
                    <a:pt x="2083" y="539"/>
                    <a:pt x="2058" y="575"/>
                  </a:cubicBezTo>
                  <a:cubicBezTo>
                    <a:pt x="2033" y="611"/>
                    <a:pt x="1998" y="679"/>
                    <a:pt x="1980" y="710"/>
                  </a:cubicBezTo>
                  <a:cubicBezTo>
                    <a:pt x="1962" y="741"/>
                    <a:pt x="1966" y="756"/>
                    <a:pt x="1950" y="764"/>
                  </a:cubicBezTo>
                  <a:cubicBezTo>
                    <a:pt x="1934" y="772"/>
                    <a:pt x="1906" y="756"/>
                    <a:pt x="1884" y="758"/>
                  </a:cubicBezTo>
                  <a:cubicBezTo>
                    <a:pt x="1862" y="760"/>
                    <a:pt x="1832" y="762"/>
                    <a:pt x="1815" y="776"/>
                  </a:cubicBezTo>
                  <a:cubicBezTo>
                    <a:pt x="1798" y="790"/>
                    <a:pt x="1800" y="826"/>
                    <a:pt x="1782" y="845"/>
                  </a:cubicBezTo>
                  <a:cubicBezTo>
                    <a:pt x="1764" y="864"/>
                    <a:pt x="1730" y="871"/>
                    <a:pt x="1704" y="890"/>
                  </a:cubicBezTo>
                  <a:cubicBezTo>
                    <a:pt x="1678" y="909"/>
                    <a:pt x="1657" y="942"/>
                    <a:pt x="1629" y="959"/>
                  </a:cubicBezTo>
                  <a:cubicBezTo>
                    <a:pt x="1601" y="976"/>
                    <a:pt x="1561" y="980"/>
                    <a:pt x="1533" y="995"/>
                  </a:cubicBezTo>
                  <a:cubicBezTo>
                    <a:pt x="1505" y="1010"/>
                    <a:pt x="1469" y="1050"/>
                    <a:pt x="1458" y="1052"/>
                  </a:cubicBezTo>
                  <a:cubicBezTo>
                    <a:pt x="1447" y="1054"/>
                    <a:pt x="1450" y="1027"/>
                    <a:pt x="1467" y="1007"/>
                  </a:cubicBezTo>
                  <a:cubicBezTo>
                    <a:pt x="1484" y="987"/>
                    <a:pt x="1533" y="955"/>
                    <a:pt x="1560" y="932"/>
                  </a:cubicBezTo>
                  <a:cubicBezTo>
                    <a:pt x="1587" y="909"/>
                    <a:pt x="1606" y="893"/>
                    <a:pt x="1629" y="866"/>
                  </a:cubicBezTo>
                  <a:cubicBezTo>
                    <a:pt x="1652" y="839"/>
                    <a:pt x="1687" y="796"/>
                    <a:pt x="1701" y="770"/>
                  </a:cubicBezTo>
                  <a:cubicBezTo>
                    <a:pt x="1715" y="744"/>
                    <a:pt x="1699" y="731"/>
                    <a:pt x="1713" y="710"/>
                  </a:cubicBezTo>
                  <a:cubicBezTo>
                    <a:pt x="1727" y="689"/>
                    <a:pt x="1759" y="671"/>
                    <a:pt x="1785" y="644"/>
                  </a:cubicBezTo>
                  <a:cubicBezTo>
                    <a:pt x="1811" y="617"/>
                    <a:pt x="1844" y="573"/>
                    <a:pt x="1869" y="545"/>
                  </a:cubicBezTo>
                  <a:cubicBezTo>
                    <a:pt x="1894" y="517"/>
                    <a:pt x="1918" y="500"/>
                    <a:pt x="1935" y="476"/>
                  </a:cubicBezTo>
                  <a:cubicBezTo>
                    <a:pt x="1952" y="452"/>
                    <a:pt x="1955" y="422"/>
                    <a:pt x="1971" y="401"/>
                  </a:cubicBezTo>
                  <a:cubicBezTo>
                    <a:pt x="1987" y="380"/>
                    <a:pt x="2019" y="364"/>
                    <a:pt x="2034" y="350"/>
                  </a:cubicBezTo>
                  <a:cubicBezTo>
                    <a:pt x="2049" y="336"/>
                    <a:pt x="2064" y="318"/>
                    <a:pt x="2061" y="314"/>
                  </a:cubicBezTo>
                  <a:cubicBezTo>
                    <a:pt x="2058" y="310"/>
                    <a:pt x="2031" y="314"/>
                    <a:pt x="2016" y="323"/>
                  </a:cubicBezTo>
                  <a:cubicBezTo>
                    <a:pt x="2001" y="332"/>
                    <a:pt x="1982" y="350"/>
                    <a:pt x="1971" y="368"/>
                  </a:cubicBezTo>
                  <a:cubicBezTo>
                    <a:pt x="1960" y="386"/>
                    <a:pt x="1960" y="412"/>
                    <a:pt x="1947" y="434"/>
                  </a:cubicBezTo>
                  <a:cubicBezTo>
                    <a:pt x="1934" y="456"/>
                    <a:pt x="1914" y="475"/>
                    <a:pt x="1893" y="500"/>
                  </a:cubicBezTo>
                  <a:cubicBezTo>
                    <a:pt x="1872" y="525"/>
                    <a:pt x="1841" y="565"/>
                    <a:pt x="1821" y="587"/>
                  </a:cubicBezTo>
                  <a:cubicBezTo>
                    <a:pt x="1801" y="609"/>
                    <a:pt x="1790" y="619"/>
                    <a:pt x="1770" y="632"/>
                  </a:cubicBezTo>
                  <a:cubicBezTo>
                    <a:pt x="1750" y="645"/>
                    <a:pt x="1727" y="647"/>
                    <a:pt x="1704" y="662"/>
                  </a:cubicBezTo>
                  <a:cubicBezTo>
                    <a:pt x="1681" y="677"/>
                    <a:pt x="1646" y="709"/>
                    <a:pt x="1632" y="725"/>
                  </a:cubicBezTo>
                  <a:cubicBezTo>
                    <a:pt x="1618" y="741"/>
                    <a:pt x="1627" y="754"/>
                    <a:pt x="1620" y="761"/>
                  </a:cubicBezTo>
                  <a:cubicBezTo>
                    <a:pt x="1613" y="768"/>
                    <a:pt x="1593" y="775"/>
                    <a:pt x="1587" y="770"/>
                  </a:cubicBezTo>
                  <a:cubicBezTo>
                    <a:pt x="1581" y="765"/>
                    <a:pt x="1566" y="749"/>
                    <a:pt x="1584" y="728"/>
                  </a:cubicBezTo>
                  <a:cubicBezTo>
                    <a:pt x="1602" y="707"/>
                    <a:pt x="1668" y="665"/>
                    <a:pt x="1692" y="641"/>
                  </a:cubicBezTo>
                  <a:cubicBezTo>
                    <a:pt x="1716" y="617"/>
                    <a:pt x="1714" y="599"/>
                    <a:pt x="1731" y="581"/>
                  </a:cubicBezTo>
                  <a:cubicBezTo>
                    <a:pt x="1748" y="563"/>
                    <a:pt x="1774" y="552"/>
                    <a:pt x="1794" y="533"/>
                  </a:cubicBezTo>
                  <a:cubicBezTo>
                    <a:pt x="1814" y="514"/>
                    <a:pt x="1837" y="482"/>
                    <a:pt x="1851" y="467"/>
                  </a:cubicBezTo>
                  <a:cubicBezTo>
                    <a:pt x="1865" y="452"/>
                    <a:pt x="1874" y="452"/>
                    <a:pt x="1878" y="443"/>
                  </a:cubicBezTo>
                  <a:cubicBezTo>
                    <a:pt x="1882" y="434"/>
                    <a:pt x="1882" y="413"/>
                    <a:pt x="1875" y="413"/>
                  </a:cubicBezTo>
                  <a:cubicBezTo>
                    <a:pt x="1868" y="413"/>
                    <a:pt x="1847" y="426"/>
                    <a:pt x="1833" y="443"/>
                  </a:cubicBezTo>
                  <a:cubicBezTo>
                    <a:pt x="1819" y="460"/>
                    <a:pt x="1804" y="495"/>
                    <a:pt x="1788" y="515"/>
                  </a:cubicBezTo>
                  <a:cubicBezTo>
                    <a:pt x="1772" y="535"/>
                    <a:pt x="1751" y="550"/>
                    <a:pt x="1734" y="566"/>
                  </a:cubicBezTo>
                  <a:cubicBezTo>
                    <a:pt x="1717" y="582"/>
                    <a:pt x="1704" y="595"/>
                    <a:pt x="1689" y="611"/>
                  </a:cubicBezTo>
                  <a:cubicBezTo>
                    <a:pt x="1674" y="627"/>
                    <a:pt x="1655" y="656"/>
                    <a:pt x="1641" y="665"/>
                  </a:cubicBezTo>
                  <a:cubicBezTo>
                    <a:pt x="1627" y="674"/>
                    <a:pt x="1609" y="674"/>
                    <a:pt x="1605" y="665"/>
                  </a:cubicBezTo>
                  <a:cubicBezTo>
                    <a:pt x="1601" y="656"/>
                    <a:pt x="1603" y="627"/>
                    <a:pt x="1617" y="608"/>
                  </a:cubicBezTo>
                  <a:cubicBezTo>
                    <a:pt x="1631" y="589"/>
                    <a:pt x="1672" y="560"/>
                    <a:pt x="1689" y="548"/>
                  </a:cubicBezTo>
                  <a:cubicBezTo>
                    <a:pt x="1706" y="536"/>
                    <a:pt x="1713" y="540"/>
                    <a:pt x="1722" y="533"/>
                  </a:cubicBezTo>
                  <a:cubicBezTo>
                    <a:pt x="1731" y="526"/>
                    <a:pt x="1752" y="507"/>
                    <a:pt x="1746" y="506"/>
                  </a:cubicBezTo>
                  <a:cubicBezTo>
                    <a:pt x="1740" y="505"/>
                    <a:pt x="1711" y="513"/>
                    <a:pt x="1686" y="530"/>
                  </a:cubicBezTo>
                  <a:cubicBezTo>
                    <a:pt x="1661" y="547"/>
                    <a:pt x="1617" y="587"/>
                    <a:pt x="1596" y="611"/>
                  </a:cubicBezTo>
                  <a:cubicBezTo>
                    <a:pt x="1575" y="635"/>
                    <a:pt x="1569" y="661"/>
                    <a:pt x="1560" y="674"/>
                  </a:cubicBezTo>
                  <a:cubicBezTo>
                    <a:pt x="1551" y="687"/>
                    <a:pt x="1549" y="694"/>
                    <a:pt x="1542" y="689"/>
                  </a:cubicBezTo>
                  <a:cubicBezTo>
                    <a:pt x="1535" y="684"/>
                    <a:pt x="1525" y="650"/>
                    <a:pt x="1518" y="641"/>
                  </a:cubicBezTo>
                  <a:cubicBezTo>
                    <a:pt x="1511" y="632"/>
                    <a:pt x="1496" y="639"/>
                    <a:pt x="1500" y="632"/>
                  </a:cubicBezTo>
                  <a:cubicBezTo>
                    <a:pt x="1504" y="625"/>
                    <a:pt x="1527" y="607"/>
                    <a:pt x="1542" y="596"/>
                  </a:cubicBezTo>
                  <a:cubicBezTo>
                    <a:pt x="1557" y="585"/>
                    <a:pt x="1571" y="574"/>
                    <a:pt x="1590" y="563"/>
                  </a:cubicBezTo>
                  <a:cubicBezTo>
                    <a:pt x="1609" y="552"/>
                    <a:pt x="1637" y="541"/>
                    <a:pt x="1656" y="527"/>
                  </a:cubicBezTo>
                  <a:cubicBezTo>
                    <a:pt x="1675" y="513"/>
                    <a:pt x="1692" y="489"/>
                    <a:pt x="1704" y="476"/>
                  </a:cubicBezTo>
                  <a:cubicBezTo>
                    <a:pt x="1716" y="463"/>
                    <a:pt x="1735" y="451"/>
                    <a:pt x="1728" y="452"/>
                  </a:cubicBezTo>
                  <a:cubicBezTo>
                    <a:pt x="1721" y="453"/>
                    <a:pt x="1673" y="473"/>
                    <a:pt x="1659" y="485"/>
                  </a:cubicBezTo>
                  <a:cubicBezTo>
                    <a:pt x="1645" y="497"/>
                    <a:pt x="1652" y="517"/>
                    <a:pt x="1641" y="524"/>
                  </a:cubicBezTo>
                  <a:cubicBezTo>
                    <a:pt x="1630" y="531"/>
                    <a:pt x="1608" y="518"/>
                    <a:pt x="1596" y="524"/>
                  </a:cubicBezTo>
                  <a:cubicBezTo>
                    <a:pt x="1584" y="530"/>
                    <a:pt x="1583" y="554"/>
                    <a:pt x="1572" y="560"/>
                  </a:cubicBezTo>
                  <a:cubicBezTo>
                    <a:pt x="1561" y="566"/>
                    <a:pt x="1541" y="553"/>
                    <a:pt x="1530" y="560"/>
                  </a:cubicBezTo>
                  <a:cubicBezTo>
                    <a:pt x="1519" y="567"/>
                    <a:pt x="1516" y="594"/>
                    <a:pt x="1506" y="605"/>
                  </a:cubicBezTo>
                  <a:cubicBezTo>
                    <a:pt x="1496" y="616"/>
                    <a:pt x="1481" y="611"/>
                    <a:pt x="1470" y="623"/>
                  </a:cubicBezTo>
                  <a:cubicBezTo>
                    <a:pt x="1459" y="635"/>
                    <a:pt x="1448" y="671"/>
                    <a:pt x="1437" y="677"/>
                  </a:cubicBezTo>
                  <a:cubicBezTo>
                    <a:pt x="1426" y="683"/>
                    <a:pt x="1406" y="671"/>
                    <a:pt x="1401" y="662"/>
                  </a:cubicBezTo>
                  <a:cubicBezTo>
                    <a:pt x="1396" y="653"/>
                    <a:pt x="1410" y="623"/>
                    <a:pt x="1404" y="623"/>
                  </a:cubicBezTo>
                  <a:cubicBezTo>
                    <a:pt x="1398" y="623"/>
                    <a:pt x="1384" y="656"/>
                    <a:pt x="1362" y="665"/>
                  </a:cubicBezTo>
                  <a:cubicBezTo>
                    <a:pt x="1340" y="674"/>
                    <a:pt x="1288" y="682"/>
                    <a:pt x="1272" y="680"/>
                  </a:cubicBezTo>
                  <a:cubicBezTo>
                    <a:pt x="1256" y="678"/>
                    <a:pt x="1268" y="660"/>
                    <a:pt x="1263" y="653"/>
                  </a:cubicBezTo>
                  <a:cubicBezTo>
                    <a:pt x="1258" y="646"/>
                    <a:pt x="1253" y="636"/>
                    <a:pt x="1242" y="638"/>
                  </a:cubicBezTo>
                  <a:cubicBezTo>
                    <a:pt x="1231" y="640"/>
                    <a:pt x="1224" y="654"/>
                    <a:pt x="1194" y="668"/>
                  </a:cubicBezTo>
                  <a:cubicBezTo>
                    <a:pt x="1164" y="682"/>
                    <a:pt x="1111" y="702"/>
                    <a:pt x="1059" y="722"/>
                  </a:cubicBezTo>
                  <a:cubicBezTo>
                    <a:pt x="1007" y="742"/>
                    <a:pt x="950" y="763"/>
                    <a:pt x="879" y="788"/>
                  </a:cubicBezTo>
                  <a:cubicBezTo>
                    <a:pt x="808" y="813"/>
                    <a:pt x="698" y="853"/>
                    <a:pt x="633" y="875"/>
                  </a:cubicBezTo>
                  <a:cubicBezTo>
                    <a:pt x="568" y="897"/>
                    <a:pt x="513" y="914"/>
                    <a:pt x="492" y="917"/>
                  </a:cubicBezTo>
                  <a:cubicBezTo>
                    <a:pt x="471" y="920"/>
                    <a:pt x="477" y="904"/>
                    <a:pt x="504" y="893"/>
                  </a:cubicBezTo>
                  <a:cubicBezTo>
                    <a:pt x="531" y="882"/>
                    <a:pt x="602" y="869"/>
                    <a:pt x="657" y="851"/>
                  </a:cubicBezTo>
                  <a:cubicBezTo>
                    <a:pt x="712" y="833"/>
                    <a:pt x="774" y="807"/>
                    <a:pt x="837" y="785"/>
                  </a:cubicBezTo>
                  <a:cubicBezTo>
                    <a:pt x="900" y="763"/>
                    <a:pt x="994" y="733"/>
                    <a:pt x="1035" y="716"/>
                  </a:cubicBezTo>
                  <a:cubicBezTo>
                    <a:pt x="1076" y="699"/>
                    <a:pt x="1079" y="690"/>
                    <a:pt x="1083" y="686"/>
                  </a:cubicBezTo>
                  <a:cubicBezTo>
                    <a:pt x="1087" y="682"/>
                    <a:pt x="1091" y="679"/>
                    <a:pt x="1062" y="689"/>
                  </a:cubicBezTo>
                  <a:cubicBezTo>
                    <a:pt x="1033" y="699"/>
                    <a:pt x="964" y="727"/>
                    <a:pt x="906" y="746"/>
                  </a:cubicBezTo>
                  <a:cubicBezTo>
                    <a:pt x="848" y="765"/>
                    <a:pt x="779" y="788"/>
                    <a:pt x="714" y="806"/>
                  </a:cubicBezTo>
                  <a:cubicBezTo>
                    <a:pt x="649" y="824"/>
                    <a:pt x="584" y="838"/>
                    <a:pt x="513" y="854"/>
                  </a:cubicBezTo>
                  <a:cubicBezTo>
                    <a:pt x="442" y="870"/>
                    <a:pt x="344" y="893"/>
                    <a:pt x="288" y="905"/>
                  </a:cubicBezTo>
                  <a:cubicBezTo>
                    <a:pt x="232" y="917"/>
                    <a:pt x="190" y="926"/>
                    <a:pt x="177" y="926"/>
                  </a:cubicBezTo>
                  <a:cubicBezTo>
                    <a:pt x="164" y="926"/>
                    <a:pt x="208" y="904"/>
                    <a:pt x="207" y="902"/>
                  </a:cubicBezTo>
                  <a:cubicBezTo>
                    <a:pt x="206" y="900"/>
                    <a:pt x="188" y="907"/>
                    <a:pt x="168" y="911"/>
                  </a:cubicBezTo>
                  <a:cubicBezTo>
                    <a:pt x="148" y="915"/>
                    <a:pt x="95" y="929"/>
                    <a:pt x="84" y="929"/>
                  </a:cubicBezTo>
                  <a:cubicBezTo>
                    <a:pt x="73" y="929"/>
                    <a:pt x="91" y="912"/>
                    <a:pt x="99" y="908"/>
                  </a:cubicBezTo>
                  <a:cubicBezTo>
                    <a:pt x="107" y="904"/>
                    <a:pt x="0" y="945"/>
                    <a:pt x="135" y="90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e9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3000" y="2511360"/>
              <a:ext cx="1730520" cy="1498680"/>
            </a:xfrm>
            <a:custGeom>
              <a:avLst/>
              <a:gdLst/>
              <a:ahLst/>
              <a:rect l="l" t="t" r="r" b="b"/>
              <a:pathLst>
                <a:path w="1090" h="944">
                  <a:moveTo>
                    <a:pt x="220" y="44"/>
                  </a:moveTo>
                  <a:cubicBezTo>
                    <a:pt x="214" y="39"/>
                    <a:pt x="250" y="35"/>
                    <a:pt x="262" y="29"/>
                  </a:cubicBezTo>
                  <a:cubicBezTo>
                    <a:pt x="274" y="23"/>
                    <a:pt x="284" y="9"/>
                    <a:pt x="292" y="5"/>
                  </a:cubicBezTo>
                  <a:cubicBezTo>
                    <a:pt x="300" y="1"/>
                    <a:pt x="299" y="0"/>
                    <a:pt x="310" y="5"/>
                  </a:cubicBezTo>
                  <a:cubicBezTo>
                    <a:pt x="321" y="10"/>
                    <a:pt x="341" y="23"/>
                    <a:pt x="358" y="35"/>
                  </a:cubicBezTo>
                  <a:cubicBezTo>
                    <a:pt x="375" y="47"/>
                    <a:pt x="402" y="64"/>
                    <a:pt x="415" y="80"/>
                  </a:cubicBezTo>
                  <a:cubicBezTo>
                    <a:pt x="428" y="96"/>
                    <a:pt x="436" y="114"/>
                    <a:pt x="436" y="128"/>
                  </a:cubicBezTo>
                  <a:cubicBezTo>
                    <a:pt x="436" y="142"/>
                    <a:pt x="414" y="155"/>
                    <a:pt x="415" y="164"/>
                  </a:cubicBezTo>
                  <a:cubicBezTo>
                    <a:pt x="416" y="173"/>
                    <a:pt x="441" y="172"/>
                    <a:pt x="445" y="185"/>
                  </a:cubicBezTo>
                  <a:cubicBezTo>
                    <a:pt x="449" y="198"/>
                    <a:pt x="431" y="226"/>
                    <a:pt x="439" y="239"/>
                  </a:cubicBezTo>
                  <a:cubicBezTo>
                    <a:pt x="447" y="252"/>
                    <a:pt x="475" y="262"/>
                    <a:pt x="490" y="266"/>
                  </a:cubicBezTo>
                  <a:cubicBezTo>
                    <a:pt x="505" y="270"/>
                    <a:pt x="517" y="256"/>
                    <a:pt x="532" y="266"/>
                  </a:cubicBezTo>
                  <a:cubicBezTo>
                    <a:pt x="547" y="276"/>
                    <a:pt x="575" y="314"/>
                    <a:pt x="577" y="326"/>
                  </a:cubicBezTo>
                  <a:cubicBezTo>
                    <a:pt x="579" y="338"/>
                    <a:pt x="546" y="331"/>
                    <a:pt x="544" y="338"/>
                  </a:cubicBezTo>
                  <a:cubicBezTo>
                    <a:pt x="542" y="345"/>
                    <a:pt x="545" y="356"/>
                    <a:pt x="562" y="371"/>
                  </a:cubicBezTo>
                  <a:cubicBezTo>
                    <a:pt x="579" y="386"/>
                    <a:pt x="604" y="404"/>
                    <a:pt x="646" y="431"/>
                  </a:cubicBezTo>
                  <a:cubicBezTo>
                    <a:pt x="688" y="458"/>
                    <a:pt x="761" y="501"/>
                    <a:pt x="817" y="536"/>
                  </a:cubicBezTo>
                  <a:cubicBezTo>
                    <a:pt x="873" y="571"/>
                    <a:pt x="949" y="617"/>
                    <a:pt x="982" y="641"/>
                  </a:cubicBezTo>
                  <a:cubicBezTo>
                    <a:pt x="1015" y="665"/>
                    <a:pt x="995" y="664"/>
                    <a:pt x="1012" y="680"/>
                  </a:cubicBezTo>
                  <a:cubicBezTo>
                    <a:pt x="1029" y="696"/>
                    <a:pt x="1078" y="726"/>
                    <a:pt x="1084" y="740"/>
                  </a:cubicBezTo>
                  <a:cubicBezTo>
                    <a:pt x="1090" y="754"/>
                    <a:pt x="1078" y="767"/>
                    <a:pt x="1051" y="764"/>
                  </a:cubicBezTo>
                  <a:cubicBezTo>
                    <a:pt x="1024" y="761"/>
                    <a:pt x="950" y="724"/>
                    <a:pt x="922" y="722"/>
                  </a:cubicBezTo>
                  <a:cubicBezTo>
                    <a:pt x="894" y="720"/>
                    <a:pt x="896" y="746"/>
                    <a:pt x="880" y="749"/>
                  </a:cubicBezTo>
                  <a:cubicBezTo>
                    <a:pt x="864" y="752"/>
                    <a:pt x="858" y="758"/>
                    <a:pt x="826" y="740"/>
                  </a:cubicBezTo>
                  <a:cubicBezTo>
                    <a:pt x="794" y="722"/>
                    <a:pt x="725" y="673"/>
                    <a:pt x="688" y="641"/>
                  </a:cubicBezTo>
                  <a:cubicBezTo>
                    <a:pt x="651" y="609"/>
                    <a:pt x="630" y="570"/>
                    <a:pt x="607" y="548"/>
                  </a:cubicBezTo>
                  <a:cubicBezTo>
                    <a:pt x="584" y="526"/>
                    <a:pt x="565" y="508"/>
                    <a:pt x="547" y="506"/>
                  </a:cubicBezTo>
                  <a:cubicBezTo>
                    <a:pt x="529" y="504"/>
                    <a:pt x="510" y="515"/>
                    <a:pt x="496" y="536"/>
                  </a:cubicBezTo>
                  <a:cubicBezTo>
                    <a:pt x="482" y="557"/>
                    <a:pt x="459" y="601"/>
                    <a:pt x="463" y="632"/>
                  </a:cubicBezTo>
                  <a:cubicBezTo>
                    <a:pt x="467" y="663"/>
                    <a:pt x="514" y="695"/>
                    <a:pt x="520" y="722"/>
                  </a:cubicBezTo>
                  <a:cubicBezTo>
                    <a:pt x="526" y="749"/>
                    <a:pt x="510" y="784"/>
                    <a:pt x="502" y="797"/>
                  </a:cubicBezTo>
                  <a:cubicBezTo>
                    <a:pt x="494" y="810"/>
                    <a:pt x="480" y="802"/>
                    <a:pt x="472" y="800"/>
                  </a:cubicBezTo>
                  <a:cubicBezTo>
                    <a:pt x="464" y="798"/>
                    <a:pt x="469" y="780"/>
                    <a:pt x="451" y="785"/>
                  </a:cubicBezTo>
                  <a:cubicBezTo>
                    <a:pt x="433" y="790"/>
                    <a:pt x="393" y="814"/>
                    <a:pt x="364" y="833"/>
                  </a:cubicBezTo>
                  <a:cubicBezTo>
                    <a:pt x="335" y="852"/>
                    <a:pt x="303" y="881"/>
                    <a:pt x="277" y="899"/>
                  </a:cubicBezTo>
                  <a:cubicBezTo>
                    <a:pt x="251" y="917"/>
                    <a:pt x="222" y="944"/>
                    <a:pt x="205" y="944"/>
                  </a:cubicBezTo>
                  <a:cubicBezTo>
                    <a:pt x="188" y="944"/>
                    <a:pt x="183" y="906"/>
                    <a:pt x="172" y="899"/>
                  </a:cubicBezTo>
                  <a:cubicBezTo>
                    <a:pt x="161" y="892"/>
                    <a:pt x="150" y="901"/>
                    <a:pt x="139" y="899"/>
                  </a:cubicBezTo>
                  <a:cubicBezTo>
                    <a:pt x="128" y="897"/>
                    <a:pt x="102" y="897"/>
                    <a:pt x="103" y="884"/>
                  </a:cubicBezTo>
                  <a:cubicBezTo>
                    <a:pt x="104" y="871"/>
                    <a:pt x="133" y="839"/>
                    <a:pt x="148" y="818"/>
                  </a:cubicBezTo>
                  <a:cubicBezTo>
                    <a:pt x="163" y="797"/>
                    <a:pt x="203" y="760"/>
                    <a:pt x="196" y="755"/>
                  </a:cubicBezTo>
                  <a:cubicBezTo>
                    <a:pt x="189" y="750"/>
                    <a:pt x="133" y="768"/>
                    <a:pt x="103" y="785"/>
                  </a:cubicBezTo>
                  <a:cubicBezTo>
                    <a:pt x="73" y="802"/>
                    <a:pt x="26" y="852"/>
                    <a:pt x="13" y="857"/>
                  </a:cubicBezTo>
                  <a:cubicBezTo>
                    <a:pt x="0" y="862"/>
                    <a:pt x="5" y="836"/>
                    <a:pt x="25" y="815"/>
                  </a:cubicBezTo>
                  <a:cubicBezTo>
                    <a:pt x="45" y="794"/>
                    <a:pt x="97" y="756"/>
                    <a:pt x="130" y="728"/>
                  </a:cubicBezTo>
                  <a:cubicBezTo>
                    <a:pt x="163" y="700"/>
                    <a:pt x="199" y="671"/>
                    <a:pt x="220" y="647"/>
                  </a:cubicBezTo>
                  <a:cubicBezTo>
                    <a:pt x="241" y="623"/>
                    <a:pt x="245" y="602"/>
                    <a:pt x="259" y="584"/>
                  </a:cubicBezTo>
                  <a:cubicBezTo>
                    <a:pt x="273" y="566"/>
                    <a:pt x="301" y="556"/>
                    <a:pt x="307" y="542"/>
                  </a:cubicBezTo>
                  <a:cubicBezTo>
                    <a:pt x="313" y="528"/>
                    <a:pt x="310" y="511"/>
                    <a:pt x="298" y="500"/>
                  </a:cubicBezTo>
                  <a:cubicBezTo>
                    <a:pt x="286" y="489"/>
                    <a:pt x="240" y="485"/>
                    <a:pt x="235" y="473"/>
                  </a:cubicBezTo>
                  <a:cubicBezTo>
                    <a:pt x="230" y="461"/>
                    <a:pt x="272" y="436"/>
                    <a:pt x="268" y="425"/>
                  </a:cubicBezTo>
                  <a:cubicBezTo>
                    <a:pt x="264" y="414"/>
                    <a:pt x="218" y="414"/>
                    <a:pt x="211" y="404"/>
                  </a:cubicBezTo>
                  <a:cubicBezTo>
                    <a:pt x="204" y="394"/>
                    <a:pt x="229" y="376"/>
                    <a:pt x="226" y="365"/>
                  </a:cubicBezTo>
                  <a:cubicBezTo>
                    <a:pt x="223" y="354"/>
                    <a:pt x="196" y="343"/>
                    <a:pt x="190" y="335"/>
                  </a:cubicBezTo>
                  <a:cubicBezTo>
                    <a:pt x="184" y="327"/>
                    <a:pt x="192" y="320"/>
                    <a:pt x="187" y="314"/>
                  </a:cubicBezTo>
                  <a:cubicBezTo>
                    <a:pt x="182" y="308"/>
                    <a:pt x="167" y="304"/>
                    <a:pt x="157" y="296"/>
                  </a:cubicBezTo>
                  <a:cubicBezTo>
                    <a:pt x="147" y="288"/>
                    <a:pt x="129" y="276"/>
                    <a:pt x="127" y="266"/>
                  </a:cubicBezTo>
                  <a:cubicBezTo>
                    <a:pt x="125" y="256"/>
                    <a:pt x="144" y="246"/>
                    <a:pt x="148" y="236"/>
                  </a:cubicBezTo>
                  <a:cubicBezTo>
                    <a:pt x="152" y="226"/>
                    <a:pt x="155" y="218"/>
                    <a:pt x="151" y="206"/>
                  </a:cubicBezTo>
                  <a:cubicBezTo>
                    <a:pt x="147" y="194"/>
                    <a:pt x="134" y="178"/>
                    <a:pt x="121" y="164"/>
                  </a:cubicBezTo>
                  <a:cubicBezTo>
                    <a:pt x="108" y="150"/>
                    <a:pt x="78" y="141"/>
                    <a:pt x="73" y="125"/>
                  </a:cubicBezTo>
                  <a:cubicBezTo>
                    <a:pt x="68" y="109"/>
                    <a:pt x="78" y="68"/>
                    <a:pt x="88" y="68"/>
                  </a:cubicBezTo>
                  <a:cubicBezTo>
                    <a:pt x="98" y="68"/>
                    <a:pt x="130" y="125"/>
                    <a:pt x="136" y="128"/>
                  </a:cubicBezTo>
                  <a:cubicBezTo>
                    <a:pt x="142" y="131"/>
                    <a:pt x="132" y="100"/>
                    <a:pt x="127" y="89"/>
                  </a:cubicBezTo>
                  <a:cubicBezTo>
                    <a:pt x="122" y="78"/>
                    <a:pt x="101" y="67"/>
                    <a:pt x="103" y="62"/>
                  </a:cubicBezTo>
                  <a:cubicBezTo>
                    <a:pt x="105" y="57"/>
                    <a:pt x="135" y="61"/>
                    <a:pt x="139" y="56"/>
                  </a:cubicBezTo>
                  <a:cubicBezTo>
                    <a:pt x="143" y="51"/>
                    <a:pt x="126" y="37"/>
                    <a:pt x="127" y="32"/>
                  </a:cubicBezTo>
                  <a:cubicBezTo>
                    <a:pt x="128" y="27"/>
                    <a:pt x="142" y="20"/>
                    <a:pt x="148" y="23"/>
                  </a:cubicBezTo>
                  <a:cubicBezTo>
                    <a:pt x="154" y="26"/>
                    <a:pt x="157" y="45"/>
                    <a:pt x="163" y="50"/>
                  </a:cubicBezTo>
                  <a:cubicBezTo>
                    <a:pt x="169" y="55"/>
                    <a:pt x="186" y="42"/>
                    <a:pt x="187" y="53"/>
                  </a:cubicBezTo>
                  <a:cubicBezTo>
                    <a:pt x="188" y="64"/>
                    <a:pt x="171" y="110"/>
                    <a:pt x="172" y="119"/>
                  </a:cubicBezTo>
                  <a:cubicBezTo>
                    <a:pt x="173" y="128"/>
                    <a:pt x="190" y="112"/>
                    <a:pt x="196" y="107"/>
                  </a:cubicBezTo>
                  <a:cubicBezTo>
                    <a:pt x="202" y="102"/>
                    <a:pt x="203" y="86"/>
                    <a:pt x="211" y="89"/>
                  </a:cubicBezTo>
                  <a:cubicBezTo>
                    <a:pt x="219" y="92"/>
                    <a:pt x="237" y="112"/>
                    <a:pt x="244" y="122"/>
                  </a:cubicBezTo>
                  <a:cubicBezTo>
                    <a:pt x="251" y="132"/>
                    <a:pt x="244" y="144"/>
                    <a:pt x="256" y="149"/>
                  </a:cubicBezTo>
                  <a:cubicBezTo>
                    <a:pt x="268" y="154"/>
                    <a:pt x="307" y="148"/>
                    <a:pt x="319" y="155"/>
                  </a:cubicBezTo>
                  <a:cubicBezTo>
                    <a:pt x="331" y="162"/>
                    <a:pt x="318" y="192"/>
                    <a:pt x="325" y="191"/>
                  </a:cubicBezTo>
                  <a:cubicBezTo>
                    <a:pt x="332" y="190"/>
                    <a:pt x="362" y="160"/>
                    <a:pt x="361" y="152"/>
                  </a:cubicBezTo>
                  <a:cubicBezTo>
                    <a:pt x="360" y="144"/>
                    <a:pt x="336" y="153"/>
                    <a:pt x="319" y="143"/>
                  </a:cubicBezTo>
                  <a:cubicBezTo>
                    <a:pt x="302" y="133"/>
                    <a:pt x="262" y="105"/>
                    <a:pt x="259" y="92"/>
                  </a:cubicBezTo>
                  <a:cubicBezTo>
                    <a:pt x="256" y="79"/>
                    <a:pt x="304" y="69"/>
                    <a:pt x="298" y="62"/>
                  </a:cubicBezTo>
                  <a:cubicBezTo>
                    <a:pt x="292" y="55"/>
                    <a:pt x="226" y="49"/>
                    <a:pt x="220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e9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4221000"/>
              <a:ext cx="9144000" cy="2243160"/>
            </a:xfrm>
            <a:custGeom>
              <a:avLst/>
              <a:gdLst/>
              <a:ahLst/>
              <a:rect l="l" t="t" r="r" b="b"/>
              <a:pathLst>
                <a:path w="5760" h="1224">
                  <a:moveTo>
                    <a:pt x="0" y="230"/>
                  </a:moveTo>
                  <a:lnTo>
                    <a:pt x="702" y="104"/>
                  </a:lnTo>
                  <a:lnTo>
                    <a:pt x="1144" y="0"/>
                  </a:lnTo>
                  <a:lnTo>
                    <a:pt x="1461" y="50"/>
                  </a:lnTo>
                  <a:lnTo>
                    <a:pt x="1720" y="75"/>
                  </a:lnTo>
                  <a:lnTo>
                    <a:pt x="2054" y="17"/>
                  </a:lnTo>
                  <a:cubicBezTo>
                    <a:pt x="2054" y="17"/>
                    <a:pt x="2068" y="67"/>
                    <a:pt x="2296" y="84"/>
                  </a:cubicBezTo>
                  <a:cubicBezTo>
                    <a:pt x="2579" y="384"/>
                    <a:pt x="3089" y="242"/>
                    <a:pt x="3423" y="117"/>
                  </a:cubicBezTo>
                  <a:cubicBezTo>
                    <a:pt x="3556" y="59"/>
                    <a:pt x="3656" y="33"/>
                    <a:pt x="3823" y="25"/>
                  </a:cubicBezTo>
                  <a:cubicBezTo>
                    <a:pt x="3917" y="13"/>
                    <a:pt x="3832" y="57"/>
                    <a:pt x="3982" y="75"/>
                  </a:cubicBezTo>
                  <a:cubicBezTo>
                    <a:pt x="4025" y="90"/>
                    <a:pt x="3958" y="107"/>
                    <a:pt x="4082" y="117"/>
                  </a:cubicBezTo>
                  <a:cubicBezTo>
                    <a:pt x="4206" y="127"/>
                    <a:pt x="4577" y="136"/>
                    <a:pt x="4726" y="135"/>
                  </a:cubicBezTo>
                  <a:lnTo>
                    <a:pt x="4979" y="112"/>
                  </a:lnTo>
                  <a:lnTo>
                    <a:pt x="5397" y="222"/>
                  </a:lnTo>
                  <a:lnTo>
                    <a:pt x="5760" y="206"/>
                  </a:lnTo>
                  <a:lnTo>
                    <a:pt x="5760" y="1224"/>
                  </a:lnTo>
                  <a:lnTo>
                    <a:pt x="0" y="1224"/>
                  </a:lnTo>
                  <a:lnTo>
                    <a:pt x="0" y="230"/>
                  </a:lnTo>
                  <a:close/>
                </a:path>
              </a:pathLst>
            </a:custGeom>
            <a:gradFill rotWithShape="0">
              <a:gsLst>
                <a:gs pos="0">
                  <a:srgbClr val="859596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4981680"/>
              <a:ext cx="9144000" cy="1882800"/>
            </a:xfrm>
            <a:custGeom>
              <a:avLst/>
              <a:gdLst/>
              <a:ahLst/>
              <a:rect l="l" t="t" r="r" b="b"/>
              <a:pathLst>
                <a:path w="5760" h="1027">
                  <a:moveTo>
                    <a:pt x="0" y="1027"/>
                  </a:moveTo>
                  <a:lnTo>
                    <a:pt x="5760" y="1027"/>
                  </a:lnTo>
                  <a:lnTo>
                    <a:pt x="5760" y="409"/>
                  </a:lnTo>
                  <a:cubicBezTo>
                    <a:pt x="5576" y="305"/>
                    <a:pt x="4960" y="418"/>
                    <a:pt x="4658" y="401"/>
                  </a:cubicBezTo>
                  <a:cubicBezTo>
                    <a:pt x="4356" y="384"/>
                    <a:pt x="4240" y="317"/>
                    <a:pt x="3948" y="309"/>
                  </a:cubicBezTo>
                  <a:cubicBezTo>
                    <a:pt x="3656" y="301"/>
                    <a:pt x="3326" y="373"/>
                    <a:pt x="2905" y="351"/>
                  </a:cubicBezTo>
                  <a:cubicBezTo>
                    <a:pt x="2404" y="342"/>
                    <a:pt x="1978" y="192"/>
                    <a:pt x="1419" y="175"/>
                  </a:cubicBezTo>
                  <a:cubicBezTo>
                    <a:pt x="1045" y="130"/>
                    <a:pt x="918" y="167"/>
                    <a:pt x="659" y="84"/>
                  </a:cubicBezTo>
                  <a:cubicBezTo>
                    <a:pt x="342" y="75"/>
                    <a:pt x="150" y="17"/>
                    <a:pt x="0" y="0"/>
                  </a:cubicBezTo>
                  <a:cubicBezTo>
                    <a:pt x="0" y="513"/>
                    <a:pt x="0" y="1027"/>
                    <a:pt x="0" y="1027"/>
                  </a:cubicBezTo>
                  <a:close/>
                </a:path>
              </a:pathLst>
            </a:custGeom>
            <a:gradFill rotWithShape="0">
              <a:gsLst>
                <a:gs pos="0">
                  <a:srgbClr val="859596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451a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51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4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451a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4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1451aa"/>
              </a:buClr>
              <a:buSzPct val="4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4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451aa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4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2e2e48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4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2e2e48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4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2e2e48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4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7F6C-7027-4541-8FC6-E8C0CCA53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0"/>
            <a:ext cx="9144000" cy="6864480"/>
            <a:chOff x="0" y="0"/>
            <a:chExt cx="9144000" cy="6864480"/>
          </a:xfrm>
        </p:grpSpPr>
        <p:sp>
          <p:nvSpPr>
            <p:cNvPr id="172" name=""/>
            <p:cNvSpPr/>
            <p:nvPr/>
          </p:nvSpPr>
          <p:spPr>
            <a:xfrm>
              <a:off x="0" y="525600"/>
              <a:ext cx="9144000" cy="5279760"/>
            </a:xfrm>
            <a:prstGeom prst="rect">
              <a:avLst/>
            </a:prstGeom>
            <a:gradFill rotWithShape="0">
              <a:gsLst>
                <a:gs pos="0">
                  <a:srgbClr val="b9cce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0"/>
              <a:ext cx="9144000" cy="557280"/>
            </a:xfrm>
            <a:prstGeom prst="rect">
              <a:avLst/>
            </a:prstGeom>
            <a:gradFill rotWithShape="0">
              <a:gsLst>
                <a:gs pos="0">
                  <a:srgbClr val="6b94d1"/>
                </a:gs>
                <a:gs pos="100000">
                  <a:srgbClr val="b9cc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2533680"/>
              <a:ext cx="9144000" cy="2620800"/>
            </a:xfrm>
            <a:custGeom>
              <a:avLst/>
              <a:gdLst/>
              <a:ahLst/>
              <a:rect l="l" t="t" r="r" b="b"/>
              <a:pathLst>
                <a:path w="5760" h="1651">
                  <a:moveTo>
                    <a:pt x="0" y="960"/>
                  </a:moveTo>
                  <a:cubicBezTo>
                    <a:pt x="237" y="952"/>
                    <a:pt x="517" y="913"/>
                    <a:pt x="773" y="852"/>
                  </a:cubicBezTo>
                  <a:cubicBezTo>
                    <a:pt x="1029" y="791"/>
                    <a:pt x="1259" y="710"/>
                    <a:pt x="1536" y="594"/>
                  </a:cubicBezTo>
                  <a:cubicBezTo>
                    <a:pt x="1814" y="478"/>
                    <a:pt x="2247" y="251"/>
                    <a:pt x="2438" y="156"/>
                  </a:cubicBezTo>
                  <a:cubicBezTo>
                    <a:pt x="2628" y="61"/>
                    <a:pt x="2615" y="45"/>
                    <a:pt x="2678" y="24"/>
                  </a:cubicBezTo>
                  <a:cubicBezTo>
                    <a:pt x="2741" y="3"/>
                    <a:pt x="2783" y="34"/>
                    <a:pt x="2816" y="30"/>
                  </a:cubicBezTo>
                  <a:cubicBezTo>
                    <a:pt x="2849" y="26"/>
                    <a:pt x="2840" y="0"/>
                    <a:pt x="2876" y="0"/>
                  </a:cubicBezTo>
                  <a:cubicBezTo>
                    <a:pt x="2912" y="0"/>
                    <a:pt x="2997" y="28"/>
                    <a:pt x="3032" y="30"/>
                  </a:cubicBezTo>
                  <a:cubicBezTo>
                    <a:pt x="3067" y="32"/>
                    <a:pt x="3061" y="10"/>
                    <a:pt x="3086" y="12"/>
                  </a:cubicBezTo>
                  <a:cubicBezTo>
                    <a:pt x="3112" y="14"/>
                    <a:pt x="3142" y="24"/>
                    <a:pt x="3183" y="42"/>
                  </a:cubicBezTo>
                  <a:cubicBezTo>
                    <a:pt x="3224" y="60"/>
                    <a:pt x="3283" y="88"/>
                    <a:pt x="3333" y="120"/>
                  </a:cubicBezTo>
                  <a:cubicBezTo>
                    <a:pt x="3383" y="152"/>
                    <a:pt x="3415" y="188"/>
                    <a:pt x="3483" y="234"/>
                  </a:cubicBezTo>
                  <a:cubicBezTo>
                    <a:pt x="3551" y="280"/>
                    <a:pt x="3629" y="329"/>
                    <a:pt x="3741" y="396"/>
                  </a:cubicBezTo>
                  <a:cubicBezTo>
                    <a:pt x="3854" y="463"/>
                    <a:pt x="4028" y="574"/>
                    <a:pt x="4156" y="636"/>
                  </a:cubicBezTo>
                  <a:cubicBezTo>
                    <a:pt x="4284" y="698"/>
                    <a:pt x="4384" y="723"/>
                    <a:pt x="4510" y="768"/>
                  </a:cubicBezTo>
                  <a:cubicBezTo>
                    <a:pt x="4637" y="813"/>
                    <a:pt x="4781" y="855"/>
                    <a:pt x="4913" y="906"/>
                  </a:cubicBezTo>
                  <a:cubicBezTo>
                    <a:pt x="5045" y="957"/>
                    <a:pt x="5163" y="1033"/>
                    <a:pt x="5304" y="1074"/>
                  </a:cubicBezTo>
                  <a:cubicBezTo>
                    <a:pt x="5445" y="1115"/>
                    <a:pt x="5543" y="1125"/>
                    <a:pt x="5760" y="1150"/>
                  </a:cubicBezTo>
                  <a:cubicBezTo>
                    <a:pt x="5760" y="1400"/>
                    <a:pt x="5760" y="1651"/>
                    <a:pt x="5760" y="1651"/>
                  </a:cubicBezTo>
                  <a:lnTo>
                    <a:pt x="0" y="1651"/>
                  </a:lnTo>
                  <a:lnTo>
                    <a:pt x="0" y="960"/>
                  </a:lnTo>
                  <a:close/>
                </a:path>
              </a:pathLst>
            </a:custGeom>
            <a:gradFill rotWithShape="0">
              <a:gsLst>
                <a:gs pos="0">
                  <a:srgbClr val="c0d7d8"/>
                </a:gs>
                <a:gs pos="100000">
                  <a:srgbClr val="7f8e8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3360" y="2535120"/>
              <a:ext cx="3960720" cy="1673280"/>
            </a:xfrm>
            <a:custGeom>
              <a:avLst/>
              <a:gdLst/>
              <a:ahLst/>
              <a:rect l="l" t="t" r="r" b="b"/>
              <a:pathLst>
                <a:path w="2495" h="1054">
                  <a:moveTo>
                    <a:pt x="135" y="902"/>
                  </a:moveTo>
                  <a:cubicBezTo>
                    <a:pt x="270" y="859"/>
                    <a:pt x="683" y="732"/>
                    <a:pt x="909" y="650"/>
                  </a:cubicBezTo>
                  <a:cubicBezTo>
                    <a:pt x="1135" y="568"/>
                    <a:pt x="1305" y="499"/>
                    <a:pt x="1491" y="410"/>
                  </a:cubicBezTo>
                  <a:cubicBezTo>
                    <a:pt x="1677" y="321"/>
                    <a:pt x="1911" y="179"/>
                    <a:pt x="2028" y="116"/>
                  </a:cubicBezTo>
                  <a:cubicBezTo>
                    <a:pt x="2145" y="53"/>
                    <a:pt x="2156" y="48"/>
                    <a:pt x="2193" y="32"/>
                  </a:cubicBezTo>
                  <a:cubicBezTo>
                    <a:pt x="2230" y="16"/>
                    <a:pt x="2238" y="22"/>
                    <a:pt x="2253" y="20"/>
                  </a:cubicBezTo>
                  <a:cubicBezTo>
                    <a:pt x="2268" y="18"/>
                    <a:pt x="2278" y="22"/>
                    <a:pt x="2286" y="20"/>
                  </a:cubicBezTo>
                  <a:cubicBezTo>
                    <a:pt x="2294" y="18"/>
                    <a:pt x="2296" y="10"/>
                    <a:pt x="2304" y="8"/>
                  </a:cubicBezTo>
                  <a:cubicBezTo>
                    <a:pt x="2312" y="6"/>
                    <a:pt x="2320" y="6"/>
                    <a:pt x="2334" y="8"/>
                  </a:cubicBezTo>
                  <a:cubicBezTo>
                    <a:pt x="2348" y="10"/>
                    <a:pt x="2372" y="21"/>
                    <a:pt x="2388" y="20"/>
                  </a:cubicBezTo>
                  <a:cubicBezTo>
                    <a:pt x="2404" y="19"/>
                    <a:pt x="2416" y="4"/>
                    <a:pt x="2433" y="2"/>
                  </a:cubicBezTo>
                  <a:cubicBezTo>
                    <a:pt x="2450" y="0"/>
                    <a:pt x="2485" y="4"/>
                    <a:pt x="2490" y="8"/>
                  </a:cubicBezTo>
                  <a:cubicBezTo>
                    <a:pt x="2495" y="12"/>
                    <a:pt x="2474" y="17"/>
                    <a:pt x="2463" y="26"/>
                  </a:cubicBezTo>
                  <a:cubicBezTo>
                    <a:pt x="2452" y="35"/>
                    <a:pt x="2437" y="47"/>
                    <a:pt x="2424" y="62"/>
                  </a:cubicBezTo>
                  <a:cubicBezTo>
                    <a:pt x="2411" y="77"/>
                    <a:pt x="2397" y="103"/>
                    <a:pt x="2385" y="119"/>
                  </a:cubicBezTo>
                  <a:cubicBezTo>
                    <a:pt x="2373" y="135"/>
                    <a:pt x="2358" y="149"/>
                    <a:pt x="2349" y="158"/>
                  </a:cubicBezTo>
                  <a:cubicBezTo>
                    <a:pt x="2340" y="167"/>
                    <a:pt x="2340" y="172"/>
                    <a:pt x="2331" y="176"/>
                  </a:cubicBezTo>
                  <a:cubicBezTo>
                    <a:pt x="2322" y="180"/>
                    <a:pt x="2303" y="174"/>
                    <a:pt x="2295" y="182"/>
                  </a:cubicBezTo>
                  <a:cubicBezTo>
                    <a:pt x="2287" y="190"/>
                    <a:pt x="2284" y="216"/>
                    <a:pt x="2280" y="227"/>
                  </a:cubicBezTo>
                  <a:cubicBezTo>
                    <a:pt x="2276" y="238"/>
                    <a:pt x="2268" y="245"/>
                    <a:pt x="2271" y="251"/>
                  </a:cubicBezTo>
                  <a:cubicBezTo>
                    <a:pt x="2274" y="257"/>
                    <a:pt x="2293" y="253"/>
                    <a:pt x="2298" y="266"/>
                  </a:cubicBezTo>
                  <a:cubicBezTo>
                    <a:pt x="2303" y="279"/>
                    <a:pt x="2309" y="319"/>
                    <a:pt x="2304" y="332"/>
                  </a:cubicBezTo>
                  <a:cubicBezTo>
                    <a:pt x="2299" y="345"/>
                    <a:pt x="2273" y="345"/>
                    <a:pt x="2265" y="344"/>
                  </a:cubicBezTo>
                  <a:cubicBezTo>
                    <a:pt x="2257" y="343"/>
                    <a:pt x="2258" y="326"/>
                    <a:pt x="2253" y="326"/>
                  </a:cubicBezTo>
                  <a:cubicBezTo>
                    <a:pt x="2248" y="326"/>
                    <a:pt x="2236" y="337"/>
                    <a:pt x="2232" y="347"/>
                  </a:cubicBezTo>
                  <a:cubicBezTo>
                    <a:pt x="2228" y="357"/>
                    <a:pt x="2228" y="376"/>
                    <a:pt x="2226" y="386"/>
                  </a:cubicBezTo>
                  <a:cubicBezTo>
                    <a:pt x="2224" y="396"/>
                    <a:pt x="2236" y="390"/>
                    <a:pt x="2220" y="407"/>
                  </a:cubicBezTo>
                  <a:cubicBezTo>
                    <a:pt x="2204" y="424"/>
                    <a:pt x="2157" y="463"/>
                    <a:pt x="2130" y="491"/>
                  </a:cubicBezTo>
                  <a:cubicBezTo>
                    <a:pt x="2103" y="519"/>
                    <a:pt x="2083" y="539"/>
                    <a:pt x="2058" y="575"/>
                  </a:cubicBezTo>
                  <a:cubicBezTo>
                    <a:pt x="2033" y="611"/>
                    <a:pt x="1998" y="679"/>
                    <a:pt x="1980" y="710"/>
                  </a:cubicBezTo>
                  <a:cubicBezTo>
                    <a:pt x="1962" y="741"/>
                    <a:pt x="1966" y="756"/>
                    <a:pt x="1950" y="764"/>
                  </a:cubicBezTo>
                  <a:cubicBezTo>
                    <a:pt x="1934" y="772"/>
                    <a:pt x="1906" y="756"/>
                    <a:pt x="1884" y="758"/>
                  </a:cubicBezTo>
                  <a:cubicBezTo>
                    <a:pt x="1862" y="760"/>
                    <a:pt x="1832" y="762"/>
                    <a:pt x="1815" y="776"/>
                  </a:cubicBezTo>
                  <a:cubicBezTo>
                    <a:pt x="1798" y="790"/>
                    <a:pt x="1800" y="826"/>
                    <a:pt x="1782" y="845"/>
                  </a:cubicBezTo>
                  <a:cubicBezTo>
                    <a:pt x="1764" y="864"/>
                    <a:pt x="1730" y="871"/>
                    <a:pt x="1704" y="890"/>
                  </a:cubicBezTo>
                  <a:cubicBezTo>
                    <a:pt x="1678" y="909"/>
                    <a:pt x="1657" y="942"/>
                    <a:pt x="1629" y="959"/>
                  </a:cubicBezTo>
                  <a:cubicBezTo>
                    <a:pt x="1601" y="976"/>
                    <a:pt x="1561" y="980"/>
                    <a:pt x="1533" y="995"/>
                  </a:cubicBezTo>
                  <a:cubicBezTo>
                    <a:pt x="1505" y="1010"/>
                    <a:pt x="1469" y="1050"/>
                    <a:pt x="1458" y="1052"/>
                  </a:cubicBezTo>
                  <a:cubicBezTo>
                    <a:pt x="1447" y="1054"/>
                    <a:pt x="1450" y="1027"/>
                    <a:pt x="1467" y="1007"/>
                  </a:cubicBezTo>
                  <a:cubicBezTo>
                    <a:pt x="1484" y="987"/>
                    <a:pt x="1533" y="955"/>
                    <a:pt x="1560" y="932"/>
                  </a:cubicBezTo>
                  <a:cubicBezTo>
                    <a:pt x="1587" y="909"/>
                    <a:pt x="1606" y="893"/>
                    <a:pt x="1629" y="866"/>
                  </a:cubicBezTo>
                  <a:cubicBezTo>
                    <a:pt x="1652" y="839"/>
                    <a:pt x="1687" y="796"/>
                    <a:pt x="1701" y="770"/>
                  </a:cubicBezTo>
                  <a:cubicBezTo>
                    <a:pt x="1715" y="744"/>
                    <a:pt x="1699" y="731"/>
                    <a:pt x="1713" y="710"/>
                  </a:cubicBezTo>
                  <a:cubicBezTo>
                    <a:pt x="1727" y="689"/>
                    <a:pt x="1759" y="671"/>
                    <a:pt x="1785" y="644"/>
                  </a:cubicBezTo>
                  <a:cubicBezTo>
                    <a:pt x="1811" y="617"/>
                    <a:pt x="1844" y="573"/>
                    <a:pt x="1869" y="545"/>
                  </a:cubicBezTo>
                  <a:cubicBezTo>
                    <a:pt x="1894" y="517"/>
                    <a:pt x="1918" y="500"/>
                    <a:pt x="1935" y="476"/>
                  </a:cubicBezTo>
                  <a:cubicBezTo>
                    <a:pt x="1952" y="452"/>
                    <a:pt x="1955" y="422"/>
                    <a:pt x="1971" y="401"/>
                  </a:cubicBezTo>
                  <a:cubicBezTo>
                    <a:pt x="1987" y="380"/>
                    <a:pt x="2019" y="364"/>
                    <a:pt x="2034" y="350"/>
                  </a:cubicBezTo>
                  <a:cubicBezTo>
                    <a:pt x="2049" y="336"/>
                    <a:pt x="2064" y="318"/>
                    <a:pt x="2061" y="314"/>
                  </a:cubicBezTo>
                  <a:cubicBezTo>
                    <a:pt x="2058" y="310"/>
                    <a:pt x="2031" y="314"/>
                    <a:pt x="2016" y="323"/>
                  </a:cubicBezTo>
                  <a:cubicBezTo>
                    <a:pt x="2001" y="332"/>
                    <a:pt x="1982" y="350"/>
                    <a:pt x="1971" y="368"/>
                  </a:cubicBezTo>
                  <a:cubicBezTo>
                    <a:pt x="1960" y="386"/>
                    <a:pt x="1960" y="412"/>
                    <a:pt x="1947" y="434"/>
                  </a:cubicBezTo>
                  <a:cubicBezTo>
                    <a:pt x="1934" y="456"/>
                    <a:pt x="1914" y="475"/>
                    <a:pt x="1893" y="500"/>
                  </a:cubicBezTo>
                  <a:cubicBezTo>
                    <a:pt x="1872" y="525"/>
                    <a:pt x="1841" y="565"/>
                    <a:pt x="1821" y="587"/>
                  </a:cubicBezTo>
                  <a:cubicBezTo>
                    <a:pt x="1801" y="609"/>
                    <a:pt x="1790" y="619"/>
                    <a:pt x="1770" y="632"/>
                  </a:cubicBezTo>
                  <a:cubicBezTo>
                    <a:pt x="1750" y="645"/>
                    <a:pt x="1727" y="647"/>
                    <a:pt x="1704" y="662"/>
                  </a:cubicBezTo>
                  <a:cubicBezTo>
                    <a:pt x="1681" y="677"/>
                    <a:pt x="1646" y="709"/>
                    <a:pt x="1632" y="725"/>
                  </a:cubicBezTo>
                  <a:cubicBezTo>
                    <a:pt x="1618" y="741"/>
                    <a:pt x="1627" y="754"/>
                    <a:pt x="1620" y="761"/>
                  </a:cubicBezTo>
                  <a:cubicBezTo>
                    <a:pt x="1613" y="768"/>
                    <a:pt x="1593" y="775"/>
                    <a:pt x="1587" y="770"/>
                  </a:cubicBezTo>
                  <a:cubicBezTo>
                    <a:pt x="1581" y="765"/>
                    <a:pt x="1566" y="749"/>
                    <a:pt x="1584" y="728"/>
                  </a:cubicBezTo>
                  <a:cubicBezTo>
                    <a:pt x="1602" y="707"/>
                    <a:pt x="1668" y="665"/>
                    <a:pt x="1692" y="641"/>
                  </a:cubicBezTo>
                  <a:cubicBezTo>
                    <a:pt x="1716" y="617"/>
                    <a:pt x="1714" y="599"/>
                    <a:pt x="1731" y="581"/>
                  </a:cubicBezTo>
                  <a:cubicBezTo>
                    <a:pt x="1748" y="563"/>
                    <a:pt x="1774" y="552"/>
                    <a:pt x="1794" y="533"/>
                  </a:cubicBezTo>
                  <a:cubicBezTo>
                    <a:pt x="1814" y="514"/>
                    <a:pt x="1837" y="482"/>
                    <a:pt x="1851" y="467"/>
                  </a:cubicBezTo>
                  <a:cubicBezTo>
                    <a:pt x="1865" y="452"/>
                    <a:pt x="1874" y="452"/>
                    <a:pt x="1878" y="443"/>
                  </a:cubicBezTo>
                  <a:cubicBezTo>
                    <a:pt x="1882" y="434"/>
                    <a:pt x="1882" y="413"/>
                    <a:pt x="1875" y="413"/>
                  </a:cubicBezTo>
                  <a:cubicBezTo>
                    <a:pt x="1868" y="413"/>
                    <a:pt x="1847" y="426"/>
                    <a:pt x="1833" y="443"/>
                  </a:cubicBezTo>
                  <a:cubicBezTo>
                    <a:pt x="1819" y="460"/>
                    <a:pt x="1804" y="495"/>
                    <a:pt x="1788" y="515"/>
                  </a:cubicBezTo>
                  <a:cubicBezTo>
                    <a:pt x="1772" y="535"/>
                    <a:pt x="1751" y="550"/>
                    <a:pt x="1734" y="566"/>
                  </a:cubicBezTo>
                  <a:cubicBezTo>
                    <a:pt x="1717" y="582"/>
                    <a:pt x="1704" y="595"/>
                    <a:pt x="1689" y="611"/>
                  </a:cubicBezTo>
                  <a:cubicBezTo>
                    <a:pt x="1674" y="627"/>
                    <a:pt x="1655" y="656"/>
                    <a:pt x="1641" y="665"/>
                  </a:cubicBezTo>
                  <a:cubicBezTo>
                    <a:pt x="1627" y="674"/>
                    <a:pt x="1609" y="674"/>
                    <a:pt x="1605" y="665"/>
                  </a:cubicBezTo>
                  <a:cubicBezTo>
                    <a:pt x="1601" y="656"/>
                    <a:pt x="1603" y="627"/>
                    <a:pt x="1617" y="608"/>
                  </a:cubicBezTo>
                  <a:cubicBezTo>
                    <a:pt x="1631" y="589"/>
                    <a:pt x="1672" y="560"/>
                    <a:pt x="1689" y="548"/>
                  </a:cubicBezTo>
                  <a:cubicBezTo>
                    <a:pt x="1706" y="536"/>
                    <a:pt x="1713" y="540"/>
                    <a:pt x="1722" y="533"/>
                  </a:cubicBezTo>
                  <a:cubicBezTo>
                    <a:pt x="1731" y="526"/>
                    <a:pt x="1752" y="507"/>
                    <a:pt x="1746" y="506"/>
                  </a:cubicBezTo>
                  <a:cubicBezTo>
                    <a:pt x="1740" y="505"/>
                    <a:pt x="1711" y="513"/>
                    <a:pt x="1686" y="530"/>
                  </a:cubicBezTo>
                  <a:cubicBezTo>
                    <a:pt x="1661" y="547"/>
                    <a:pt x="1617" y="587"/>
                    <a:pt x="1596" y="611"/>
                  </a:cubicBezTo>
                  <a:cubicBezTo>
                    <a:pt x="1575" y="635"/>
                    <a:pt x="1569" y="661"/>
                    <a:pt x="1560" y="674"/>
                  </a:cubicBezTo>
                  <a:cubicBezTo>
                    <a:pt x="1551" y="687"/>
                    <a:pt x="1549" y="694"/>
                    <a:pt x="1542" y="689"/>
                  </a:cubicBezTo>
                  <a:cubicBezTo>
                    <a:pt x="1535" y="684"/>
                    <a:pt x="1525" y="650"/>
                    <a:pt x="1518" y="641"/>
                  </a:cubicBezTo>
                  <a:cubicBezTo>
                    <a:pt x="1511" y="632"/>
                    <a:pt x="1496" y="639"/>
                    <a:pt x="1500" y="632"/>
                  </a:cubicBezTo>
                  <a:cubicBezTo>
                    <a:pt x="1504" y="625"/>
                    <a:pt x="1527" y="607"/>
                    <a:pt x="1542" y="596"/>
                  </a:cubicBezTo>
                  <a:cubicBezTo>
                    <a:pt x="1557" y="585"/>
                    <a:pt x="1571" y="574"/>
                    <a:pt x="1590" y="563"/>
                  </a:cubicBezTo>
                  <a:cubicBezTo>
                    <a:pt x="1609" y="552"/>
                    <a:pt x="1637" y="541"/>
                    <a:pt x="1656" y="527"/>
                  </a:cubicBezTo>
                  <a:cubicBezTo>
                    <a:pt x="1675" y="513"/>
                    <a:pt x="1692" y="489"/>
                    <a:pt x="1704" y="476"/>
                  </a:cubicBezTo>
                  <a:cubicBezTo>
                    <a:pt x="1716" y="463"/>
                    <a:pt x="1735" y="451"/>
                    <a:pt x="1728" y="452"/>
                  </a:cubicBezTo>
                  <a:cubicBezTo>
                    <a:pt x="1721" y="453"/>
                    <a:pt x="1673" y="473"/>
                    <a:pt x="1659" y="485"/>
                  </a:cubicBezTo>
                  <a:cubicBezTo>
                    <a:pt x="1645" y="497"/>
                    <a:pt x="1652" y="517"/>
                    <a:pt x="1641" y="524"/>
                  </a:cubicBezTo>
                  <a:cubicBezTo>
                    <a:pt x="1630" y="531"/>
                    <a:pt x="1608" y="518"/>
                    <a:pt x="1596" y="524"/>
                  </a:cubicBezTo>
                  <a:cubicBezTo>
                    <a:pt x="1584" y="530"/>
                    <a:pt x="1583" y="554"/>
                    <a:pt x="1572" y="560"/>
                  </a:cubicBezTo>
                  <a:cubicBezTo>
                    <a:pt x="1561" y="566"/>
                    <a:pt x="1541" y="553"/>
                    <a:pt x="1530" y="560"/>
                  </a:cubicBezTo>
                  <a:cubicBezTo>
                    <a:pt x="1519" y="567"/>
                    <a:pt x="1516" y="594"/>
                    <a:pt x="1506" y="605"/>
                  </a:cubicBezTo>
                  <a:cubicBezTo>
                    <a:pt x="1496" y="616"/>
                    <a:pt x="1481" y="611"/>
                    <a:pt x="1470" y="623"/>
                  </a:cubicBezTo>
                  <a:cubicBezTo>
                    <a:pt x="1459" y="635"/>
                    <a:pt x="1448" y="671"/>
                    <a:pt x="1437" y="677"/>
                  </a:cubicBezTo>
                  <a:cubicBezTo>
                    <a:pt x="1426" y="683"/>
                    <a:pt x="1406" y="671"/>
                    <a:pt x="1401" y="662"/>
                  </a:cubicBezTo>
                  <a:cubicBezTo>
                    <a:pt x="1396" y="653"/>
                    <a:pt x="1410" y="623"/>
                    <a:pt x="1404" y="623"/>
                  </a:cubicBezTo>
                  <a:cubicBezTo>
                    <a:pt x="1398" y="623"/>
                    <a:pt x="1384" y="656"/>
                    <a:pt x="1362" y="665"/>
                  </a:cubicBezTo>
                  <a:cubicBezTo>
                    <a:pt x="1340" y="674"/>
                    <a:pt x="1288" y="682"/>
                    <a:pt x="1272" y="680"/>
                  </a:cubicBezTo>
                  <a:cubicBezTo>
                    <a:pt x="1256" y="678"/>
                    <a:pt x="1268" y="660"/>
                    <a:pt x="1263" y="653"/>
                  </a:cubicBezTo>
                  <a:cubicBezTo>
                    <a:pt x="1258" y="646"/>
                    <a:pt x="1253" y="636"/>
                    <a:pt x="1242" y="638"/>
                  </a:cubicBezTo>
                  <a:cubicBezTo>
                    <a:pt x="1231" y="640"/>
                    <a:pt x="1224" y="654"/>
                    <a:pt x="1194" y="668"/>
                  </a:cubicBezTo>
                  <a:cubicBezTo>
                    <a:pt x="1164" y="682"/>
                    <a:pt x="1111" y="702"/>
                    <a:pt x="1059" y="722"/>
                  </a:cubicBezTo>
                  <a:cubicBezTo>
                    <a:pt x="1007" y="742"/>
                    <a:pt x="950" y="763"/>
                    <a:pt x="879" y="788"/>
                  </a:cubicBezTo>
                  <a:cubicBezTo>
                    <a:pt x="808" y="813"/>
                    <a:pt x="698" y="853"/>
                    <a:pt x="633" y="875"/>
                  </a:cubicBezTo>
                  <a:cubicBezTo>
                    <a:pt x="568" y="897"/>
                    <a:pt x="513" y="914"/>
                    <a:pt x="492" y="917"/>
                  </a:cubicBezTo>
                  <a:cubicBezTo>
                    <a:pt x="471" y="920"/>
                    <a:pt x="477" y="904"/>
                    <a:pt x="504" y="893"/>
                  </a:cubicBezTo>
                  <a:cubicBezTo>
                    <a:pt x="531" y="882"/>
                    <a:pt x="602" y="869"/>
                    <a:pt x="657" y="851"/>
                  </a:cubicBezTo>
                  <a:cubicBezTo>
                    <a:pt x="712" y="833"/>
                    <a:pt x="774" y="807"/>
                    <a:pt x="837" y="785"/>
                  </a:cubicBezTo>
                  <a:cubicBezTo>
                    <a:pt x="900" y="763"/>
                    <a:pt x="994" y="733"/>
                    <a:pt x="1035" y="716"/>
                  </a:cubicBezTo>
                  <a:cubicBezTo>
                    <a:pt x="1076" y="699"/>
                    <a:pt x="1079" y="690"/>
                    <a:pt x="1083" y="686"/>
                  </a:cubicBezTo>
                  <a:cubicBezTo>
                    <a:pt x="1087" y="682"/>
                    <a:pt x="1091" y="679"/>
                    <a:pt x="1062" y="689"/>
                  </a:cubicBezTo>
                  <a:cubicBezTo>
                    <a:pt x="1033" y="699"/>
                    <a:pt x="964" y="727"/>
                    <a:pt x="906" y="746"/>
                  </a:cubicBezTo>
                  <a:cubicBezTo>
                    <a:pt x="848" y="765"/>
                    <a:pt x="779" y="788"/>
                    <a:pt x="714" y="806"/>
                  </a:cubicBezTo>
                  <a:cubicBezTo>
                    <a:pt x="649" y="824"/>
                    <a:pt x="584" y="838"/>
                    <a:pt x="513" y="854"/>
                  </a:cubicBezTo>
                  <a:cubicBezTo>
                    <a:pt x="442" y="870"/>
                    <a:pt x="344" y="893"/>
                    <a:pt x="288" y="905"/>
                  </a:cubicBezTo>
                  <a:cubicBezTo>
                    <a:pt x="232" y="917"/>
                    <a:pt x="190" y="926"/>
                    <a:pt x="177" y="926"/>
                  </a:cubicBezTo>
                  <a:cubicBezTo>
                    <a:pt x="164" y="926"/>
                    <a:pt x="208" y="904"/>
                    <a:pt x="207" y="902"/>
                  </a:cubicBezTo>
                  <a:cubicBezTo>
                    <a:pt x="206" y="900"/>
                    <a:pt x="188" y="907"/>
                    <a:pt x="168" y="911"/>
                  </a:cubicBezTo>
                  <a:cubicBezTo>
                    <a:pt x="148" y="915"/>
                    <a:pt x="95" y="929"/>
                    <a:pt x="84" y="929"/>
                  </a:cubicBezTo>
                  <a:cubicBezTo>
                    <a:pt x="73" y="929"/>
                    <a:pt x="91" y="912"/>
                    <a:pt x="99" y="908"/>
                  </a:cubicBezTo>
                  <a:cubicBezTo>
                    <a:pt x="107" y="904"/>
                    <a:pt x="0" y="945"/>
                    <a:pt x="135" y="90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e9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83000" y="2511360"/>
              <a:ext cx="1730520" cy="1498680"/>
            </a:xfrm>
            <a:custGeom>
              <a:avLst/>
              <a:gdLst/>
              <a:ahLst/>
              <a:rect l="l" t="t" r="r" b="b"/>
              <a:pathLst>
                <a:path w="1090" h="944">
                  <a:moveTo>
                    <a:pt x="220" y="44"/>
                  </a:moveTo>
                  <a:cubicBezTo>
                    <a:pt x="214" y="39"/>
                    <a:pt x="250" y="35"/>
                    <a:pt x="262" y="29"/>
                  </a:cubicBezTo>
                  <a:cubicBezTo>
                    <a:pt x="274" y="23"/>
                    <a:pt x="284" y="9"/>
                    <a:pt x="292" y="5"/>
                  </a:cubicBezTo>
                  <a:cubicBezTo>
                    <a:pt x="300" y="1"/>
                    <a:pt x="299" y="0"/>
                    <a:pt x="310" y="5"/>
                  </a:cubicBezTo>
                  <a:cubicBezTo>
                    <a:pt x="321" y="10"/>
                    <a:pt x="341" y="23"/>
                    <a:pt x="358" y="35"/>
                  </a:cubicBezTo>
                  <a:cubicBezTo>
                    <a:pt x="375" y="47"/>
                    <a:pt x="402" y="64"/>
                    <a:pt x="415" y="80"/>
                  </a:cubicBezTo>
                  <a:cubicBezTo>
                    <a:pt x="428" y="96"/>
                    <a:pt x="436" y="114"/>
                    <a:pt x="436" y="128"/>
                  </a:cubicBezTo>
                  <a:cubicBezTo>
                    <a:pt x="436" y="142"/>
                    <a:pt x="414" y="155"/>
                    <a:pt x="415" y="164"/>
                  </a:cubicBezTo>
                  <a:cubicBezTo>
                    <a:pt x="416" y="173"/>
                    <a:pt x="441" y="172"/>
                    <a:pt x="445" y="185"/>
                  </a:cubicBezTo>
                  <a:cubicBezTo>
                    <a:pt x="449" y="198"/>
                    <a:pt x="431" y="226"/>
                    <a:pt x="439" y="239"/>
                  </a:cubicBezTo>
                  <a:cubicBezTo>
                    <a:pt x="447" y="252"/>
                    <a:pt x="475" y="262"/>
                    <a:pt x="490" y="266"/>
                  </a:cubicBezTo>
                  <a:cubicBezTo>
                    <a:pt x="505" y="270"/>
                    <a:pt x="517" y="256"/>
                    <a:pt x="532" y="266"/>
                  </a:cubicBezTo>
                  <a:cubicBezTo>
                    <a:pt x="547" y="276"/>
                    <a:pt x="575" y="314"/>
                    <a:pt x="577" y="326"/>
                  </a:cubicBezTo>
                  <a:cubicBezTo>
                    <a:pt x="579" y="338"/>
                    <a:pt x="546" y="331"/>
                    <a:pt x="544" y="338"/>
                  </a:cubicBezTo>
                  <a:cubicBezTo>
                    <a:pt x="542" y="345"/>
                    <a:pt x="545" y="356"/>
                    <a:pt x="562" y="371"/>
                  </a:cubicBezTo>
                  <a:cubicBezTo>
                    <a:pt x="579" y="386"/>
                    <a:pt x="604" y="404"/>
                    <a:pt x="646" y="431"/>
                  </a:cubicBezTo>
                  <a:cubicBezTo>
                    <a:pt x="688" y="458"/>
                    <a:pt x="761" y="501"/>
                    <a:pt x="817" y="536"/>
                  </a:cubicBezTo>
                  <a:cubicBezTo>
                    <a:pt x="873" y="571"/>
                    <a:pt x="949" y="617"/>
                    <a:pt x="982" y="641"/>
                  </a:cubicBezTo>
                  <a:cubicBezTo>
                    <a:pt x="1015" y="665"/>
                    <a:pt x="995" y="664"/>
                    <a:pt x="1012" y="680"/>
                  </a:cubicBezTo>
                  <a:cubicBezTo>
                    <a:pt x="1029" y="696"/>
                    <a:pt x="1078" y="726"/>
                    <a:pt x="1084" y="740"/>
                  </a:cubicBezTo>
                  <a:cubicBezTo>
                    <a:pt x="1090" y="754"/>
                    <a:pt x="1078" y="767"/>
                    <a:pt x="1051" y="764"/>
                  </a:cubicBezTo>
                  <a:cubicBezTo>
                    <a:pt x="1024" y="761"/>
                    <a:pt x="950" y="724"/>
                    <a:pt x="922" y="722"/>
                  </a:cubicBezTo>
                  <a:cubicBezTo>
                    <a:pt x="894" y="720"/>
                    <a:pt x="896" y="746"/>
                    <a:pt x="880" y="749"/>
                  </a:cubicBezTo>
                  <a:cubicBezTo>
                    <a:pt x="864" y="752"/>
                    <a:pt x="858" y="758"/>
                    <a:pt x="826" y="740"/>
                  </a:cubicBezTo>
                  <a:cubicBezTo>
                    <a:pt x="794" y="722"/>
                    <a:pt x="725" y="673"/>
                    <a:pt x="688" y="641"/>
                  </a:cubicBezTo>
                  <a:cubicBezTo>
                    <a:pt x="651" y="609"/>
                    <a:pt x="630" y="570"/>
                    <a:pt x="607" y="548"/>
                  </a:cubicBezTo>
                  <a:cubicBezTo>
                    <a:pt x="584" y="526"/>
                    <a:pt x="565" y="508"/>
                    <a:pt x="547" y="506"/>
                  </a:cubicBezTo>
                  <a:cubicBezTo>
                    <a:pt x="529" y="504"/>
                    <a:pt x="510" y="515"/>
                    <a:pt x="496" y="536"/>
                  </a:cubicBezTo>
                  <a:cubicBezTo>
                    <a:pt x="482" y="557"/>
                    <a:pt x="459" y="601"/>
                    <a:pt x="463" y="632"/>
                  </a:cubicBezTo>
                  <a:cubicBezTo>
                    <a:pt x="467" y="663"/>
                    <a:pt x="514" y="695"/>
                    <a:pt x="520" y="722"/>
                  </a:cubicBezTo>
                  <a:cubicBezTo>
                    <a:pt x="526" y="749"/>
                    <a:pt x="510" y="784"/>
                    <a:pt x="502" y="797"/>
                  </a:cubicBezTo>
                  <a:cubicBezTo>
                    <a:pt x="494" y="810"/>
                    <a:pt x="480" y="802"/>
                    <a:pt x="472" y="800"/>
                  </a:cubicBezTo>
                  <a:cubicBezTo>
                    <a:pt x="464" y="798"/>
                    <a:pt x="469" y="780"/>
                    <a:pt x="451" y="785"/>
                  </a:cubicBezTo>
                  <a:cubicBezTo>
                    <a:pt x="433" y="790"/>
                    <a:pt x="393" y="814"/>
                    <a:pt x="364" y="833"/>
                  </a:cubicBezTo>
                  <a:cubicBezTo>
                    <a:pt x="335" y="852"/>
                    <a:pt x="303" y="881"/>
                    <a:pt x="277" y="899"/>
                  </a:cubicBezTo>
                  <a:cubicBezTo>
                    <a:pt x="251" y="917"/>
                    <a:pt x="222" y="944"/>
                    <a:pt x="205" y="944"/>
                  </a:cubicBezTo>
                  <a:cubicBezTo>
                    <a:pt x="188" y="944"/>
                    <a:pt x="183" y="906"/>
                    <a:pt x="172" y="899"/>
                  </a:cubicBezTo>
                  <a:cubicBezTo>
                    <a:pt x="161" y="892"/>
                    <a:pt x="150" y="901"/>
                    <a:pt x="139" y="899"/>
                  </a:cubicBezTo>
                  <a:cubicBezTo>
                    <a:pt x="128" y="897"/>
                    <a:pt x="102" y="897"/>
                    <a:pt x="103" y="884"/>
                  </a:cubicBezTo>
                  <a:cubicBezTo>
                    <a:pt x="104" y="871"/>
                    <a:pt x="133" y="839"/>
                    <a:pt x="148" y="818"/>
                  </a:cubicBezTo>
                  <a:cubicBezTo>
                    <a:pt x="163" y="797"/>
                    <a:pt x="203" y="760"/>
                    <a:pt x="196" y="755"/>
                  </a:cubicBezTo>
                  <a:cubicBezTo>
                    <a:pt x="189" y="750"/>
                    <a:pt x="133" y="768"/>
                    <a:pt x="103" y="785"/>
                  </a:cubicBezTo>
                  <a:cubicBezTo>
                    <a:pt x="73" y="802"/>
                    <a:pt x="26" y="852"/>
                    <a:pt x="13" y="857"/>
                  </a:cubicBezTo>
                  <a:cubicBezTo>
                    <a:pt x="0" y="862"/>
                    <a:pt x="5" y="836"/>
                    <a:pt x="25" y="815"/>
                  </a:cubicBezTo>
                  <a:cubicBezTo>
                    <a:pt x="45" y="794"/>
                    <a:pt x="97" y="756"/>
                    <a:pt x="130" y="728"/>
                  </a:cubicBezTo>
                  <a:cubicBezTo>
                    <a:pt x="163" y="700"/>
                    <a:pt x="199" y="671"/>
                    <a:pt x="220" y="647"/>
                  </a:cubicBezTo>
                  <a:cubicBezTo>
                    <a:pt x="241" y="623"/>
                    <a:pt x="245" y="602"/>
                    <a:pt x="259" y="584"/>
                  </a:cubicBezTo>
                  <a:cubicBezTo>
                    <a:pt x="273" y="566"/>
                    <a:pt x="301" y="556"/>
                    <a:pt x="307" y="542"/>
                  </a:cubicBezTo>
                  <a:cubicBezTo>
                    <a:pt x="313" y="528"/>
                    <a:pt x="310" y="511"/>
                    <a:pt x="298" y="500"/>
                  </a:cubicBezTo>
                  <a:cubicBezTo>
                    <a:pt x="286" y="489"/>
                    <a:pt x="240" y="485"/>
                    <a:pt x="235" y="473"/>
                  </a:cubicBezTo>
                  <a:cubicBezTo>
                    <a:pt x="230" y="461"/>
                    <a:pt x="272" y="436"/>
                    <a:pt x="268" y="425"/>
                  </a:cubicBezTo>
                  <a:cubicBezTo>
                    <a:pt x="264" y="414"/>
                    <a:pt x="218" y="414"/>
                    <a:pt x="211" y="404"/>
                  </a:cubicBezTo>
                  <a:cubicBezTo>
                    <a:pt x="204" y="394"/>
                    <a:pt x="229" y="376"/>
                    <a:pt x="226" y="365"/>
                  </a:cubicBezTo>
                  <a:cubicBezTo>
                    <a:pt x="223" y="354"/>
                    <a:pt x="196" y="343"/>
                    <a:pt x="190" y="335"/>
                  </a:cubicBezTo>
                  <a:cubicBezTo>
                    <a:pt x="184" y="327"/>
                    <a:pt x="192" y="320"/>
                    <a:pt x="187" y="314"/>
                  </a:cubicBezTo>
                  <a:cubicBezTo>
                    <a:pt x="182" y="308"/>
                    <a:pt x="167" y="304"/>
                    <a:pt x="157" y="296"/>
                  </a:cubicBezTo>
                  <a:cubicBezTo>
                    <a:pt x="147" y="288"/>
                    <a:pt x="129" y="276"/>
                    <a:pt x="127" y="266"/>
                  </a:cubicBezTo>
                  <a:cubicBezTo>
                    <a:pt x="125" y="256"/>
                    <a:pt x="144" y="246"/>
                    <a:pt x="148" y="236"/>
                  </a:cubicBezTo>
                  <a:cubicBezTo>
                    <a:pt x="152" y="226"/>
                    <a:pt x="155" y="218"/>
                    <a:pt x="151" y="206"/>
                  </a:cubicBezTo>
                  <a:cubicBezTo>
                    <a:pt x="147" y="194"/>
                    <a:pt x="134" y="178"/>
                    <a:pt x="121" y="164"/>
                  </a:cubicBezTo>
                  <a:cubicBezTo>
                    <a:pt x="108" y="150"/>
                    <a:pt x="78" y="141"/>
                    <a:pt x="73" y="125"/>
                  </a:cubicBezTo>
                  <a:cubicBezTo>
                    <a:pt x="68" y="109"/>
                    <a:pt x="78" y="68"/>
                    <a:pt x="88" y="68"/>
                  </a:cubicBezTo>
                  <a:cubicBezTo>
                    <a:pt x="98" y="68"/>
                    <a:pt x="130" y="125"/>
                    <a:pt x="136" y="128"/>
                  </a:cubicBezTo>
                  <a:cubicBezTo>
                    <a:pt x="142" y="131"/>
                    <a:pt x="132" y="100"/>
                    <a:pt x="127" y="89"/>
                  </a:cubicBezTo>
                  <a:cubicBezTo>
                    <a:pt x="122" y="78"/>
                    <a:pt x="101" y="67"/>
                    <a:pt x="103" y="62"/>
                  </a:cubicBezTo>
                  <a:cubicBezTo>
                    <a:pt x="105" y="57"/>
                    <a:pt x="135" y="61"/>
                    <a:pt x="139" y="56"/>
                  </a:cubicBezTo>
                  <a:cubicBezTo>
                    <a:pt x="143" y="51"/>
                    <a:pt x="126" y="37"/>
                    <a:pt x="127" y="32"/>
                  </a:cubicBezTo>
                  <a:cubicBezTo>
                    <a:pt x="128" y="27"/>
                    <a:pt x="142" y="20"/>
                    <a:pt x="148" y="23"/>
                  </a:cubicBezTo>
                  <a:cubicBezTo>
                    <a:pt x="154" y="26"/>
                    <a:pt x="157" y="45"/>
                    <a:pt x="163" y="50"/>
                  </a:cubicBezTo>
                  <a:cubicBezTo>
                    <a:pt x="169" y="55"/>
                    <a:pt x="186" y="42"/>
                    <a:pt x="187" y="53"/>
                  </a:cubicBezTo>
                  <a:cubicBezTo>
                    <a:pt x="188" y="64"/>
                    <a:pt x="171" y="110"/>
                    <a:pt x="172" y="119"/>
                  </a:cubicBezTo>
                  <a:cubicBezTo>
                    <a:pt x="173" y="128"/>
                    <a:pt x="190" y="112"/>
                    <a:pt x="196" y="107"/>
                  </a:cubicBezTo>
                  <a:cubicBezTo>
                    <a:pt x="202" y="102"/>
                    <a:pt x="203" y="86"/>
                    <a:pt x="211" y="89"/>
                  </a:cubicBezTo>
                  <a:cubicBezTo>
                    <a:pt x="219" y="92"/>
                    <a:pt x="237" y="112"/>
                    <a:pt x="244" y="122"/>
                  </a:cubicBezTo>
                  <a:cubicBezTo>
                    <a:pt x="251" y="132"/>
                    <a:pt x="244" y="144"/>
                    <a:pt x="256" y="149"/>
                  </a:cubicBezTo>
                  <a:cubicBezTo>
                    <a:pt x="268" y="154"/>
                    <a:pt x="307" y="148"/>
                    <a:pt x="319" y="155"/>
                  </a:cubicBezTo>
                  <a:cubicBezTo>
                    <a:pt x="331" y="162"/>
                    <a:pt x="318" y="192"/>
                    <a:pt x="325" y="191"/>
                  </a:cubicBezTo>
                  <a:cubicBezTo>
                    <a:pt x="332" y="190"/>
                    <a:pt x="362" y="160"/>
                    <a:pt x="361" y="152"/>
                  </a:cubicBezTo>
                  <a:cubicBezTo>
                    <a:pt x="360" y="144"/>
                    <a:pt x="336" y="153"/>
                    <a:pt x="319" y="143"/>
                  </a:cubicBezTo>
                  <a:cubicBezTo>
                    <a:pt x="302" y="133"/>
                    <a:pt x="262" y="105"/>
                    <a:pt x="259" y="92"/>
                  </a:cubicBezTo>
                  <a:cubicBezTo>
                    <a:pt x="256" y="79"/>
                    <a:pt x="304" y="69"/>
                    <a:pt x="298" y="62"/>
                  </a:cubicBezTo>
                  <a:cubicBezTo>
                    <a:pt x="292" y="55"/>
                    <a:pt x="226" y="49"/>
                    <a:pt x="220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e9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4221000"/>
              <a:ext cx="9144000" cy="2243160"/>
            </a:xfrm>
            <a:custGeom>
              <a:avLst/>
              <a:gdLst/>
              <a:ahLst/>
              <a:rect l="l" t="t" r="r" b="b"/>
              <a:pathLst>
                <a:path w="5760" h="1224">
                  <a:moveTo>
                    <a:pt x="0" y="230"/>
                  </a:moveTo>
                  <a:lnTo>
                    <a:pt x="702" y="104"/>
                  </a:lnTo>
                  <a:lnTo>
                    <a:pt x="1144" y="0"/>
                  </a:lnTo>
                  <a:lnTo>
                    <a:pt x="1461" y="50"/>
                  </a:lnTo>
                  <a:lnTo>
                    <a:pt x="1720" y="75"/>
                  </a:lnTo>
                  <a:lnTo>
                    <a:pt x="2054" y="17"/>
                  </a:lnTo>
                  <a:cubicBezTo>
                    <a:pt x="2054" y="17"/>
                    <a:pt x="2068" y="67"/>
                    <a:pt x="2296" y="84"/>
                  </a:cubicBezTo>
                  <a:cubicBezTo>
                    <a:pt x="2579" y="384"/>
                    <a:pt x="3089" y="242"/>
                    <a:pt x="3423" y="117"/>
                  </a:cubicBezTo>
                  <a:cubicBezTo>
                    <a:pt x="3556" y="59"/>
                    <a:pt x="3656" y="33"/>
                    <a:pt x="3823" y="25"/>
                  </a:cubicBezTo>
                  <a:cubicBezTo>
                    <a:pt x="3917" y="13"/>
                    <a:pt x="3832" y="57"/>
                    <a:pt x="3982" y="75"/>
                  </a:cubicBezTo>
                  <a:cubicBezTo>
                    <a:pt x="4025" y="90"/>
                    <a:pt x="3958" y="107"/>
                    <a:pt x="4082" y="117"/>
                  </a:cubicBezTo>
                  <a:cubicBezTo>
                    <a:pt x="4206" y="127"/>
                    <a:pt x="4577" y="136"/>
                    <a:pt x="4726" y="135"/>
                  </a:cubicBezTo>
                  <a:lnTo>
                    <a:pt x="4979" y="112"/>
                  </a:lnTo>
                  <a:lnTo>
                    <a:pt x="5397" y="222"/>
                  </a:lnTo>
                  <a:lnTo>
                    <a:pt x="5760" y="206"/>
                  </a:lnTo>
                  <a:lnTo>
                    <a:pt x="5760" y="1224"/>
                  </a:lnTo>
                  <a:lnTo>
                    <a:pt x="0" y="1224"/>
                  </a:lnTo>
                  <a:lnTo>
                    <a:pt x="0" y="230"/>
                  </a:lnTo>
                  <a:close/>
                </a:path>
              </a:pathLst>
            </a:custGeom>
            <a:gradFill rotWithShape="0">
              <a:gsLst>
                <a:gs pos="0">
                  <a:srgbClr val="859596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4981680"/>
              <a:ext cx="9144000" cy="1882800"/>
            </a:xfrm>
            <a:custGeom>
              <a:avLst/>
              <a:gdLst/>
              <a:ahLst/>
              <a:rect l="l" t="t" r="r" b="b"/>
              <a:pathLst>
                <a:path w="5760" h="1027">
                  <a:moveTo>
                    <a:pt x="0" y="1027"/>
                  </a:moveTo>
                  <a:lnTo>
                    <a:pt x="5760" y="1027"/>
                  </a:lnTo>
                  <a:lnTo>
                    <a:pt x="5760" y="409"/>
                  </a:lnTo>
                  <a:cubicBezTo>
                    <a:pt x="5576" y="305"/>
                    <a:pt x="4960" y="418"/>
                    <a:pt x="4658" y="401"/>
                  </a:cubicBezTo>
                  <a:cubicBezTo>
                    <a:pt x="4356" y="384"/>
                    <a:pt x="4240" y="317"/>
                    <a:pt x="3948" y="309"/>
                  </a:cubicBezTo>
                  <a:cubicBezTo>
                    <a:pt x="3656" y="301"/>
                    <a:pt x="3326" y="373"/>
                    <a:pt x="2905" y="351"/>
                  </a:cubicBezTo>
                  <a:cubicBezTo>
                    <a:pt x="2404" y="342"/>
                    <a:pt x="1978" y="192"/>
                    <a:pt x="1419" y="175"/>
                  </a:cubicBezTo>
                  <a:cubicBezTo>
                    <a:pt x="1045" y="130"/>
                    <a:pt x="918" y="167"/>
                    <a:pt x="659" y="84"/>
                  </a:cubicBezTo>
                  <a:cubicBezTo>
                    <a:pt x="342" y="75"/>
                    <a:pt x="150" y="17"/>
                    <a:pt x="0" y="0"/>
                  </a:cubicBezTo>
                  <a:cubicBezTo>
                    <a:pt x="0" y="513"/>
                    <a:pt x="0" y="1027"/>
                    <a:pt x="0" y="1027"/>
                  </a:cubicBezTo>
                  <a:close/>
                </a:path>
              </a:pathLst>
            </a:custGeom>
            <a:gradFill rotWithShape="0">
              <a:gsLst>
                <a:gs pos="0">
                  <a:srgbClr val="859596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3200" y="123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451a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0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F674-EDCD-47FF-AB72-2674A02EE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1B0C-22E5-4AE9-B86A-943FA33420D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28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55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58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59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61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3AB7-78C8-4AE3-8940-E615436E398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12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16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22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26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1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70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5c73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7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6B1A-6196-4BF5-A7FB-E39990C2BB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95DA-FABB-4AD4-A4E9-60A0DDA011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ccff99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359"/>
            </a:gs>
            <a:gs pos="50000">
              <a:srgbClr val="00b7a5"/>
            </a:gs>
            <a:gs pos="100000">
              <a:srgbClr val="0063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5" name=""/>
            <p:cNvSpPr/>
            <p:nvPr/>
          </p:nvSpPr>
          <p:spPr>
            <a:xfrm>
              <a:off x="0" y="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006359"/>
                </a:gs>
                <a:gs pos="100000">
                  <a:srgbClr val="00b7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gradFill rotWithShape="0">
              <a:gsLst>
                <a:gs pos="0">
                  <a:srgbClr val="00b7a5"/>
                </a:gs>
                <a:gs pos="100000">
                  <a:srgbClr val="0063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36360" y="896760"/>
              <a:ext cx="9042120" cy="4996080"/>
              <a:chOff x="36360" y="896760"/>
              <a:chExt cx="9042120" cy="499608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36360" y="930240"/>
                <a:ext cx="9030960" cy="4962600"/>
                <a:chOff x="36360" y="930240"/>
                <a:chExt cx="9030960" cy="496260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3485880" y="4230000"/>
                  <a:ext cx="1026000" cy="948960"/>
                </a:xfrm>
                <a:custGeom>
                  <a:avLst/>
                  <a:gdLst/>
                  <a:ahLst/>
                  <a:rect l="l" t="t" r="r" b="b"/>
                  <a:pathLst>
                    <a:path w="588" h="534">
                      <a:moveTo>
                        <a:pt x="270" y="12"/>
                      </a:moveTo>
                      <a:lnTo>
                        <a:pt x="288" y="22"/>
                      </a:lnTo>
                      <a:lnTo>
                        <a:pt x="306" y="26"/>
                      </a:lnTo>
                      <a:lnTo>
                        <a:pt x="332" y="28"/>
                      </a:lnTo>
                      <a:cubicBezTo>
                        <a:pt x="334" y="37"/>
                        <a:pt x="332" y="40"/>
                        <a:pt x="328" y="48"/>
                      </a:cubicBezTo>
                      <a:cubicBezTo>
                        <a:pt x="326" y="52"/>
                        <a:pt x="320" y="60"/>
                        <a:pt x="320" y="60"/>
                      </a:cubicBezTo>
                      <a:cubicBezTo>
                        <a:pt x="319" y="67"/>
                        <a:pt x="317" y="75"/>
                        <a:pt x="318" y="82"/>
                      </a:cubicBezTo>
                      <a:cubicBezTo>
                        <a:pt x="319" y="92"/>
                        <a:pt x="358" y="108"/>
                        <a:pt x="366" y="114"/>
                      </a:cubicBezTo>
                      <a:cubicBezTo>
                        <a:pt x="372" y="118"/>
                        <a:pt x="378" y="122"/>
                        <a:pt x="384" y="126"/>
                      </a:cubicBezTo>
                      <a:cubicBezTo>
                        <a:pt x="386" y="127"/>
                        <a:pt x="390" y="130"/>
                        <a:pt x="390" y="130"/>
                      </a:cubicBezTo>
                      <a:cubicBezTo>
                        <a:pt x="403" y="126"/>
                        <a:pt x="405" y="108"/>
                        <a:pt x="408" y="96"/>
                      </a:cubicBezTo>
                      <a:cubicBezTo>
                        <a:pt x="410" y="80"/>
                        <a:pt x="412" y="78"/>
                        <a:pt x="404" y="66"/>
                      </a:cubicBezTo>
                      <a:cubicBezTo>
                        <a:pt x="407" y="50"/>
                        <a:pt x="407" y="26"/>
                        <a:pt x="410" y="12"/>
                      </a:cubicBezTo>
                      <a:cubicBezTo>
                        <a:pt x="411" y="7"/>
                        <a:pt x="418" y="0"/>
                        <a:pt x="418" y="0"/>
                      </a:cubicBezTo>
                      <a:cubicBezTo>
                        <a:pt x="435" y="6"/>
                        <a:pt x="429" y="25"/>
                        <a:pt x="436" y="38"/>
                      </a:cubicBezTo>
                      <a:cubicBezTo>
                        <a:pt x="441" y="47"/>
                        <a:pt x="447" y="53"/>
                        <a:pt x="450" y="62"/>
                      </a:cubicBezTo>
                      <a:cubicBezTo>
                        <a:pt x="447" y="71"/>
                        <a:pt x="452" y="73"/>
                        <a:pt x="460" y="76"/>
                      </a:cubicBezTo>
                      <a:cubicBezTo>
                        <a:pt x="464" y="82"/>
                        <a:pt x="466" y="88"/>
                        <a:pt x="470" y="94"/>
                      </a:cubicBezTo>
                      <a:cubicBezTo>
                        <a:pt x="475" y="117"/>
                        <a:pt x="483" y="138"/>
                        <a:pt x="490" y="160"/>
                      </a:cubicBezTo>
                      <a:cubicBezTo>
                        <a:pt x="491" y="164"/>
                        <a:pt x="499" y="165"/>
                        <a:pt x="502" y="166"/>
                      </a:cubicBezTo>
                      <a:cubicBezTo>
                        <a:pt x="506" y="168"/>
                        <a:pt x="514" y="174"/>
                        <a:pt x="514" y="174"/>
                      </a:cubicBezTo>
                      <a:cubicBezTo>
                        <a:pt x="520" y="184"/>
                        <a:pt x="524" y="196"/>
                        <a:pt x="534" y="202"/>
                      </a:cubicBezTo>
                      <a:cubicBezTo>
                        <a:pt x="538" y="208"/>
                        <a:pt x="535" y="218"/>
                        <a:pt x="538" y="220"/>
                      </a:cubicBezTo>
                      <a:cubicBezTo>
                        <a:pt x="541" y="222"/>
                        <a:pt x="550" y="224"/>
                        <a:pt x="550" y="224"/>
                      </a:cubicBezTo>
                      <a:cubicBezTo>
                        <a:pt x="552" y="238"/>
                        <a:pt x="552" y="246"/>
                        <a:pt x="564" y="254"/>
                      </a:cubicBezTo>
                      <a:cubicBezTo>
                        <a:pt x="568" y="261"/>
                        <a:pt x="575" y="270"/>
                        <a:pt x="582" y="272"/>
                      </a:cubicBezTo>
                      <a:cubicBezTo>
                        <a:pt x="579" y="288"/>
                        <a:pt x="585" y="301"/>
                        <a:pt x="588" y="316"/>
                      </a:cubicBezTo>
                      <a:cubicBezTo>
                        <a:pt x="587" y="333"/>
                        <a:pt x="587" y="373"/>
                        <a:pt x="576" y="390"/>
                      </a:cubicBezTo>
                      <a:cubicBezTo>
                        <a:pt x="567" y="403"/>
                        <a:pt x="557" y="417"/>
                        <a:pt x="552" y="432"/>
                      </a:cubicBezTo>
                      <a:cubicBezTo>
                        <a:pt x="554" y="444"/>
                        <a:pt x="556" y="447"/>
                        <a:pt x="546" y="454"/>
                      </a:cubicBezTo>
                      <a:cubicBezTo>
                        <a:pt x="540" y="464"/>
                        <a:pt x="543" y="458"/>
                        <a:pt x="538" y="472"/>
                      </a:cubicBezTo>
                      <a:cubicBezTo>
                        <a:pt x="537" y="474"/>
                        <a:pt x="536" y="478"/>
                        <a:pt x="536" y="478"/>
                      </a:cubicBezTo>
                      <a:cubicBezTo>
                        <a:pt x="535" y="488"/>
                        <a:pt x="536" y="497"/>
                        <a:pt x="526" y="502"/>
                      </a:cubicBezTo>
                      <a:cubicBezTo>
                        <a:pt x="520" y="505"/>
                        <a:pt x="508" y="512"/>
                        <a:pt x="508" y="512"/>
                      </a:cubicBezTo>
                      <a:cubicBezTo>
                        <a:pt x="493" y="534"/>
                        <a:pt x="507" y="519"/>
                        <a:pt x="494" y="526"/>
                      </a:cubicBezTo>
                      <a:cubicBezTo>
                        <a:pt x="490" y="528"/>
                        <a:pt x="482" y="534"/>
                        <a:pt x="482" y="534"/>
                      </a:cubicBezTo>
                      <a:cubicBezTo>
                        <a:pt x="473" y="528"/>
                        <a:pt x="470" y="520"/>
                        <a:pt x="462" y="514"/>
                      </a:cubicBezTo>
                      <a:cubicBezTo>
                        <a:pt x="457" y="521"/>
                        <a:pt x="457" y="525"/>
                        <a:pt x="450" y="530"/>
                      </a:cubicBezTo>
                      <a:cubicBezTo>
                        <a:pt x="438" y="527"/>
                        <a:pt x="429" y="517"/>
                        <a:pt x="418" y="514"/>
                      </a:cubicBezTo>
                      <a:cubicBezTo>
                        <a:pt x="413" y="513"/>
                        <a:pt x="402" y="510"/>
                        <a:pt x="402" y="510"/>
                      </a:cubicBezTo>
                      <a:cubicBezTo>
                        <a:pt x="394" y="505"/>
                        <a:pt x="390" y="503"/>
                        <a:pt x="396" y="494"/>
                      </a:cubicBezTo>
                      <a:cubicBezTo>
                        <a:pt x="394" y="488"/>
                        <a:pt x="392" y="482"/>
                        <a:pt x="390" y="476"/>
                      </a:cubicBezTo>
                      <a:cubicBezTo>
                        <a:pt x="388" y="471"/>
                        <a:pt x="378" y="468"/>
                        <a:pt x="378" y="468"/>
                      </a:cubicBezTo>
                      <a:cubicBezTo>
                        <a:pt x="372" y="474"/>
                        <a:pt x="368" y="477"/>
                        <a:pt x="360" y="480"/>
                      </a:cubicBezTo>
                      <a:cubicBezTo>
                        <a:pt x="353" y="469"/>
                        <a:pt x="359" y="456"/>
                        <a:pt x="366" y="446"/>
                      </a:cubicBezTo>
                      <a:cubicBezTo>
                        <a:pt x="365" y="439"/>
                        <a:pt x="362" y="431"/>
                        <a:pt x="362" y="424"/>
                      </a:cubicBezTo>
                      <a:cubicBezTo>
                        <a:pt x="362" y="421"/>
                        <a:pt x="366" y="418"/>
                        <a:pt x="364" y="416"/>
                      </a:cubicBezTo>
                      <a:cubicBezTo>
                        <a:pt x="362" y="414"/>
                        <a:pt x="361" y="420"/>
                        <a:pt x="360" y="422"/>
                      </a:cubicBezTo>
                      <a:cubicBezTo>
                        <a:pt x="358" y="426"/>
                        <a:pt x="357" y="430"/>
                        <a:pt x="356" y="434"/>
                      </a:cubicBezTo>
                      <a:cubicBezTo>
                        <a:pt x="353" y="443"/>
                        <a:pt x="347" y="451"/>
                        <a:pt x="338" y="454"/>
                      </a:cubicBezTo>
                      <a:cubicBezTo>
                        <a:pt x="337" y="456"/>
                        <a:pt x="338" y="460"/>
                        <a:pt x="336" y="460"/>
                      </a:cubicBezTo>
                      <a:cubicBezTo>
                        <a:pt x="326" y="460"/>
                        <a:pt x="326" y="435"/>
                        <a:pt x="322" y="428"/>
                      </a:cubicBezTo>
                      <a:cubicBezTo>
                        <a:pt x="315" y="413"/>
                        <a:pt x="305" y="409"/>
                        <a:pt x="290" y="406"/>
                      </a:cubicBezTo>
                      <a:cubicBezTo>
                        <a:pt x="284" y="402"/>
                        <a:pt x="268" y="398"/>
                        <a:pt x="268" y="398"/>
                      </a:cubicBezTo>
                      <a:cubicBezTo>
                        <a:pt x="246" y="400"/>
                        <a:pt x="227" y="404"/>
                        <a:pt x="206" y="410"/>
                      </a:cubicBezTo>
                      <a:cubicBezTo>
                        <a:pt x="185" y="416"/>
                        <a:pt x="215" y="406"/>
                        <a:pt x="186" y="416"/>
                      </a:cubicBezTo>
                      <a:cubicBezTo>
                        <a:pt x="184" y="417"/>
                        <a:pt x="180" y="418"/>
                        <a:pt x="180" y="418"/>
                      </a:cubicBezTo>
                      <a:cubicBezTo>
                        <a:pt x="174" y="426"/>
                        <a:pt x="168" y="433"/>
                        <a:pt x="162" y="442"/>
                      </a:cubicBezTo>
                      <a:cubicBezTo>
                        <a:pt x="160" y="446"/>
                        <a:pt x="150" y="446"/>
                        <a:pt x="150" y="446"/>
                      </a:cubicBezTo>
                      <a:cubicBezTo>
                        <a:pt x="143" y="444"/>
                        <a:pt x="135" y="442"/>
                        <a:pt x="128" y="440"/>
                      </a:cubicBezTo>
                      <a:cubicBezTo>
                        <a:pt x="116" y="444"/>
                        <a:pt x="113" y="456"/>
                        <a:pt x="100" y="460"/>
                      </a:cubicBezTo>
                      <a:cubicBezTo>
                        <a:pt x="94" y="462"/>
                        <a:pt x="82" y="466"/>
                        <a:pt x="82" y="466"/>
                      </a:cubicBezTo>
                      <a:cubicBezTo>
                        <a:pt x="66" y="462"/>
                        <a:pt x="59" y="457"/>
                        <a:pt x="46" y="448"/>
                      </a:cubicBezTo>
                      <a:cubicBezTo>
                        <a:pt x="43" y="438"/>
                        <a:pt x="50" y="425"/>
                        <a:pt x="52" y="414"/>
                      </a:cubicBezTo>
                      <a:cubicBezTo>
                        <a:pt x="48" y="400"/>
                        <a:pt x="47" y="381"/>
                        <a:pt x="40" y="368"/>
                      </a:cubicBezTo>
                      <a:cubicBezTo>
                        <a:pt x="30" y="349"/>
                        <a:pt x="15" y="335"/>
                        <a:pt x="8" y="314"/>
                      </a:cubicBezTo>
                      <a:cubicBezTo>
                        <a:pt x="10" y="293"/>
                        <a:pt x="12" y="296"/>
                        <a:pt x="8" y="282"/>
                      </a:cubicBezTo>
                      <a:cubicBezTo>
                        <a:pt x="6" y="274"/>
                        <a:pt x="0" y="258"/>
                        <a:pt x="0" y="258"/>
                      </a:cubicBezTo>
                      <a:cubicBezTo>
                        <a:pt x="3" y="240"/>
                        <a:pt x="2" y="223"/>
                        <a:pt x="18" y="212"/>
                      </a:cubicBezTo>
                      <a:cubicBezTo>
                        <a:pt x="24" y="202"/>
                        <a:pt x="28" y="190"/>
                        <a:pt x="40" y="186"/>
                      </a:cubicBezTo>
                      <a:cubicBezTo>
                        <a:pt x="67" y="190"/>
                        <a:pt x="79" y="172"/>
                        <a:pt x="102" y="164"/>
                      </a:cubicBezTo>
                      <a:cubicBezTo>
                        <a:pt x="105" y="156"/>
                        <a:pt x="111" y="147"/>
                        <a:pt x="116" y="140"/>
                      </a:cubicBezTo>
                      <a:cubicBezTo>
                        <a:pt x="117" y="125"/>
                        <a:pt x="115" y="118"/>
                        <a:pt x="126" y="110"/>
                      </a:cubicBezTo>
                      <a:cubicBezTo>
                        <a:pt x="132" y="112"/>
                        <a:pt x="140" y="124"/>
                        <a:pt x="140" y="124"/>
                      </a:cubicBezTo>
                      <a:cubicBezTo>
                        <a:pt x="143" y="123"/>
                        <a:pt x="147" y="124"/>
                        <a:pt x="148" y="122"/>
                      </a:cubicBezTo>
                      <a:cubicBezTo>
                        <a:pt x="149" y="120"/>
                        <a:pt x="146" y="117"/>
                        <a:pt x="146" y="114"/>
                      </a:cubicBezTo>
                      <a:cubicBezTo>
                        <a:pt x="146" y="106"/>
                        <a:pt x="154" y="91"/>
                        <a:pt x="162" y="88"/>
                      </a:cubicBezTo>
                      <a:cubicBezTo>
                        <a:pt x="160" y="77"/>
                        <a:pt x="159" y="74"/>
                        <a:pt x="168" y="68"/>
                      </a:cubicBezTo>
                      <a:cubicBezTo>
                        <a:pt x="171" y="60"/>
                        <a:pt x="174" y="57"/>
                        <a:pt x="182" y="54"/>
                      </a:cubicBezTo>
                      <a:cubicBezTo>
                        <a:pt x="195" y="58"/>
                        <a:pt x="196" y="76"/>
                        <a:pt x="208" y="84"/>
                      </a:cubicBezTo>
                      <a:cubicBezTo>
                        <a:pt x="216" y="81"/>
                        <a:pt x="217" y="78"/>
                        <a:pt x="220" y="70"/>
                      </a:cubicBezTo>
                      <a:cubicBezTo>
                        <a:pt x="228" y="73"/>
                        <a:pt x="231" y="80"/>
                        <a:pt x="234" y="70"/>
                      </a:cubicBezTo>
                      <a:cubicBezTo>
                        <a:pt x="231" y="61"/>
                        <a:pt x="223" y="54"/>
                        <a:pt x="236" y="50"/>
                      </a:cubicBezTo>
                      <a:cubicBezTo>
                        <a:pt x="237" y="46"/>
                        <a:pt x="235" y="42"/>
                        <a:pt x="236" y="38"/>
                      </a:cubicBezTo>
                      <a:cubicBezTo>
                        <a:pt x="239" y="31"/>
                        <a:pt x="254" y="32"/>
                        <a:pt x="260" y="30"/>
                      </a:cubicBezTo>
                      <a:cubicBezTo>
                        <a:pt x="261" y="28"/>
                        <a:pt x="264" y="26"/>
                        <a:pt x="264" y="24"/>
                      </a:cubicBezTo>
                      <a:cubicBezTo>
                        <a:pt x="264" y="20"/>
                        <a:pt x="260" y="12"/>
                        <a:pt x="260" y="12"/>
                      </a:cubicBezTo>
                      <a:cubicBezTo>
                        <a:pt x="267" y="10"/>
                        <a:pt x="264" y="9"/>
                        <a:pt x="270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287600" y="5204880"/>
                  <a:ext cx="106920" cy="138240"/>
                </a:xfrm>
                <a:custGeom>
                  <a:avLst/>
                  <a:gdLst/>
                  <a:ahLst/>
                  <a:rect l="l" t="t" r="r" b="b"/>
                  <a:pathLst>
                    <a:path w="61" h="78">
                      <a:moveTo>
                        <a:pt x="4" y="24"/>
                      </a:moveTo>
                      <a:cubicBezTo>
                        <a:pt x="13" y="27"/>
                        <a:pt x="22" y="25"/>
                        <a:pt x="32" y="28"/>
                      </a:cubicBezTo>
                      <a:cubicBezTo>
                        <a:pt x="48" y="23"/>
                        <a:pt x="39" y="4"/>
                        <a:pt x="52" y="0"/>
                      </a:cubicBezTo>
                      <a:cubicBezTo>
                        <a:pt x="57" y="7"/>
                        <a:pt x="59" y="10"/>
                        <a:pt x="56" y="18"/>
                      </a:cubicBezTo>
                      <a:cubicBezTo>
                        <a:pt x="61" y="42"/>
                        <a:pt x="50" y="70"/>
                        <a:pt x="26" y="78"/>
                      </a:cubicBezTo>
                      <a:cubicBezTo>
                        <a:pt x="21" y="70"/>
                        <a:pt x="19" y="62"/>
                        <a:pt x="16" y="54"/>
                      </a:cubicBezTo>
                      <a:cubicBezTo>
                        <a:pt x="13" y="45"/>
                        <a:pt x="3" y="40"/>
                        <a:pt x="0" y="30"/>
                      </a:cubicBezTo>
                      <a:cubicBezTo>
                        <a:pt x="2" y="23"/>
                        <a:pt x="0" y="24"/>
                        <a:pt x="4" y="2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827240" y="5172120"/>
                  <a:ext cx="197280" cy="270000"/>
                </a:xfrm>
                <a:custGeom>
                  <a:avLst/>
                  <a:gdLst/>
                  <a:ahLst/>
                  <a:rect l="l" t="t" r="r" b="b"/>
                  <a:pathLst>
                    <a:path w="113" h="152">
                      <a:moveTo>
                        <a:pt x="75" y="0"/>
                      </a:moveTo>
                      <a:cubicBezTo>
                        <a:pt x="87" y="2"/>
                        <a:pt x="86" y="6"/>
                        <a:pt x="95" y="12"/>
                      </a:cubicBezTo>
                      <a:cubicBezTo>
                        <a:pt x="105" y="10"/>
                        <a:pt x="110" y="8"/>
                        <a:pt x="113" y="18"/>
                      </a:cubicBezTo>
                      <a:cubicBezTo>
                        <a:pt x="108" y="34"/>
                        <a:pt x="97" y="54"/>
                        <a:pt x="83" y="64"/>
                      </a:cubicBezTo>
                      <a:cubicBezTo>
                        <a:pt x="82" y="68"/>
                        <a:pt x="83" y="74"/>
                        <a:pt x="79" y="76"/>
                      </a:cubicBezTo>
                      <a:cubicBezTo>
                        <a:pt x="75" y="79"/>
                        <a:pt x="67" y="84"/>
                        <a:pt x="67" y="84"/>
                      </a:cubicBezTo>
                      <a:cubicBezTo>
                        <a:pt x="60" y="95"/>
                        <a:pt x="57" y="108"/>
                        <a:pt x="53" y="120"/>
                      </a:cubicBezTo>
                      <a:cubicBezTo>
                        <a:pt x="52" y="124"/>
                        <a:pt x="53" y="131"/>
                        <a:pt x="49" y="132"/>
                      </a:cubicBezTo>
                      <a:cubicBezTo>
                        <a:pt x="43" y="134"/>
                        <a:pt x="31" y="138"/>
                        <a:pt x="31" y="138"/>
                      </a:cubicBezTo>
                      <a:cubicBezTo>
                        <a:pt x="28" y="146"/>
                        <a:pt x="25" y="149"/>
                        <a:pt x="17" y="152"/>
                      </a:cubicBezTo>
                      <a:cubicBezTo>
                        <a:pt x="12" y="144"/>
                        <a:pt x="12" y="141"/>
                        <a:pt x="21" y="138"/>
                      </a:cubicBezTo>
                      <a:cubicBezTo>
                        <a:pt x="18" y="130"/>
                        <a:pt x="15" y="129"/>
                        <a:pt x="7" y="126"/>
                      </a:cubicBezTo>
                      <a:cubicBezTo>
                        <a:pt x="0" y="104"/>
                        <a:pt x="19" y="73"/>
                        <a:pt x="41" y="68"/>
                      </a:cubicBezTo>
                      <a:cubicBezTo>
                        <a:pt x="56" y="46"/>
                        <a:pt x="75" y="30"/>
                        <a:pt x="75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968360" y="4964760"/>
                  <a:ext cx="169200" cy="246960"/>
                </a:xfrm>
                <a:custGeom>
                  <a:avLst/>
                  <a:gdLst/>
                  <a:ahLst/>
                  <a:rect l="l" t="t" r="r" b="b"/>
                  <a:pathLst>
                    <a:path w="97" h="139">
                      <a:moveTo>
                        <a:pt x="62" y="97"/>
                      </a:moveTo>
                      <a:cubicBezTo>
                        <a:pt x="61" y="102"/>
                        <a:pt x="64" y="113"/>
                        <a:pt x="60" y="117"/>
                      </a:cubicBezTo>
                      <a:cubicBezTo>
                        <a:pt x="57" y="120"/>
                        <a:pt x="48" y="125"/>
                        <a:pt x="48" y="125"/>
                      </a:cubicBezTo>
                      <a:cubicBezTo>
                        <a:pt x="39" y="139"/>
                        <a:pt x="45" y="139"/>
                        <a:pt x="34" y="135"/>
                      </a:cubicBezTo>
                      <a:cubicBezTo>
                        <a:pt x="35" y="129"/>
                        <a:pt x="41" y="117"/>
                        <a:pt x="36" y="111"/>
                      </a:cubicBezTo>
                      <a:cubicBezTo>
                        <a:pt x="33" y="107"/>
                        <a:pt x="24" y="103"/>
                        <a:pt x="24" y="103"/>
                      </a:cubicBezTo>
                      <a:cubicBezTo>
                        <a:pt x="22" y="96"/>
                        <a:pt x="20" y="94"/>
                        <a:pt x="24" y="85"/>
                      </a:cubicBezTo>
                      <a:cubicBezTo>
                        <a:pt x="26" y="81"/>
                        <a:pt x="32" y="73"/>
                        <a:pt x="32" y="73"/>
                      </a:cubicBezTo>
                      <a:cubicBezTo>
                        <a:pt x="27" y="59"/>
                        <a:pt x="25" y="35"/>
                        <a:pt x="12" y="27"/>
                      </a:cubicBezTo>
                      <a:cubicBezTo>
                        <a:pt x="9" y="18"/>
                        <a:pt x="3" y="12"/>
                        <a:pt x="0" y="3"/>
                      </a:cubicBezTo>
                      <a:cubicBezTo>
                        <a:pt x="9" y="0"/>
                        <a:pt x="11" y="2"/>
                        <a:pt x="18" y="9"/>
                      </a:cubicBezTo>
                      <a:cubicBezTo>
                        <a:pt x="20" y="22"/>
                        <a:pt x="23" y="23"/>
                        <a:pt x="30" y="33"/>
                      </a:cubicBezTo>
                      <a:cubicBezTo>
                        <a:pt x="33" y="51"/>
                        <a:pt x="34" y="53"/>
                        <a:pt x="50" y="57"/>
                      </a:cubicBezTo>
                      <a:cubicBezTo>
                        <a:pt x="53" y="66"/>
                        <a:pt x="47" y="67"/>
                        <a:pt x="56" y="73"/>
                      </a:cubicBezTo>
                      <a:cubicBezTo>
                        <a:pt x="68" y="71"/>
                        <a:pt x="73" y="73"/>
                        <a:pt x="76" y="61"/>
                      </a:cubicBezTo>
                      <a:cubicBezTo>
                        <a:pt x="97" y="68"/>
                        <a:pt x="79" y="83"/>
                        <a:pt x="66" y="87"/>
                      </a:cubicBezTo>
                      <a:cubicBezTo>
                        <a:pt x="67" y="89"/>
                        <a:pt x="69" y="91"/>
                        <a:pt x="68" y="93"/>
                      </a:cubicBezTo>
                      <a:cubicBezTo>
                        <a:pt x="67" y="95"/>
                        <a:pt x="62" y="97"/>
                        <a:pt x="62" y="97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779360" y="4526640"/>
                  <a:ext cx="84240" cy="101520"/>
                </a:xfrm>
                <a:custGeom>
                  <a:avLst/>
                  <a:gdLst/>
                  <a:ahLst/>
                  <a:rect l="l" t="t" r="r" b="b"/>
                  <a:pathLst>
                    <a:path w="49" h="57">
                      <a:moveTo>
                        <a:pt x="9" y="5"/>
                      </a:moveTo>
                      <a:cubicBezTo>
                        <a:pt x="6" y="4"/>
                        <a:pt x="2" y="5"/>
                        <a:pt x="1" y="3"/>
                      </a:cubicBezTo>
                      <a:cubicBezTo>
                        <a:pt x="0" y="1"/>
                        <a:pt x="5" y="0"/>
                        <a:pt x="7" y="1"/>
                      </a:cubicBezTo>
                      <a:cubicBezTo>
                        <a:pt x="9" y="2"/>
                        <a:pt x="16" y="10"/>
                        <a:pt x="17" y="13"/>
                      </a:cubicBezTo>
                      <a:cubicBezTo>
                        <a:pt x="20" y="19"/>
                        <a:pt x="18" y="28"/>
                        <a:pt x="23" y="33"/>
                      </a:cubicBezTo>
                      <a:cubicBezTo>
                        <a:pt x="28" y="37"/>
                        <a:pt x="36" y="37"/>
                        <a:pt x="41" y="41"/>
                      </a:cubicBezTo>
                      <a:cubicBezTo>
                        <a:pt x="46" y="57"/>
                        <a:pt x="49" y="54"/>
                        <a:pt x="31" y="51"/>
                      </a:cubicBezTo>
                      <a:cubicBezTo>
                        <a:pt x="26" y="47"/>
                        <a:pt x="23" y="46"/>
                        <a:pt x="19" y="41"/>
                      </a:cubicBezTo>
                      <a:cubicBezTo>
                        <a:pt x="16" y="37"/>
                        <a:pt x="11" y="29"/>
                        <a:pt x="11" y="29"/>
                      </a:cubicBezTo>
                      <a:cubicBezTo>
                        <a:pt x="10" y="24"/>
                        <a:pt x="7" y="20"/>
                        <a:pt x="7" y="15"/>
                      </a:cubicBezTo>
                      <a:cubicBezTo>
                        <a:pt x="7" y="12"/>
                        <a:pt x="9" y="5"/>
                        <a:pt x="9" y="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804560" y="4353120"/>
                  <a:ext cx="19800" cy="2232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3"/>
                      </a:moveTo>
                      <a:cubicBezTo>
                        <a:pt x="9" y="0"/>
                        <a:pt x="11" y="5"/>
                        <a:pt x="8" y="13"/>
                      </a:cubicBezTo>
                      <a:cubicBezTo>
                        <a:pt x="2" y="11"/>
                        <a:pt x="0" y="10"/>
                        <a:pt x="0" y="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835520" y="435708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8" y="0"/>
                      </a:moveTo>
                      <a:cubicBezTo>
                        <a:pt x="19" y="4"/>
                        <a:pt x="15" y="13"/>
                        <a:pt x="6" y="16"/>
                      </a:cubicBezTo>
                      <a:cubicBezTo>
                        <a:pt x="2" y="9"/>
                        <a:pt x="0" y="4"/>
                        <a:pt x="8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838400" y="4389480"/>
                  <a:ext cx="45000" cy="20880"/>
                </a:xfrm>
                <a:custGeom>
                  <a:avLst/>
                  <a:gdLst/>
                  <a:ahLst/>
                  <a:rect l="l" t="t" r="r" b="b"/>
                  <a:pathLst>
                    <a:path w="26" h="12">
                      <a:moveTo>
                        <a:pt x="9" y="0"/>
                      </a:moveTo>
                      <a:cubicBezTo>
                        <a:pt x="19" y="2"/>
                        <a:pt x="26" y="5"/>
                        <a:pt x="15" y="12"/>
                      </a:cubicBezTo>
                      <a:cubicBezTo>
                        <a:pt x="13" y="11"/>
                        <a:pt x="10" y="11"/>
                        <a:pt x="9" y="10"/>
                      </a:cubicBezTo>
                      <a:cubicBezTo>
                        <a:pt x="0" y="1"/>
                        <a:pt x="20" y="0"/>
                        <a:pt x="9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872240" y="444348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3" y="6"/>
                      </a:moveTo>
                      <a:cubicBezTo>
                        <a:pt x="12" y="0"/>
                        <a:pt x="14" y="5"/>
                        <a:pt x="11" y="14"/>
                      </a:cubicBezTo>
                      <a:cubicBezTo>
                        <a:pt x="8" y="13"/>
                        <a:pt x="3" y="14"/>
                        <a:pt x="1" y="12"/>
                      </a:cubicBezTo>
                      <a:cubicBezTo>
                        <a:pt x="0" y="11"/>
                        <a:pt x="3" y="6"/>
                        <a:pt x="3" y="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281920" y="4563720"/>
                  <a:ext cx="37800" cy="3636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1" y="0"/>
                      </a:moveTo>
                      <a:cubicBezTo>
                        <a:pt x="14" y="9"/>
                        <a:pt x="22" y="16"/>
                        <a:pt x="9" y="20"/>
                      </a:cubicBezTo>
                      <a:cubicBezTo>
                        <a:pt x="0" y="11"/>
                        <a:pt x="4" y="10"/>
                        <a:pt x="11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122080" y="4417920"/>
                  <a:ext cx="38160" cy="4536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2" y="6"/>
                      </a:moveTo>
                      <a:cubicBezTo>
                        <a:pt x="11" y="0"/>
                        <a:pt x="16" y="1"/>
                        <a:pt x="22" y="10"/>
                      </a:cubicBezTo>
                      <a:cubicBezTo>
                        <a:pt x="19" y="25"/>
                        <a:pt x="16" y="22"/>
                        <a:pt x="2" y="20"/>
                      </a:cubicBezTo>
                      <a:cubicBezTo>
                        <a:pt x="0" y="13"/>
                        <a:pt x="2" y="13"/>
                        <a:pt x="2" y="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153400" y="4382640"/>
                  <a:ext cx="35280" cy="3240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6" y="18"/>
                      </a:moveTo>
                      <a:cubicBezTo>
                        <a:pt x="1" y="10"/>
                        <a:pt x="0" y="3"/>
                        <a:pt x="10" y="0"/>
                      </a:cubicBezTo>
                      <a:cubicBezTo>
                        <a:pt x="20" y="3"/>
                        <a:pt x="15" y="10"/>
                        <a:pt x="12" y="18"/>
                      </a:cubicBezTo>
                      <a:cubicBezTo>
                        <a:pt x="5" y="16"/>
                        <a:pt x="6" y="14"/>
                        <a:pt x="6" y="1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092560" y="4128120"/>
                  <a:ext cx="26640" cy="40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400360" y="4271040"/>
                  <a:ext cx="34920" cy="40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532040" y="4036680"/>
                  <a:ext cx="51840" cy="7488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906720" y="4105800"/>
                  <a:ext cx="43200" cy="28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718800" y="4141080"/>
                  <a:ext cx="114120" cy="81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597120" y="4132800"/>
                  <a:ext cx="119880" cy="831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954880" y="3672000"/>
                  <a:ext cx="619560" cy="4914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334680" y="3636720"/>
                  <a:ext cx="272160" cy="3657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600000" y="3806280"/>
                  <a:ext cx="190440" cy="6768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590280" y="3885480"/>
                  <a:ext cx="132480" cy="1850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811680" y="3785040"/>
                  <a:ext cx="64800" cy="1083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826080" y="3953160"/>
                  <a:ext cx="84600" cy="504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913560" y="3873960"/>
                  <a:ext cx="105480" cy="860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943080" y="3913560"/>
                  <a:ext cx="498240" cy="3232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374000" y="3948840"/>
                  <a:ext cx="135720" cy="1386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663440" y="3653640"/>
                  <a:ext cx="29520" cy="320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832640" y="3867120"/>
                  <a:ext cx="45360" cy="39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279320" y="3386520"/>
                  <a:ext cx="34920" cy="2664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989880" y="3611520"/>
                  <a:ext cx="34920" cy="262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673440" y="3543480"/>
                  <a:ext cx="139680" cy="1422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625560" y="3238200"/>
                  <a:ext cx="163800" cy="30924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670560" y="3465720"/>
                  <a:ext cx="54720" cy="8892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555000" y="3486960"/>
                  <a:ext cx="74520" cy="889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277040" y="3379680"/>
                  <a:ext cx="1790280" cy="2513160"/>
                </a:xfrm>
                <a:custGeom>
                  <a:avLst/>
                  <a:gdLst/>
                  <a:ahLst/>
                  <a:rect l="l" t="t" r="r" b="b"/>
                  <a:pathLst>
                    <a:path w="1026" h="1413">
                      <a:moveTo>
                        <a:pt x="363" y="69"/>
                      </a:moveTo>
                      <a:cubicBezTo>
                        <a:pt x="376" y="78"/>
                        <a:pt x="383" y="74"/>
                        <a:pt x="396" y="66"/>
                      </a:cubicBezTo>
                      <a:cubicBezTo>
                        <a:pt x="391" y="42"/>
                        <a:pt x="396" y="27"/>
                        <a:pt x="420" y="21"/>
                      </a:cubicBezTo>
                      <a:cubicBezTo>
                        <a:pt x="430" y="15"/>
                        <a:pt x="437" y="6"/>
                        <a:pt x="447" y="0"/>
                      </a:cubicBezTo>
                      <a:cubicBezTo>
                        <a:pt x="450" y="1"/>
                        <a:pt x="456" y="0"/>
                        <a:pt x="456" y="3"/>
                      </a:cubicBezTo>
                      <a:cubicBezTo>
                        <a:pt x="459" y="22"/>
                        <a:pt x="437" y="24"/>
                        <a:pt x="462" y="18"/>
                      </a:cubicBezTo>
                      <a:cubicBezTo>
                        <a:pt x="465" y="15"/>
                        <a:pt x="467" y="9"/>
                        <a:pt x="471" y="9"/>
                      </a:cubicBezTo>
                      <a:cubicBezTo>
                        <a:pt x="477" y="8"/>
                        <a:pt x="483" y="13"/>
                        <a:pt x="489" y="15"/>
                      </a:cubicBezTo>
                      <a:cubicBezTo>
                        <a:pt x="492" y="16"/>
                        <a:pt x="498" y="18"/>
                        <a:pt x="498" y="18"/>
                      </a:cubicBezTo>
                      <a:cubicBezTo>
                        <a:pt x="506" y="31"/>
                        <a:pt x="517" y="25"/>
                        <a:pt x="534" y="27"/>
                      </a:cubicBezTo>
                      <a:cubicBezTo>
                        <a:pt x="538" y="39"/>
                        <a:pt x="543" y="41"/>
                        <a:pt x="555" y="45"/>
                      </a:cubicBezTo>
                      <a:cubicBezTo>
                        <a:pt x="561" y="41"/>
                        <a:pt x="567" y="37"/>
                        <a:pt x="573" y="33"/>
                      </a:cubicBezTo>
                      <a:cubicBezTo>
                        <a:pt x="576" y="31"/>
                        <a:pt x="582" y="27"/>
                        <a:pt x="582" y="27"/>
                      </a:cubicBezTo>
                      <a:cubicBezTo>
                        <a:pt x="615" y="49"/>
                        <a:pt x="585" y="37"/>
                        <a:pt x="615" y="27"/>
                      </a:cubicBezTo>
                      <a:cubicBezTo>
                        <a:pt x="633" y="33"/>
                        <a:pt x="624" y="50"/>
                        <a:pt x="639" y="60"/>
                      </a:cubicBezTo>
                      <a:cubicBezTo>
                        <a:pt x="643" y="73"/>
                        <a:pt x="658" y="104"/>
                        <a:pt x="669" y="111"/>
                      </a:cubicBezTo>
                      <a:cubicBezTo>
                        <a:pt x="683" y="132"/>
                        <a:pt x="674" y="127"/>
                        <a:pt x="690" y="132"/>
                      </a:cubicBezTo>
                      <a:cubicBezTo>
                        <a:pt x="696" y="131"/>
                        <a:pt x="702" y="130"/>
                        <a:pt x="708" y="129"/>
                      </a:cubicBezTo>
                      <a:cubicBezTo>
                        <a:pt x="714" y="127"/>
                        <a:pt x="726" y="123"/>
                        <a:pt x="726" y="123"/>
                      </a:cubicBezTo>
                      <a:cubicBezTo>
                        <a:pt x="738" y="126"/>
                        <a:pt x="746" y="128"/>
                        <a:pt x="756" y="135"/>
                      </a:cubicBezTo>
                      <a:cubicBezTo>
                        <a:pt x="777" y="167"/>
                        <a:pt x="744" y="118"/>
                        <a:pt x="771" y="153"/>
                      </a:cubicBezTo>
                      <a:cubicBezTo>
                        <a:pt x="775" y="159"/>
                        <a:pt x="783" y="171"/>
                        <a:pt x="783" y="171"/>
                      </a:cubicBezTo>
                      <a:cubicBezTo>
                        <a:pt x="787" y="185"/>
                        <a:pt x="793" y="196"/>
                        <a:pt x="798" y="210"/>
                      </a:cubicBezTo>
                      <a:cubicBezTo>
                        <a:pt x="800" y="216"/>
                        <a:pt x="802" y="222"/>
                        <a:pt x="804" y="228"/>
                      </a:cubicBezTo>
                      <a:cubicBezTo>
                        <a:pt x="805" y="231"/>
                        <a:pt x="807" y="237"/>
                        <a:pt x="807" y="237"/>
                      </a:cubicBezTo>
                      <a:cubicBezTo>
                        <a:pt x="803" y="250"/>
                        <a:pt x="791" y="255"/>
                        <a:pt x="786" y="270"/>
                      </a:cubicBezTo>
                      <a:cubicBezTo>
                        <a:pt x="791" y="286"/>
                        <a:pt x="797" y="277"/>
                        <a:pt x="804" y="267"/>
                      </a:cubicBezTo>
                      <a:cubicBezTo>
                        <a:pt x="833" y="271"/>
                        <a:pt x="829" y="269"/>
                        <a:pt x="834" y="294"/>
                      </a:cubicBezTo>
                      <a:cubicBezTo>
                        <a:pt x="847" y="285"/>
                        <a:pt x="854" y="289"/>
                        <a:pt x="867" y="297"/>
                      </a:cubicBezTo>
                      <a:cubicBezTo>
                        <a:pt x="874" y="308"/>
                        <a:pt x="879" y="314"/>
                        <a:pt x="891" y="318"/>
                      </a:cubicBezTo>
                      <a:cubicBezTo>
                        <a:pt x="892" y="321"/>
                        <a:pt x="895" y="324"/>
                        <a:pt x="894" y="327"/>
                      </a:cubicBezTo>
                      <a:cubicBezTo>
                        <a:pt x="891" y="334"/>
                        <a:pt x="873" y="326"/>
                        <a:pt x="894" y="333"/>
                      </a:cubicBezTo>
                      <a:cubicBezTo>
                        <a:pt x="900" y="331"/>
                        <a:pt x="906" y="329"/>
                        <a:pt x="912" y="327"/>
                      </a:cubicBezTo>
                      <a:cubicBezTo>
                        <a:pt x="915" y="326"/>
                        <a:pt x="921" y="324"/>
                        <a:pt x="921" y="324"/>
                      </a:cubicBezTo>
                      <a:cubicBezTo>
                        <a:pt x="940" y="336"/>
                        <a:pt x="960" y="339"/>
                        <a:pt x="978" y="351"/>
                      </a:cubicBezTo>
                      <a:cubicBezTo>
                        <a:pt x="981" y="361"/>
                        <a:pt x="987" y="368"/>
                        <a:pt x="990" y="378"/>
                      </a:cubicBezTo>
                      <a:cubicBezTo>
                        <a:pt x="999" y="376"/>
                        <a:pt x="1010" y="370"/>
                        <a:pt x="1017" y="381"/>
                      </a:cubicBezTo>
                      <a:cubicBezTo>
                        <a:pt x="1022" y="389"/>
                        <a:pt x="1026" y="408"/>
                        <a:pt x="1026" y="408"/>
                      </a:cubicBezTo>
                      <a:cubicBezTo>
                        <a:pt x="1022" y="438"/>
                        <a:pt x="1023" y="471"/>
                        <a:pt x="996" y="489"/>
                      </a:cubicBezTo>
                      <a:cubicBezTo>
                        <a:pt x="991" y="497"/>
                        <a:pt x="976" y="514"/>
                        <a:pt x="972" y="525"/>
                      </a:cubicBezTo>
                      <a:cubicBezTo>
                        <a:pt x="970" y="531"/>
                        <a:pt x="972" y="541"/>
                        <a:pt x="966" y="543"/>
                      </a:cubicBezTo>
                      <a:cubicBezTo>
                        <a:pt x="951" y="548"/>
                        <a:pt x="943" y="558"/>
                        <a:pt x="930" y="567"/>
                      </a:cubicBezTo>
                      <a:cubicBezTo>
                        <a:pt x="925" y="583"/>
                        <a:pt x="916" y="596"/>
                        <a:pt x="912" y="612"/>
                      </a:cubicBezTo>
                      <a:cubicBezTo>
                        <a:pt x="909" y="623"/>
                        <a:pt x="909" y="635"/>
                        <a:pt x="903" y="645"/>
                      </a:cubicBezTo>
                      <a:cubicBezTo>
                        <a:pt x="899" y="651"/>
                        <a:pt x="893" y="656"/>
                        <a:pt x="891" y="663"/>
                      </a:cubicBezTo>
                      <a:cubicBezTo>
                        <a:pt x="881" y="692"/>
                        <a:pt x="870" y="723"/>
                        <a:pt x="843" y="741"/>
                      </a:cubicBezTo>
                      <a:cubicBezTo>
                        <a:pt x="837" y="758"/>
                        <a:pt x="830" y="759"/>
                        <a:pt x="816" y="768"/>
                      </a:cubicBezTo>
                      <a:cubicBezTo>
                        <a:pt x="805" y="784"/>
                        <a:pt x="789" y="787"/>
                        <a:pt x="771" y="792"/>
                      </a:cubicBezTo>
                      <a:cubicBezTo>
                        <a:pt x="750" y="806"/>
                        <a:pt x="760" y="802"/>
                        <a:pt x="744" y="807"/>
                      </a:cubicBezTo>
                      <a:cubicBezTo>
                        <a:pt x="735" y="804"/>
                        <a:pt x="717" y="810"/>
                        <a:pt x="717" y="810"/>
                      </a:cubicBezTo>
                      <a:cubicBezTo>
                        <a:pt x="713" y="816"/>
                        <a:pt x="710" y="823"/>
                        <a:pt x="705" y="828"/>
                      </a:cubicBezTo>
                      <a:cubicBezTo>
                        <a:pt x="702" y="831"/>
                        <a:pt x="698" y="834"/>
                        <a:pt x="696" y="837"/>
                      </a:cubicBezTo>
                      <a:cubicBezTo>
                        <a:pt x="684" y="853"/>
                        <a:pt x="680" y="880"/>
                        <a:pt x="666" y="894"/>
                      </a:cubicBezTo>
                      <a:cubicBezTo>
                        <a:pt x="659" y="901"/>
                        <a:pt x="698" y="916"/>
                        <a:pt x="642" y="906"/>
                      </a:cubicBezTo>
                      <a:lnTo>
                        <a:pt x="606" y="948"/>
                      </a:lnTo>
                      <a:lnTo>
                        <a:pt x="549" y="987"/>
                      </a:lnTo>
                      <a:lnTo>
                        <a:pt x="525" y="1023"/>
                      </a:lnTo>
                      <a:lnTo>
                        <a:pt x="480" y="1023"/>
                      </a:lnTo>
                      <a:lnTo>
                        <a:pt x="459" y="1017"/>
                      </a:lnTo>
                      <a:lnTo>
                        <a:pt x="459" y="1044"/>
                      </a:lnTo>
                      <a:lnTo>
                        <a:pt x="435" y="1080"/>
                      </a:lnTo>
                      <a:lnTo>
                        <a:pt x="402" y="1098"/>
                      </a:lnTo>
                      <a:lnTo>
                        <a:pt x="351" y="1101"/>
                      </a:lnTo>
                      <a:lnTo>
                        <a:pt x="333" y="1125"/>
                      </a:lnTo>
                      <a:lnTo>
                        <a:pt x="306" y="1146"/>
                      </a:lnTo>
                      <a:lnTo>
                        <a:pt x="291" y="1125"/>
                      </a:lnTo>
                      <a:lnTo>
                        <a:pt x="276" y="1158"/>
                      </a:lnTo>
                      <a:lnTo>
                        <a:pt x="282" y="1176"/>
                      </a:lnTo>
                      <a:lnTo>
                        <a:pt x="249" y="1191"/>
                      </a:lnTo>
                      <a:lnTo>
                        <a:pt x="228" y="1218"/>
                      </a:lnTo>
                      <a:lnTo>
                        <a:pt x="201" y="1215"/>
                      </a:lnTo>
                      <a:lnTo>
                        <a:pt x="174" y="1248"/>
                      </a:lnTo>
                      <a:lnTo>
                        <a:pt x="177" y="1263"/>
                      </a:lnTo>
                      <a:lnTo>
                        <a:pt x="156" y="1284"/>
                      </a:lnTo>
                      <a:lnTo>
                        <a:pt x="138" y="1290"/>
                      </a:lnTo>
                      <a:lnTo>
                        <a:pt x="117" y="1314"/>
                      </a:lnTo>
                      <a:lnTo>
                        <a:pt x="96" y="1314"/>
                      </a:lnTo>
                      <a:lnTo>
                        <a:pt x="63" y="1347"/>
                      </a:lnTo>
                      <a:lnTo>
                        <a:pt x="39" y="1368"/>
                      </a:lnTo>
                      <a:lnTo>
                        <a:pt x="54" y="1380"/>
                      </a:lnTo>
                      <a:lnTo>
                        <a:pt x="66" y="1413"/>
                      </a:lnTo>
                      <a:lnTo>
                        <a:pt x="39" y="1410"/>
                      </a:lnTo>
                      <a:lnTo>
                        <a:pt x="0" y="1392"/>
                      </a:lnTo>
                      <a:lnTo>
                        <a:pt x="18" y="1371"/>
                      </a:lnTo>
                      <a:lnTo>
                        <a:pt x="9" y="1344"/>
                      </a:lnTo>
                      <a:lnTo>
                        <a:pt x="21" y="1332"/>
                      </a:lnTo>
                      <a:lnTo>
                        <a:pt x="45" y="1305"/>
                      </a:lnTo>
                      <a:lnTo>
                        <a:pt x="105" y="1215"/>
                      </a:lnTo>
                      <a:lnTo>
                        <a:pt x="159" y="1134"/>
                      </a:lnTo>
                      <a:lnTo>
                        <a:pt x="201" y="1095"/>
                      </a:lnTo>
                      <a:lnTo>
                        <a:pt x="219" y="1053"/>
                      </a:lnTo>
                      <a:lnTo>
                        <a:pt x="234" y="1047"/>
                      </a:lnTo>
                      <a:lnTo>
                        <a:pt x="300" y="966"/>
                      </a:lnTo>
                      <a:lnTo>
                        <a:pt x="315" y="924"/>
                      </a:lnTo>
                      <a:lnTo>
                        <a:pt x="333" y="912"/>
                      </a:lnTo>
                      <a:lnTo>
                        <a:pt x="339" y="882"/>
                      </a:lnTo>
                      <a:lnTo>
                        <a:pt x="357" y="858"/>
                      </a:lnTo>
                      <a:cubicBezTo>
                        <a:pt x="364" y="844"/>
                        <a:pt x="370" y="833"/>
                        <a:pt x="381" y="822"/>
                      </a:cubicBezTo>
                      <a:cubicBezTo>
                        <a:pt x="386" y="806"/>
                        <a:pt x="382" y="816"/>
                        <a:pt x="396" y="795"/>
                      </a:cubicBezTo>
                      <a:cubicBezTo>
                        <a:pt x="401" y="787"/>
                        <a:pt x="405" y="769"/>
                        <a:pt x="408" y="759"/>
                      </a:cubicBezTo>
                      <a:cubicBezTo>
                        <a:pt x="418" y="728"/>
                        <a:pt x="428" y="697"/>
                        <a:pt x="438" y="666"/>
                      </a:cubicBezTo>
                      <a:cubicBezTo>
                        <a:pt x="434" y="648"/>
                        <a:pt x="429" y="637"/>
                        <a:pt x="414" y="627"/>
                      </a:cubicBezTo>
                      <a:lnTo>
                        <a:pt x="387" y="597"/>
                      </a:lnTo>
                      <a:cubicBezTo>
                        <a:pt x="387" y="597"/>
                        <a:pt x="378" y="570"/>
                        <a:pt x="378" y="570"/>
                      </a:cubicBezTo>
                      <a:cubicBezTo>
                        <a:pt x="377" y="567"/>
                        <a:pt x="375" y="561"/>
                        <a:pt x="375" y="561"/>
                      </a:cubicBezTo>
                      <a:cubicBezTo>
                        <a:pt x="374" y="551"/>
                        <a:pt x="372" y="516"/>
                        <a:pt x="369" y="501"/>
                      </a:cubicBezTo>
                      <a:cubicBezTo>
                        <a:pt x="369" y="501"/>
                        <a:pt x="362" y="479"/>
                        <a:pt x="360" y="474"/>
                      </a:cubicBezTo>
                      <a:cubicBezTo>
                        <a:pt x="359" y="471"/>
                        <a:pt x="357" y="465"/>
                        <a:pt x="357" y="465"/>
                      </a:cubicBezTo>
                      <a:cubicBezTo>
                        <a:pt x="356" y="460"/>
                        <a:pt x="354" y="420"/>
                        <a:pt x="348" y="414"/>
                      </a:cubicBezTo>
                      <a:cubicBezTo>
                        <a:pt x="344" y="410"/>
                        <a:pt x="330" y="408"/>
                        <a:pt x="330" y="408"/>
                      </a:cubicBezTo>
                      <a:cubicBezTo>
                        <a:pt x="325" y="393"/>
                        <a:pt x="329" y="379"/>
                        <a:pt x="324" y="363"/>
                      </a:cubicBezTo>
                      <a:cubicBezTo>
                        <a:pt x="328" y="351"/>
                        <a:pt x="335" y="353"/>
                        <a:pt x="342" y="342"/>
                      </a:cubicBezTo>
                      <a:cubicBezTo>
                        <a:pt x="346" y="327"/>
                        <a:pt x="346" y="321"/>
                        <a:pt x="333" y="312"/>
                      </a:cubicBezTo>
                      <a:cubicBezTo>
                        <a:pt x="331" y="309"/>
                        <a:pt x="327" y="307"/>
                        <a:pt x="327" y="303"/>
                      </a:cubicBezTo>
                      <a:cubicBezTo>
                        <a:pt x="327" y="285"/>
                        <a:pt x="348" y="234"/>
                        <a:pt x="366" y="228"/>
                      </a:cubicBezTo>
                      <a:cubicBezTo>
                        <a:pt x="372" y="211"/>
                        <a:pt x="384" y="200"/>
                        <a:pt x="390" y="183"/>
                      </a:cubicBezTo>
                      <a:cubicBezTo>
                        <a:pt x="382" y="158"/>
                        <a:pt x="381" y="161"/>
                        <a:pt x="387" y="132"/>
                      </a:cubicBezTo>
                      <a:cubicBezTo>
                        <a:pt x="381" y="114"/>
                        <a:pt x="376" y="91"/>
                        <a:pt x="360" y="81"/>
                      </a:cubicBezTo>
                      <a:cubicBezTo>
                        <a:pt x="352" y="69"/>
                        <a:pt x="339" y="70"/>
                        <a:pt x="354" y="60"/>
                      </a:cubicBezTo>
                      <a:cubicBezTo>
                        <a:pt x="365" y="64"/>
                        <a:pt x="363" y="60"/>
                        <a:pt x="363" y="6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549560" y="5770080"/>
                  <a:ext cx="81720" cy="69120"/>
                </a:xfrm>
                <a:custGeom>
                  <a:avLst/>
                  <a:gdLst/>
                  <a:ahLst/>
                  <a:rect l="l" t="t" r="r" b="b"/>
                  <a:pathLst>
                    <a:path w="47" h="39">
                      <a:moveTo>
                        <a:pt x="0" y="24"/>
                      </a:moveTo>
                      <a:cubicBezTo>
                        <a:pt x="3" y="10"/>
                        <a:pt x="4" y="5"/>
                        <a:pt x="18" y="0"/>
                      </a:cubicBezTo>
                      <a:cubicBezTo>
                        <a:pt x="31" y="9"/>
                        <a:pt x="26" y="14"/>
                        <a:pt x="42" y="18"/>
                      </a:cubicBezTo>
                      <a:cubicBezTo>
                        <a:pt x="47" y="33"/>
                        <a:pt x="38" y="36"/>
                        <a:pt x="24" y="39"/>
                      </a:cubicBezTo>
                      <a:cubicBezTo>
                        <a:pt x="21" y="38"/>
                        <a:pt x="17" y="38"/>
                        <a:pt x="15" y="36"/>
                      </a:cubicBezTo>
                      <a:cubicBezTo>
                        <a:pt x="13" y="34"/>
                        <a:pt x="14" y="29"/>
                        <a:pt x="12" y="27"/>
                      </a:cubicBezTo>
                      <a:cubicBezTo>
                        <a:pt x="9" y="24"/>
                        <a:pt x="0" y="24"/>
                        <a:pt x="0" y="2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225120" y="2078640"/>
                  <a:ext cx="1718280" cy="15001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95560" y="3128040"/>
                  <a:ext cx="61920" cy="8460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650560" y="3097080"/>
                  <a:ext cx="61920" cy="6660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633080" y="2940120"/>
                  <a:ext cx="296280" cy="17064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946640" y="3084480"/>
                  <a:ext cx="241200" cy="788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819200" y="3125520"/>
                  <a:ext cx="100080" cy="7452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752960" y="2899440"/>
                  <a:ext cx="67320" cy="928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8275320" y="3183120"/>
                  <a:ext cx="75960" cy="14112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6347880" y="930240"/>
                  <a:ext cx="1212840" cy="668160"/>
                </a:xfrm>
                <a:custGeom>
                  <a:avLst/>
                  <a:gdLst/>
                  <a:ahLst/>
                  <a:rect l="l" t="t" r="r" b="b"/>
                  <a:pathLst>
                    <a:path w="695" h="376">
                      <a:moveTo>
                        <a:pt x="164" y="0"/>
                      </a:moveTo>
                      <a:lnTo>
                        <a:pt x="340" y="68"/>
                      </a:lnTo>
                      <a:lnTo>
                        <a:pt x="484" y="132"/>
                      </a:lnTo>
                      <a:cubicBezTo>
                        <a:pt x="527" y="155"/>
                        <a:pt x="573" y="171"/>
                        <a:pt x="612" y="200"/>
                      </a:cubicBezTo>
                      <a:cubicBezTo>
                        <a:pt x="619" y="205"/>
                        <a:pt x="588" y="208"/>
                        <a:pt x="588" y="208"/>
                      </a:cubicBezTo>
                      <a:cubicBezTo>
                        <a:pt x="577" y="225"/>
                        <a:pt x="568" y="240"/>
                        <a:pt x="592" y="248"/>
                      </a:cubicBezTo>
                      <a:cubicBezTo>
                        <a:pt x="616" y="240"/>
                        <a:pt x="607" y="257"/>
                        <a:pt x="596" y="268"/>
                      </a:cubicBezTo>
                      <a:cubicBezTo>
                        <a:pt x="589" y="289"/>
                        <a:pt x="590" y="276"/>
                        <a:pt x="608" y="304"/>
                      </a:cubicBezTo>
                      <a:cubicBezTo>
                        <a:pt x="613" y="312"/>
                        <a:pt x="615" y="325"/>
                        <a:pt x="624" y="328"/>
                      </a:cubicBezTo>
                      <a:cubicBezTo>
                        <a:pt x="645" y="335"/>
                        <a:pt x="665" y="343"/>
                        <a:pt x="684" y="356"/>
                      </a:cubicBezTo>
                      <a:cubicBezTo>
                        <a:pt x="686" y="363"/>
                        <a:pt x="695" y="376"/>
                        <a:pt x="676" y="376"/>
                      </a:cubicBezTo>
                      <a:cubicBezTo>
                        <a:pt x="658" y="376"/>
                        <a:pt x="591" y="347"/>
                        <a:pt x="572" y="340"/>
                      </a:cubicBezTo>
                      <a:cubicBezTo>
                        <a:pt x="562" y="336"/>
                        <a:pt x="540" y="332"/>
                        <a:pt x="540" y="332"/>
                      </a:cubicBezTo>
                      <a:cubicBezTo>
                        <a:pt x="531" y="304"/>
                        <a:pt x="540" y="311"/>
                        <a:pt x="520" y="304"/>
                      </a:cubicBezTo>
                      <a:cubicBezTo>
                        <a:pt x="519" y="308"/>
                        <a:pt x="520" y="315"/>
                        <a:pt x="516" y="316"/>
                      </a:cubicBezTo>
                      <a:cubicBezTo>
                        <a:pt x="515" y="316"/>
                        <a:pt x="486" y="300"/>
                        <a:pt x="480" y="296"/>
                      </a:cubicBezTo>
                      <a:cubicBezTo>
                        <a:pt x="467" y="277"/>
                        <a:pt x="443" y="277"/>
                        <a:pt x="424" y="264"/>
                      </a:cubicBezTo>
                      <a:cubicBezTo>
                        <a:pt x="414" y="249"/>
                        <a:pt x="406" y="253"/>
                        <a:pt x="400" y="236"/>
                      </a:cubicBezTo>
                      <a:cubicBezTo>
                        <a:pt x="408" y="212"/>
                        <a:pt x="385" y="221"/>
                        <a:pt x="368" y="224"/>
                      </a:cubicBezTo>
                      <a:cubicBezTo>
                        <a:pt x="330" y="216"/>
                        <a:pt x="355" y="200"/>
                        <a:pt x="308" y="192"/>
                      </a:cubicBezTo>
                      <a:cubicBezTo>
                        <a:pt x="282" y="201"/>
                        <a:pt x="294" y="173"/>
                        <a:pt x="264" y="168"/>
                      </a:cubicBezTo>
                      <a:cubicBezTo>
                        <a:pt x="233" y="163"/>
                        <a:pt x="206" y="153"/>
                        <a:pt x="180" y="136"/>
                      </a:cubicBezTo>
                      <a:cubicBezTo>
                        <a:pt x="157" y="141"/>
                        <a:pt x="139" y="138"/>
                        <a:pt x="116" y="132"/>
                      </a:cubicBezTo>
                      <a:cubicBezTo>
                        <a:pt x="100" y="137"/>
                        <a:pt x="93" y="141"/>
                        <a:pt x="72" y="132"/>
                      </a:cubicBezTo>
                      <a:cubicBezTo>
                        <a:pt x="68" y="130"/>
                        <a:pt x="71" y="123"/>
                        <a:pt x="68" y="120"/>
                      </a:cubicBezTo>
                      <a:cubicBezTo>
                        <a:pt x="65" y="116"/>
                        <a:pt x="60" y="115"/>
                        <a:pt x="56" y="112"/>
                      </a:cubicBezTo>
                      <a:cubicBezTo>
                        <a:pt x="38" y="118"/>
                        <a:pt x="31" y="116"/>
                        <a:pt x="20" y="100"/>
                      </a:cubicBezTo>
                      <a:cubicBezTo>
                        <a:pt x="16" y="86"/>
                        <a:pt x="0" y="60"/>
                        <a:pt x="0" y="60"/>
                      </a:cubicBezTo>
                      <a:cubicBezTo>
                        <a:pt x="7" y="38"/>
                        <a:pt x="25" y="43"/>
                        <a:pt x="48" y="40"/>
                      </a:cubicBezTo>
                      <a:cubicBezTo>
                        <a:pt x="51" y="44"/>
                        <a:pt x="51" y="51"/>
                        <a:pt x="56" y="52"/>
                      </a:cubicBezTo>
                      <a:cubicBezTo>
                        <a:pt x="64" y="53"/>
                        <a:pt x="80" y="44"/>
                        <a:pt x="80" y="44"/>
                      </a:cubicBezTo>
                      <a:cubicBezTo>
                        <a:pt x="85" y="45"/>
                        <a:pt x="91" y="46"/>
                        <a:pt x="96" y="48"/>
                      </a:cubicBezTo>
                      <a:cubicBezTo>
                        <a:pt x="100" y="49"/>
                        <a:pt x="106" y="56"/>
                        <a:pt x="108" y="52"/>
                      </a:cubicBezTo>
                      <a:cubicBezTo>
                        <a:pt x="113" y="42"/>
                        <a:pt x="101" y="27"/>
                        <a:pt x="96" y="20"/>
                      </a:cubicBezTo>
                      <a:cubicBezTo>
                        <a:pt x="110" y="11"/>
                        <a:pt x="148" y="0"/>
                        <a:pt x="164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999400" y="997920"/>
                  <a:ext cx="362520" cy="208800"/>
                </a:xfrm>
                <a:custGeom>
                  <a:avLst/>
                  <a:gdLst/>
                  <a:ahLst/>
                  <a:rect l="l" t="t" r="r" b="b"/>
                  <a:pathLst>
                    <a:path w="208" h="118">
                      <a:moveTo>
                        <a:pt x="16" y="26"/>
                      </a:moveTo>
                      <a:cubicBezTo>
                        <a:pt x="41" y="9"/>
                        <a:pt x="15" y="22"/>
                        <a:pt x="40" y="22"/>
                      </a:cubicBezTo>
                      <a:cubicBezTo>
                        <a:pt x="51" y="22"/>
                        <a:pt x="55" y="14"/>
                        <a:pt x="64" y="10"/>
                      </a:cubicBezTo>
                      <a:cubicBezTo>
                        <a:pt x="72" y="7"/>
                        <a:pt x="88" y="2"/>
                        <a:pt x="88" y="2"/>
                      </a:cubicBezTo>
                      <a:cubicBezTo>
                        <a:pt x="110" y="5"/>
                        <a:pt x="132" y="0"/>
                        <a:pt x="152" y="6"/>
                      </a:cubicBezTo>
                      <a:cubicBezTo>
                        <a:pt x="160" y="8"/>
                        <a:pt x="176" y="14"/>
                        <a:pt x="176" y="14"/>
                      </a:cubicBezTo>
                      <a:cubicBezTo>
                        <a:pt x="172" y="35"/>
                        <a:pt x="158" y="61"/>
                        <a:pt x="184" y="70"/>
                      </a:cubicBezTo>
                      <a:cubicBezTo>
                        <a:pt x="193" y="83"/>
                        <a:pt x="203" y="87"/>
                        <a:pt x="208" y="102"/>
                      </a:cubicBezTo>
                      <a:cubicBezTo>
                        <a:pt x="204" y="103"/>
                        <a:pt x="200" y="106"/>
                        <a:pt x="196" y="106"/>
                      </a:cubicBezTo>
                      <a:cubicBezTo>
                        <a:pt x="192" y="106"/>
                        <a:pt x="188" y="100"/>
                        <a:pt x="184" y="102"/>
                      </a:cubicBezTo>
                      <a:cubicBezTo>
                        <a:pt x="180" y="104"/>
                        <a:pt x="183" y="111"/>
                        <a:pt x="180" y="114"/>
                      </a:cubicBezTo>
                      <a:cubicBezTo>
                        <a:pt x="176" y="117"/>
                        <a:pt x="169" y="117"/>
                        <a:pt x="164" y="118"/>
                      </a:cubicBezTo>
                      <a:cubicBezTo>
                        <a:pt x="126" y="113"/>
                        <a:pt x="127" y="116"/>
                        <a:pt x="144" y="90"/>
                      </a:cubicBezTo>
                      <a:cubicBezTo>
                        <a:pt x="127" y="84"/>
                        <a:pt x="104" y="93"/>
                        <a:pt x="112" y="70"/>
                      </a:cubicBezTo>
                      <a:cubicBezTo>
                        <a:pt x="96" y="59"/>
                        <a:pt x="90" y="68"/>
                        <a:pt x="72" y="62"/>
                      </a:cubicBezTo>
                      <a:cubicBezTo>
                        <a:pt x="65" y="41"/>
                        <a:pt x="45" y="56"/>
                        <a:pt x="24" y="50"/>
                      </a:cubicBezTo>
                      <a:cubicBezTo>
                        <a:pt x="16" y="48"/>
                        <a:pt x="0" y="42"/>
                        <a:pt x="0" y="42"/>
                      </a:cubicBezTo>
                      <a:cubicBezTo>
                        <a:pt x="14" y="32"/>
                        <a:pt x="10" y="38"/>
                        <a:pt x="16" y="2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776200" y="1293120"/>
                  <a:ext cx="145080" cy="127080"/>
                </a:xfrm>
                <a:custGeom>
                  <a:avLst/>
                  <a:gdLst/>
                  <a:ahLst/>
                  <a:rect l="l" t="t" r="r" b="b"/>
                  <a:pathLst>
                    <a:path w="84" h="72">
                      <a:moveTo>
                        <a:pt x="12" y="8"/>
                      </a:moveTo>
                      <a:cubicBezTo>
                        <a:pt x="29" y="4"/>
                        <a:pt x="33" y="0"/>
                        <a:pt x="52" y="12"/>
                      </a:cubicBezTo>
                      <a:cubicBezTo>
                        <a:pt x="60" y="17"/>
                        <a:pt x="76" y="28"/>
                        <a:pt x="76" y="28"/>
                      </a:cubicBezTo>
                      <a:cubicBezTo>
                        <a:pt x="84" y="53"/>
                        <a:pt x="80" y="28"/>
                        <a:pt x="68" y="48"/>
                      </a:cubicBezTo>
                      <a:cubicBezTo>
                        <a:pt x="64" y="55"/>
                        <a:pt x="60" y="72"/>
                        <a:pt x="60" y="72"/>
                      </a:cubicBezTo>
                      <a:cubicBezTo>
                        <a:pt x="53" y="71"/>
                        <a:pt x="46" y="71"/>
                        <a:pt x="40" y="68"/>
                      </a:cubicBezTo>
                      <a:cubicBezTo>
                        <a:pt x="31" y="64"/>
                        <a:pt x="16" y="52"/>
                        <a:pt x="16" y="52"/>
                      </a:cubicBezTo>
                      <a:cubicBezTo>
                        <a:pt x="13" y="34"/>
                        <a:pt x="0" y="20"/>
                        <a:pt x="12" y="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756040" y="1198440"/>
                  <a:ext cx="67680" cy="8712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7" y="33"/>
                      </a:moveTo>
                      <a:cubicBezTo>
                        <a:pt x="34" y="6"/>
                        <a:pt x="25" y="0"/>
                        <a:pt x="39" y="21"/>
                      </a:cubicBezTo>
                      <a:cubicBezTo>
                        <a:pt x="30" y="49"/>
                        <a:pt x="39" y="42"/>
                        <a:pt x="19" y="49"/>
                      </a:cubicBezTo>
                      <a:cubicBezTo>
                        <a:pt x="15" y="48"/>
                        <a:pt x="9" y="49"/>
                        <a:pt x="7" y="45"/>
                      </a:cubicBezTo>
                      <a:cubicBezTo>
                        <a:pt x="0" y="32"/>
                        <a:pt x="19" y="33"/>
                        <a:pt x="7" y="3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866200" y="1218240"/>
                  <a:ext cx="169560" cy="97560"/>
                </a:xfrm>
                <a:custGeom>
                  <a:avLst/>
                  <a:gdLst/>
                  <a:ahLst/>
                  <a:rect l="l" t="t" r="r" b="b"/>
                  <a:pathLst>
                    <a:path w="97" h="55">
                      <a:moveTo>
                        <a:pt x="0" y="10"/>
                      </a:moveTo>
                      <a:cubicBezTo>
                        <a:pt x="21" y="13"/>
                        <a:pt x="39" y="28"/>
                        <a:pt x="32" y="6"/>
                      </a:cubicBezTo>
                      <a:cubicBezTo>
                        <a:pt x="51" y="0"/>
                        <a:pt x="75" y="15"/>
                        <a:pt x="92" y="26"/>
                      </a:cubicBezTo>
                      <a:cubicBezTo>
                        <a:pt x="83" y="53"/>
                        <a:pt x="97" y="25"/>
                        <a:pt x="60" y="34"/>
                      </a:cubicBezTo>
                      <a:cubicBezTo>
                        <a:pt x="56" y="35"/>
                        <a:pt x="59" y="43"/>
                        <a:pt x="56" y="46"/>
                      </a:cubicBezTo>
                      <a:cubicBezTo>
                        <a:pt x="53" y="49"/>
                        <a:pt x="48" y="49"/>
                        <a:pt x="44" y="50"/>
                      </a:cubicBezTo>
                      <a:cubicBezTo>
                        <a:pt x="15" y="40"/>
                        <a:pt x="48" y="55"/>
                        <a:pt x="28" y="30"/>
                      </a:cubicBezTo>
                      <a:cubicBezTo>
                        <a:pt x="22" y="22"/>
                        <a:pt x="8" y="26"/>
                        <a:pt x="0" y="1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5852160" y="1171440"/>
                  <a:ext cx="45000" cy="52200"/>
                </a:xfrm>
                <a:custGeom>
                  <a:avLst/>
                  <a:gdLst/>
                  <a:ahLst/>
                  <a:rect l="l" t="t" r="r" b="b"/>
                  <a:pathLst>
                    <a:path w="26" h="29">
                      <a:moveTo>
                        <a:pt x="4" y="0"/>
                      </a:moveTo>
                      <a:cubicBezTo>
                        <a:pt x="25" y="7"/>
                        <a:pt x="26" y="29"/>
                        <a:pt x="0" y="20"/>
                      </a:cubicBezTo>
                      <a:cubicBezTo>
                        <a:pt x="5" y="5"/>
                        <a:pt x="4" y="12"/>
                        <a:pt x="4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964120" y="1061280"/>
                  <a:ext cx="167760" cy="141120"/>
                </a:xfrm>
                <a:custGeom>
                  <a:avLst/>
                  <a:gdLst/>
                  <a:ahLst/>
                  <a:rect l="l" t="t" r="r" b="b"/>
                  <a:pathLst>
                    <a:path w="96" h="79">
                      <a:moveTo>
                        <a:pt x="20" y="30"/>
                      </a:moveTo>
                      <a:cubicBezTo>
                        <a:pt x="0" y="0"/>
                        <a:pt x="35" y="18"/>
                        <a:pt x="48" y="22"/>
                      </a:cubicBezTo>
                      <a:cubicBezTo>
                        <a:pt x="65" y="28"/>
                        <a:pt x="79" y="36"/>
                        <a:pt x="96" y="42"/>
                      </a:cubicBezTo>
                      <a:cubicBezTo>
                        <a:pt x="87" y="79"/>
                        <a:pt x="74" y="48"/>
                        <a:pt x="44" y="58"/>
                      </a:cubicBezTo>
                      <a:cubicBezTo>
                        <a:pt x="43" y="54"/>
                        <a:pt x="43" y="48"/>
                        <a:pt x="40" y="46"/>
                      </a:cubicBezTo>
                      <a:cubicBezTo>
                        <a:pt x="17" y="30"/>
                        <a:pt x="11" y="48"/>
                        <a:pt x="20" y="3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058440" y="1198440"/>
                  <a:ext cx="124200" cy="8136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10" y="5"/>
                      </a:moveTo>
                      <a:cubicBezTo>
                        <a:pt x="14" y="4"/>
                        <a:pt x="18" y="0"/>
                        <a:pt x="22" y="1"/>
                      </a:cubicBezTo>
                      <a:cubicBezTo>
                        <a:pt x="31" y="4"/>
                        <a:pt x="46" y="17"/>
                        <a:pt x="46" y="17"/>
                      </a:cubicBezTo>
                      <a:cubicBezTo>
                        <a:pt x="65" y="46"/>
                        <a:pt x="71" y="39"/>
                        <a:pt x="46" y="45"/>
                      </a:cubicBezTo>
                      <a:cubicBezTo>
                        <a:pt x="32" y="42"/>
                        <a:pt x="6" y="33"/>
                        <a:pt x="6" y="33"/>
                      </a:cubicBezTo>
                      <a:cubicBezTo>
                        <a:pt x="2" y="21"/>
                        <a:pt x="0" y="15"/>
                        <a:pt x="10" y="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138720" y="1288800"/>
                  <a:ext cx="147960" cy="108360"/>
                </a:xfrm>
                <a:custGeom>
                  <a:avLst/>
                  <a:gdLst/>
                  <a:ahLst/>
                  <a:rect l="l" t="t" r="r" b="b"/>
                  <a:pathLst>
                    <a:path w="85" h="61">
                      <a:moveTo>
                        <a:pt x="4" y="2"/>
                      </a:moveTo>
                      <a:cubicBezTo>
                        <a:pt x="34" y="7"/>
                        <a:pt x="40" y="14"/>
                        <a:pt x="64" y="30"/>
                      </a:cubicBezTo>
                      <a:cubicBezTo>
                        <a:pt x="85" y="61"/>
                        <a:pt x="36" y="42"/>
                        <a:pt x="24" y="34"/>
                      </a:cubicBezTo>
                      <a:cubicBezTo>
                        <a:pt x="7" y="23"/>
                        <a:pt x="15" y="29"/>
                        <a:pt x="0" y="14"/>
                      </a:cubicBezTo>
                      <a:cubicBezTo>
                        <a:pt x="3" y="10"/>
                        <a:pt x="4" y="4"/>
                        <a:pt x="8" y="2"/>
                      </a:cubicBezTo>
                      <a:cubicBezTo>
                        <a:pt x="12" y="0"/>
                        <a:pt x="24" y="6"/>
                        <a:pt x="20" y="6"/>
                      </a:cubicBezTo>
                      <a:cubicBezTo>
                        <a:pt x="15" y="6"/>
                        <a:pt x="9" y="3"/>
                        <a:pt x="4" y="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234840" y="1288800"/>
                  <a:ext cx="133920" cy="81720"/>
                </a:xfrm>
                <a:custGeom>
                  <a:avLst/>
                  <a:gdLst/>
                  <a:ahLst/>
                  <a:rect l="l" t="t" r="r" b="b"/>
                  <a:pathLst>
                    <a:path w="77" h="46">
                      <a:moveTo>
                        <a:pt x="21" y="6"/>
                      </a:moveTo>
                      <a:cubicBezTo>
                        <a:pt x="57" y="18"/>
                        <a:pt x="0" y="0"/>
                        <a:pt x="53" y="14"/>
                      </a:cubicBezTo>
                      <a:cubicBezTo>
                        <a:pt x="61" y="16"/>
                        <a:pt x="77" y="22"/>
                        <a:pt x="77" y="22"/>
                      </a:cubicBezTo>
                      <a:cubicBezTo>
                        <a:pt x="71" y="46"/>
                        <a:pt x="65" y="43"/>
                        <a:pt x="41" y="38"/>
                      </a:cubicBezTo>
                      <a:cubicBezTo>
                        <a:pt x="3" y="12"/>
                        <a:pt x="21" y="34"/>
                        <a:pt x="21" y="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215400" y="1213920"/>
                  <a:ext cx="245520" cy="66240"/>
                </a:xfrm>
                <a:custGeom>
                  <a:avLst/>
                  <a:gdLst/>
                  <a:ahLst/>
                  <a:rect l="l" t="t" r="r" b="b"/>
                  <a:pathLst>
                    <a:path w="141" h="37">
                      <a:moveTo>
                        <a:pt x="32" y="16"/>
                      </a:moveTo>
                      <a:cubicBezTo>
                        <a:pt x="64" y="5"/>
                        <a:pt x="24" y="16"/>
                        <a:pt x="56" y="16"/>
                      </a:cubicBezTo>
                      <a:cubicBezTo>
                        <a:pt x="72" y="16"/>
                        <a:pt x="87" y="9"/>
                        <a:pt x="100" y="0"/>
                      </a:cubicBezTo>
                      <a:cubicBezTo>
                        <a:pt x="108" y="1"/>
                        <a:pt x="117" y="0"/>
                        <a:pt x="124" y="4"/>
                      </a:cubicBezTo>
                      <a:cubicBezTo>
                        <a:pt x="141" y="14"/>
                        <a:pt x="119" y="30"/>
                        <a:pt x="112" y="32"/>
                      </a:cubicBezTo>
                      <a:cubicBezTo>
                        <a:pt x="107" y="31"/>
                        <a:pt x="101" y="27"/>
                        <a:pt x="96" y="28"/>
                      </a:cubicBezTo>
                      <a:cubicBezTo>
                        <a:pt x="88" y="29"/>
                        <a:pt x="72" y="36"/>
                        <a:pt x="72" y="36"/>
                      </a:cubicBezTo>
                      <a:cubicBezTo>
                        <a:pt x="63" y="35"/>
                        <a:pt x="0" y="37"/>
                        <a:pt x="32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391800" y="1257840"/>
                  <a:ext cx="761040" cy="379800"/>
                </a:xfrm>
                <a:custGeom>
                  <a:avLst/>
                  <a:gdLst/>
                  <a:ahLst/>
                  <a:rect l="l" t="t" r="r" b="b"/>
                  <a:pathLst>
                    <a:path w="436" h="214">
                      <a:moveTo>
                        <a:pt x="47" y="64"/>
                      </a:moveTo>
                      <a:cubicBezTo>
                        <a:pt x="40" y="44"/>
                        <a:pt x="24" y="43"/>
                        <a:pt x="7" y="32"/>
                      </a:cubicBezTo>
                      <a:cubicBezTo>
                        <a:pt x="0" y="12"/>
                        <a:pt x="12" y="15"/>
                        <a:pt x="27" y="20"/>
                      </a:cubicBezTo>
                      <a:cubicBezTo>
                        <a:pt x="56" y="0"/>
                        <a:pt x="44" y="24"/>
                        <a:pt x="67" y="32"/>
                      </a:cubicBezTo>
                      <a:cubicBezTo>
                        <a:pt x="91" y="24"/>
                        <a:pt x="112" y="32"/>
                        <a:pt x="135" y="40"/>
                      </a:cubicBezTo>
                      <a:cubicBezTo>
                        <a:pt x="143" y="43"/>
                        <a:pt x="159" y="48"/>
                        <a:pt x="159" y="48"/>
                      </a:cubicBezTo>
                      <a:cubicBezTo>
                        <a:pt x="178" y="42"/>
                        <a:pt x="191" y="45"/>
                        <a:pt x="207" y="56"/>
                      </a:cubicBezTo>
                      <a:cubicBezTo>
                        <a:pt x="225" y="84"/>
                        <a:pt x="273" y="82"/>
                        <a:pt x="303" y="92"/>
                      </a:cubicBezTo>
                      <a:cubicBezTo>
                        <a:pt x="311" y="89"/>
                        <a:pt x="319" y="87"/>
                        <a:pt x="327" y="84"/>
                      </a:cubicBezTo>
                      <a:cubicBezTo>
                        <a:pt x="337" y="81"/>
                        <a:pt x="359" y="92"/>
                        <a:pt x="359" y="92"/>
                      </a:cubicBezTo>
                      <a:cubicBezTo>
                        <a:pt x="365" y="110"/>
                        <a:pt x="362" y="114"/>
                        <a:pt x="347" y="124"/>
                      </a:cubicBezTo>
                      <a:cubicBezTo>
                        <a:pt x="334" y="120"/>
                        <a:pt x="324" y="112"/>
                        <a:pt x="311" y="108"/>
                      </a:cubicBezTo>
                      <a:cubicBezTo>
                        <a:pt x="304" y="109"/>
                        <a:pt x="296" y="107"/>
                        <a:pt x="291" y="112"/>
                      </a:cubicBezTo>
                      <a:cubicBezTo>
                        <a:pt x="288" y="115"/>
                        <a:pt x="299" y="114"/>
                        <a:pt x="303" y="116"/>
                      </a:cubicBezTo>
                      <a:cubicBezTo>
                        <a:pt x="327" y="129"/>
                        <a:pt x="330" y="134"/>
                        <a:pt x="355" y="140"/>
                      </a:cubicBezTo>
                      <a:cubicBezTo>
                        <a:pt x="370" y="150"/>
                        <a:pt x="388" y="154"/>
                        <a:pt x="403" y="164"/>
                      </a:cubicBezTo>
                      <a:cubicBezTo>
                        <a:pt x="436" y="214"/>
                        <a:pt x="380" y="191"/>
                        <a:pt x="359" y="188"/>
                      </a:cubicBezTo>
                      <a:cubicBezTo>
                        <a:pt x="346" y="175"/>
                        <a:pt x="329" y="166"/>
                        <a:pt x="311" y="160"/>
                      </a:cubicBezTo>
                      <a:cubicBezTo>
                        <a:pt x="292" y="163"/>
                        <a:pt x="273" y="166"/>
                        <a:pt x="255" y="172"/>
                      </a:cubicBezTo>
                      <a:cubicBezTo>
                        <a:pt x="233" y="165"/>
                        <a:pt x="245" y="155"/>
                        <a:pt x="259" y="148"/>
                      </a:cubicBezTo>
                      <a:cubicBezTo>
                        <a:pt x="263" y="146"/>
                        <a:pt x="267" y="143"/>
                        <a:pt x="271" y="140"/>
                      </a:cubicBezTo>
                      <a:cubicBezTo>
                        <a:pt x="255" y="129"/>
                        <a:pt x="252" y="138"/>
                        <a:pt x="235" y="132"/>
                      </a:cubicBezTo>
                      <a:cubicBezTo>
                        <a:pt x="239" y="129"/>
                        <a:pt x="243" y="126"/>
                        <a:pt x="247" y="124"/>
                      </a:cubicBezTo>
                      <a:cubicBezTo>
                        <a:pt x="251" y="122"/>
                        <a:pt x="258" y="124"/>
                        <a:pt x="259" y="120"/>
                      </a:cubicBezTo>
                      <a:cubicBezTo>
                        <a:pt x="263" y="105"/>
                        <a:pt x="234" y="105"/>
                        <a:pt x="231" y="104"/>
                      </a:cubicBezTo>
                      <a:cubicBezTo>
                        <a:pt x="196" y="95"/>
                        <a:pt x="165" y="75"/>
                        <a:pt x="131" y="64"/>
                      </a:cubicBezTo>
                      <a:cubicBezTo>
                        <a:pt x="127" y="65"/>
                        <a:pt x="123" y="68"/>
                        <a:pt x="119" y="68"/>
                      </a:cubicBezTo>
                      <a:cubicBezTo>
                        <a:pt x="115" y="68"/>
                        <a:pt x="111" y="64"/>
                        <a:pt x="107" y="64"/>
                      </a:cubicBezTo>
                      <a:cubicBezTo>
                        <a:pt x="93" y="66"/>
                        <a:pt x="81" y="73"/>
                        <a:pt x="67" y="76"/>
                      </a:cubicBezTo>
                      <a:cubicBezTo>
                        <a:pt x="51" y="71"/>
                        <a:pt x="58" y="75"/>
                        <a:pt x="47" y="6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693840" y="1409040"/>
                  <a:ext cx="74880" cy="69120"/>
                </a:xfrm>
                <a:custGeom>
                  <a:avLst/>
                  <a:gdLst/>
                  <a:ahLst/>
                  <a:rect l="l" t="t" r="r" b="b"/>
                  <a:pathLst>
                    <a:path w="43" h="39">
                      <a:moveTo>
                        <a:pt x="18" y="27"/>
                      </a:moveTo>
                      <a:cubicBezTo>
                        <a:pt x="0" y="0"/>
                        <a:pt x="22" y="11"/>
                        <a:pt x="34" y="19"/>
                      </a:cubicBezTo>
                      <a:cubicBezTo>
                        <a:pt x="37" y="23"/>
                        <a:pt x="43" y="26"/>
                        <a:pt x="42" y="31"/>
                      </a:cubicBezTo>
                      <a:cubicBezTo>
                        <a:pt x="40" y="39"/>
                        <a:pt x="18" y="27"/>
                        <a:pt x="18" y="27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668640" y="1520640"/>
                  <a:ext cx="114120" cy="77760"/>
                </a:xfrm>
                <a:custGeom>
                  <a:avLst/>
                  <a:gdLst/>
                  <a:ahLst/>
                  <a:rect l="l" t="t" r="r" b="b"/>
                  <a:pathLst>
                    <a:path w="65" h="44">
                      <a:moveTo>
                        <a:pt x="16" y="12"/>
                      </a:moveTo>
                      <a:cubicBezTo>
                        <a:pt x="31" y="17"/>
                        <a:pt x="41" y="11"/>
                        <a:pt x="56" y="16"/>
                      </a:cubicBezTo>
                      <a:cubicBezTo>
                        <a:pt x="59" y="20"/>
                        <a:pt x="65" y="23"/>
                        <a:pt x="64" y="28"/>
                      </a:cubicBezTo>
                      <a:cubicBezTo>
                        <a:pt x="61" y="41"/>
                        <a:pt x="28" y="44"/>
                        <a:pt x="28" y="44"/>
                      </a:cubicBezTo>
                      <a:cubicBezTo>
                        <a:pt x="19" y="31"/>
                        <a:pt x="9" y="25"/>
                        <a:pt x="0" y="12"/>
                      </a:cubicBezTo>
                      <a:cubicBezTo>
                        <a:pt x="14" y="2"/>
                        <a:pt x="10" y="0"/>
                        <a:pt x="16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788520" y="1605240"/>
                  <a:ext cx="32040" cy="4068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4" y="8"/>
                      </a:moveTo>
                      <a:cubicBezTo>
                        <a:pt x="8" y="7"/>
                        <a:pt x="14" y="0"/>
                        <a:pt x="16" y="4"/>
                      </a:cubicBezTo>
                      <a:cubicBezTo>
                        <a:pt x="19" y="9"/>
                        <a:pt x="16" y="17"/>
                        <a:pt x="12" y="20"/>
                      </a:cubicBezTo>
                      <a:cubicBezTo>
                        <a:pt x="9" y="23"/>
                        <a:pt x="4" y="17"/>
                        <a:pt x="0" y="16"/>
                      </a:cubicBezTo>
                      <a:cubicBezTo>
                        <a:pt x="4" y="3"/>
                        <a:pt x="4" y="0"/>
                        <a:pt x="4" y="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935680" y="1335240"/>
                  <a:ext cx="335880" cy="151200"/>
                </a:xfrm>
                <a:custGeom>
                  <a:avLst/>
                  <a:gdLst/>
                  <a:ahLst/>
                  <a:rect l="l" t="t" r="r" b="b"/>
                  <a:pathLst>
                    <a:path w="192" h="85">
                      <a:moveTo>
                        <a:pt x="8" y="0"/>
                      </a:moveTo>
                      <a:cubicBezTo>
                        <a:pt x="28" y="7"/>
                        <a:pt x="48" y="9"/>
                        <a:pt x="68" y="16"/>
                      </a:cubicBezTo>
                      <a:cubicBezTo>
                        <a:pt x="72" y="15"/>
                        <a:pt x="77" y="15"/>
                        <a:pt x="80" y="12"/>
                      </a:cubicBezTo>
                      <a:cubicBezTo>
                        <a:pt x="84" y="9"/>
                        <a:pt x="83" y="1"/>
                        <a:pt x="88" y="0"/>
                      </a:cubicBezTo>
                      <a:cubicBezTo>
                        <a:pt x="89" y="0"/>
                        <a:pt x="119" y="16"/>
                        <a:pt x="124" y="20"/>
                      </a:cubicBezTo>
                      <a:cubicBezTo>
                        <a:pt x="128" y="24"/>
                        <a:pt x="131" y="29"/>
                        <a:pt x="136" y="32"/>
                      </a:cubicBezTo>
                      <a:cubicBezTo>
                        <a:pt x="143" y="36"/>
                        <a:pt x="160" y="40"/>
                        <a:pt x="160" y="40"/>
                      </a:cubicBezTo>
                      <a:cubicBezTo>
                        <a:pt x="178" y="34"/>
                        <a:pt x="182" y="37"/>
                        <a:pt x="192" y="52"/>
                      </a:cubicBezTo>
                      <a:cubicBezTo>
                        <a:pt x="191" y="58"/>
                        <a:pt x="192" y="81"/>
                        <a:pt x="176" y="76"/>
                      </a:cubicBezTo>
                      <a:cubicBezTo>
                        <a:pt x="167" y="73"/>
                        <a:pt x="152" y="60"/>
                        <a:pt x="152" y="60"/>
                      </a:cubicBezTo>
                      <a:cubicBezTo>
                        <a:pt x="138" y="69"/>
                        <a:pt x="128" y="72"/>
                        <a:pt x="112" y="76"/>
                      </a:cubicBezTo>
                      <a:cubicBezTo>
                        <a:pt x="108" y="79"/>
                        <a:pt x="105" y="85"/>
                        <a:pt x="100" y="84"/>
                      </a:cubicBezTo>
                      <a:cubicBezTo>
                        <a:pt x="91" y="82"/>
                        <a:pt x="76" y="68"/>
                        <a:pt x="76" y="68"/>
                      </a:cubicBezTo>
                      <a:cubicBezTo>
                        <a:pt x="86" y="39"/>
                        <a:pt x="91" y="49"/>
                        <a:pt x="72" y="36"/>
                      </a:cubicBezTo>
                      <a:cubicBezTo>
                        <a:pt x="57" y="40"/>
                        <a:pt x="47" y="47"/>
                        <a:pt x="32" y="52"/>
                      </a:cubicBezTo>
                      <a:cubicBezTo>
                        <a:pt x="4" y="45"/>
                        <a:pt x="24" y="40"/>
                        <a:pt x="0" y="32"/>
                      </a:cubicBezTo>
                      <a:cubicBezTo>
                        <a:pt x="3" y="24"/>
                        <a:pt x="5" y="16"/>
                        <a:pt x="8" y="8"/>
                      </a:cubicBezTo>
                      <a:cubicBezTo>
                        <a:pt x="9" y="4"/>
                        <a:pt x="20" y="8"/>
                        <a:pt x="20" y="4"/>
                      </a:cubicBezTo>
                      <a:cubicBezTo>
                        <a:pt x="20" y="0"/>
                        <a:pt x="12" y="1"/>
                        <a:pt x="8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185800" y="1389240"/>
                  <a:ext cx="2675520" cy="895680"/>
                </a:xfrm>
                <a:custGeom>
                  <a:avLst/>
                  <a:gdLst/>
                  <a:ahLst/>
                  <a:rect l="l" t="t" r="r" b="b"/>
                  <a:pathLst>
                    <a:path w="1533" h="504">
                      <a:moveTo>
                        <a:pt x="82" y="34"/>
                      </a:moveTo>
                      <a:cubicBezTo>
                        <a:pt x="95" y="38"/>
                        <a:pt x="104" y="53"/>
                        <a:pt x="118" y="54"/>
                      </a:cubicBezTo>
                      <a:cubicBezTo>
                        <a:pt x="172" y="57"/>
                        <a:pt x="249" y="49"/>
                        <a:pt x="298" y="82"/>
                      </a:cubicBezTo>
                      <a:cubicBezTo>
                        <a:pt x="326" y="64"/>
                        <a:pt x="290" y="72"/>
                        <a:pt x="318" y="54"/>
                      </a:cubicBezTo>
                      <a:cubicBezTo>
                        <a:pt x="322" y="55"/>
                        <a:pt x="327" y="55"/>
                        <a:pt x="330" y="58"/>
                      </a:cubicBezTo>
                      <a:cubicBezTo>
                        <a:pt x="334" y="61"/>
                        <a:pt x="334" y="73"/>
                        <a:pt x="338" y="70"/>
                      </a:cubicBezTo>
                      <a:cubicBezTo>
                        <a:pt x="345" y="65"/>
                        <a:pt x="346" y="46"/>
                        <a:pt x="346" y="46"/>
                      </a:cubicBezTo>
                      <a:cubicBezTo>
                        <a:pt x="354" y="47"/>
                        <a:pt x="362" y="51"/>
                        <a:pt x="370" y="50"/>
                      </a:cubicBezTo>
                      <a:cubicBezTo>
                        <a:pt x="375" y="49"/>
                        <a:pt x="377" y="43"/>
                        <a:pt x="382" y="42"/>
                      </a:cubicBezTo>
                      <a:cubicBezTo>
                        <a:pt x="391" y="41"/>
                        <a:pt x="402" y="49"/>
                        <a:pt x="410" y="50"/>
                      </a:cubicBezTo>
                      <a:cubicBezTo>
                        <a:pt x="430" y="52"/>
                        <a:pt x="450" y="53"/>
                        <a:pt x="470" y="54"/>
                      </a:cubicBezTo>
                      <a:cubicBezTo>
                        <a:pt x="502" y="65"/>
                        <a:pt x="486" y="61"/>
                        <a:pt x="518" y="66"/>
                      </a:cubicBezTo>
                      <a:cubicBezTo>
                        <a:pt x="539" y="87"/>
                        <a:pt x="547" y="79"/>
                        <a:pt x="574" y="74"/>
                      </a:cubicBezTo>
                      <a:cubicBezTo>
                        <a:pt x="591" y="80"/>
                        <a:pt x="594" y="71"/>
                        <a:pt x="610" y="82"/>
                      </a:cubicBezTo>
                      <a:cubicBezTo>
                        <a:pt x="597" y="42"/>
                        <a:pt x="617" y="54"/>
                        <a:pt x="642" y="62"/>
                      </a:cubicBezTo>
                      <a:cubicBezTo>
                        <a:pt x="654" y="58"/>
                        <a:pt x="668" y="62"/>
                        <a:pt x="678" y="54"/>
                      </a:cubicBezTo>
                      <a:cubicBezTo>
                        <a:pt x="690" y="44"/>
                        <a:pt x="653" y="31"/>
                        <a:pt x="650" y="30"/>
                      </a:cubicBezTo>
                      <a:cubicBezTo>
                        <a:pt x="641" y="16"/>
                        <a:pt x="630" y="9"/>
                        <a:pt x="650" y="2"/>
                      </a:cubicBezTo>
                      <a:cubicBezTo>
                        <a:pt x="658" y="7"/>
                        <a:pt x="666" y="13"/>
                        <a:pt x="674" y="18"/>
                      </a:cubicBezTo>
                      <a:cubicBezTo>
                        <a:pt x="678" y="21"/>
                        <a:pt x="686" y="26"/>
                        <a:pt x="686" y="26"/>
                      </a:cubicBezTo>
                      <a:cubicBezTo>
                        <a:pt x="694" y="38"/>
                        <a:pt x="718" y="54"/>
                        <a:pt x="718" y="54"/>
                      </a:cubicBezTo>
                      <a:cubicBezTo>
                        <a:pt x="712" y="36"/>
                        <a:pt x="699" y="35"/>
                        <a:pt x="718" y="22"/>
                      </a:cubicBezTo>
                      <a:cubicBezTo>
                        <a:pt x="736" y="28"/>
                        <a:pt x="737" y="38"/>
                        <a:pt x="754" y="26"/>
                      </a:cubicBezTo>
                      <a:cubicBezTo>
                        <a:pt x="758" y="27"/>
                        <a:pt x="763" y="27"/>
                        <a:pt x="766" y="30"/>
                      </a:cubicBezTo>
                      <a:cubicBezTo>
                        <a:pt x="770" y="33"/>
                        <a:pt x="770" y="39"/>
                        <a:pt x="774" y="42"/>
                      </a:cubicBezTo>
                      <a:cubicBezTo>
                        <a:pt x="781" y="46"/>
                        <a:pt x="798" y="50"/>
                        <a:pt x="798" y="50"/>
                      </a:cubicBezTo>
                      <a:cubicBezTo>
                        <a:pt x="793" y="34"/>
                        <a:pt x="790" y="27"/>
                        <a:pt x="774" y="22"/>
                      </a:cubicBezTo>
                      <a:cubicBezTo>
                        <a:pt x="781" y="0"/>
                        <a:pt x="797" y="12"/>
                        <a:pt x="814" y="18"/>
                      </a:cubicBezTo>
                      <a:cubicBezTo>
                        <a:pt x="825" y="35"/>
                        <a:pt x="842" y="35"/>
                        <a:pt x="858" y="46"/>
                      </a:cubicBezTo>
                      <a:cubicBezTo>
                        <a:pt x="861" y="54"/>
                        <a:pt x="874" y="73"/>
                        <a:pt x="866" y="70"/>
                      </a:cubicBezTo>
                      <a:cubicBezTo>
                        <a:pt x="853" y="66"/>
                        <a:pt x="843" y="58"/>
                        <a:pt x="830" y="54"/>
                      </a:cubicBezTo>
                      <a:cubicBezTo>
                        <a:pt x="804" y="63"/>
                        <a:pt x="825" y="69"/>
                        <a:pt x="838" y="78"/>
                      </a:cubicBezTo>
                      <a:cubicBezTo>
                        <a:pt x="841" y="82"/>
                        <a:pt x="845" y="85"/>
                        <a:pt x="846" y="90"/>
                      </a:cubicBezTo>
                      <a:cubicBezTo>
                        <a:pt x="850" y="125"/>
                        <a:pt x="816" y="102"/>
                        <a:pt x="798" y="98"/>
                      </a:cubicBezTo>
                      <a:cubicBezTo>
                        <a:pt x="770" y="107"/>
                        <a:pt x="777" y="98"/>
                        <a:pt x="770" y="118"/>
                      </a:cubicBezTo>
                      <a:cubicBezTo>
                        <a:pt x="793" y="126"/>
                        <a:pt x="815" y="128"/>
                        <a:pt x="838" y="134"/>
                      </a:cubicBezTo>
                      <a:cubicBezTo>
                        <a:pt x="839" y="138"/>
                        <a:pt x="842" y="142"/>
                        <a:pt x="842" y="146"/>
                      </a:cubicBezTo>
                      <a:cubicBezTo>
                        <a:pt x="841" y="154"/>
                        <a:pt x="834" y="170"/>
                        <a:pt x="834" y="170"/>
                      </a:cubicBezTo>
                      <a:cubicBezTo>
                        <a:pt x="844" y="199"/>
                        <a:pt x="835" y="189"/>
                        <a:pt x="854" y="202"/>
                      </a:cubicBezTo>
                      <a:cubicBezTo>
                        <a:pt x="867" y="222"/>
                        <a:pt x="885" y="211"/>
                        <a:pt x="902" y="226"/>
                      </a:cubicBezTo>
                      <a:cubicBezTo>
                        <a:pt x="906" y="230"/>
                        <a:pt x="909" y="235"/>
                        <a:pt x="914" y="238"/>
                      </a:cubicBezTo>
                      <a:cubicBezTo>
                        <a:pt x="921" y="242"/>
                        <a:pt x="938" y="246"/>
                        <a:pt x="938" y="246"/>
                      </a:cubicBezTo>
                      <a:cubicBezTo>
                        <a:pt x="954" y="241"/>
                        <a:pt x="966" y="237"/>
                        <a:pt x="982" y="242"/>
                      </a:cubicBezTo>
                      <a:cubicBezTo>
                        <a:pt x="983" y="246"/>
                        <a:pt x="982" y="253"/>
                        <a:pt x="986" y="254"/>
                      </a:cubicBezTo>
                      <a:cubicBezTo>
                        <a:pt x="1009" y="262"/>
                        <a:pt x="1043" y="261"/>
                        <a:pt x="1070" y="270"/>
                      </a:cubicBezTo>
                      <a:cubicBezTo>
                        <a:pt x="1074" y="283"/>
                        <a:pt x="1098" y="298"/>
                        <a:pt x="1098" y="298"/>
                      </a:cubicBezTo>
                      <a:cubicBezTo>
                        <a:pt x="1108" y="328"/>
                        <a:pt x="1093" y="297"/>
                        <a:pt x="1114" y="302"/>
                      </a:cubicBezTo>
                      <a:cubicBezTo>
                        <a:pt x="1123" y="304"/>
                        <a:pt x="1120" y="320"/>
                        <a:pt x="1126" y="326"/>
                      </a:cubicBezTo>
                      <a:cubicBezTo>
                        <a:pt x="1134" y="334"/>
                        <a:pt x="1140" y="335"/>
                        <a:pt x="1150" y="338"/>
                      </a:cubicBezTo>
                      <a:cubicBezTo>
                        <a:pt x="1157" y="318"/>
                        <a:pt x="1150" y="302"/>
                        <a:pt x="1134" y="290"/>
                      </a:cubicBezTo>
                      <a:cubicBezTo>
                        <a:pt x="1126" y="284"/>
                        <a:pt x="1110" y="274"/>
                        <a:pt x="1110" y="274"/>
                      </a:cubicBezTo>
                      <a:cubicBezTo>
                        <a:pt x="1099" y="257"/>
                        <a:pt x="1111" y="231"/>
                        <a:pt x="1098" y="218"/>
                      </a:cubicBezTo>
                      <a:cubicBezTo>
                        <a:pt x="1091" y="211"/>
                        <a:pt x="1082" y="207"/>
                        <a:pt x="1074" y="202"/>
                      </a:cubicBezTo>
                      <a:cubicBezTo>
                        <a:pt x="1067" y="197"/>
                        <a:pt x="1050" y="194"/>
                        <a:pt x="1050" y="194"/>
                      </a:cubicBezTo>
                      <a:cubicBezTo>
                        <a:pt x="1026" y="202"/>
                        <a:pt x="1043" y="201"/>
                        <a:pt x="1034" y="166"/>
                      </a:cubicBezTo>
                      <a:cubicBezTo>
                        <a:pt x="1031" y="155"/>
                        <a:pt x="1022" y="152"/>
                        <a:pt x="1014" y="146"/>
                      </a:cubicBezTo>
                      <a:cubicBezTo>
                        <a:pt x="1013" y="142"/>
                        <a:pt x="1013" y="137"/>
                        <a:pt x="1010" y="134"/>
                      </a:cubicBezTo>
                      <a:cubicBezTo>
                        <a:pt x="997" y="124"/>
                        <a:pt x="983" y="138"/>
                        <a:pt x="1006" y="122"/>
                      </a:cubicBezTo>
                      <a:cubicBezTo>
                        <a:pt x="1012" y="123"/>
                        <a:pt x="1031" y="126"/>
                        <a:pt x="1038" y="130"/>
                      </a:cubicBezTo>
                      <a:cubicBezTo>
                        <a:pt x="1046" y="135"/>
                        <a:pt x="1062" y="146"/>
                        <a:pt x="1062" y="146"/>
                      </a:cubicBezTo>
                      <a:cubicBezTo>
                        <a:pt x="1108" y="131"/>
                        <a:pt x="1096" y="148"/>
                        <a:pt x="1114" y="170"/>
                      </a:cubicBezTo>
                      <a:cubicBezTo>
                        <a:pt x="1122" y="180"/>
                        <a:pt x="1150" y="186"/>
                        <a:pt x="1150" y="186"/>
                      </a:cubicBezTo>
                      <a:cubicBezTo>
                        <a:pt x="1161" y="169"/>
                        <a:pt x="1157" y="166"/>
                        <a:pt x="1146" y="150"/>
                      </a:cubicBezTo>
                      <a:cubicBezTo>
                        <a:pt x="1168" y="143"/>
                        <a:pt x="1163" y="153"/>
                        <a:pt x="1174" y="166"/>
                      </a:cubicBezTo>
                      <a:cubicBezTo>
                        <a:pt x="1182" y="176"/>
                        <a:pt x="1195" y="176"/>
                        <a:pt x="1206" y="178"/>
                      </a:cubicBezTo>
                      <a:cubicBezTo>
                        <a:pt x="1214" y="183"/>
                        <a:pt x="1218" y="193"/>
                        <a:pt x="1226" y="198"/>
                      </a:cubicBezTo>
                      <a:cubicBezTo>
                        <a:pt x="1232" y="202"/>
                        <a:pt x="1257" y="208"/>
                        <a:pt x="1266" y="210"/>
                      </a:cubicBezTo>
                      <a:cubicBezTo>
                        <a:pt x="1279" y="229"/>
                        <a:pt x="1269" y="220"/>
                        <a:pt x="1298" y="230"/>
                      </a:cubicBezTo>
                      <a:cubicBezTo>
                        <a:pt x="1306" y="233"/>
                        <a:pt x="1322" y="238"/>
                        <a:pt x="1322" y="238"/>
                      </a:cubicBezTo>
                      <a:cubicBezTo>
                        <a:pt x="1330" y="261"/>
                        <a:pt x="1350" y="251"/>
                        <a:pt x="1370" y="258"/>
                      </a:cubicBezTo>
                      <a:cubicBezTo>
                        <a:pt x="1403" y="291"/>
                        <a:pt x="1381" y="292"/>
                        <a:pt x="1426" y="298"/>
                      </a:cubicBezTo>
                      <a:cubicBezTo>
                        <a:pt x="1448" y="313"/>
                        <a:pt x="1433" y="326"/>
                        <a:pt x="1458" y="334"/>
                      </a:cubicBezTo>
                      <a:cubicBezTo>
                        <a:pt x="1462" y="333"/>
                        <a:pt x="1466" y="330"/>
                        <a:pt x="1470" y="330"/>
                      </a:cubicBezTo>
                      <a:cubicBezTo>
                        <a:pt x="1478" y="331"/>
                        <a:pt x="1494" y="338"/>
                        <a:pt x="1494" y="338"/>
                      </a:cubicBezTo>
                      <a:cubicBezTo>
                        <a:pt x="1503" y="352"/>
                        <a:pt x="1510" y="357"/>
                        <a:pt x="1526" y="362"/>
                      </a:cubicBezTo>
                      <a:cubicBezTo>
                        <a:pt x="1533" y="384"/>
                        <a:pt x="1519" y="382"/>
                        <a:pt x="1502" y="378"/>
                      </a:cubicBezTo>
                      <a:cubicBezTo>
                        <a:pt x="1474" y="360"/>
                        <a:pt x="1487" y="359"/>
                        <a:pt x="1466" y="366"/>
                      </a:cubicBezTo>
                      <a:cubicBezTo>
                        <a:pt x="1415" y="356"/>
                        <a:pt x="1434" y="311"/>
                        <a:pt x="1394" y="298"/>
                      </a:cubicBezTo>
                      <a:cubicBezTo>
                        <a:pt x="1379" y="344"/>
                        <a:pt x="1398" y="325"/>
                        <a:pt x="1318" y="330"/>
                      </a:cubicBezTo>
                      <a:cubicBezTo>
                        <a:pt x="1310" y="353"/>
                        <a:pt x="1328" y="377"/>
                        <a:pt x="1302" y="394"/>
                      </a:cubicBezTo>
                      <a:cubicBezTo>
                        <a:pt x="1295" y="414"/>
                        <a:pt x="1310" y="415"/>
                        <a:pt x="1318" y="398"/>
                      </a:cubicBezTo>
                      <a:cubicBezTo>
                        <a:pt x="1325" y="383"/>
                        <a:pt x="1324" y="368"/>
                        <a:pt x="1334" y="354"/>
                      </a:cubicBezTo>
                      <a:cubicBezTo>
                        <a:pt x="1337" y="354"/>
                        <a:pt x="1399" y="362"/>
                        <a:pt x="1362" y="374"/>
                      </a:cubicBezTo>
                      <a:cubicBezTo>
                        <a:pt x="1379" y="385"/>
                        <a:pt x="1385" y="403"/>
                        <a:pt x="1402" y="414"/>
                      </a:cubicBezTo>
                      <a:cubicBezTo>
                        <a:pt x="1433" y="404"/>
                        <a:pt x="1411" y="396"/>
                        <a:pt x="1450" y="402"/>
                      </a:cubicBezTo>
                      <a:cubicBezTo>
                        <a:pt x="1456" y="419"/>
                        <a:pt x="1452" y="424"/>
                        <a:pt x="1442" y="438"/>
                      </a:cubicBezTo>
                      <a:cubicBezTo>
                        <a:pt x="1439" y="457"/>
                        <a:pt x="1441" y="478"/>
                        <a:pt x="1418" y="470"/>
                      </a:cubicBezTo>
                      <a:cubicBezTo>
                        <a:pt x="1417" y="459"/>
                        <a:pt x="1419" y="447"/>
                        <a:pt x="1414" y="438"/>
                      </a:cubicBezTo>
                      <a:cubicBezTo>
                        <a:pt x="1412" y="434"/>
                        <a:pt x="1406" y="442"/>
                        <a:pt x="1402" y="442"/>
                      </a:cubicBezTo>
                      <a:cubicBezTo>
                        <a:pt x="1398" y="442"/>
                        <a:pt x="1394" y="440"/>
                        <a:pt x="1390" y="438"/>
                      </a:cubicBezTo>
                      <a:cubicBezTo>
                        <a:pt x="1382" y="433"/>
                        <a:pt x="1366" y="422"/>
                        <a:pt x="1366" y="422"/>
                      </a:cubicBezTo>
                      <a:cubicBezTo>
                        <a:pt x="1345" y="427"/>
                        <a:pt x="1333" y="442"/>
                        <a:pt x="1314" y="454"/>
                      </a:cubicBezTo>
                      <a:cubicBezTo>
                        <a:pt x="1303" y="461"/>
                        <a:pt x="1286" y="462"/>
                        <a:pt x="1274" y="466"/>
                      </a:cubicBezTo>
                      <a:cubicBezTo>
                        <a:pt x="1262" y="485"/>
                        <a:pt x="1273" y="484"/>
                        <a:pt x="1290" y="490"/>
                      </a:cubicBezTo>
                      <a:cubicBezTo>
                        <a:pt x="1273" y="501"/>
                        <a:pt x="1271" y="491"/>
                        <a:pt x="1254" y="502"/>
                      </a:cubicBezTo>
                      <a:cubicBezTo>
                        <a:pt x="1245" y="501"/>
                        <a:pt x="1234" y="504"/>
                        <a:pt x="1226" y="498"/>
                      </a:cubicBezTo>
                      <a:cubicBezTo>
                        <a:pt x="1222" y="495"/>
                        <a:pt x="1236" y="495"/>
                        <a:pt x="1238" y="490"/>
                      </a:cubicBezTo>
                      <a:cubicBezTo>
                        <a:pt x="1244" y="473"/>
                        <a:pt x="1196" y="435"/>
                        <a:pt x="1230" y="458"/>
                      </a:cubicBezTo>
                      <a:cubicBezTo>
                        <a:pt x="1249" y="486"/>
                        <a:pt x="1249" y="450"/>
                        <a:pt x="1226" y="442"/>
                      </a:cubicBezTo>
                      <a:cubicBezTo>
                        <a:pt x="1223" y="433"/>
                        <a:pt x="1224" y="424"/>
                        <a:pt x="1210" y="426"/>
                      </a:cubicBezTo>
                      <a:cubicBezTo>
                        <a:pt x="1202" y="427"/>
                        <a:pt x="1186" y="434"/>
                        <a:pt x="1186" y="434"/>
                      </a:cubicBezTo>
                      <a:cubicBezTo>
                        <a:pt x="1178" y="457"/>
                        <a:pt x="1187" y="442"/>
                        <a:pt x="1174" y="434"/>
                      </a:cubicBezTo>
                      <a:cubicBezTo>
                        <a:pt x="1169" y="431"/>
                        <a:pt x="1163" y="431"/>
                        <a:pt x="1158" y="430"/>
                      </a:cubicBezTo>
                      <a:cubicBezTo>
                        <a:pt x="1149" y="404"/>
                        <a:pt x="1123" y="394"/>
                        <a:pt x="1098" y="386"/>
                      </a:cubicBezTo>
                      <a:cubicBezTo>
                        <a:pt x="1079" y="391"/>
                        <a:pt x="1078" y="399"/>
                        <a:pt x="1062" y="410"/>
                      </a:cubicBezTo>
                      <a:cubicBezTo>
                        <a:pt x="1030" y="399"/>
                        <a:pt x="1046" y="403"/>
                        <a:pt x="1014" y="398"/>
                      </a:cubicBezTo>
                      <a:cubicBezTo>
                        <a:pt x="1006" y="399"/>
                        <a:pt x="998" y="403"/>
                        <a:pt x="990" y="402"/>
                      </a:cubicBezTo>
                      <a:cubicBezTo>
                        <a:pt x="962" y="399"/>
                        <a:pt x="966" y="350"/>
                        <a:pt x="950" y="334"/>
                      </a:cubicBezTo>
                      <a:cubicBezTo>
                        <a:pt x="936" y="320"/>
                        <a:pt x="929" y="319"/>
                        <a:pt x="914" y="314"/>
                      </a:cubicBezTo>
                      <a:cubicBezTo>
                        <a:pt x="889" y="322"/>
                        <a:pt x="910" y="334"/>
                        <a:pt x="886" y="326"/>
                      </a:cubicBezTo>
                      <a:cubicBezTo>
                        <a:pt x="869" y="300"/>
                        <a:pt x="843" y="290"/>
                        <a:pt x="818" y="274"/>
                      </a:cubicBezTo>
                      <a:cubicBezTo>
                        <a:pt x="824" y="256"/>
                        <a:pt x="820" y="245"/>
                        <a:pt x="810" y="230"/>
                      </a:cubicBezTo>
                      <a:cubicBezTo>
                        <a:pt x="778" y="241"/>
                        <a:pt x="823" y="222"/>
                        <a:pt x="794" y="258"/>
                      </a:cubicBezTo>
                      <a:cubicBezTo>
                        <a:pt x="788" y="265"/>
                        <a:pt x="778" y="250"/>
                        <a:pt x="770" y="246"/>
                      </a:cubicBezTo>
                      <a:cubicBezTo>
                        <a:pt x="762" y="243"/>
                        <a:pt x="746" y="238"/>
                        <a:pt x="746" y="238"/>
                      </a:cubicBezTo>
                      <a:cubicBezTo>
                        <a:pt x="742" y="212"/>
                        <a:pt x="742" y="210"/>
                        <a:pt x="718" y="202"/>
                      </a:cubicBezTo>
                      <a:cubicBezTo>
                        <a:pt x="698" y="206"/>
                        <a:pt x="689" y="206"/>
                        <a:pt x="682" y="226"/>
                      </a:cubicBezTo>
                      <a:cubicBezTo>
                        <a:pt x="664" y="220"/>
                        <a:pt x="651" y="212"/>
                        <a:pt x="634" y="206"/>
                      </a:cubicBezTo>
                      <a:cubicBezTo>
                        <a:pt x="640" y="189"/>
                        <a:pt x="644" y="171"/>
                        <a:pt x="650" y="154"/>
                      </a:cubicBezTo>
                      <a:cubicBezTo>
                        <a:pt x="632" y="148"/>
                        <a:pt x="628" y="151"/>
                        <a:pt x="618" y="166"/>
                      </a:cubicBezTo>
                      <a:cubicBezTo>
                        <a:pt x="610" y="163"/>
                        <a:pt x="602" y="161"/>
                        <a:pt x="594" y="158"/>
                      </a:cubicBezTo>
                      <a:cubicBezTo>
                        <a:pt x="590" y="157"/>
                        <a:pt x="582" y="154"/>
                        <a:pt x="582" y="154"/>
                      </a:cubicBezTo>
                      <a:cubicBezTo>
                        <a:pt x="591" y="191"/>
                        <a:pt x="578" y="153"/>
                        <a:pt x="598" y="178"/>
                      </a:cubicBezTo>
                      <a:cubicBezTo>
                        <a:pt x="601" y="181"/>
                        <a:pt x="606" y="189"/>
                        <a:pt x="602" y="190"/>
                      </a:cubicBezTo>
                      <a:cubicBezTo>
                        <a:pt x="591" y="192"/>
                        <a:pt x="570" y="182"/>
                        <a:pt x="570" y="182"/>
                      </a:cubicBezTo>
                      <a:cubicBezTo>
                        <a:pt x="553" y="171"/>
                        <a:pt x="538" y="165"/>
                        <a:pt x="522" y="154"/>
                      </a:cubicBezTo>
                      <a:cubicBezTo>
                        <a:pt x="506" y="131"/>
                        <a:pt x="487" y="137"/>
                        <a:pt x="522" y="114"/>
                      </a:cubicBezTo>
                      <a:cubicBezTo>
                        <a:pt x="521" y="109"/>
                        <a:pt x="522" y="101"/>
                        <a:pt x="518" y="98"/>
                      </a:cubicBezTo>
                      <a:cubicBezTo>
                        <a:pt x="515" y="95"/>
                        <a:pt x="510" y="104"/>
                        <a:pt x="506" y="102"/>
                      </a:cubicBezTo>
                      <a:cubicBezTo>
                        <a:pt x="502" y="100"/>
                        <a:pt x="505" y="93"/>
                        <a:pt x="502" y="90"/>
                      </a:cubicBezTo>
                      <a:cubicBezTo>
                        <a:pt x="499" y="87"/>
                        <a:pt x="494" y="87"/>
                        <a:pt x="490" y="86"/>
                      </a:cubicBezTo>
                      <a:cubicBezTo>
                        <a:pt x="482" y="89"/>
                        <a:pt x="474" y="91"/>
                        <a:pt x="466" y="94"/>
                      </a:cubicBezTo>
                      <a:cubicBezTo>
                        <a:pt x="462" y="95"/>
                        <a:pt x="454" y="98"/>
                        <a:pt x="454" y="98"/>
                      </a:cubicBezTo>
                      <a:cubicBezTo>
                        <a:pt x="461" y="118"/>
                        <a:pt x="454" y="118"/>
                        <a:pt x="442" y="134"/>
                      </a:cubicBezTo>
                      <a:cubicBezTo>
                        <a:pt x="436" y="142"/>
                        <a:pt x="426" y="158"/>
                        <a:pt x="426" y="158"/>
                      </a:cubicBezTo>
                      <a:cubicBezTo>
                        <a:pt x="419" y="188"/>
                        <a:pt x="441" y="225"/>
                        <a:pt x="410" y="246"/>
                      </a:cubicBezTo>
                      <a:cubicBezTo>
                        <a:pt x="409" y="250"/>
                        <a:pt x="410" y="256"/>
                        <a:pt x="406" y="258"/>
                      </a:cubicBezTo>
                      <a:cubicBezTo>
                        <a:pt x="398" y="262"/>
                        <a:pt x="385" y="244"/>
                        <a:pt x="382" y="242"/>
                      </a:cubicBezTo>
                      <a:cubicBezTo>
                        <a:pt x="371" y="236"/>
                        <a:pt x="351" y="233"/>
                        <a:pt x="338" y="230"/>
                      </a:cubicBezTo>
                      <a:cubicBezTo>
                        <a:pt x="330" y="231"/>
                        <a:pt x="322" y="231"/>
                        <a:pt x="314" y="234"/>
                      </a:cubicBezTo>
                      <a:cubicBezTo>
                        <a:pt x="309" y="236"/>
                        <a:pt x="307" y="243"/>
                        <a:pt x="302" y="242"/>
                      </a:cubicBezTo>
                      <a:cubicBezTo>
                        <a:pt x="298" y="241"/>
                        <a:pt x="301" y="233"/>
                        <a:pt x="298" y="230"/>
                      </a:cubicBezTo>
                      <a:cubicBezTo>
                        <a:pt x="292" y="223"/>
                        <a:pt x="282" y="221"/>
                        <a:pt x="274" y="218"/>
                      </a:cubicBezTo>
                      <a:cubicBezTo>
                        <a:pt x="262" y="237"/>
                        <a:pt x="261" y="246"/>
                        <a:pt x="238" y="254"/>
                      </a:cubicBezTo>
                      <a:cubicBezTo>
                        <a:pt x="230" y="229"/>
                        <a:pt x="250" y="241"/>
                        <a:pt x="234" y="218"/>
                      </a:cubicBezTo>
                      <a:cubicBezTo>
                        <a:pt x="220" y="227"/>
                        <a:pt x="211" y="234"/>
                        <a:pt x="206" y="250"/>
                      </a:cubicBezTo>
                      <a:cubicBezTo>
                        <a:pt x="212" y="274"/>
                        <a:pt x="208" y="277"/>
                        <a:pt x="234" y="282"/>
                      </a:cubicBezTo>
                      <a:cubicBezTo>
                        <a:pt x="236" y="289"/>
                        <a:pt x="245" y="302"/>
                        <a:pt x="226" y="302"/>
                      </a:cubicBezTo>
                      <a:cubicBezTo>
                        <a:pt x="218" y="302"/>
                        <a:pt x="202" y="294"/>
                        <a:pt x="202" y="294"/>
                      </a:cubicBezTo>
                      <a:cubicBezTo>
                        <a:pt x="184" y="321"/>
                        <a:pt x="148" y="329"/>
                        <a:pt x="122" y="346"/>
                      </a:cubicBezTo>
                      <a:cubicBezTo>
                        <a:pt x="116" y="364"/>
                        <a:pt x="99" y="371"/>
                        <a:pt x="82" y="378"/>
                      </a:cubicBezTo>
                      <a:cubicBezTo>
                        <a:pt x="74" y="381"/>
                        <a:pt x="58" y="386"/>
                        <a:pt x="58" y="386"/>
                      </a:cubicBezTo>
                      <a:cubicBezTo>
                        <a:pt x="26" y="375"/>
                        <a:pt x="82" y="375"/>
                        <a:pt x="86" y="374"/>
                      </a:cubicBezTo>
                      <a:cubicBezTo>
                        <a:pt x="96" y="360"/>
                        <a:pt x="104" y="359"/>
                        <a:pt x="118" y="350"/>
                      </a:cubicBezTo>
                      <a:cubicBezTo>
                        <a:pt x="132" y="329"/>
                        <a:pt x="145" y="318"/>
                        <a:pt x="170" y="314"/>
                      </a:cubicBezTo>
                      <a:cubicBezTo>
                        <a:pt x="172" y="309"/>
                        <a:pt x="178" y="290"/>
                        <a:pt x="178" y="286"/>
                      </a:cubicBezTo>
                      <a:cubicBezTo>
                        <a:pt x="177" y="278"/>
                        <a:pt x="170" y="262"/>
                        <a:pt x="170" y="262"/>
                      </a:cubicBezTo>
                      <a:cubicBezTo>
                        <a:pt x="146" y="265"/>
                        <a:pt x="134" y="263"/>
                        <a:pt x="126" y="286"/>
                      </a:cubicBezTo>
                      <a:cubicBezTo>
                        <a:pt x="92" y="275"/>
                        <a:pt x="141" y="296"/>
                        <a:pt x="118" y="258"/>
                      </a:cubicBezTo>
                      <a:cubicBezTo>
                        <a:pt x="114" y="251"/>
                        <a:pt x="102" y="253"/>
                        <a:pt x="94" y="250"/>
                      </a:cubicBezTo>
                      <a:cubicBezTo>
                        <a:pt x="90" y="249"/>
                        <a:pt x="82" y="246"/>
                        <a:pt x="82" y="246"/>
                      </a:cubicBezTo>
                      <a:cubicBezTo>
                        <a:pt x="65" y="258"/>
                        <a:pt x="54" y="250"/>
                        <a:pt x="34" y="246"/>
                      </a:cubicBezTo>
                      <a:cubicBezTo>
                        <a:pt x="66" y="235"/>
                        <a:pt x="90" y="253"/>
                        <a:pt x="62" y="210"/>
                      </a:cubicBezTo>
                      <a:cubicBezTo>
                        <a:pt x="68" y="192"/>
                        <a:pt x="76" y="191"/>
                        <a:pt x="94" y="186"/>
                      </a:cubicBezTo>
                      <a:cubicBezTo>
                        <a:pt x="92" y="175"/>
                        <a:pt x="95" y="160"/>
                        <a:pt x="78" y="162"/>
                      </a:cubicBezTo>
                      <a:cubicBezTo>
                        <a:pt x="70" y="163"/>
                        <a:pt x="54" y="170"/>
                        <a:pt x="54" y="170"/>
                      </a:cubicBezTo>
                      <a:cubicBezTo>
                        <a:pt x="41" y="166"/>
                        <a:pt x="18" y="150"/>
                        <a:pt x="18" y="150"/>
                      </a:cubicBezTo>
                      <a:cubicBezTo>
                        <a:pt x="12" y="131"/>
                        <a:pt x="22" y="131"/>
                        <a:pt x="38" y="126"/>
                      </a:cubicBezTo>
                      <a:cubicBezTo>
                        <a:pt x="46" y="129"/>
                        <a:pt x="54" y="131"/>
                        <a:pt x="62" y="134"/>
                      </a:cubicBezTo>
                      <a:cubicBezTo>
                        <a:pt x="70" y="137"/>
                        <a:pt x="86" y="126"/>
                        <a:pt x="86" y="126"/>
                      </a:cubicBezTo>
                      <a:cubicBezTo>
                        <a:pt x="69" y="109"/>
                        <a:pt x="56" y="117"/>
                        <a:pt x="30" y="114"/>
                      </a:cubicBezTo>
                      <a:cubicBezTo>
                        <a:pt x="17" y="110"/>
                        <a:pt x="0" y="99"/>
                        <a:pt x="14" y="82"/>
                      </a:cubicBezTo>
                      <a:cubicBezTo>
                        <a:pt x="20" y="75"/>
                        <a:pt x="31" y="76"/>
                        <a:pt x="38" y="70"/>
                      </a:cubicBezTo>
                      <a:cubicBezTo>
                        <a:pt x="69" y="44"/>
                        <a:pt x="32" y="70"/>
                        <a:pt x="62" y="50"/>
                      </a:cubicBezTo>
                      <a:cubicBezTo>
                        <a:pt x="72" y="34"/>
                        <a:pt x="65" y="40"/>
                        <a:pt x="82" y="3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873400" y="1577160"/>
                  <a:ext cx="1050480" cy="597240"/>
                </a:xfrm>
                <a:custGeom>
                  <a:avLst/>
                  <a:gdLst/>
                  <a:ahLst/>
                  <a:rect l="l" t="t" r="r" b="b"/>
                  <a:pathLst>
                    <a:path w="602" h="336">
                      <a:moveTo>
                        <a:pt x="312" y="336"/>
                      </a:moveTo>
                      <a:cubicBezTo>
                        <a:pt x="279" y="314"/>
                        <a:pt x="238" y="290"/>
                        <a:pt x="200" y="280"/>
                      </a:cubicBezTo>
                      <a:cubicBezTo>
                        <a:pt x="197" y="276"/>
                        <a:pt x="193" y="273"/>
                        <a:pt x="192" y="268"/>
                      </a:cubicBezTo>
                      <a:cubicBezTo>
                        <a:pt x="191" y="264"/>
                        <a:pt x="199" y="259"/>
                        <a:pt x="196" y="256"/>
                      </a:cubicBezTo>
                      <a:cubicBezTo>
                        <a:pt x="191" y="251"/>
                        <a:pt x="183" y="254"/>
                        <a:pt x="176" y="252"/>
                      </a:cubicBezTo>
                      <a:cubicBezTo>
                        <a:pt x="152" y="245"/>
                        <a:pt x="157" y="247"/>
                        <a:pt x="140" y="236"/>
                      </a:cubicBezTo>
                      <a:cubicBezTo>
                        <a:pt x="136" y="237"/>
                        <a:pt x="128" y="236"/>
                        <a:pt x="128" y="240"/>
                      </a:cubicBezTo>
                      <a:cubicBezTo>
                        <a:pt x="128" y="240"/>
                        <a:pt x="153" y="255"/>
                        <a:pt x="148" y="260"/>
                      </a:cubicBezTo>
                      <a:cubicBezTo>
                        <a:pt x="144" y="264"/>
                        <a:pt x="137" y="257"/>
                        <a:pt x="132" y="256"/>
                      </a:cubicBezTo>
                      <a:cubicBezTo>
                        <a:pt x="117" y="241"/>
                        <a:pt x="102" y="238"/>
                        <a:pt x="124" y="224"/>
                      </a:cubicBezTo>
                      <a:cubicBezTo>
                        <a:pt x="119" y="203"/>
                        <a:pt x="122" y="197"/>
                        <a:pt x="100" y="192"/>
                      </a:cubicBezTo>
                      <a:cubicBezTo>
                        <a:pt x="76" y="155"/>
                        <a:pt x="41" y="162"/>
                        <a:pt x="8" y="140"/>
                      </a:cubicBezTo>
                      <a:cubicBezTo>
                        <a:pt x="18" y="111"/>
                        <a:pt x="14" y="124"/>
                        <a:pt x="20" y="100"/>
                      </a:cubicBezTo>
                      <a:cubicBezTo>
                        <a:pt x="14" y="68"/>
                        <a:pt x="0" y="25"/>
                        <a:pt x="32" y="4"/>
                      </a:cubicBezTo>
                      <a:cubicBezTo>
                        <a:pt x="49" y="10"/>
                        <a:pt x="62" y="3"/>
                        <a:pt x="80" y="0"/>
                      </a:cubicBezTo>
                      <a:cubicBezTo>
                        <a:pt x="89" y="28"/>
                        <a:pt x="80" y="27"/>
                        <a:pt x="100" y="20"/>
                      </a:cubicBezTo>
                      <a:cubicBezTo>
                        <a:pt x="108" y="23"/>
                        <a:pt x="116" y="25"/>
                        <a:pt x="124" y="28"/>
                      </a:cubicBezTo>
                      <a:cubicBezTo>
                        <a:pt x="128" y="29"/>
                        <a:pt x="136" y="32"/>
                        <a:pt x="136" y="32"/>
                      </a:cubicBezTo>
                      <a:cubicBezTo>
                        <a:pt x="143" y="53"/>
                        <a:pt x="167" y="65"/>
                        <a:pt x="188" y="72"/>
                      </a:cubicBezTo>
                      <a:cubicBezTo>
                        <a:pt x="187" y="77"/>
                        <a:pt x="182" y="83"/>
                        <a:pt x="184" y="88"/>
                      </a:cubicBezTo>
                      <a:cubicBezTo>
                        <a:pt x="188" y="100"/>
                        <a:pt x="220" y="104"/>
                        <a:pt x="220" y="104"/>
                      </a:cubicBezTo>
                      <a:cubicBezTo>
                        <a:pt x="243" y="89"/>
                        <a:pt x="271" y="102"/>
                        <a:pt x="292" y="116"/>
                      </a:cubicBezTo>
                      <a:cubicBezTo>
                        <a:pt x="296" y="127"/>
                        <a:pt x="294" y="132"/>
                        <a:pt x="308" y="132"/>
                      </a:cubicBezTo>
                      <a:cubicBezTo>
                        <a:pt x="322" y="132"/>
                        <a:pt x="344" y="112"/>
                        <a:pt x="344" y="112"/>
                      </a:cubicBezTo>
                      <a:cubicBezTo>
                        <a:pt x="356" y="120"/>
                        <a:pt x="368" y="128"/>
                        <a:pt x="380" y="136"/>
                      </a:cubicBezTo>
                      <a:cubicBezTo>
                        <a:pt x="387" y="141"/>
                        <a:pt x="404" y="144"/>
                        <a:pt x="404" y="144"/>
                      </a:cubicBezTo>
                      <a:cubicBezTo>
                        <a:pt x="410" y="162"/>
                        <a:pt x="418" y="163"/>
                        <a:pt x="436" y="168"/>
                      </a:cubicBezTo>
                      <a:cubicBezTo>
                        <a:pt x="449" y="177"/>
                        <a:pt x="457" y="187"/>
                        <a:pt x="472" y="192"/>
                      </a:cubicBezTo>
                      <a:cubicBezTo>
                        <a:pt x="479" y="199"/>
                        <a:pt x="484" y="209"/>
                        <a:pt x="492" y="216"/>
                      </a:cubicBezTo>
                      <a:cubicBezTo>
                        <a:pt x="503" y="225"/>
                        <a:pt x="538" y="239"/>
                        <a:pt x="552" y="244"/>
                      </a:cubicBezTo>
                      <a:cubicBezTo>
                        <a:pt x="570" y="271"/>
                        <a:pt x="548" y="260"/>
                        <a:pt x="536" y="252"/>
                      </a:cubicBezTo>
                      <a:cubicBezTo>
                        <a:pt x="526" y="238"/>
                        <a:pt x="518" y="237"/>
                        <a:pt x="504" y="228"/>
                      </a:cubicBezTo>
                      <a:cubicBezTo>
                        <a:pt x="503" y="225"/>
                        <a:pt x="497" y="197"/>
                        <a:pt x="492" y="228"/>
                      </a:cubicBezTo>
                      <a:cubicBezTo>
                        <a:pt x="491" y="237"/>
                        <a:pt x="510" y="260"/>
                        <a:pt x="516" y="264"/>
                      </a:cubicBezTo>
                      <a:cubicBezTo>
                        <a:pt x="533" y="275"/>
                        <a:pt x="568" y="275"/>
                        <a:pt x="584" y="276"/>
                      </a:cubicBezTo>
                      <a:cubicBezTo>
                        <a:pt x="601" y="282"/>
                        <a:pt x="602" y="287"/>
                        <a:pt x="596" y="304"/>
                      </a:cubicBezTo>
                      <a:cubicBezTo>
                        <a:pt x="579" y="298"/>
                        <a:pt x="566" y="308"/>
                        <a:pt x="548" y="308"/>
                      </a:cubicBezTo>
                      <a:lnTo>
                        <a:pt x="312" y="336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153400" y="1705680"/>
                  <a:ext cx="57600" cy="4356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28" y="20"/>
                      </a:moveTo>
                      <a:cubicBezTo>
                        <a:pt x="12" y="15"/>
                        <a:pt x="0" y="8"/>
                        <a:pt x="24" y="0"/>
                      </a:cubicBezTo>
                      <a:cubicBezTo>
                        <a:pt x="27" y="4"/>
                        <a:pt x="31" y="7"/>
                        <a:pt x="32" y="12"/>
                      </a:cubicBezTo>
                      <a:cubicBezTo>
                        <a:pt x="33" y="16"/>
                        <a:pt x="30" y="20"/>
                        <a:pt x="28" y="24"/>
                      </a:cubicBezTo>
                      <a:cubicBezTo>
                        <a:pt x="27" y="25"/>
                        <a:pt x="28" y="21"/>
                        <a:pt x="28" y="2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885200" y="1464120"/>
                  <a:ext cx="87120" cy="2808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34" y="16"/>
                      </a:moveTo>
                      <a:cubicBezTo>
                        <a:pt x="0" y="8"/>
                        <a:pt x="27" y="5"/>
                        <a:pt x="42" y="0"/>
                      </a:cubicBezTo>
                      <a:cubicBezTo>
                        <a:pt x="47" y="16"/>
                        <a:pt x="50" y="11"/>
                        <a:pt x="34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859640" y="2027520"/>
                  <a:ext cx="66240" cy="6624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21" y="23"/>
                      </a:moveTo>
                      <a:cubicBezTo>
                        <a:pt x="0" y="9"/>
                        <a:pt x="9" y="0"/>
                        <a:pt x="29" y="7"/>
                      </a:cubicBezTo>
                      <a:cubicBezTo>
                        <a:pt x="32" y="11"/>
                        <a:pt x="38" y="14"/>
                        <a:pt x="37" y="19"/>
                      </a:cubicBezTo>
                      <a:cubicBezTo>
                        <a:pt x="33" y="38"/>
                        <a:pt x="25" y="27"/>
                        <a:pt x="21" y="2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951440" y="2046240"/>
                  <a:ext cx="40680" cy="3636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12" y="16"/>
                      </a:moveTo>
                      <a:cubicBezTo>
                        <a:pt x="9" y="12"/>
                        <a:pt x="1" y="7"/>
                        <a:pt x="4" y="4"/>
                      </a:cubicBezTo>
                      <a:cubicBezTo>
                        <a:pt x="8" y="0"/>
                        <a:pt x="17" y="4"/>
                        <a:pt x="20" y="8"/>
                      </a:cubicBezTo>
                      <a:cubicBezTo>
                        <a:pt x="23" y="11"/>
                        <a:pt x="17" y="16"/>
                        <a:pt x="16" y="20"/>
                      </a:cubicBezTo>
                      <a:cubicBezTo>
                        <a:pt x="2" y="10"/>
                        <a:pt x="0" y="10"/>
                        <a:pt x="12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434840" y="2229840"/>
                  <a:ext cx="72000" cy="522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197240" y="1299960"/>
                  <a:ext cx="272160" cy="98640"/>
                </a:xfrm>
                <a:custGeom>
                  <a:avLst/>
                  <a:gdLst/>
                  <a:ahLst/>
                  <a:rect l="l" t="t" r="r" b="b"/>
                  <a:pathLst>
                    <a:path w="156" h="56">
                      <a:moveTo>
                        <a:pt x="16" y="32"/>
                      </a:moveTo>
                      <a:cubicBezTo>
                        <a:pt x="4" y="13"/>
                        <a:pt x="6" y="5"/>
                        <a:pt x="28" y="0"/>
                      </a:cubicBezTo>
                      <a:cubicBezTo>
                        <a:pt x="57" y="10"/>
                        <a:pt x="44" y="6"/>
                        <a:pt x="68" y="12"/>
                      </a:cubicBezTo>
                      <a:cubicBezTo>
                        <a:pt x="85" y="24"/>
                        <a:pt x="110" y="17"/>
                        <a:pt x="132" y="20"/>
                      </a:cubicBezTo>
                      <a:cubicBezTo>
                        <a:pt x="156" y="56"/>
                        <a:pt x="115" y="35"/>
                        <a:pt x="104" y="28"/>
                      </a:cubicBezTo>
                      <a:cubicBezTo>
                        <a:pt x="71" y="39"/>
                        <a:pt x="123" y="24"/>
                        <a:pt x="56" y="28"/>
                      </a:cubicBezTo>
                      <a:cubicBezTo>
                        <a:pt x="48" y="29"/>
                        <a:pt x="32" y="36"/>
                        <a:pt x="32" y="36"/>
                      </a:cubicBezTo>
                      <a:cubicBezTo>
                        <a:pt x="5" y="27"/>
                        <a:pt x="0" y="24"/>
                        <a:pt x="16" y="3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552120" y="1122120"/>
                  <a:ext cx="122400" cy="46440"/>
                </a:xfrm>
                <a:custGeom>
                  <a:avLst/>
                  <a:gdLst/>
                  <a:ahLst/>
                  <a:rect l="l" t="t" r="r" b="b"/>
                  <a:pathLst>
                    <a:path w="71" h="26">
                      <a:moveTo>
                        <a:pt x="54" y="16"/>
                      </a:moveTo>
                      <a:cubicBezTo>
                        <a:pt x="29" y="24"/>
                        <a:pt x="0" y="14"/>
                        <a:pt x="42" y="0"/>
                      </a:cubicBezTo>
                      <a:cubicBezTo>
                        <a:pt x="50" y="3"/>
                        <a:pt x="58" y="5"/>
                        <a:pt x="66" y="8"/>
                      </a:cubicBezTo>
                      <a:cubicBezTo>
                        <a:pt x="71" y="10"/>
                        <a:pt x="67" y="21"/>
                        <a:pt x="62" y="24"/>
                      </a:cubicBezTo>
                      <a:cubicBezTo>
                        <a:pt x="59" y="26"/>
                        <a:pt x="57" y="19"/>
                        <a:pt x="54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597120" y="1164600"/>
                  <a:ext cx="114120" cy="70200"/>
                </a:xfrm>
                <a:custGeom>
                  <a:avLst/>
                  <a:gdLst/>
                  <a:ahLst/>
                  <a:rect l="l" t="t" r="r" b="b"/>
                  <a:pathLst>
                    <a:path w="66" h="40">
                      <a:moveTo>
                        <a:pt x="0" y="12"/>
                      </a:moveTo>
                      <a:cubicBezTo>
                        <a:pt x="23" y="9"/>
                        <a:pt x="39" y="3"/>
                        <a:pt x="60" y="8"/>
                      </a:cubicBezTo>
                      <a:cubicBezTo>
                        <a:pt x="66" y="26"/>
                        <a:pt x="59" y="30"/>
                        <a:pt x="44" y="40"/>
                      </a:cubicBezTo>
                      <a:cubicBezTo>
                        <a:pt x="27" y="34"/>
                        <a:pt x="17" y="33"/>
                        <a:pt x="4" y="20"/>
                      </a:cubicBezTo>
                      <a:cubicBezTo>
                        <a:pt x="9" y="0"/>
                        <a:pt x="12" y="0"/>
                        <a:pt x="0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694680" y="1206720"/>
                  <a:ext cx="95760" cy="5076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0" y="20"/>
                      </a:moveTo>
                      <a:cubicBezTo>
                        <a:pt x="4" y="16"/>
                        <a:pt x="7" y="11"/>
                        <a:pt x="12" y="8"/>
                      </a:cubicBezTo>
                      <a:cubicBezTo>
                        <a:pt x="19" y="4"/>
                        <a:pt x="36" y="0"/>
                        <a:pt x="36" y="0"/>
                      </a:cubicBezTo>
                      <a:cubicBezTo>
                        <a:pt x="55" y="28"/>
                        <a:pt x="18" y="16"/>
                        <a:pt x="0" y="2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423880" y="1264680"/>
                  <a:ext cx="2773080" cy="1599120"/>
                </a:xfrm>
                <a:custGeom>
                  <a:avLst/>
                  <a:gdLst/>
                  <a:ahLst/>
                  <a:rect l="l" t="t" r="r" b="b"/>
                  <a:pathLst>
                    <a:path w="1589" h="900">
                      <a:moveTo>
                        <a:pt x="240" y="144"/>
                      </a:moveTo>
                      <a:cubicBezTo>
                        <a:pt x="246" y="127"/>
                        <a:pt x="252" y="118"/>
                        <a:pt x="256" y="100"/>
                      </a:cubicBezTo>
                      <a:cubicBezTo>
                        <a:pt x="265" y="114"/>
                        <a:pt x="272" y="119"/>
                        <a:pt x="288" y="124"/>
                      </a:cubicBezTo>
                      <a:cubicBezTo>
                        <a:pt x="291" y="128"/>
                        <a:pt x="292" y="133"/>
                        <a:pt x="296" y="136"/>
                      </a:cubicBezTo>
                      <a:cubicBezTo>
                        <a:pt x="303" y="140"/>
                        <a:pt x="320" y="144"/>
                        <a:pt x="320" y="144"/>
                      </a:cubicBezTo>
                      <a:cubicBezTo>
                        <a:pt x="316" y="131"/>
                        <a:pt x="316" y="118"/>
                        <a:pt x="328" y="108"/>
                      </a:cubicBezTo>
                      <a:cubicBezTo>
                        <a:pt x="335" y="102"/>
                        <a:pt x="344" y="97"/>
                        <a:pt x="352" y="92"/>
                      </a:cubicBezTo>
                      <a:cubicBezTo>
                        <a:pt x="356" y="89"/>
                        <a:pt x="364" y="84"/>
                        <a:pt x="364" y="84"/>
                      </a:cubicBezTo>
                      <a:cubicBezTo>
                        <a:pt x="374" y="69"/>
                        <a:pt x="378" y="66"/>
                        <a:pt x="396" y="72"/>
                      </a:cubicBezTo>
                      <a:cubicBezTo>
                        <a:pt x="407" y="89"/>
                        <a:pt x="404" y="93"/>
                        <a:pt x="388" y="104"/>
                      </a:cubicBezTo>
                      <a:cubicBezTo>
                        <a:pt x="364" y="140"/>
                        <a:pt x="350" y="168"/>
                        <a:pt x="304" y="180"/>
                      </a:cubicBezTo>
                      <a:cubicBezTo>
                        <a:pt x="305" y="184"/>
                        <a:pt x="304" y="191"/>
                        <a:pt x="308" y="192"/>
                      </a:cubicBezTo>
                      <a:cubicBezTo>
                        <a:pt x="316" y="193"/>
                        <a:pt x="332" y="184"/>
                        <a:pt x="332" y="184"/>
                      </a:cubicBezTo>
                      <a:cubicBezTo>
                        <a:pt x="336" y="180"/>
                        <a:pt x="339" y="175"/>
                        <a:pt x="344" y="172"/>
                      </a:cubicBezTo>
                      <a:cubicBezTo>
                        <a:pt x="348" y="170"/>
                        <a:pt x="353" y="171"/>
                        <a:pt x="356" y="168"/>
                      </a:cubicBezTo>
                      <a:cubicBezTo>
                        <a:pt x="360" y="165"/>
                        <a:pt x="361" y="159"/>
                        <a:pt x="364" y="156"/>
                      </a:cubicBezTo>
                      <a:cubicBezTo>
                        <a:pt x="367" y="153"/>
                        <a:pt x="372" y="151"/>
                        <a:pt x="376" y="148"/>
                      </a:cubicBezTo>
                      <a:cubicBezTo>
                        <a:pt x="404" y="166"/>
                        <a:pt x="397" y="173"/>
                        <a:pt x="404" y="152"/>
                      </a:cubicBezTo>
                      <a:cubicBezTo>
                        <a:pt x="382" y="130"/>
                        <a:pt x="388" y="124"/>
                        <a:pt x="412" y="108"/>
                      </a:cubicBezTo>
                      <a:cubicBezTo>
                        <a:pt x="417" y="92"/>
                        <a:pt x="424" y="80"/>
                        <a:pt x="432" y="104"/>
                      </a:cubicBezTo>
                      <a:cubicBezTo>
                        <a:pt x="444" y="69"/>
                        <a:pt x="436" y="75"/>
                        <a:pt x="476" y="88"/>
                      </a:cubicBezTo>
                      <a:cubicBezTo>
                        <a:pt x="482" y="105"/>
                        <a:pt x="478" y="110"/>
                        <a:pt x="468" y="124"/>
                      </a:cubicBezTo>
                      <a:cubicBezTo>
                        <a:pt x="472" y="125"/>
                        <a:pt x="477" y="131"/>
                        <a:pt x="480" y="128"/>
                      </a:cubicBezTo>
                      <a:cubicBezTo>
                        <a:pt x="486" y="122"/>
                        <a:pt x="485" y="112"/>
                        <a:pt x="488" y="104"/>
                      </a:cubicBezTo>
                      <a:cubicBezTo>
                        <a:pt x="489" y="100"/>
                        <a:pt x="492" y="92"/>
                        <a:pt x="492" y="92"/>
                      </a:cubicBezTo>
                      <a:cubicBezTo>
                        <a:pt x="486" y="74"/>
                        <a:pt x="489" y="70"/>
                        <a:pt x="504" y="60"/>
                      </a:cubicBezTo>
                      <a:cubicBezTo>
                        <a:pt x="524" y="64"/>
                        <a:pt x="533" y="62"/>
                        <a:pt x="552" y="56"/>
                      </a:cubicBezTo>
                      <a:cubicBezTo>
                        <a:pt x="584" y="24"/>
                        <a:pt x="643" y="25"/>
                        <a:pt x="684" y="20"/>
                      </a:cubicBezTo>
                      <a:cubicBezTo>
                        <a:pt x="703" y="14"/>
                        <a:pt x="720" y="11"/>
                        <a:pt x="736" y="0"/>
                      </a:cubicBezTo>
                      <a:cubicBezTo>
                        <a:pt x="759" y="8"/>
                        <a:pt x="756" y="13"/>
                        <a:pt x="784" y="8"/>
                      </a:cubicBezTo>
                      <a:cubicBezTo>
                        <a:pt x="801" y="14"/>
                        <a:pt x="807" y="36"/>
                        <a:pt x="788" y="48"/>
                      </a:cubicBezTo>
                      <a:cubicBezTo>
                        <a:pt x="776" y="56"/>
                        <a:pt x="745" y="65"/>
                        <a:pt x="732" y="68"/>
                      </a:cubicBezTo>
                      <a:cubicBezTo>
                        <a:pt x="720" y="76"/>
                        <a:pt x="693" y="83"/>
                        <a:pt x="720" y="92"/>
                      </a:cubicBezTo>
                      <a:cubicBezTo>
                        <a:pt x="747" y="74"/>
                        <a:pt x="764" y="69"/>
                        <a:pt x="796" y="64"/>
                      </a:cubicBezTo>
                      <a:cubicBezTo>
                        <a:pt x="799" y="68"/>
                        <a:pt x="799" y="76"/>
                        <a:pt x="804" y="76"/>
                      </a:cubicBezTo>
                      <a:cubicBezTo>
                        <a:pt x="815" y="77"/>
                        <a:pt x="836" y="68"/>
                        <a:pt x="836" y="68"/>
                      </a:cubicBezTo>
                      <a:cubicBezTo>
                        <a:pt x="850" y="77"/>
                        <a:pt x="860" y="80"/>
                        <a:pt x="876" y="84"/>
                      </a:cubicBezTo>
                      <a:cubicBezTo>
                        <a:pt x="894" y="78"/>
                        <a:pt x="886" y="70"/>
                        <a:pt x="904" y="64"/>
                      </a:cubicBezTo>
                      <a:cubicBezTo>
                        <a:pt x="922" y="70"/>
                        <a:pt x="917" y="82"/>
                        <a:pt x="936" y="76"/>
                      </a:cubicBezTo>
                      <a:cubicBezTo>
                        <a:pt x="939" y="80"/>
                        <a:pt x="946" y="84"/>
                        <a:pt x="944" y="88"/>
                      </a:cubicBezTo>
                      <a:cubicBezTo>
                        <a:pt x="939" y="96"/>
                        <a:pt x="920" y="104"/>
                        <a:pt x="920" y="104"/>
                      </a:cubicBezTo>
                      <a:cubicBezTo>
                        <a:pt x="928" y="116"/>
                        <a:pt x="931" y="126"/>
                        <a:pt x="952" y="120"/>
                      </a:cubicBezTo>
                      <a:cubicBezTo>
                        <a:pt x="956" y="119"/>
                        <a:pt x="953" y="111"/>
                        <a:pt x="956" y="108"/>
                      </a:cubicBezTo>
                      <a:cubicBezTo>
                        <a:pt x="959" y="105"/>
                        <a:pt x="964" y="105"/>
                        <a:pt x="968" y="104"/>
                      </a:cubicBezTo>
                      <a:cubicBezTo>
                        <a:pt x="976" y="107"/>
                        <a:pt x="984" y="109"/>
                        <a:pt x="992" y="112"/>
                      </a:cubicBezTo>
                      <a:cubicBezTo>
                        <a:pt x="996" y="113"/>
                        <a:pt x="1004" y="116"/>
                        <a:pt x="1004" y="116"/>
                      </a:cubicBezTo>
                      <a:cubicBezTo>
                        <a:pt x="1019" y="111"/>
                        <a:pt x="1025" y="117"/>
                        <a:pt x="1040" y="112"/>
                      </a:cubicBezTo>
                      <a:cubicBezTo>
                        <a:pt x="1043" y="108"/>
                        <a:pt x="1049" y="105"/>
                        <a:pt x="1048" y="100"/>
                      </a:cubicBezTo>
                      <a:cubicBezTo>
                        <a:pt x="1047" y="95"/>
                        <a:pt x="1038" y="96"/>
                        <a:pt x="1036" y="92"/>
                      </a:cubicBezTo>
                      <a:cubicBezTo>
                        <a:pt x="1032" y="82"/>
                        <a:pt x="1047" y="75"/>
                        <a:pt x="1052" y="72"/>
                      </a:cubicBezTo>
                      <a:cubicBezTo>
                        <a:pt x="1067" y="77"/>
                        <a:pt x="1076" y="81"/>
                        <a:pt x="1092" y="76"/>
                      </a:cubicBezTo>
                      <a:cubicBezTo>
                        <a:pt x="1096" y="77"/>
                        <a:pt x="1107" y="77"/>
                        <a:pt x="1104" y="80"/>
                      </a:cubicBezTo>
                      <a:cubicBezTo>
                        <a:pt x="1098" y="86"/>
                        <a:pt x="1080" y="88"/>
                        <a:pt x="1080" y="88"/>
                      </a:cubicBezTo>
                      <a:cubicBezTo>
                        <a:pt x="1085" y="92"/>
                        <a:pt x="1100" y="99"/>
                        <a:pt x="1100" y="108"/>
                      </a:cubicBezTo>
                      <a:cubicBezTo>
                        <a:pt x="1100" y="113"/>
                        <a:pt x="1090" y="116"/>
                        <a:pt x="1092" y="120"/>
                      </a:cubicBezTo>
                      <a:cubicBezTo>
                        <a:pt x="1094" y="124"/>
                        <a:pt x="1100" y="117"/>
                        <a:pt x="1104" y="116"/>
                      </a:cubicBezTo>
                      <a:cubicBezTo>
                        <a:pt x="1115" y="82"/>
                        <a:pt x="1118" y="94"/>
                        <a:pt x="1148" y="100"/>
                      </a:cubicBezTo>
                      <a:cubicBezTo>
                        <a:pt x="1147" y="104"/>
                        <a:pt x="1142" y="109"/>
                        <a:pt x="1144" y="112"/>
                      </a:cubicBezTo>
                      <a:cubicBezTo>
                        <a:pt x="1150" y="120"/>
                        <a:pt x="1168" y="128"/>
                        <a:pt x="1168" y="128"/>
                      </a:cubicBezTo>
                      <a:cubicBezTo>
                        <a:pt x="1184" y="123"/>
                        <a:pt x="1201" y="124"/>
                        <a:pt x="1216" y="132"/>
                      </a:cubicBezTo>
                      <a:cubicBezTo>
                        <a:pt x="1224" y="137"/>
                        <a:pt x="1240" y="148"/>
                        <a:pt x="1240" y="148"/>
                      </a:cubicBezTo>
                      <a:cubicBezTo>
                        <a:pt x="1271" y="195"/>
                        <a:pt x="1247" y="173"/>
                        <a:pt x="1260" y="160"/>
                      </a:cubicBezTo>
                      <a:cubicBezTo>
                        <a:pt x="1268" y="152"/>
                        <a:pt x="1281" y="154"/>
                        <a:pt x="1292" y="152"/>
                      </a:cubicBezTo>
                      <a:cubicBezTo>
                        <a:pt x="1317" y="160"/>
                        <a:pt x="1305" y="140"/>
                        <a:pt x="1328" y="156"/>
                      </a:cubicBezTo>
                      <a:cubicBezTo>
                        <a:pt x="1330" y="163"/>
                        <a:pt x="1339" y="178"/>
                        <a:pt x="1344" y="172"/>
                      </a:cubicBezTo>
                      <a:cubicBezTo>
                        <a:pt x="1349" y="166"/>
                        <a:pt x="1344" y="155"/>
                        <a:pt x="1348" y="148"/>
                      </a:cubicBezTo>
                      <a:cubicBezTo>
                        <a:pt x="1350" y="144"/>
                        <a:pt x="1356" y="145"/>
                        <a:pt x="1360" y="144"/>
                      </a:cubicBezTo>
                      <a:cubicBezTo>
                        <a:pt x="1390" y="164"/>
                        <a:pt x="1362" y="148"/>
                        <a:pt x="1432" y="156"/>
                      </a:cubicBezTo>
                      <a:cubicBezTo>
                        <a:pt x="1456" y="159"/>
                        <a:pt x="1499" y="198"/>
                        <a:pt x="1528" y="208"/>
                      </a:cubicBezTo>
                      <a:cubicBezTo>
                        <a:pt x="1557" y="198"/>
                        <a:pt x="1531" y="222"/>
                        <a:pt x="1560" y="212"/>
                      </a:cubicBezTo>
                      <a:cubicBezTo>
                        <a:pt x="1589" y="222"/>
                        <a:pt x="1560" y="228"/>
                        <a:pt x="1548" y="232"/>
                      </a:cubicBezTo>
                      <a:cubicBezTo>
                        <a:pt x="1539" y="258"/>
                        <a:pt x="1527" y="238"/>
                        <a:pt x="1508" y="232"/>
                      </a:cubicBezTo>
                      <a:cubicBezTo>
                        <a:pt x="1500" y="229"/>
                        <a:pt x="1484" y="224"/>
                        <a:pt x="1484" y="224"/>
                      </a:cubicBezTo>
                      <a:cubicBezTo>
                        <a:pt x="1475" y="197"/>
                        <a:pt x="1475" y="232"/>
                        <a:pt x="1456" y="244"/>
                      </a:cubicBezTo>
                      <a:cubicBezTo>
                        <a:pt x="1460" y="257"/>
                        <a:pt x="1476" y="280"/>
                        <a:pt x="1476" y="280"/>
                      </a:cubicBezTo>
                      <a:cubicBezTo>
                        <a:pt x="1459" y="286"/>
                        <a:pt x="1443" y="281"/>
                        <a:pt x="1424" y="284"/>
                      </a:cubicBezTo>
                      <a:cubicBezTo>
                        <a:pt x="1386" y="297"/>
                        <a:pt x="1402" y="325"/>
                        <a:pt x="1368" y="336"/>
                      </a:cubicBezTo>
                      <a:cubicBezTo>
                        <a:pt x="1362" y="330"/>
                        <a:pt x="1354" y="319"/>
                        <a:pt x="1344" y="320"/>
                      </a:cubicBezTo>
                      <a:cubicBezTo>
                        <a:pt x="1336" y="321"/>
                        <a:pt x="1320" y="328"/>
                        <a:pt x="1320" y="328"/>
                      </a:cubicBezTo>
                      <a:cubicBezTo>
                        <a:pt x="1319" y="324"/>
                        <a:pt x="1320" y="314"/>
                        <a:pt x="1316" y="316"/>
                      </a:cubicBezTo>
                      <a:cubicBezTo>
                        <a:pt x="1303" y="324"/>
                        <a:pt x="1288" y="363"/>
                        <a:pt x="1284" y="376"/>
                      </a:cubicBezTo>
                      <a:cubicBezTo>
                        <a:pt x="1289" y="397"/>
                        <a:pt x="1281" y="412"/>
                        <a:pt x="1276" y="432"/>
                      </a:cubicBezTo>
                      <a:cubicBezTo>
                        <a:pt x="1272" y="429"/>
                        <a:pt x="1269" y="423"/>
                        <a:pt x="1264" y="424"/>
                      </a:cubicBezTo>
                      <a:cubicBezTo>
                        <a:pt x="1257" y="425"/>
                        <a:pt x="1255" y="444"/>
                        <a:pt x="1252" y="448"/>
                      </a:cubicBezTo>
                      <a:cubicBezTo>
                        <a:pt x="1242" y="464"/>
                        <a:pt x="1226" y="482"/>
                        <a:pt x="1208" y="488"/>
                      </a:cubicBezTo>
                      <a:cubicBezTo>
                        <a:pt x="1196" y="453"/>
                        <a:pt x="1197" y="382"/>
                        <a:pt x="1240" y="368"/>
                      </a:cubicBezTo>
                      <a:cubicBezTo>
                        <a:pt x="1251" y="351"/>
                        <a:pt x="1270" y="343"/>
                        <a:pt x="1280" y="324"/>
                      </a:cubicBezTo>
                      <a:cubicBezTo>
                        <a:pt x="1286" y="312"/>
                        <a:pt x="1300" y="288"/>
                        <a:pt x="1300" y="288"/>
                      </a:cubicBezTo>
                      <a:cubicBezTo>
                        <a:pt x="1269" y="267"/>
                        <a:pt x="1270" y="311"/>
                        <a:pt x="1256" y="332"/>
                      </a:cubicBezTo>
                      <a:cubicBezTo>
                        <a:pt x="1237" y="326"/>
                        <a:pt x="1250" y="322"/>
                        <a:pt x="1244" y="304"/>
                      </a:cubicBezTo>
                      <a:cubicBezTo>
                        <a:pt x="1204" y="314"/>
                        <a:pt x="1245" y="299"/>
                        <a:pt x="1224" y="320"/>
                      </a:cubicBezTo>
                      <a:cubicBezTo>
                        <a:pt x="1217" y="327"/>
                        <a:pt x="1200" y="336"/>
                        <a:pt x="1200" y="336"/>
                      </a:cubicBezTo>
                      <a:cubicBezTo>
                        <a:pt x="1206" y="355"/>
                        <a:pt x="1196" y="355"/>
                        <a:pt x="1180" y="360"/>
                      </a:cubicBezTo>
                      <a:cubicBezTo>
                        <a:pt x="1168" y="359"/>
                        <a:pt x="1154" y="362"/>
                        <a:pt x="1144" y="356"/>
                      </a:cubicBezTo>
                      <a:cubicBezTo>
                        <a:pt x="1140" y="354"/>
                        <a:pt x="1153" y="349"/>
                        <a:pt x="1152" y="344"/>
                      </a:cubicBezTo>
                      <a:cubicBezTo>
                        <a:pt x="1151" y="340"/>
                        <a:pt x="1144" y="341"/>
                        <a:pt x="1140" y="340"/>
                      </a:cubicBezTo>
                      <a:cubicBezTo>
                        <a:pt x="1126" y="350"/>
                        <a:pt x="1121" y="354"/>
                        <a:pt x="1104" y="348"/>
                      </a:cubicBezTo>
                      <a:cubicBezTo>
                        <a:pt x="1079" y="354"/>
                        <a:pt x="1054" y="349"/>
                        <a:pt x="1032" y="364"/>
                      </a:cubicBezTo>
                      <a:cubicBezTo>
                        <a:pt x="1023" y="378"/>
                        <a:pt x="1016" y="383"/>
                        <a:pt x="1000" y="388"/>
                      </a:cubicBezTo>
                      <a:cubicBezTo>
                        <a:pt x="984" y="404"/>
                        <a:pt x="971" y="410"/>
                        <a:pt x="964" y="432"/>
                      </a:cubicBezTo>
                      <a:cubicBezTo>
                        <a:pt x="968" y="433"/>
                        <a:pt x="972" y="438"/>
                        <a:pt x="976" y="436"/>
                      </a:cubicBezTo>
                      <a:cubicBezTo>
                        <a:pt x="980" y="434"/>
                        <a:pt x="976" y="424"/>
                        <a:pt x="980" y="424"/>
                      </a:cubicBezTo>
                      <a:cubicBezTo>
                        <a:pt x="985" y="424"/>
                        <a:pt x="991" y="445"/>
                        <a:pt x="992" y="448"/>
                      </a:cubicBezTo>
                      <a:cubicBezTo>
                        <a:pt x="1000" y="443"/>
                        <a:pt x="1006" y="434"/>
                        <a:pt x="1016" y="444"/>
                      </a:cubicBezTo>
                      <a:cubicBezTo>
                        <a:pt x="1023" y="451"/>
                        <a:pt x="1044" y="460"/>
                        <a:pt x="1032" y="468"/>
                      </a:cubicBezTo>
                      <a:cubicBezTo>
                        <a:pt x="1017" y="513"/>
                        <a:pt x="1007" y="571"/>
                        <a:pt x="976" y="608"/>
                      </a:cubicBezTo>
                      <a:cubicBezTo>
                        <a:pt x="962" y="625"/>
                        <a:pt x="951" y="635"/>
                        <a:pt x="932" y="648"/>
                      </a:cubicBezTo>
                      <a:cubicBezTo>
                        <a:pt x="928" y="651"/>
                        <a:pt x="920" y="656"/>
                        <a:pt x="920" y="656"/>
                      </a:cubicBezTo>
                      <a:cubicBezTo>
                        <a:pt x="886" y="633"/>
                        <a:pt x="904" y="648"/>
                        <a:pt x="880" y="664"/>
                      </a:cubicBezTo>
                      <a:cubicBezTo>
                        <a:pt x="872" y="689"/>
                        <a:pt x="870" y="693"/>
                        <a:pt x="848" y="708"/>
                      </a:cubicBezTo>
                      <a:cubicBezTo>
                        <a:pt x="842" y="720"/>
                        <a:pt x="855" y="724"/>
                        <a:pt x="850" y="740"/>
                      </a:cubicBezTo>
                      <a:cubicBezTo>
                        <a:pt x="851" y="750"/>
                        <a:pt x="855" y="759"/>
                        <a:pt x="856" y="766"/>
                      </a:cubicBezTo>
                      <a:cubicBezTo>
                        <a:pt x="857" y="773"/>
                        <a:pt x="859" y="777"/>
                        <a:pt x="858" y="784"/>
                      </a:cubicBezTo>
                      <a:cubicBezTo>
                        <a:pt x="857" y="791"/>
                        <a:pt x="856" y="806"/>
                        <a:pt x="850" y="810"/>
                      </a:cubicBezTo>
                      <a:cubicBezTo>
                        <a:pt x="844" y="814"/>
                        <a:pt x="831" y="802"/>
                        <a:pt x="824" y="806"/>
                      </a:cubicBezTo>
                      <a:cubicBezTo>
                        <a:pt x="816" y="832"/>
                        <a:pt x="827" y="824"/>
                        <a:pt x="804" y="832"/>
                      </a:cubicBezTo>
                      <a:cubicBezTo>
                        <a:pt x="798" y="814"/>
                        <a:pt x="810" y="779"/>
                        <a:pt x="816" y="760"/>
                      </a:cubicBezTo>
                      <a:cubicBezTo>
                        <a:pt x="816" y="744"/>
                        <a:pt x="795" y="750"/>
                        <a:pt x="794" y="744"/>
                      </a:cubicBezTo>
                      <a:cubicBezTo>
                        <a:pt x="793" y="738"/>
                        <a:pt x="806" y="729"/>
                        <a:pt x="808" y="724"/>
                      </a:cubicBezTo>
                      <a:cubicBezTo>
                        <a:pt x="807" y="720"/>
                        <a:pt x="808" y="713"/>
                        <a:pt x="804" y="712"/>
                      </a:cubicBezTo>
                      <a:cubicBezTo>
                        <a:pt x="796" y="711"/>
                        <a:pt x="761" y="725"/>
                        <a:pt x="752" y="728"/>
                      </a:cubicBezTo>
                      <a:cubicBezTo>
                        <a:pt x="744" y="703"/>
                        <a:pt x="769" y="708"/>
                        <a:pt x="744" y="700"/>
                      </a:cubicBezTo>
                      <a:cubicBezTo>
                        <a:pt x="731" y="719"/>
                        <a:pt x="718" y="723"/>
                        <a:pt x="696" y="728"/>
                      </a:cubicBezTo>
                      <a:cubicBezTo>
                        <a:pt x="703" y="757"/>
                        <a:pt x="720" y="749"/>
                        <a:pt x="752" y="752"/>
                      </a:cubicBezTo>
                      <a:cubicBezTo>
                        <a:pt x="747" y="773"/>
                        <a:pt x="729" y="777"/>
                        <a:pt x="716" y="796"/>
                      </a:cubicBezTo>
                      <a:lnTo>
                        <a:pt x="730" y="822"/>
                      </a:lnTo>
                      <a:lnTo>
                        <a:pt x="740" y="858"/>
                      </a:lnTo>
                      <a:lnTo>
                        <a:pt x="724" y="862"/>
                      </a:lnTo>
                      <a:lnTo>
                        <a:pt x="736" y="876"/>
                      </a:lnTo>
                      <a:lnTo>
                        <a:pt x="720" y="900"/>
                      </a:lnTo>
                      <a:lnTo>
                        <a:pt x="0" y="892"/>
                      </a:lnTo>
                      <a:lnTo>
                        <a:pt x="240" y="144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217400" y="2043360"/>
                  <a:ext cx="81720" cy="293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169160" y="2290320"/>
                  <a:ext cx="241200" cy="1821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907800" y="2462760"/>
                  <a:ext cx="327240" cy="3801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128120" y="2571480"/>
                  <a:ext cx="226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295360" y="2832840"/>
                  <a:ext cx="1416240" cy="100116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543760" y="3523680"/>
                  <a:ext cx="75960" cy="1512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629520" y="2999520"/>
                  <a:ext cx="77760" cy="1310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840120" y="2939040"/>
                  <a:ext cx="33840" cy="532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6360" y="2451600"/>
                  <a:ext cx="1771920" cy="2475000"/>
                </a:xfrm>
                <a:custGeom>
                  <a:avLst/>
                  <a:gdLst/>
                  <a:ahLst/>
                  <a:rect l="l" t="t" r="r" b="b"/>
                  <a:pathLst>
                    <a:path w="1015" h="1392">
                      <a:moveTo>
                        <a:pt x="824" y="1168"/>
                      </a:moveTo>
                      <a:lnTo>
                        <a:pt x="804" y="1204"/>
                      </a:lnTo>
                      <a:lnTo>
                        <a:pt x="816" y="1252"/>
                      </a:lnTo>
                      <a:lnTo>
                        <a:pt x="836" y="1300"/>
                      </a:lnTo>
                      <a:lnTo>
                        <a:pt x="816" y="1324"/>
                      </a:lnTo>
                      <a:lnTo>
                        <a:pt x="820" y="1360"/>
                      </a:lnTo>
                      <a:lnTo>
                        <a:pt x="820" y="1392"/>
                      </a:lnTo>
                      <a:lnTo>
                        <a:pt x="716" y="880"/>
                      </a:lnTo>
                      <a:lnTo>
                        <a:pt x="704" y="852"/>
                      </a:lnTo>
                      <a:lnTo>
                        <a:pt x="724" y="856"/>
                      </a:lnTo>
                      <a:lnTo>
                        <a:pt x="736" y="836"/>
                      </a:lnTo>
                      <a:lnTo>
                        <a:pt x="744" y="784"/>
                      </a:lnTo>
                      <a:lnTo>
                        <a:pt x="744" y="704"/>
                      </a:lnTo>
                      <a:lnTo>
                        <a:pt x="460" y="544"/>
                      </a:lnTo>
                      <a:lnTo>
                        <a:pt x="440" y="584"/>
                      </a:lnTo>
                      <a:lnTo>
                        <a:pt x="420" y="656"/>
                      </a:lnTo>
                      <a:lnTo>
                        <a:pt x="608" y="1168"/>
                      </a:lnTo>
                      <a:lnTo>
                        <a:pt x="444" y="1164"/>
                      </a:lnTo>
                      <a:lnTo>
                        <a:pt x="444" y="1112"/>
                      </a:lnTo>
                      <a:lnTo>
                        <a:pt x="444" y="1080"/>
                      </a:lnTo>
                      <a:lnTo>
                        <a:pt x="452" y="1048"/>
                      </a:lnTo>
                      <a:lnTo>
                        <a:pt x="452" y="1016"/>
                      </a:lnTo>
                      <a:cubicBezTo>
                        <a:pt x="423" y="987"/>
                        <a:pt x="441" y="967"/>
                        <a:pt x="420" y="936"/>
                      </a:cubicBezTo>
                      <a:cubicBezTo>
                        <a:pt x="411" y="901"/>
                        <a:pt x="397" y="887"/>
                        <a:pt x="376" y="856"/>
                      </a:cubicBezTo>
                      <a:cubicBezTo>
                        <a:pt x="371" y="848"/>
                        <a:pt x="365" y="840"/>
                        <a:pt x="360" y="832"/>
                      </a:cubicBezTo>
                      <a:lnTo>
                        <a:pt x="352" y="820"/>
                      </a:lnTo>
                      <a:cubicBezTo>
                        <a:pt x="352" y="820"/>
                        <a:pt x="364" y="784"/>
                        <a:pt x="364" y="784"/>
                      </a:cubicBezTo>
                      <a:cubicBezTo>
                        <a:pt x="367" y="776"/>
                        <a:pt x="372" y="760"/>
                        <a:pt x="372" y="760"/>
                      </a:cubicBezTo>
                      <a:cubicBezTo>
                        <a:pt x="371" y="756"/>
                        <a:pt x="368" y="752"/>
                        <a:pt x="368" y="748"/>
                      </a:cubicBezTo>
                      <a:cubicBezTo>
                        <a:pt x="369" y="740"/>
                        <a:pt x="376" y="724"/>
                        <a:pt x="376" y="724"/>
                      </a:cubicBezTo>
                      <a:cubicBezTo>
                        <a:pt x="361" y="701"/>
                        <a:pt x="352" y="704"/>
                        <a:pt x="328" y="712"/>
                      </a:cubicBezTo>
                      <a:cubicBezTo>
                        <a:pt x="323" y="704"/>
                        <a:pt x="313" y="700"/>
                        <a:pt x="308" y="692"/>
                      </a:cubicBezTo>
                      <a:cubicBezTo>
                        <a:pt x="275" y="640"/>
                        <a:pt x="321" y="689"/>
                        <a:pt x="288" y="656"/>
                      </a:cubicBezTo>
                      <a:cubicBezTo>
                        <a:pt x="248" y="661"/>
                        <a:pt x="266" y="657"/>
                        <a:pt x="232" y="668"/>
                      </a:cubicBezTo>
                      <a:cubicBezTo>
                        <a:pt x="228" y="669"/>
                        <a:pt x="220" y="672"/>
                        <a:pt x="220" y="672"/>
                      </a:cubicBezTo>
                      <a:cubicBezTo>
                        <a:pt x="217" y="676"/>
                        <a:pt x="216" y="681"/>
                        <a:pt x="212" y="684"/>
                      </a:cubicBezTo>
                      <a:cubicBezTo>
                        <a:pt x="205" y="688"/>
                        <a:pt x="188" y="692"/>
                        <a:pt x="188" y="692"/>
                      </a:cubicBezTo>
                      <a:cubicBezTo>
                        <a:pt x="157" y="671"/>
                        <a:pt x="173" y="673"/>
                        <a:pt x="140" y="684"/>
                      </a:cubicBezTo>
                      <a:cubicBezTo>
                        <a:pt x="132" y="687"/>
                        <a:pt x="116" y="692"/>
                        <a:pt x="116" y="692"/>
                      </a:cubicBezTo>
                      <a:cubicBezTo>
                        <a:pt x="93" y="727"/>
                        <a:pt x="68" y="656"/>
                        <a:pt x="52" y="640"/>
                      </a:cubicBezTo>
                      <a:cubicBezTo>
                        <a:pt x="47" y="625"/>
                        <a:pt x="35" y="607"/>
                        <a:pt x="32" y="592"/>
                      </a:cubicBezTo>
                      <a:cubicBezTo>
                        <a:pt x="30" y="584"/>
                        <a:pt x="32" y="575"/>
                        <a:pt x="28" y="568"/>
                      </a:cubicBezTo>
                      <a:cubicBezTo>
                        <a:pt x="26" y="564"/>
                        <a:pt x="20" y="563"/>
                        <a:pt x="16" y="560"/>
                      </a:cubicBezTo>
                      <a:cubicBezTo>
                        <a:pt x="5" y="526"/>
                        <a:pt x="22" y="580"/>
                        <a:pt x="8" y="524"/>
                      </a:cubicBezTo>
                      <a:cubicBezTo>
                        <a:pt x="6" y="516"/>
                        <a:pt x="0" y="500"/>
                        <a:pt x="0" y="500"/>
                      </a:cubicBezTo>
                      <a:cubicBezTo>
                        <a:pt x="4" y="480"/>
                        <a:pt x="3" y="471"/>
                        <a:pt x="20" y="460"/>
                      </a:cubicBezTo>
                      <a:cubicBezTo>
                        <a:pt x="30" y="420"/>
                        <a:pt x="25" y="438"/>
                        <a:pt x="36" y="404"/>
                      </a:cubicBezTo>
                      <a:cubicBezTo>
                        <a:pt x="39" y="396"/>
                        <a:pt x="44" y="380"/>
                        <a:pt x="44" y="380"/>
                      </a:cubicBezTo>
                      <a:cubicBezTo>
                        <a:pt x="39" y="365"/>
                        <a:pt x="36" y="363"/>
                        <a:pt x="48" y="344"/>
                      </a:cubicBezTo>
                      <a:cubicBezTo>
                        <a:pt x="53" y="336"/>
                        <a:pt x="64" y="320"/>
                        <a:pt x="64" y="320"/>
                      </a:cubicBezTo>
                      <a:cubicBezTo>
                        <a:pt x="55" y="294"/>
                        <a:pt x="53" y="290"/>
                        <a:pt x="76" y="272"/>
                      </a:cubicBezTo>
                      <a:cubicBezTo>
                        <a:pt x="84" y="266"/>
                        <a:pt x="100" y="256"/>
                        <a:pt x="100" y="256"/>
                      </a:cubicBezTo>
                      <a:cubicBezTo>
                        <a:pt x="108" y="245"/>
                        <a:pt x="112" y="231"/>
                        <a:pt x="120" y="220"/>
                      </a:cubicBezTo>
                      <a:cubicBezTo>
                        <a:pt x="132" y="203"/>
                        <a:pt x="152" y="199"/>
                        <a:pt x="168" y="188"/>
                      </a:cubicBezTo>
                      <a:cubicBezTo>
                        <a:pt x="186" y="162"/>
                        <a:pt x="222" y="145"/>
                        <a:pt x="248" y="128"/>
                      </a:cubicBezTo>
                      <a:cubicBezTo>
                        <a:pt x="259" y="111"/>
                        <a:pt x="260" y="95"/>
                        <a:pt x="280" y="88"/>
                      </a:cubicBezTo>
                      <a:cubicBezTo>
                        <a:pt x="294" y="74"/>
                        <a:pt x="310" y="68"/>
                        <a:pt x="328" y="56"/>
                      </a:cubicBezTo>
                      <a:cubicBezTo>
                        <a:pt x="332" y="53"/>
                        <a:pt x="340" y="48"/>
                        <a:pt x="340" y="48"/>
                      </a:cubicBezTo>
                      <a:cubicBezTo>
                        <a:pt x="352" y="30"/>
                        <a:pt x="364" y="19"/>
                        <a:pt x="384" y="12"/>
                      </a:cubicBezTo>
                      <a:cubicBezTo>
                        <a:pt x="400" y="59"/>
                        <a:pt x="448" y="11"/>
                        <a:pt x="476" y="8"/>
                      </a:cubicBezTo>
                      <a:cubicBezTo>
                        <a:pt x="497" y="6"/>
                        <a:pt x="519" y="5"/>
                        <a:pt x="540" y="4"/>
                      </a:cubicBezTo>
                      <a:cubicBezTo>
                        <a:pt x="549" y="5"/>
                        <a:pt x="559" y="9"/>
                        <a:pt x="568" y="8"/>
                      </a:cubicBezTo>
                      <a:cubicBezTo>
                        <a:pt x="576" y="7"/>
                        <a:pt x="592" y="0"/>
                        <a:pt x="592" y="0"/>
                      </a:cubicBezTo>
                      <a:cubicBezTo>
                        <a:pt x="617" y="16"/>
                        <a:pt x="604" y="31"/>
                        <a:pt x="596" y="56"/>
                      </a:cubicBezTo>
                      <a:cubicBezTo>
                        <a:pt x="593" y="64"/>
                        <a:pt x="572" y="64"/>
                        <a:pt x="572" y="64"/>
                      </a:cubicBezTo>
                      <a:cubicBezTo>
                        <a:pt x="564" y="89"/>
                        <a:pt x="592" y="97"/>
                        <a:pt x="612" y="104"/>
                      </a:cubicBezTo>
                      <a:cubicBezTo>
                        <a:pt x="623" y="136"/>
                        <a:pt x="626" y="149"/>
                        <a:pt x="660" y="160"/>
                      </a:cubicBezTo>
                      <a:cubicBezTo>
                        <a:pt x="686" y="134"/>
                        <a:pt x="647" y="124"/>
                        <a:pt x="696" y="108"/>
                      </a:cubicBezTo>
                      <a:cubicBezTo>
                        <a:pt x="717" y="115"/>
                        <a:pt x="722" y="132"/>
                        <a:pt x="740" y="140"/>
                      </a:cubicBezTo>
                      <a:cubicBezTo>
                        <a:pt x="752" y="145"/>
                        <a:pt x="764" y="148"/>
                        <a:pt x="776" y="152"/>
                      </a:cubicBezTo>
                      <a:cubicBezTo>
                        <a:pt x="780" y="153"/>
                        <a:pt x="788" y="156"/>
                        <a:pt x="788" y="156"/>
                      </a:cubicBezTo>
                      <a:cubicBezTo>
                        <a:pt x="814" y="147"/>
                        <a:pt x="814" y="145"/>
                        <a:pt x="836" y="160"/>
                      </a:cubicBezTo>
                      <a:cubicBezTo>
                        <a:pt x="843" y="180"/>
                        <a:pt x="841" y="164"/>
                        <a:pt x="832" y="184"/>
                      </a:cubicBezTo>
                      <a:cubicBezTo>
                        <a:pt x="829" y="192"/>
                        <a:pt x="824" y="208"/>
                        <a:pt x="824" y="208"/>
                      </a:cubicBezTo>
                      <a:cubicBezTo>
                        <a:pt x="828" y="250"/>
                        <a:pt x="827" y="319"/>
                        <a:pt x="852" y="356"/>
                      </a:cubicBezTo>
                      <a:cubicBezTo>
                        <a:pt x="845" y="376"/>
                        <a:pt x="840" y="395"/>
                        <a:pt x="836" y="416"/>
                      </a:cubicBezTo>
                      <a:cubicBezTo>
                        <a:pt x="840" y="431"/>
                        <a:pt x="847" y="441"/>
                        <a:pt x="852" y="456"/>
                      </a:cubicBezTo>
                      <a:cubicBezTo>
                        <a:pt x="853" y="468"/>
                        <a:pt x="852" y="481"/>
                        <a:pt x="856" y="492"/>
                      </a:cubicBezTo>
                      <a:cubicBezTo>
                        <a:pt x="858" y="498"/>
                        <a:pt x="885" y="515"/>
                        <a:pt x="892" y="536"/>
                      </a:cubicBezTo>
                      <a:cubicBezTo>
                        <a:pt x="884" y="559"/>
                        <a:pt x="898" y="581"/>
                        <a:pt x="920" y="588"/>
                      </a:cubicBezTo>
                      <a:cubicBezTo>
                        <a:pt x="938" y="582"/>
                        <a:pt x="949" y="584"/>
                        <a:pt x="960" y="568"/>
                      </a:cubicBezTo>
                      <a:cubicBezTo>
                        <a:pt x="982" y="572"/>
                        <a:pt x="987" y="575"/>
                        <a:pt x="1000" y="556"/>
                      </a:cubicBezTo>
                      <a:cubicBezTo>
                        <a:pt x="1004" y="557"/>
                        <a:pt x="1011" y="556"/>
                        <a:pt x="1012" y="560"/>
                      </a:cubicBezTo>
                      <a:cubicBezTo>
                        <a:pt x="1015" y="571"/>
                        <a:pt x="1003" y="608"/>
                        <a:pt x="1000" y="620"/>
                      </a:cubicBezTo>
                      <a:cubicBezTo>
                        <a:pt x="994" y="645"/>
                        <a:pt x="999" y="619"/>
                        <a:pt x="988" y="644"/>
                      </a:cubicBezTo>
                      <a:cubicBezTo>
                        <a:pt x="971" y="683"/>
                        <a:pt x="962" y="723"/>
                        <a:pt x="924" y="748"/>
                      </a:cubicBezTo>
                      <a:cubicBezTo>
                        <a:pt x="914" y="762"/>
                        <a:pt x="906" y="763"/>
                        <a:pt x="892" y="772"/>
                      </a:cubicBezTo>
                      <a:cubicBezTo>
                        <a:pt x="878" y="793"/>
                        <a:pt x="862" y="814"/>
                        <a:pt x="844" y="832"/>
                      </a:cubicBezTo>
                      <a:cubicBezTo>
                        <a:pt x="834" y="861"/>
                        <a:pt x="826" y="891"/>
                        <a:pt x="816" y="920"/>
                      </a:cubicBezTo>
                      <a:cubicBezTo>
                        <a:pt x="817" y="927"/>
                        <a:pt x="818" y="933"/>
                        <a:pt x="820" y="940"/>
                      </a:cubicBezTo>
                      <a:cubicBezTo>
                        <a:pt x="822" y="948"/>
                        <a:pt x="828" y="964"/>
                        <a:pt x="828" y="964"/>
                      </a:cubicBezTo>
                      <a:cubicBezTo>
                        <a:pt x="832" y="993"/>
                        <a:pt x="835" y="1019"/>
                        <a:pt x="856" y="1040"/>
                      </a:cubicBezTo>
                      <a:cubicBezTo>
                        <a:pt x="859" y="1048"/>
                        <a:pt x="861" y="1056"/>
                        <a:pt x="864" y="1064"/>
                      </a:cubicBezTo>
                      <a:cubicBezTo>
                        <a:pt x="865" y="1068"/>
                        <a:pt x="868" y="1076"/>
                        <a:pt x="868" y="1076"/>
                      </a:cubicBezTo>
                      <a:cubicBezTo>
                        <a:pt x="865" y="1095"/>
                        <a:pt x="853" y="1168"/>
                        <a:pt x="824" y="116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20720" y="3159000"/>
                  <a:ext cx="747000" cy="2001600"/>
                </a:xfrm>
                <a:custGeom>
                  <a:avLst/>
                  <a:gdLst/>
                  <a:ahLst/>
                  <a:rect l="l" t="t" r="r" b="b"/>
                  <a:pathLst>
                    <a:path w="428" h="1126">
                      <a:moveTo>
                        <a:pt x="52" y="762"/>
                      </a:moveTo>
                      <a:lnTo>
                        <a:pt x="120" y="870"/>
                      </a:lnTo>
                      <a:lnTo>
                        <a:pt x="136" y="898"/>
                      </a:lnTo>
                      <a:lnTo>
                        <a:pt x="168" y="962"/>
                      </a:lnTo>
                      <a:cubicBezTo>
                        <a:pt x="196" y="1018"/>
                        <a:pt x="169" y="983"/>
                        <a:pt x="196" y="998"/>
                      </a:cubicBezTo>
                      <a:cubicBezTo>
                        <a:pt x="204" y="1003"/>
                        <a:pt x="220" y="1014"/>
                        <a:pt x="220" y="1014"/>
                      </a:cubicBezTo>
                      <a:cubicBezTo>
                        <a:pt x="229" y="1028"/>
                        <a:pt x="244" y="1045"/>
                        <a:pt x="260" y="1050"/>
                      </a:cubicBezTo>
                      <a:cubicBezTo>
                        <a:pt x="272" y="1062"/>
                        <a:pt x="279" y="1070"/>
                        <a:pt x="284" y="1086"/>
                      </a:cubicBezTo>
                      <a:cubicBezTo>
                        <a:pt x="280" y="1098"/>
                        <a:pt x="276" y="1099"/>
                        <a:pt x="288" y="1110"/>
                      </a:cubicBezTo>
                      <a:cubicBezTo>
                        <a:pt x="295" y="1116"/>
                        <a:pt x="312" y="1126"/>
                        <a:pt x="312" y="1126"/>
                      </a:cubicBezTo>
                      <a:cubicBezTo>
                        <a:pt x="347" y="1114"/>
                        <a:pt x="376" y="1092"/>
                        <a:pt x="412" y="1086"/>
                      </a:cubicBezTo>
                      <a:cubicBezTo>
                        <a:pt x="418" y="1068"/>
                        <a:pt x="424" y="1052"/>
                        <a:pt x="428" y="1034"/>
                      </a:cubicBezTo>
                      <a:cubicBezTo>
                        <a:pt x="422" y="1016"/>
                        <a:pt x="424" y="1026"/>
                        <a:pt x="424" y="1002"/>
                      </a:cubicBezTo>
                      <a:lnTo>
                        <a:pt x="424" y="938"/>
                      </a:lnTo>
                      <a:lnTo>
                        <a:pt x="416" y="878"/>
                      </a:lnTo>
                      <a:lnTo>
                        <a:pt x="400" y="698"/>
                      </a:lnTo>
                      <a:lnTo>
                        <a:pt x="348" y="570"/>
                      </a:lnTo>
                      <a:lnTo>
                        <a:pt x="324" y="546"/>
                      </a:lnTo>
                      <a:lnTo>
                        <a:pt x="320" y="510"/>
                      </a:lnTo>
                      <a:lnTo>
                        <a:pt x="312" y="482"/>
                      </a:lnTo>
                      <a:lnTo>
                        <a:pt x="312" y="434"/>
                      </a:lnTo>
                      <a:lnTo>
                        <a:pt x="308" y="406"/>
                      </a:lnTo>
                      <a:lnTo>
                        <a:pt x="340" y="382"/>
                      </a:lnTo>
                      <a:lnTo>
                        <a:pt x="384" y="374"/>
                      </a:lnTo>
                      <a:lnTo>
                        <a:pt x="384" y="258"/>
                      </a:lnTo>
                      <a:cubicBezTo>
                        <a:pt x="311" y="226"/>
                        <a:pt x="19" y="0"/>
                        <a:pt x="80" y="182"/>
                      </a:cubicBezTo>
                      <a:cubicBezTo>
                        <a:pt x="54" y="200"/>
                        <a:pt x="85" y="183"/>
                        <a:pt x="48" y="186"/>
                      </a:cubicBezTo>
                      <a:cubicBezTo>
                        <a:pt x="40" y="187"/>
                        <a:pt x="24" y="194"/>
                        <a:pt x="24" y="194"/>
                      </a:cubicBezTo>
                      <a:lnTo>
                        <a:pt x="0" y="282"/>
                      </a:lnTo>
                      <a:lnTo>
                        <a:pt x="168" y="734"/>
                      </a:lnTo>
                      <a:lnTo>
                        <a:pt x="52" y="762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647360" y="4295160"/>
                  <a:ext cx="162000" cy="505800"/>
                </a:xfrm>
                <a:custGeom>
                  <a:avLst/>
                  <a:gdLst/>
                  <a:ahLst/>
                  <a:rect l="l" t="t" r="r" b="b"/>
                  <a:pathLst>
                    <a:path w="93" h="284">
                      <a:moveTo>
                        <a:pt x="25" y="83"/>
                      </a:moveTo>
                      <a:cubicBezTo>
                        <a:pt x="47" y="68"/>
                        <a:pt x="49" y="53"/>
                        <a:pt x="53" y="27"/>
                      </a:cubicBezTo>
                      <a:cubicBezTo>
                        <a:pt x="48" y="7"/>
                        <a:pt x="53" y="0"/>
                        <a:pt x="73" y="7"/>
                      </a:cubicBezTo>
                      <a:cubicBezTo>
                        <a:pt x="79" y="25"/>
                        <a:pt x="87" y="38"/>
                        <a:pt x="93" y="55"/>
                      </a:cubicBezTo>
                      <a:cubicBezTo>
                        <a:pt x="84" y="91"/>
                        <a:pt x="88" y="77"/>
                        <a:pt x="81" y="99"/>
                      </a:cubicBezTo>
                      <a:cubicBezTo>
                        <a:pt x="77" y="130"/>
                        <a:pt x="74" y="129"/>
                        <a:pt x="81" y="163"/>
                      </a:cubicBezTo>
                      <a:cubicBezTo>
                        <a:pt x="83" y="175"/>
                        <a:pt x="93" y="199"/>
                        <a:pt x="93" y="199"/>
                      </a:cubicBezTo>
                      <a:cubicBezTo>
                        <a:pt x="92" y="223"/>
                        <a:pt x="92" y="247"/>
                        <a:pt x="89" y="271"/>
                      </a:cubicBezTo>
                      <a:cubicBezTo>
                        <a:pt x="88" y="276"/>
                        <a:pt x="86" y="282"/>
                        <a:pt x="81" y="283"/>
                      </a:cubicBezTo>
                      <a:cubicBezTo>
                        <a:pt x="73" y="284"/>
                        <a:pt x="57" y="275"/>
                        <a:pt x="57" y="275"/>
                      </a:cubicBezTo>
                      <a:cubicBezTo>
                        <a:pt x="50" y="253"/>
                        <a:pt x="48" y="244"/>
                        <a:pt x="29" y="231"/>
                      </a:cubicBezTo>
                      <a:cubicBezTo>
                        <a:pt x="12" y="205"/>
                        <a:pt x="0" y="210"/>
                        <a:pt x="21" y="179"/>
                      </a:cubicBezTo>
                      <a:cubicBezTo>
                        <a:pt x="17" y="159"/>
                        <a:pt x="12" y="139"/>
                        <a:pt x="5" y="119"/>
                      </a:cubicBezTo>
                      <a:cubicBezTo>
                        <a:pt x="9" y="103"/>
                        <a:pt x="13" y="95"/>
                        <a:pt x="25" y="8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1593720" y="4276800"/>
                  <a:ext cx="30960" cy="3492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14"/>
                      </a:moveTo>
                      <a:cubicBezTo>
                        <a:pt x="1" y="10"/>
                        <a:pt x="0" y="4"/>
                        <a:pt x="4" y="2"/>
                      </a:cubicBezTo>
                      <a:cubicBezTo>
                        <a:pt x="8" y="0"/>
                        <a:pt x="14" y="2"/>
                        <a:pt x="16" y="6"/>
                      </a:cubicBezTo>
                      <a:cubicBezTo>
                        <a:pt x="18" y="10"/>
                        <a:pt x="16" y="16"/>
                        <a:pt x="12" y="18"/>
                      </a:cubicBezTo>
                      <a:cubicBezTo>
                        <a:pt x="8" y="20"/>
                        <a:pt x="4" y="15"/>
                        <a:pt x="0" y="1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1895760" y="4008240"/>
                  <a:ext cx="32400" cy="648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1859040" y="3405240"/>
                  <a:ext cx="37800" cy="34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44800" y="2661840"/>
                  <a:ext cx="100080" cy="536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479240" y="2174760"/>
                  <a:ext cx="1209960" cy="123732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57360" y="1383480"/>
                  <a:ext cx="2229480" cy="1182240"/>
                </a:xfrm>
                <a:custGeom>
                  <a:avLst/>
                  <a:gdLst/>
                  <a:ahLst/>
                  <a:rect l="l" t="t" r="r" b="b"/>
                  <a:pathLst>
                    <a:path w="1277" h="665">
                      <a:moveTo>
                        <a:pt x="1180" y="541"/>
                      </a:moveTo>
                      <a:cubicBezTo>
                        <a:pt x="1212" y="377"/>
                        <a:pt x="1247" y="214"/>
                        <a:pt x="1276" y="49"/>
                      </a:cubicBezTo>
                      <a:cubicBezTo>
                        <a:pt x="1277" y="44"/>
                        <a:pt x="1267" y="54"/>
                        <a:pt x="1264" y="57"/>
                      </a:cubicBezTo>
                      <a:cubicBezTo>
                        <a:pt x="1255" y="66"/>
                        <a:pt x="1232" y="77"/>
                        <a:pt x="1232" y="77"/>
                      </a:cubicBezTo>
                      <a:cubicBezTo>
                        <a:pt x="1216" y="66"/>
                        <a:pt x="1203" y="63"/>
                        <a:pt x="1184" y="69"/>
                      </a:cubicBezTo>
                      <a:cubicBezTo>
                        <a:pt x="1164" y="64"/>
                        <a:pt x="1150" y="71"/>
                        <a:pt x="1164" y="49"/>
                      </a:cubicBezTo>
                      <a:cubicBezTo>
                        <a:pt x="1132" y="38"/>
                        <a:pt x="1153" y="59"/>
                        <a:pt x="1140" y="69"/>
                      </a:cubicBezTo>
                      <a:cubicBezTo>
                        <a:pt x="1132" y="75"/>
                        <a:pt x="1121" y="74"/>
                        <a:pt x="1112" y="77"/>
                      </a:cubicBezTo>
                      <a:cubicBezTo>
                        <a:pt x="1102" y="48"/>
                        <a:pt x="1093" y="65"/>
                        <a:pt x="1080" y="85"/>
                      </a:cubicBezTo>
                      <a:cubicBezTo>
                        <a:pt x="1075" y="92"/>
                        <a:pt x="1063" y="92"/>
                        <a:pt x="1056" y="97"/>
                      </a:cubicBezTo>
                      <a:cubicBezTo>
                        <a:pt x="1053" y="101"/>
                        <a:pt x="1053" y="108"/>
                        <a:pt x="1048" y="109"/>
                      </a:cubicBezTo>
                      <a:cubicBezTo>
                        <a:pt x="1040" y="110"/>
                        <a:pt x="1024" y="101"/>
                        <a:pt x="1024" y="101"/>
                      </a:cubicBezTo>
                      <a:cubicBezTo>
                        <a:pt x="1020" y="104"/>
                        <a:pt x="1015" y="106"/>
                        <a:pt x="1012" y="109"/>
                      </a:cubicBezTo>
                      <a:cubicBezTo>
                        <a:pt x="1009" y="112"/>
                        <a:pt x="1008" y="118"/>
                        <a:pt x="1004" y="121"/>
                      </a:cubicBezTo>
                      <a:cubicBezTo>
                        <a:pt x="997" y="127"/>
                        <a:pt x="980" y="137"/>
                        <a:pt x="980" y="137"/>
                      </a:cubicBezTo>
                      <a:cubicBezTo>
                        <a:pt x="932" y="132"/>
                        <a:pt x="917" y="132"/>
                        <a:pt x="952" y="97"/>
                      </a:cubicBezTo>
                      <a:cubicBezTo>
                        <a:pt x="957" y="81"/>
                        <a:pt x="952" y="66"/>
                        <a:pt x="972" y="73"/>
                      </a:cubicBezTo>
                      <a:cubicBezTo>
                        <a:pt x="973" y="77"/>
                        <a:pt x="979" y="96"/>
                        <a:pt x="984" y="97"/>
                      </a:cubicBezTo>
                      <a:cubicBezTo>
                        <a:pt x="1000" y="99"/>
                        <a:pt x="1016" y="88"/>
                        <a:pt x="1032" y="85"/>
                      </a:cubicBezTo>
                      <a:cubicBezTo>
                        <a:pt x="1039" y="64"/>
                        <a:pt x="1025" y="40"/>
                        <a:pt x="1008" y="29"/>
                      </a:cubicBezTo>
                      <a:cubicBezTo>
                        <a:pt x="980" y="36"/>
                        <a:pt x="985" y="18"/>
                        <a:pt x="956" y="37"/>
                      </a:cubicBezTo>
                      <a:cubicBezTo>
                        <a:pt x="955" y="33"/>
                        <a:pt x="949" y="28"/>
                        <a:pt x="952" y="25"/>
                      </a:cubicBezTo>
                      <a:cubicBezTo>
                        <a:pt x="958" y="19"/>
                        <a:pt x="968" y="20"/>
                        <a:pt x="976" y="17"/>
                      </a:cubicBezTo>
                      <a:cubicBezTo>
                        <a:pt x="980" y="16"/>
                        <a:pt x="988" y="13"/>
                        <a:pt x="988" y="13"/>
                      </a:cubicBezTo>
                      <a:cubicBezTo>
                        <a:pt x="984" y="10"/>
                        <a:pt x="981" y="5"/>
                        <a:pt x="976" y="5"/>
                      </a:cubicBezTo>
                      <a:cubicBezTo>
                        <a:pt x="958" y="5"/>
                        <a:pt x="942" y="14"/>
                        <a:pt x="924" y="17"/>
                      </a:cubicBezTo>
                      <a:cubicBezTo>
                        <a:pt x="918" y="34"/>
                        <a:pt x="913" y="35"/>
                        <a:pt x="896" y="29"/>
                      </a:cubicBezTo>
                      <a:cubicBezTo>
                        <a:pt x="900" y="16"/>
                        <a:pt x="898" y="15"/>
                        <a:pt x="912" y="9"/>
                      </a:cubicBezTo>
                      <a:cubicBezTo>
                        <a:pt x="920" y="6"/>
                        <a:pt x="936" y="1"/>
                        <a:pt x="936" y="1"/>
                      </a:cubicBezTo>
                      <a:cubicBezTo>
                        <a:pt x="936" y="1"/>
                        <a:pt x="928" y="4"/>
                        <a:pt x="924" y="5"/>
                      </a:cubicBezTo>
                      <a:cubicBezTo>
                        <a:pt x="915" y="7"/>
                        <a:pt x="905" y="8"/>
                        <a:pt x="896" y="9"/>
                      </a:cubicBezTo>
                      <a:cubicBezTo>
                        <a:pt x="856" y="22"/>
                        <a:pt x="917" y="0"/>
                        <a:pt x="872" y="25"/>
                      </a:cubicBezTo>
                      <a:cubicBezTo>
                        <a:pt x="855" y="34"/>
                        <a:pt x="834" y="35"/>
                        <a:pt x="816" y="41"/>
                      </a:cubicBezTo>
                      <a:cubicBezTo>
                        <a:pt x="802" y="62"/>
                        <a:pt x="785" y="69"/>
                        <a:pt x="760" y="73"/>
                      </a:cubicBezTo>
                      <a:cubicBezTo>
                        <a:pt x="746" y="83"/>
                        <a:pt x="741" y="87"/>
                        <a:pt x="724" y="81"/>
                      </a:cubicBezTo>
                      <a:cubicBezTo>
                        <a:pt x="700" y="89"/>
                        <a:pt x="691" y="113"/>
                        <a:pt x="680" y="117"/>
                      </a:cubicBezTo>
                      <a:cubicBezTo>
                        <a:pt x="667" y="121"/>
                        <a:pt x="653" y="120"/>
                        <a:pt x="640" y="121"/>
                      </a:cubicBezTo>
                      <a:cubicBezTo>
                        <a:pt x="623" y="127"/>
                        <a:pt x="608" y="138"/>
                        <a:pt x="592" y="145"/>
                      </a:cubicBezTo>
                      <a:cubicBezTo>
                        <a:pt x="549" y="164"/>
                        <a:pt x="583" y="143"/>
                        <a:pt x="556" y="161"/>
                      </a:cubicBezTo>
                      <a:cubicBezTo>
                        <a:pt x="552" y="174"/>
                        <a:pt x="544" y="184"/>
                        <a:pt x="540" y="197"/>
                      </a:cubicBezTo>
                      <a:cubicBezTo>
                        <a:pt x="548" y="220"/>
                        <a:pt x="565" y="207"/>
                        <a:pt x="580" y="197"/>
                      </a:cubicBezTo>
                      <a:cubicBezTo>
                        <a:pt x="581" y="193"/>
                        <a:pt x="581" y="187"/>
                        <a:pt x="584" y="185"/>
                      </a:cubicBezTo>
                      <a:cubicBezTo>
                        <a:pt x="591" y="180"/>
                        <a:pt x="608" y="177"/>
                        <a:pt x="608" y="177"/>
                      </a:cubicBezTo>
                      <a:cubicBezTo>
                        <a:pt x="621" y="196"/>
                        <a:pt x="608" y="190"/>
                        <a:pt x="592" y="201"/>
                      </a:cubicBezTo>
                      <a:cubicBezTo>
                        <a:pt x="574" y="229"/>
                        <a:pt x="579" y="216"/>
                        <a:pt x="572" y="237"/>
                      </a:cubicBezTo>
                      <a:cubicBezTo>
                        <a:pt x="573" y="241"/>
                        <a:pt x="572" y="247"/>
                        <a:pt x="576" y="249"/>
                      </a:cubicBezTo>
                      <a:cubicBezTo>
                        <a:pt x="584" y="253"/>
                        <a:pt x="597" y="235"/>
                        <a:pt x="600" y="233"/>
                      </a:cubicBezTo>
                      <a:cubicBezTo>
                        <a:pt x="610" y="226"/>
                        <a:pt x="625" y="223"/>
                        <a:pt x="636" y="217"/>
                      </a:cubicBezTo>
                      <a:cubicBezTo>
                        <a:pt x="645" y="212"/>
                        <a:pt x="650" y="201"/>
                        <a:pt x="660" y="197"/>
                      </a:cubicBezTo>
                      <a:cubicBezTo>
                        <a:pt x="671" y="192"/>
                        <a:pt x="684" y="193"/>
                        <a:pt x="696" y="189"/>
                      </a:cubicBezTo>
                      <a:cubicBezTo>
                        <a:pt x="691" y="169"/>
                        <a:pt x="691" y="165"/>
                        <a:pt x="708" y="153"/>
                      </a:cubicBezTo>
                      <a:cubicBezTo>
                        <a:pt x="720" y="134"/>
                        <a:pt x="743" y="136"/>
                        <a:pt x="764" y="129"/>
                      </a:cubicBezTo>
                      <a:cubicBezTo>
                        <a:pt x="777" y="125"/>
                        <a:pt x="800" y="109"/>
                        <a:pt x="800" y="109"/>
                      </a:cubicBezTo>
                      <a:cubicBezTo>
                        <a:pt x="813" y="89"/>
                        <a:pt x="816" y="88"/>
                        <a:pt x="840" y="93"/>
                      </a:cubicBezTo>
                      <a:cubicBezTo>
                        <a:pt x="829" y="126"/>
                        <a:pt x="789" y="124"/>
                        <a:pt x="764" y="141"/>
                      </a:cubicBezTo>
                      <a:cubicBezTo>
                        <a:pt x="752" y="158"/>
                        <a:pt x="739" y="159"/>
                        <a:pt x="732" y="181"/>
                      </a:cubicBezTo>
                      <a:cubicBezTo>
                        <a:pt x="733" y="185"/>
                        <a:pt x="732" y="192"/>
                        <a:pt x="736" y="193"/>
                      </a:cubicBezTo>
                      <a:cubicBezTo>
                        <a:pt x="744" y="194"/>
                        <a:pt x="760" y="185"/>
                        <a:pt x="760" y="185"/>
                      </a:cubicBezTo>
                      <a:cubicBezTo>
                        <a:pt x="792" y="196"/>
                        <a:pt x="776" y="196"/>
                        <a:pt x="808" y="185"/>
                      </a:cubicBezTo>
                      <a:cubicBezTo>
                        <a:pt x="816" y="182"/>
                        <a:pt x="832" y="177"/>
                        <a:pt x="832" y="177"/>
                      </a:cubicBezTo>
                      <a:cubicBezTo>
                        <a:pt x="836" y="180"/>
                        <a:pt x="844" y="180"/>
                        <a:pt x="844" y="185"/>
                      </a:cubicBezTo>
                      <a:cubicBezTo>
                        <a:pt x="844" y="190"/>
                        <a:pt x="837" y="191"/>
                        <a:pt x="832" y="193"/>
                      </a:cubicBezTo>
                      <a:cubicBezTo>
                        <a:pt x="809" y="202"/>
                        <a:pt x="783" y="205"/>
                        <a:pt x="760" y="213"/>
                      </a:cubicBezTo>
                      <a:cubicBezTo>
                        <a:pt x="753" y="235"/>
                        <a:pt x="739" y="223"/>
                        <a:pt x="724" y="213"/>
                      </a:cubicBezTo>
                      <a:cubicBezTo>
                        <a:pt x="708" y="218"/>
                        <a:pt x="709" y="227"/>
                        <a:pt x="700" y="241"/>
                      </a:cubicBezTo>
                      <a:cubicBezTo>
                        <a:pt x="672" y="232"/>
                        <a:pt x="684" y="230"/>
                        <a:pt x="664" y="237"/>
                      </a:cubicBezTo>
                      <a:cubicBezTo>
                        <a:pt x="660" y="249"/>
                        <a:pt x="648" y="262"/>
                        <a:pt x="636" y="269"/>
                      </a:cubicBezTo>
                      <a:cubicBezTo>
                        <a:pt x="629" y="273"/>
                        <a:pt x="620" y="274"/>
                        <a:pt x="612" y="277"/>
                      </a:cubicBezTo>
                      <a:cubicBezTo>
                        <a:pt x="608" y="278"/>
                        <a:pt x="600" y="281"/>
                        <a:pt x="600" y="281"/>
                      </a:cubicBezTo>
                      <a:cubicBezTo>
                        <a:pt x="592" y="278"/>
                        <a:pt x="585" y="267"/>
                        <a:pt x="576" y="269"/>
                      </a:cubicBezTo>
                      <a:cubicBezTo>
                        <a:pt x="571" y="270"/>
                        <a:pt x="572" y="278"/>
                        <a:pt x="568" y="281"/>
                      </a:cubicBezTo>
                      <a:cubicBezTo>
                        <a:pt x="560" y="286"/>
                        <a:pt x="549" y="286"/>
                        <a:pt x="540" y="289"/>
                      </a:cubicBezTo>
                      <a:cubicBezTo>
                        <a:pt x="536" y="288"/>
                        <a:pt x="499" y="276"/>
                        <a:pt x="520" y="265"/>
                      </a:cubicBezTo>
                      <a:cubicBezTo>
                        <a:pt x="528" y="261"/>
                        <a:pt x="539" y="262"/>
                        <a:pt x="548" y="261"/>
                      </a:cubicBezTo>
                      <a:cubicBezTo>
                        <a:pt x="554" y="243"/>
                        <a:pt x="562" y="237"/>
                        <a:pt x="544" y="225"/>
                      </a:cubicBezTo>
                      <a:cubicBezTo>
                        <a:pt x="517" y="232"/>
                        <a:pt x="524" y="249"/>
                        <a:pt x="500" y="257"/>
                      </a:cubicBezTo>
                      <a:cubicBezTo>
                        <a:pt x="488" y="275"/>
                        <a:pt x="473" y="278"/>
                        <a:pt x="456" y="289"/>
                      </a:cubicBezTo>
                      <a:cubicBezTo>
                        <a:pt x="436" y="282"/>
                        <a:pt x="448" y="284"/>
                        <a:pt x="420" y="293"/>
                      </a:cubicBezTo>
                      <a:cubicBezTo>
                        <a:pt x="411" y="296"/>
                        <a:pt x="396" y="309"/>
                        <a:pt x="396" y="309"/>
                      </a:cubicBezTo>
                      <a:cubicBezTo>
                        <a:pt x="391" y="328"/>
                        <a:pt x="388" y="336"/>
                        <a:pt x="368" y="329"/>
                      </a:cubicBezTo>
                      <a:cubicBezTo>
                        <a:pt x="351" y="335"/>
                        <a:pt x="333" y="339"/>
                        <a:pt x="316" y="345"/>
                      </a:cubicBezTo>
                      <a:cubicBezTo>
                        <a:pt x="290" y="341"/>
                        <a:pt x="284" y="340"/>
                        <a:pt x="276" y="365"/>
                      </a:cubicBezTo>
                      <a:cubicBezTo>
                        <a:pt x="248" y="356"/>
                        <a:pt x="260" y="354"/>
                        <a:pt x="240" y="361"/>
                      </a:cubicBezTo>
                      <a:cubicBezTo>
                        <a:pt x="225" y="384"/>
                        <a:pt x="241" y="417"/>
                        <a:pt x="212" y="437"/>
                      </a:cubicBezTo>
                      <a:cubicBezTo>
                        <a:pt x="193" y="466"/>
                        <a:pt x="197" y="456"/>
                        <a:pt x="172" y="473"/>
                      </a:cubicBezTo>
                      <a:cubicBezTo>
                        <a:pt x="160" y="469"/>
                        <a:pt x="148" y="465"/>
                        <a:pt x="136" y="461"/>
                      </a:cubicBezTo>
                      <a:cubicBezTo>
                        <a:pt x="132" y="460"/>
                        <a:pt x="124" y="457"/>
                        <a:pt x="124" y="457"/>
                      </a:cubicBezTo>
                      <a:cubicBezTo>
                        <a:pt x="113" y="458"/>
                        <a:pt x="101" y="456"/>
                        <a:pt x="92" y="461"/>
                      </a:cubicBezTo>
                      <a:cubicBezTo>
                        <a:pt x="80" y="468"/>
                        <a:pt x="69" y="498"/>
                        <a:pt x="56" y="509"/>
                      </a:cubicBezTo>
                      <a:cubicBezTo>
                        <a:pt x="48" y="516"/>
                        <a:pt x="40" y="523"/>
                        <a:pt x="32" y="529"/>
                      </a:cubicBezTo>
                      <a:cubicBezTo>
                        <a:pt x="24" y="535"/>
                        <a:pt x="8" y="545"/>
                        <a:pt x="8" y="545"/>
                      </a:cubicBezTo>
                      <a:cubicBezTo>
                        <a:pt x="14" y="562"/>
                        <a:pt x="10" y="567"/>
                        <a:pt x="0" y="581"/>
                      </a:cubicBezTo>
                      <a:cubicBezTo>
                        <a:pt x="25" y="585"/>
                        <a:pt x="32" y="585"/>
                        <a:pt x="24" y="609"/>
                      </a:cubicBezTo>
                      <a:cubicBezTo>
                        <a:pt x="40" y="614"/>
                        <a:pt x="71" y="603"/>
                        <a:pt x="88" y="601"/>
                      </a:cubicBezTo>
                      <a:cubicBezTo>
                        <a:pt x="105" y="595"/>
                        <a:pt x="108" y="604"/>
                        <a:pt x="124" y="593"/>
                      </a:cubicBezTo>
                      <a:cubicBezTo>
                        <a:pt x="133" y="565"/>
                        <a:pt x="124" y="572"/>
                        <a:pt x="144" y="565"/>
                      </a:cubicBezTo>
                      <a:cubicBezTo>
                        <a:pt x="148" y="561"/>
                        <a:pt x="153" y="558"/>
                        <a:pt x="156" y="553"/>
                      </a:cubicBezTo>
                      <a:cubicBezTo>
                        <a:pt x="158" y="549"/>
                        <a:pt x="157" y="544"/>
                        <a:pt x="160" y="541"/>
                      </a:cubicBezTo>
                      <a:cubicBezTo>
                        <a:pt x="166" y="533"/>
                        <a:pt x="208" y="513"/>
                        <a:pt x="220" y="509"/>
                      </a:cubicBezTo>
                      <a:cubicBezTo>
                        <a:pt x="238" y="481"/>
                        <a:pt x="227" y="488"/>
                        <a:pt x="248" y="481"/>
                      </a:cubicBezTo>
                      <a:cubicBezTo>
                        <a:pt x="265" y="487"/>
                        <a:pt x="266" y="499"/>
                        <a:pt x="284" y="493"/>
                      </a:cubicBezTo>
                      <a:cubicBezTo>
                        <a:pt x="296" y="481"/>
                        <a:pt x="306" y="478"/>
                        <a:pt x="320" y="469"/>
                      </a:cubicBezTo>
                      <a:cubicBezTo>
                        <a:pt x="336" y="493"/>
                        <a:pt x="323" y="469"/>
                        <a:pt x="332" y="513"/>
                      </a:cubicBezTo>
                      <a:cubicBezTo>
                        <a:pt x="336" y="532"/>
                        <a:pt x="346" y="543"/>
                        <a:pt x="352" y="561"/>
                      </a:cubicBezTo>
                      <a:cubicBezTo>
                        <a:pt x="337" y="571"/>
                        <a:pt x="341" y="579"/>
                        <a:pt x="324" y="585"/>
                      </a:cubicBezTo>
                      <a:cubicBezTo>
                        <a:pt x="308" y="609"/>
                        <a:pt x="302" y="596"/>
                        <a:pt x="280" y="589"/>
                      </a:cubicBezTo>
                      <a:cubicBezTo>
                        <a:pt x="284" y="605"/>
                        <a:pt x="298" y="624"/>
                        <a:pt x="312" y="633"/>
                      </a:cubicBezTo>
                      <a:cubicBezTo>
                        <a:pt x="324" y="598"/>
                        <a:pt x="314" y="613"/>
                        <a:pt x="344" y="597"/>
                      </a:cubicBezTo>
                      <a:cubicBezTo>
                        <a:pt x="352" y="592"/>
                        <a:pt x="368" y="581"/>
                        <a:pt x="368" y="581"/>
                      </a:cubicBezTo>
                      <a:cubicBezTo>
                        <a:pt x="369" y="572"/>
                        <a:pt x="365" y="560"/>
                        <a:pt x="372" y="553"/>
                      </a:cubicBezTo>
                      <a:cubicBezTo>
                        <a:pt x="376" y="549"/>
                        <a:pt x="378" y="564"/>
                        <a:pt x="384" y="565"/>
                      </a:cubicBezTo>
                      <a:cubicBezTo>
                        <a:pt x="389" y="566"/>
                        <a:pt x="392" y="560"/>
                        <a:pt x="396" y="557"/>
                      </a:cubicBezTo>
                      <a:cubicBezTo>
                        <a:pt x="390" y="538"/>
                        <a:pt x="374" y="528"/>
                        <a:pt x="368" y="509"/>
                      </a:cubicBezTo>
                      <a:cubicBezTo>
                        <a:pt x="371" y="501"/>
                        <a:pt x="379" y="493"/>
                        <a:pt x="376" y="485"/>
                      </a:cubicBezTo>
                      <a:cubicBezTo>
                        <a:pt x="373" y="477"/>
                        <a:pt x="368" y="461"/>
                        <a:pt x="368" y="461"/>
                      </a:cubicBezTo>
                      <a:cubicBezTo>
                        <a:pt x="380" y="443"/>
                        <a:pt x="385" y="449"/>
                        <a:pt x="396" y="465"/>
                      </a:cubicBezTo>
                      <a:cubicBezTo>
                        <a:pt x="402" y="488"/>
                        <a:pt x="411" y="497"/>
                        <a:pt x="424" y="517"/>
                      </a:cubicBezTo>
                      <a:cubicBezTo>
                        <a:pt x="418" y="536"/>
                        <a:pt x="430" y="537"/>
                        <a:pt x="412" y="549"/>
                      </a:cubicBezTo>
                      <a:cubicBezTo>
                        <a:pt x="389" y="583"/>
                        <a:pt x="414" y="540"/>
                        <a:pt x="408" y="573"/>
                      </a:cubicBezTo>
                      <a:cubicBezTo>
                        <a:pt x="407" y="582"/>
                        <a:pt x="399" y="589"/>
                        <a:pt x="396" y="597"/>
                      </a:cubicBezTo>
                      <a:cubicBezTo>
                        <a:pt x="402" y="614"/>
                        <a:pt x="398" y="619"/>
                        <a:pt x="388" y="633"/>
                      </a:cubicBezTo>
                      <a:cubicBezTo>
                        <a:pt x="399" y="665"/>
                        <a:pt x="419" y="636"/>
                        <a:pt x="440" y="629"/>
                      </a:cubicBezTo>
                      <a:cubicBezTo>
                        <a:pt x="445" y="614"/>
                        <a:pt x="439" y="608"/>
                        <a:pt x="444" y="593"/>
                      </a:cubicBezTo>
                      <a:cubicBezTo>
                        <a:pt x="440" y="581"/>
                        <a:pt x="428" y="567"/>
                        <a:pt x="444" y="557"/>
                      </a:cubicBezTo>
                      <a:cubicBezTo>
                        <a:pt x="451" y="553"/>
                        <a:pt x="468" y="549"/>
                        <a:pt x="468" y="549"/>
                      </a:cubicBezTo>
                      <a:cubicBezTo>
                        <a:pt x="484" y="554"/>
                        <a:pt x="483" y="563"/>
                        <a:pt x="492" y="577"/>
                      </a:cubicBezTo>
                      <a:cubicBezTo>
                        <a:pt x="504" y="542"/>
                        <a:pt x="492" y="552"/>
                        <a:pt x="536" y="557"/>
                      </a:cubicBezTo>
                      <a:cubicBezTo>
                        <a:pt x="528" y="526"/>
                        <a:pt x="542" y="527"/>
                        <a:pt x="568" y="521"/>
                      </a:cubicBezTo>
                      <a:cubicBezTo>
                        <a:pt x="569" y="517"/>
                        <a:pt x="576" y="490"/>
                        <a:pt x="584" y="485"/>
                      </a:cubicBezTo>
                      <a:cubicBezTo>
                        <a:pt x="591" y="481"/>
                        <a:pt x="608" y="477"/>
                        <a:pt x="608" y="477"/>
                      </a:cubicBezTo>
                      <a:cubicBezTo>
                        <a:pt x="639" y="485"/>
                        <a:pt x="614" y="492"/>
                        <a:pt x="640" y="501"/>
                      </a:cubicBezTo>
                      <a:cubicBezTo>
                        <a:pt x="644" y="497"/>
                        <a:pt x="646" y="490"/>
                        <a:pt x="652" y="489"/>
                      </a:cubicBezTo>
                      <a:cubicBezTo>
                        <a:pt x="661" y="487"/>
                        <a:pt x="672" y="497"/>
                        <a:pt x="680" y="493"/>
                      </a:cubicBezTo>
                      <a:cubicBezTo>
                        <a:pt x="685" y="491"/>
                        <a:pt x="680" y="481"/>
                        <a:pt x="676" y="477"/>
                      </a:cubicBezTo>
                      <a:cubicBezTo>
                        <a:pt x="670" y="472"/>
                        <a:pt x="660" y="472"/>
                        <a:pt x="652" y="469"/>
                      </a:cubicBezTo>
                      <a:cubicBezTo>
                        <a:pt x="648" y="468"/>
                        <a:pt x="640" y="465"/>
                        <a:pt x="640" y="465"/>
                      </a:cubicBezTo>
                      <a:cubicBezTo>
                        <a:pt x="654" y="455"/>
                        <a:pt x="659" y="451"/>
                        <a:pt x="676" y="457"/>
                      </a:cubicBezTo>
                      <a:cubicBezTo>
                        <a:pt x="685" y="455"/>
                        <a:pt x="694" y="448"/>
                        <a:pt x="704" y="449"/>
                      </a:cubicBezTo>
                      <a:cubicBezTo>
                        <a:pt x="718" y="451"/>
                        <a:pt x="759" y="463"/>
                        <a:pt x="772" y="469"/>
                      </a:cubicBezTo>
                      <a:cubicBezTo>
                        <a:pt x="784" y="475"/>
                        <a:pt x="808" y="485"/>
                        <a:pt x="808" y="485"/>
                      </a:cubicBezTo>
                      <a:cubicBezTo>
                        <a:pt x="814" y="484"/>
                        <a:pt x="833" y="481"/>
                        <a:pt x="840" y="477"/>
                      </a:cubicBezTo>
                      <a:cubicBezTo>
                        <a:pt x="848" y="472"/>
                        <a:pt x="864" y="461"/>
                        <a:pt x="864" y="461"/>
                      </a:cubicBezTo>
                      <a:cubicBezTo>
                        <a:pt x="869" y="462"/>
                        <a:pt x="889" y="465"/>
                        <a:pt x="892" y="473"/>
                      </a:cubicBezTo>
                      <a:cubicBezTo>
                        <a:pt x="897" y="486"/>
                        <a:pt x="876" y="498"/>
                        <a:pt x="868" y="501"/>
                      </a:cubicBezTo>
                      <a:cubicBezTo>
                        <a:pt x="856" y="513"/>
                        <a:pt x="845" y="513"/>
                        <a:pt x="840" y="529"/>
                      </a:cubicBezTo>
                      <a:cubicBezTo>
                        <a:pt x="845" y="545"/>
                        <a:pt x="839" y="557"/>
                        <a:pt x="844" y="573"/>
                      </a:cubicBezTo>
                      <a:cubicBezTo>
                        <a:pt x="854" y="558"/>
                        <a:pt x="858" y="555"/>
                        <a:pt x="876" y="561"/>
                      </a:cubicBezTo>
                      <a:cubicBezTo>
                        <a:pt x="885" y="588"/>
                        <a:pt x="895" y="558"/>
                        <a:pt x="908" y="549"/>
                      </a:cubicBezTo>
                      <a:cubicBezTo>
                        <a:pt x="911" y="545"/>
                        <a:pt x="912" y="540"/>
                        <a:pt x="916" y="537"/>
                      </a:cubicBezTo>
                      <a:cubicBezTo>
                        <a:pt x="919" y="534"/>
                        <a:pt x="925" y="536"/>
                        <a:pt x="928" y="533"/>
                      </a:cubicBezTo>
                      <a:cubicBezTo>
                        <a:pt x="931" y="530"/>
                        <a:pt x="930" y="525"/>
                        <a:pt x="932" y="521"/>
                      </a:cubicBezTo>
                      <a:cubicBezTo>
                        <a:pt x="939" y="506"/>
                        <a:pt x="949" y="502"/>
                        <a:pt x="964" y="497"/>
                      </a:cubicBezTo>
                      <a:cubicBezTo>
                        <a:pt x="987" y="500"/>
                        <a:pt x="1017" y="513"/>
                        <a:pt x="1040" y="513"/>
                      </a:cubicBezTo>
                      <a:lnTo>
                        <a:pt x="1180" y="541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093680" y="1684440"/>
                  <a:ext cx="392040" cy="302040"/>
                </a:xfrm>
                <a:custGeom>
                  <a:avLst/>
                  <a:gdLst/>
                  <a:ahLst/>
                  <a:rect l="l" t="t" r="r" b="b"/>
                  <a:pathLst>
                    <a:path w="225" h="170">
                      <a:moveTo>
                        <a:pt x="14" y="156"/>
                      </a:moveTo>
                      <a:cubicBezTo>
                        <a:pt x="22" y="153"/>
                        <a:pt x="30" y="151"/>
                        <a:pt x="38" y="148"/>
                      </a:cubicBezTo>
                      <a:cubicBezTo>
                        <a:pt x="42" y="147"/>
                        <a:pt x="50" y="144"/>
                        <a:pt x="50" y="144"/>
                      </a:cubicBezTo>
                      <a:cubicBezTo>
                        <a:pt x="56" y="126"/>
                        <a:pt x="43" y="122"/>
                        <a:pt x="62" y="116"/>
                      </a:cubicBezTo>
                      <a:cubicBezTo>
                        <a:pt x="80" y="89"/>
                        <a:pt x="56" y="119"/>
                        <a:pt x="94" y="100"/>
                      </a:cubicBezTo>
                      <a:cubicBezTo>
                        <a:pt x="102" y="96"/>
                        <a:pt x="106" y="85"/>
                        <a:pt x="114" y="80"/>
                      </a:cubicBezTo>
                      <a:cubicBezTo>
                        <a:pt x="131" y="55"/>
                        <a:pt x="104" y="46"/>
                        <a:pt x="146" y="32"/>
                      </a:cubicBezTo>
                      <a:cubicBezTo>
                        <a:pt x="153" y="11"/>
                        <a:pt x="180" y="12"/>
                        <a:pt x="198" y="0"/>
                      </a:cubicBezTo>
                      <a:cubicBezTo>
                        <a:pt x="225" y="9"/>
                        <a:pt x="203" y="16"/>
                        <a:pt x="190" y="20"/>
                      </a:cubicBezTo>
                      <a:cubicBezTo>
                        <a:pt x="198" y="43"/>
                        <a:pt x="175" y="34"/>
                        <a:pt x="158" y="40"/>
                      </a:cubicBezTo>
                      <a:cubicBezTo>
                        <a:pt x="144" y="60"/>
                        <a:pt x="146" y="91"/>
                        <a:pt x="126" y="104"/>
                      </a:cubicBezTo>
                      <a:cubicBezTo>
                        <a:pt x="127" y="108"/>
                        <a:pt x="131" y="112"/>
                        <a:pt x="130" y="116"/>
                      </a:cubicBezTo>
                      <a:cubicBezTo>
                        <a:pt x="127" y="125"/>
                        <a:pt x="114" y="140"/>
                        <a:pt x="114" y="140"/>
                      </a:cubicBezTo>
                      <a:cubicBezTo>
                        <a:pt x="143" y="150"/>
                        <a:pt x="95" y="153"/>
                        <a:pt x="78" y="164"/>
                      </a:cubicBezTo>
                      <a:cubicBezTo>
                        <a:pt x="68" y="161"/>
                        <a:pt x="0" y="170"/>
                        <a:pt x="14" y="15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076760" y="1782000"/>
                  <a:ext cx="205560" cy="118440"/>
                </a:xfrm>
                <a:custGeom>
                  <a:avLst/>
                  <a:gdLst/>
                  <a:ahLst/>
                  <a:rect l="l" t="t" r="r" b="b"/>
                  <a:pathLst>
                    <a:path w="118" h="67">
                      <a:moveTo>
                        <a:pt x="12" y="49"/>
                      </a:moveTo>
                      <a:cubicBezTo>
                        <a:pt x="23" y="42"/>
                        <a:pt x="48" y="33"/>
                        <a:pt x="48" y="33"/>
                      </a:cubicBezTo>
                      <a:cubicBezTo>
                        <a:pt x="56" y="8"/>
                        <a:pt x="70" y="12"/>
                        <a:pt x="96" y="9"/>
                      </a:cubicBezTo>
                      <a:cubicBezTo>
                        <a:pt x="100" y="6"/>
                        <a:pt x="103" y="0"/>
                        <a:pt x="108" y="1"/>
                      </a:cubicBezTo>
                      <a:cubicBezTo>
                        <a:pt x="113" y="2"/>
                        <a:pt x="118" y="9"/>
                        <a:pt x="116" y="13"/>
                      </a:cubicBezTo>
                      <a:cubicBezTo>
                        <a:pt x="106" y="37"/>
                        <a:pt x="95" y="36"/>
                        <a:pt x="76" y="41"/>
                      </a:cubicBezTo>
                      <a:cubicBezTo>
                        <a:pt x="62" y="50"/>
                        <a:pt x="54" y="51"/>
                        <a:pt x="44" y="65"/>
                      </a:cubicBezTo>
                      <a:cubicBezTo>
                        <a:pt x="39" y="64"/>
                        <a:pt x="33" y="61"/>
                        <a:pt x="28" y="61"/>
                      </a:cubicBezTo>
                      <a:cubicBezTo>
                        <a:pt x="24" y="61"/>
                        <a:pt x="20" y="67"/>
                        <a:pt x="16" y="65"/>
                      </a:cubicBezTo>
                      <a:cubicBezTo>
                        <a:pt x="0" y="59"/>
                        <a:pt x="7" y="54"/>
                        <a:pt x="12" y="4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383480" y="1379160"/>
                  <a:ext cx="234360" cy="132840"/>
                </a:xfrm>
                <a:custGeom>
                  <a:avLst/>
                  <a:gdLst/>
                  <a:ahLst/>
                  <a:rect l="l" t="t" r="r" b="b"/>
                  <a:pathLst>
                    <a:path w="134" h="74">
                      <a:moveTo>
                        <a:pt x="8" y="59"/>
                      </a:moveTo>
                      <a:cubicBezTo>
                        <a:pt x="2" y="42"/>
                        <a:pt x="3" y="37"/>
                        <a:pt x="20" y="31"/>
                      </a:cubicBezTo>
                      <a:cubicBezTo>
                        <a:pt x="40" y="0"/>
                        <a:pt x="60" y="18"/>
                        <a:pt x="92" y="23"/>
                      </a:cubicBezTo>
                      <a:cubicBezTo>
                        <a:pt x="134" y="37"/>
                        <a:pt x="105" y="42"/>
                        <a:pt x="88" y="51"/>
                      </a:cubicBezTo>
                      <a:cubicBezTo>
                        <a:pt x="68" y="61"/>
                        <a:pt x="49" y="64"/>
                        <a:pt x="28" y="71"/>
                      </a:cubicBezTo>
                      <a:cubicBezTo>
                        <a:pt x="1" y="67"/>
                        <a:pt x="0" y="74"/>
                        <a:pt x="8" y="5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641600" y="972360"/>
                  <a:ext cx="614160" cy="341640"/>
                </a:xfrm>
                <a:custGeom>
                  <a:avLst/>
                  <a:gdLst/>
                  <a:ahLst/>
                  <a:rect l="l" t="t" r="r" b="b"/>
                  <a:pathLst>
                    <a:path w="352" h="192">
                      <a:moveTo>
                        <a:pt x="0" y="156"/>
                      </a:moveTo>
                      <a:cubicBezTo>
                        <a:pt x="11" y="172"/>
                        <a:pt x="2" y="175"/>
                        <a:pt x="8" y="192"/>
                      </a:cubicBezTo>
                      <a:cubicBezTo>
                        <a:pt x="23" y="187"/>
                        <a:pt x="27" y="177"/>
                        <a:pt x="40" y="168"/>
                      </a:cubicBezTo>
                      <a:cubicBezTo>
                        <a:pt x="63" y="134"/>
                        <a:pt x="90" y="135"/>
                        <a:pt x="128" y="132"/>
                      </a:cubicBezTo>
                      <a:cubicBezTo>
                        <a:pt x="170" y="121"/>
                        <a:pt x="120" y="136"/>
                        <a:pt x="156" y="120"/>
                      </a:cubicBezTo>
                      <a:cubicBezTo>
                        <a:pt x="164" y="117"/>
                        <a:pt x="180" y="112"/>
                        <a:pt x="180" y="112"/>
                      </a:cubicBezTo>
                      <a:cubicBezTo>
                        <a:pt x="183" y="108"/>
                        <a:pt x="184" y="103"/>
                        <a:pt x="188" y="100"/>
                      </a:cubicBezTo>
                      <a:cubicBezTo>
                        <a:pt x="188" y="100"/>
                        <a:pt x="218" y="90"/>
                        <a:pt x="224" y="88"/>
                      </a:cubicBezTo>
                      <a:cubicBezTo>
                        <a:pt x="241" y="82"/>
                        <a:pt x="255" y="70"/>
                        <a:pt x="272" y="64"/>
                      </a:cubicBezTo>
                      <a:cubicBezTo>
                        <a:pt x="296" y="40"/>
                        <a:pt x="319" y="43"/>
                        <a:pt x="352" y="40"/>
                      </a:cubicBezTo>
                      <a:cubicBezTo>
                        <a:pt x="328" y="32"/>
                        <a:pt x="324" y="25"/>
                        <a:pt x="324" y="0"/>
                      </a:cubicBezTo>
                      <a:lnTo>
                        <a:pt x="200" y="52"/>
                      </a:lnTo>
                      <a:lnTo>
                        <a:pt x="76" y="108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374560" y="1086840"/>
                  <a:ext cx="327240" cy="148320"/>
                </a:xfrm>
                <a:custGeom>
                  <a:avLst/>
                  <a:gdLst/>
                  <a:ahLst/>
                  <a:rect l="l" t="t" r="r" b="b"/>
                  <a:pathLst>
                    <a:path w="187" h="84">
                      <a:moveTo>
                        <a:pt x="8" y="68"/>
                      </a:moveTo>
                      <a:cubicBezTo>
                        <a:pt x="29" y="63"/>
                        <a:pt x="35" y="47"/>
                        <a:pt x="56" y="40"/>
                      </a:cubicBezTo>
                      <a:cubicBezTo>
                        <a:pt x="62" y="23"/>
                        <a:pt x="61" y="14"/>
                        <a:pt x="76" y="4"/>
                      </a:cubicBezTo>
                      <a:cubicBezTo>
                        <a:pt x="84" y="7"/>
                        <a:pt x="91" y="15"/>
                        <a:pt x="100" y="16"/>
                      </a:cubicBezTo>
                      <a:cubicBezTo>
                        <a:pt x="110" y="18"/>
                        <a:pt x="127" y="3"/>
                        <a:pt x="136" y="0"/>
                      </a:cubicBezTo>
                      <a:cubicBezTo>
                        <a:pt x="163" y="9"/>
                        <a:pt x="137" y="25"/>
                        <a:pt x="164" y="16"/>
                      </a:cubicBezTo>
                      <a:cubicBezTo>
                        <a:pt x="171" y="17"/>
                        <a:pt x="180" y="15"/>
                        <a:pt x="184" y="20"/>
                      </a:cubicBezTo>
                      <a:cubicBezTo>
                        <a:pt x="187" y="24"/>
                        <a:pt x="185" y="33"/>
                        <a:pt x="180" y="36"/>
                      </a:cubicBezTo>
                      <a:cubicBezTo>
                        <a:pt x="175" y="39"/>
                        <a:pt x="169" y="33"/>
                        <a:pt x="164" y="32"/>
                      </a:cubicBezTo>
                      <a:cubicBezTo>
                        <a:pt x="135" y="42"/>
                        <a:pt x="147" y="45"/>
                        <a:pt x="128" y="32"/>
                      </a:cubicBezTo>
                      <a:cubicBezTo>
                        <a:pt x="115" y="35"/>
                        <a:pt x="91" y="37"/>
                        <a:pt x="100" y="48"/>
                      </a:cubicBezTo>
                      <a:cubicBezTo>
                        <a:pt x="105" y="55"/>
                        <a:pt x="124" y="56"/>
                        <a:pt x="124" y="56"/>
                      </a:cubicBezTo>
                      <a:cubicBezTo>
                        <a:pt x="113" y="72"/>
                        <a:pt x="109" y="75"/>
                        <a:pt x="92" y="64"/>
                      </a:cubicBezTo>
                      <a:cubicBezTo>
                        <a:pt x="82" y="49"/>
                        <a:pt x="78" y="46"/>
                        <a:pt x="60" y="52"/>
                      </a:cubicBezTo>
                      <a:cubicBezTo>
                        <a:pt x="57" y="56"/>
                        <a:pt x="56" y="62"/>
                        <a:pt x="52" y="64"/>
                      </a:cubicBezTo>
                      <a:cubicBezTo>
                        <a:pt x="45" y="68"/>
                        <a:pt x="36" y="66"/>
                        <a:pt x="28" y="68"/>
                      </a:cubicBezTo>
                      <a:cubicBezTo>
                        <a:pt x="2" y="74"/>
                        <a:pt x="0" y="84"/>
                        <a:pt x="8" y="6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950560" y="1082520"/>
                  <a:ext cx="310320" cy="81720"/>
                </a:xfrm>
                <a:custGeom>
                  <a:avLst/>
                  <a:gdLst/>
                  <a:ahLst/>
                  <a:rect l="l" t="t" r="r" b="b"/>
                  <a:pathLst>
                    <a:path w="178" h="46">
                      <a:moveTo>
                        <a:pt x="6" y="18"/>
                      </a:moveTo>
                      <a:cubicBezTo>
                        <a:pt x="41" y="6"/>
                        <a:pt x="52" y="12"/>
                        <a:pt x="78" y="38"/>
                      </a:cubicBezTo>
                      <a:cubicBezTo>
                        <a:pt x="89" y="31"/>
                        <a:pt x="114" y="22"/>
                        <a:pt x="114" y="22"/>
                      </a:cubicBezTo>
                      <a:cubicBezTo>
                        <a:pt x="129" y="0"/>
                        <a:pt x="148" y="14"/>
                        <a:pt x="166" y="26"/>
                      </a:cubicBezTo>
                      <a:cubicBezTo>
                        <a:pt x="116" y="39"/>
                        <a:pt x="178" y="26"/>
                        <a:pt x="138" y="26"/>
                      </a:cubicBezTo>
                      <a:cubicBezTo>
                        <a:pt x="119" y="26"/>
                        <a:pt x="103" y="40"/>
                        <a:pt x="86" y="46"/>
                      </a:cubicBezTo>
                      <a:cubicBezTo>
                        <a:pt x="70" y="41"/>
                        <a:pt x="15" y="29"/>
                        <a:pt x="2" y="22"/>
                      </a:cubicBezTo>
                      <a:cubicBezTo>
                        <a:pt x="0" y="21"/>
                        <a:pt x="5" y="19"/>
                        <a:pt x="6" y="1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779920" y="1243800"/>
                  <a:ext cx="419040" cy="190440"/>
                </a:xfrm>
                <a:custGeom>
                  <a:avLst/>
                  <a:gdLst/>
                  <a:ahLst/>
                  <a:rect l="l" t="t" r="r" b="b"/>
                  <a:pathLst>
                    <a:path w="240" h="108">
                      <a:moveTo>
                        <a:pt x="36" y="108"/>
                      </a:moveTo>
                      <a:cubicBezTo>
                        <a:pt x="19" y="102"/>
                        <a:pt x="6" y="107"/>
                        <a:pt x="0" y="88"/>
                      </a:cubicBezTo>
                      <a:cubicBezTo>
                        <a:pt x="5" y="72"/>
                        <a:pt x="14" y="73"/>
                        <a:pt x="28" y="64"/>
                      </a:cubicBezTo>
                      <a:cubicBezTo>
                        <a:pt x="29" y="60"/>
                        <a:pt x="29" y="54"/>
                        <a:pt x="32" y="52"/>
                      </a:cubicBezTo>
                      <a:cubicBezTo>
                        <a:pt x="39" y="47"/>
                        <a:pt x="56" y="44"/>
                        <a:pt x="56" y="44"/>
                      </a:cubicBezTo>
                      <a:cubicBezTo>
                        <a:pt x="57" y="40"/>
                        <a:pt x="57" y="35"/>
                        <a:pt x="60" y="32"/>
                      </a:cubicBezTo>
                      <a:cubicBezTo>
                        <a:pt x="73" y="22"/>
                        <a:pt x="148" y="7"/>
                        <a:pt x="168" y="4"/>
                      </a:cubicBezTo>
                      <a:cubicBezTo>
                        <a:pt x="172" y="5"/>
                        <a:pt x="176" y="8"/>
                        <a:pt x="180" y="8"/>
                      </a:cubicBezTo>
                      <a:cubicBezTo>
                        <a:pt x="188" y="7"/>
                        <a:pt x="204" y="0"/>
                        <a:pt x="204" y="0"/>
                      </a:cubicBezTo>
                      <a:cubicBezTo>
                        <a:pt x="221" y="6"/>
                        <a:pt x="240" y="4"/>
                        <a:pt x="216" y="20"/>
                      </a:cubicBezTo>
                      <a:cubicBezTo>
                        <a:pt x="199" y="14"/>
                        <a:pt x="164" y="31"/>
                        <a:pt x="144" y="36"/>
                      </a:cubicBezTo>
                      <a:cubicBezTo>
                        <a:pt x="110" y="25"/>
                        <a:pt x="93" y="46"/>
                        <a:pt x="64" y="56"/>
                      </a:cubicBezTo>
                      <a:cubicBezTo>
                        <a:pt x="70" y="73"/>
                        <a:pt x="69" y="78"/>
                        <a:pt x="52" y="84"/>
                      </a:cubicBezTo>
                      <a:cubicBezTo>
                        <a:pt x="48" y="90"/>
                        <a:pt x="42" y="108"/>
                        <a:pt x="36" y="10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1147320" y="2266200"/>
                  <a:ext cx="54720" cy="536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086480" y="2338200"/>
                  <a:ext cx="77760" cy="5652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339560" y="2554560"/>
                  <a:ext cx="132480" cy="320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565280" y="2550600"/>
                  <a:ext cx="73440" cy="77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966600" y="2334240"/>
                  <a:ext cx="53280" cy="536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47520" y="896760"/>
                <a:ext cx="9030960" cy="4962600"/>
                <a:chOff x="47520" y="896760"/>
                <a:chExt cx="9030960" cy="496260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3497040" y="4196520"/>
                  <a:ext cx="1026000" cy="948960"/>
                </a:xfrm>
                <a:custGeom>
                  <a:avLst/>
                  <a:gdLst/>
                  <a:ahLst/>
                  <a:rect l="l" t="t" r="r" b="b"/>
                  <a:pathLst>
                    <a:path w="588" h="534">
                      <a:moveTo>
                        <a:pt x="270" y="12"/>
                      </a:moveTo>
                      <a:lnTo>
                        <a:pt x="288" y="22"/>
                      </a:lnTo>
                      <a:lnTo>
                        <a:pt x="306" y="26"/>
                      </a:lnTo>
                      <a:lnTo>
                        <a:pt x="332" y="28"/>
                      </a:lnTo>
                      <a:cubicBezTo>
                        <a:pt x="334" y="37"/>
                        <a:pt x="332" y="40"/>
                        <a:pt x="328" y="48"/>
                      </a:cubicBezTo>
                      <a:cubicBezTo>
                        <a:pt x="326" y="52"/>
                        <a:pt x="320" y="60"/>
                        <a:pt x="320" y="60"/>
                      </a:cubicBezTo>
                      <a:cubicBezTo>
                        <a:pt x="319" y="67"/>
                        <a:pt x="317" y="75"/>
                        <a:pt x="318" y="82"/>
                      </a:cubicBezTo>
                      <a:cubicBezTo>
                        <a:pt x="319" y="92"/>
                        <a:pt x="358" y="108"/>
                        <a:pt x="366" y="114"/>
                      </a:cubicBezTo>
                      <a:cubicBezTo>
                        <a:pt x="372" y="118"/>
                        <a:pt x="378" y="122"/>
                        <a:pt x="384" y="126"/>
                      </a:cubicBezTo>
                      <a:cubicBezTo>
                        <a:pt x="386" y="127"/>
                        <a:pt x="390" y="130"/>
                        <a:pt x="390" y="130"/>
                      </a:cubicBezTo>
                      <a:cubicBezTo>
                        <a:pt x="403" y="126"/>
                        <a:pt x="405" y="108"/>
                        <a:pt x="408" y="96"/>
                      </a:cubicBezTo>
                      <a:cubicBezTo>
                        <a:pt x="410" y="80"/>
                        <a:pt x="412" y="78"/>
                        <a:pt x="404" y="66"/>
                      </a:cubicBezTo>
                      <a:cubicBezTo>
                        <a:pt x="407" y="50"/>
                        <a:pt x="407" y="26"/>
                        <a:pt x="410" y="12"/>
                      </a:cubicBezTo>
                      <a:cubicBezTo>
                        <a:pt x="411" y="7"/>
                        <a:pt x="418" y="0"/>
                        <a:pt x="418" y="0"/>
                      </a:cubicBezTo>
                      <a:cubicBezTo>
                        <a:pt x="435" y="6"/>
                        <a:pt x="429" y="25"/>
                        <a:pt x="436" y="38"/>
                      </a:cubicBezTo>
                      <a:cubicBezTo>
                        <a:pt x="441" y="47"/>
                        <a:pt x="447" y="53"/>
                        <a:pt x="450" y="62"/>
                      </a:cubicBezTo>
                      <a:cubicBezTo>
                        <a:pt x="447" y="71"/>
                        <a:pt x="452" y="73"/>
                        <a:pt x="460" y="76"/>
                      </a:cubicBezTo>
                      <a:cubicBezTo>
                        <a:pt x="464" y="82"/>
                        <a:pt x="466" y="88"/>
                        <a:pt x="470" y="94"/>
                      </a:cubicBezTo>
                      <a:cubicBezTo>
                        <a:pt x="475" y="117"/>
                        <a:pt x="483" y="138"/>
                        <a:pt x="490" y="160"/>
                      </a:cubicBezTo>
                      <a:cubicBezTo>
                        <a:pt x="491" y="164"/>
                        <a:pt x="499" y="165"/>
                        <a:pt x="502" y="166"/>
                      </a:cubicBezTo>
                      <a:cubicBezTo>
                        <a:pt x="506" y="168"/>
                        <a:pt x="514" y="174"/>
                        <a:pt x="514" y="174"/>
                      </a:cubicBezTo>
                      <a:cubicBezTo>
                        <a:pt x="520" y="184"/>
                        <a:pt x="524" y="196"/>
                        <a:pt x="534" y="202"/>
                      </a:cubicBezTo>
                      <a:cubicBezTo>
                        <a:pt x="538" y="208"/>
                        <a:pt x="535" y="218"/>
                        <a:pt x="538" y="220"/>
                      </a:cubicBezTo>
                      <a:cubicBezTo>
                        <a:pt x="541" y="222"/>
                        <a:pt x="550" y="224"/>
                        <a:pt x="550" y="224"/>
                      </a:cubicBezTo>
                      <a:cubicBezTo>
                        <a:pt x="552" y="238"/>
                        <a:pt x="552" y="246"/>
                        <a:pt x="564" y="254"/>
                      </a:cubicBezTo>
                      <a:cubicBezTo>
                        <a:pt x="568" y="261"/>
                        <a:pt x="575" y="270"/>
                        <a:pt x="582" y="272"/>
                      </a:cubicBezTo>
                      <a:cubicBezTo>
                        <a:pt x="579" y="288"/>
                        <a:pt x="585" y="301"/>
                        <a:pt x="588" y="316"/>
                      </a:cubicBezTo>
                      <a:cubicBezTo>
                        <a:pt x="587" y="333"/>
                        <a:pt x="587" y="373"/>
                        <a:pt x="576" y="390"/>
                      </a:cubicBezTo>
                      <a:cubicBezTo>
                        <a:pt x="567" y="403"/>
                        <a:pt x="557" y="417"/>
                        <a:pt x="552" y="432"/>
                      </a:cubicBezTo>
                      <a:cubicBezTo>
                        <a:pt x="554" y="444"/>
                        <a:pt x="556" y="447"/>
                        <a:pt x="546" y="454"/>
                      </a:cubicBezTo>
                      <a:cubicBezTo>
                        <a:pt x="540" y="464"/>
                        <a:pt x="543" y="458"/>
                        <a:pt x="538" y="472"/>
                      </a:cubicBezTo>
                      <a:cubicBezTo>
                        <a:pt x="537" y="474"/>
                        <a:pt x="536" y="478"/>
                        <a:pt x="536" y="478"/>
                      </a:cubicBezTo>
                      <a:cubicBezTo>
                        <a:pt x="535" y="488"/>
                        <a:pt x="536" y="497"/>
                        <a:pt x="526" y="502"/>
                      </a:cubicBezTo>
                      <a:cubicBezTo>
                        <a:pt x="520" y="505"/>
                        <a:pt x="508" y="512"/>
                        <a:pt x="508" y="512"/>
                      </a:cubicBezTo>
                      <a:cubicBezTo>
                        <a:pt x="493" y="534"/>
                        <a:pt x="507" y="519"/>
                        <a:pt x="494" y="526"/>
                      </a:cubicBezTo>
                      <a:cubicBezTo>
                        <a:pt x="490" y="528"/>
                        <a:pt x="482" y="534"/>
                        <a:pt x="482" y="534"/>
                      </a:cubicBezTo>
                      <a:cubicBezTo>
                        <a:pt x="473" y="528"/>
                        <a:pt x="470" y="520"/>
                        <a:pt x="462" y="514"/>
                      </a:cubicBezTo>
                      <a:cubicBezTo>
                        <a:pt x="457" y="521"/>
                        <a:pt x="457" y="525"/>
                        <a:pt x="450" y="530"/>
                      </a:cubicBezTo>
                      <a:cubicBezTo>
                        <a:pt x="438" y="527"/>
                        <a:pt x="429" y="517"/>
                        <a:pt x="418" y="514"/>
                      </a:cubicBezTo>
                      <a:cubicBezTo>
                        <a:pt x="413" y="513"/>
                        <a:pt x="402" y="510"/>
                        <a:pt x="402" y="510"/>
                      </a:cubicBezTo>
                      <a:cubicBezTo>
                        <a:pt x="394" y="505"/>
                        <a:pt x="390" y="503"/>
                        <a:pt x="396" y="494"/>
                      </a:cubicBezTo>
                      <a:cubicBezTo>
                        <a:pt x="394" y="488"/>
                        <a:pt x="392" y="482"/>
                        <a:pt x="390" y="476"/>
                      </a:cubicBezTo>
                      <a:cubicBezTo>
                        <a:pt x="388" y="471"/>
                        <a:pt x="378" y="468"/>
                        <a:pt x="378" y="468"/>
                      </a:cubicBezTo>
                      <a:cubicBezTo>
                        <a:pt x="372" y="474"/>
                        <a:pt x="368" y="477"/>
                        <a:pt x="360" y="480"/>
                      </a:cubicBezTo>
                      <a:cubicBezTo>
                        <a:pt x="353" y="469"/>
                        <a:pt x="359" y="456"/>
                        <a:pt x="366" y="446"/>
                      </a:cubicBezTo>
                      <a:cubicBezTo>
                        <a:pt x="365" y="439"/>
                        <a:pt x="362" y="431"/>
                        <a:pt x="362" y="424"/>
                      </a:cubicBezTo>
                      <a:cubicBezTo>
                        <a:pt x="362" y="421"/>
                        <a:pt x="366" y="418"/>
                        <a:pt x="364" y="416"/>
                      </a:cubicBezTo>
                      <a:cubicBezTo>
                        <a:pt x="362" y="414"/>
                        <a:pt x="361" y="420"/>
                        <a:pt x="360" y="422"/>
                      </a:cubicBezTo>
                      <a:cubicBezTo>
                        <a:pt x="358" y="426"/>
                        <a:pt x="357" y="430"/>
                        <a:pt x="356" y="434"/>
                      </a:cubicBezTo>
                      <a:cubicBezTo>
                        <a:pt x="353" y="443"/>
                        <a:pt x="347" y="451"/>
                        <a:pt x="338" y="454"/>
                      </a:cubicBezTo>
                      <a:cubicBezTo>
                        <a:pt x="337" y="456"/>
                        <a:pt x="338" y="460"/>
                        <a:pt x="336" y="460"/>
                      </a:cubicBezTo>
                      <a:cubicBezTo>
                        <a:pt x="326" y="460"/>
                        <a:pt x="326" y="435"/>
                        <a:pt x="322" y="428"/>
                      </a:cubicBezTo>
                      <a:cubicBezTo>
                        <a:pt x="315" y="413"/>
                        <a:pt x="305" y="409"/>
                        <a:pt x="290" y="406"/>
                      </a:cubicBezTo>
                      <a:cubicBezTo>
                        <a:pt x="284" y="402"/>
                        <a:pt x="268" y="398"/>
                        <a:pt x="268" y="398"/>
                      </a:cubicBezTo>
                      <a:cubicBezTo>
                        <a:pt x="246" y="400"/>
                        <a:pt x="227" y="404"/>
                        <a:pt x="206" y="410"/>
                      </a:cubicBezTo>
                      <a:cubicBezTo>
                        <a:pt x="185" y="416"/>
                        <a:pt x="215" y="406"/>
                        <a:pt x="186" y="416"/>
                      </a:cubicBezTo>
                      <a:cubicBezTo>
                        <a:pt x="184" y="417"/>
                        <a:pt x="180" y="418"/>
                        <a:pt x="180" y="418"/>
                      </a:cubicBezTo>
                      <a:cubicBezTo>
                        <a:pt x="174" y="426"/>
                        <a:pt x="168" y="433"/>
                        <a:pt x="162" y="442"/>
                      </a:cubicBezTo>
                      <a:cubicBezTo>
                        <a:pt x="160" y="446"/>
                        <a:pt x="150" y="446"/>
                        <a:pt x="150" y="446"/>
                      </a:cubicBezTo>
                      <a:cubicBezTo>
                        <a:pt x="143" y="444"/>
                        <a:pt x="135" y="442"/>
                        <a:pt x="128" y="440"/>
                      </a:cubicBezTo>
                      <a:cubicBezTo>
                        <a:pt x="116" y="444"/>
                        <a:pt x="113" y="456"/>
                        <a:pt x="100" y="460"/>
                      </a:cubicBezTo>
                      <a:cubicBezTo>
                        <a:pt x="94" y="462"/>
                        <a:pt x="82" y="466"/>
                        <a:pt x="82" y="466"/>
                      </a:cubicBezTo>
                      <a:cubicBezTo>
                        <a:pt x="66" y="462"/>
                        <a:pt x="59" y="457"/>
                        <a:pt x="46" y="448"/>
                      </a:cubicBezTo>
                      <a:cubicBezTo>
                        <a:pt x="43" y="438"/>
                        <a:pt x="50" y="425"/>
                        <a:pt x="52" y="414"/>
                      </a:cubicBezTo>
                      <a:cubicBezTo>
                        <a:pt x="48" y="400"/>
                        <a:pt x="47" y="381"/>
                        <a:pt x="40" y="368"/>
                      </a:cubicBezTo>
                      <a:cubicBezTo>
                        <a:pt x="30" y="349"/>
                        <a:pt x="15" y="335"/>
                        <a:pt x="8" y="314"/>
                      </a:cubicBezTo>
                      <a:cubicBezTo>
                        <a:pt x="10" y="293"/>
                        <a:pt x="12" y="296"/>
                        <a:pt x="8" y="282"/>
                      </a:cubicBezTo>
                      <a:cubicBezTo>
                        <a:pt x="6" y="274"/>
                        <a:pt x="0" y="258"/>
                        <a:pt x="0" y="258"/>
                      </a:cubicBezTo>
                      <a:cubicBezTo>
                        <a:pt x="3" y="240"/>
                        <a:pt x="2" y="223"/>
                        <a:pt x="18" y="212"/>
                      </a:cubicBezTo>
                      <a:cubicBezTo>
                        <a:pt x="24" y="202"/>
                        <a:pt x="28" y="190"/>
                        <a:pt x="40" y="186"/>
                      </a:cubicBezTo>
                      <a:cubicBezTo>
                        <a:pt x="67" y="190"/>
                        <a:pt x="79" y="172"/>
                        <a:pt x="102" y="164"/>
                      </a:cubicBezTo>
                      <a:cubicBezTo>
                        <a:pt x="105" y="156"/>
                        <a:pt x="111" y="147"/>
                        <a:pt x="116" y="140"/>
                      </a:cubicBezTo>
                      <a:cubicBezTo>
                        <a:pt x="117" y="125"/>
                        <a:pt x="115" y="118"/>
                        <a:pt x="126" y="110"/>
                      </a:cubicBezTo>
                      <a:cubicBezTo>
                        <a:pt x="132" y="112"/>
                        <a:pt x="140" y="124"/>
                        <a:pt x="140" y="124"/>
                      </a:cubicBezTo>
                      <a:cubicBezTo>
                        <a:pt x="143" y="123"/>
                        <a:pt x="147" y="124"/>
                        <a:pt x="148" y="122"/>
                      </a:cubicBezTo>
                      <a:cubicBezTo>
                        <a:pt x="149" y="120"/>
                        <a:pt x="146" y="117"/>
                        <a:pt x="146" y="114"/>
                      </a:cubicBezTo>
                      <a:cubicBezTo>
                        <a:pt x="146" y="106"/>
                        <a:pt x="154" y="91"/>
                        <a:pt x="162" y="88"/>
                      </a:cubicBezTo>
                      <a:cubicBezTo>
                        <a:pt x="160" y="77"/>
                        <a:pt x="159" y="74"/>
                        <a:pt x="168" y="68"/>
                      </a:cubicBezTo>
                      <a:cubicBezTo>
                        <a:pt x="171" y="60"/>
                        <a:pt x="174" y="57"/>
                        <a:pt x="182" y="54"/>
                      </a:cubicBezTo>
                      <a:cubicBezTo>
                        <a:pt x="195" y="58"/>
                        <a:pt x="196" y="76"/>
                        <a:pt x="208" y="84"/>
                      </a:cubicBezTo>
                      <a:cubicBezTo>
                        <a:pt x="216" y="81"/>
                        <a:pt x="217" y="78"/>
                        <a:pt x="220" y="70"/>
                      </a:cubicBezTo>
                      <a:cubicBezTo>
                        <a:pt x="228" y="73"/>
                        <a:pt x="231" y="80"/>
                        <a:pt x="234" y="70"/>
                      </a:cubicBezTo>
                      <a:cubicBezTo>
                        <a:pt x="231" y="61"/>
                        <a:pt x="223" y="54"/>
                        <a:pt x="236" y="50"/>
                      </a:cubicBezTo>
                      <a:cubicBezTo>
                        <a:pt x="237" y="46"/>
                        <a:pt x="235" y="42"/>
                        <a:pt x="236" y="38"/>
                      </a:cubicBezTo>
                      <a:cubicBezTo>
                        <a:pt x="239" y="31"/>
                        <a:pt x="254" y="32"/>
                        <a:pt x="260" y="30"/>
                      </a:cubicBezTo>
                      <a:cubicBezTo>
                        <a:pt x="261" y="28"/>
                        <a:pt x="264" y="26"/>
                        <a:pt x="264" y="24"/>
                      </a:cubicBezTo>
                      <a:cubicBezTo>
                        <a:pt x="264" y="20"/>
                        <a:pt x="260" y="12"/>
                        <a:pt x="260" y="12"/>
                      </a:cubicBezTo>
                      <a:cubicBezTo>
                        <a:pt x="267" y="10"/>
                        <a:pt x="264" y="9"/>
                        <a:pt x="270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298760" y="5171400"/>
                  <a:ext cx="106920" cy="138240"/>
                </a:xfrm>
                <a:custGeom>
                  <a:avLst/>
                  <a:gdLst/>
                  <a:ahLst/>
                  <a:rect l="l" t="t" r="r" b="b"/>
                  <a:pathLst>
                    <a:path w="61" h="78">
                      <a:moveTo>
                        <a:pt x="4" y="24"/>
                      </a:moveTo>
                      <a:cubicBezTo>
                        <a:pt x="13" y="27"/>
                        <a:pt x="22" y="25"/>
                        <a:pt x="32" y="28"/>
                      </a:cubicBezTo>
                      <a:cubicBezTo>
                        <a:pt x="48" y="23"/>
                        <a:pt x="39" y="4"/>
                        <a:pt x="52" y="0"/>
                      </a:cubicBezTo>
                      <a:cubicBezTo>
                        <a:pt x="57" y="7"/>
                        <a:pt x="59" y="10"/>
                        <a:pt x="56" y="18"/>
                      </a:cubicBezTo>
                      <a:cubicBezTo>
                        <a:pt x="61" y="42"/>
                        <a:pt x="50" y="70"/>
                        <a:pt x="26" y="78"/>
                      </a:cubicBezTo>
                      <a:cubicBezTo>
                        <a:pt x="21" y="70"/>
                        <a:pt x="19" y="62"/>
                        <a:pt x="16" y="54"/>
                      </a:cubicBezTo>
                      <a:cubicBezTo>
                        <a:pt x="13" y="45"/>
                        <a:pt x="3" y="40"/>
                        <a:pt x="0" y="30"/>
                      </a:cubicBezTo>
                      <a:cubicBezTo>
                        <a:pt x="2" y="23"/>
                        <a:pt x="0" y="24"/>
                        <a:pt x="4" y="2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4838400" y="5138640"/>
                  <a:ext cx="197280" cy="270000"/>
                </a:xfrm>
                <a:custGeom>
                  <a:avLst/>
                  <a:gdLst/>
                  <a:ahLst/>
                  <a:rect l="l" t="t" r="r" b="b"/>
                  <a:pathLst>
                    <a:path w="113" h="152">
                      <a:moveTo>
                        <a:pt x="75" y="0"/>
                      </a:moveTo>
                      <a:cubicBezTo>
                        <a:pt x="87" y="2"/>
                        <a:pt x="86" y="6"/>
                        <a:pt x="95" y="12"/>
                      </a:cubicBezTo>
                      <a:cubicBezTo>
                        <a:pt x="105" y="10"/>
                        <a:pt x="110" y="8"/>
                        <a:pt x="113" y="18"/>
                      </a:cubicBezTo>
                      <a:cubicBezTo>
                        <a:pt x="108" y="34"/>
                        <a:pt x="97" y="54"/>
                        <a:pt x="83" y="64"/>
                      </a:cubicBezTo>
                      <a:cubicBezTo>
                        <a:pt x="82" y="68"/>
                        <a:pt x="83" y="74"/>
                        <a:pt x="79" y="76"/>
                      </a:cubicBezTo>
                      <a:cubicBezTo>
                        <a:pt x="75" y="79"/>
                        <a:pt x="67" y="84"/>
                        <a:pt x="67" y="84"/>
                      </a:cubicBezTo>
                      <a:cubicBezTo>
                        <a:pt x="60" y="95"/>
                        <a:pt x="57" y="108"/>
                        <a:pt x="53" y="120"/>
                      </a:cubicBezTo>
                      <a:cubicBezTo>
                        <a:pt x="52" y="124"/>
                        <a:pt x="53" y="131"/>
                        <a:pt x="49" y="132"/>
                      </a:cubicBezTo>
                      <a:cubicBezTo>
                        <a:pt x="43" y="134"/>
                        <a:pt x="31" y="138"/>
                        <a:pt x="31" y="138"/>
                      </a:cubicBezTo>
                      <a:cubicBezTo>
                        <a:pt x="28" y="146"/>
                        <a:pt x="25" y="149"/>
                        <a:pt x="17" y="152"/>
                      </a:cubicBezTo>
                      <a:cubicBezTo>
                        <a:pt x="12" y="144"/>
                        <a:pt x="12" y="141"/>
                        <a:pt x="21" y="138"/>
                      </a:cubicBezTo>
                      <a:cubicBezTo>
                        <a:pt x="18" y="130"/>
                        <a:pt x="15" y="129"/>
                        <a:pt x="7" y="126"/>
                      </a:cubicBezTo>
                      <a:cubicBezTo>
                        <a:pt x="0" y="104"/>
                        <a:pt x="19" y="73"/>
                        <a:pt x="41" y="68"/>
                      </a:cubicBezTo>
                      <a:cubicBezTo>
                        <a:pt x="56" y="46"/>
                        <a:pt x="75" y="30"/>
                        <a:pt x="75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979520" y="4931280"/>
                  <a:ext cx="169200" cy="246960"/>
                </a:xfrm>
                <a:custGeom>
                  <a:avLst/>
                  <a:gdLst/>
                  <a:ahLst/>
                  <a:rect l="l" t="t" r="r" b="b"/>
                  <a:pathLst>
                    <a:path w="97" h="139">
                      <a:moveTo>
                        <a:pt x="62" y="97"/>
                      </a:moveTo>
                      <a:cubicBezTo>
                        <a:pt x="61" y="102"/>
                        <a:pt x="64" y="113"/>
                        <a:pt x="60" y="117"/>
                      </a:cubicBezTo>
                      <a:cubicBezTo>
                        <a:pt x="57" y="120"/>
                        <a:pt x="48" y="125"/>
                        <a:pt x="48" y="125"/>
                      </a:cubicBezTo>
                      <a:cubicBezTo>
                        <a:pt x="39" y="139"/>
                        <a:pt x="45" y="139"/>
                        <a:pt x="34" y="135"/>
                      </a:cubicBezTo>
                      <a:cubicBezTo>
                        <a:pt x="35" y="129"/>
                        <a:pt x="41" y="117"/>
                        <a:pt x="36" y="111"/>
                      </a:cubicBezTo>
                      <a:cubicBezTo>
                        <a:pt x="33" y="107"/>
                        <a:pt x="24" y="103"/>
                        <a:pt x="24" y="103"/>
                      </a:cubicBezTo>
                      <a:cubicBezTo>
                        <a:pt x="22" y="96"/>
                        <a:pt x="20" y="94"/>
                        <a:pt x="24" y="85"/>
                      </a:cubicBezTo>
                      <a:cubicBezTo>
                        <a:pt x="26" y="81"/>
                        <a:pt x="32" y="73"/>
                        <a:pt x="32" y="73"/>
                      </a:cubicBezTo>
                      <a:cubicBezTo>
                        <a:pt x="27" y="59"/>
                        <a:pt x="25" y="35"/>
                        <a:pt x="12" y="27"/>
                      </a:cubicBezTo>
                      <a:cubicBezTo>
                        <a:pt x="9" y="18"/>
                        <a:pt x="3" y="12"/>
                        <a:pt x="0" y="3"/>
                      </a:cubicBezTo>
                      <a:cubicBezTo>
                        <a:pt x="9" y="0"/>
                        <a:pt x="11" y="2"/>
                        <a:pt x="18" y="9"/>
                      </a:cubicBezTo>
                      <a:cubicBezTo>
                        <a:pt x="20" y="22"/>
                        <a:pt x="23" y="23"/>
                        <a:pt x="30" y="33"/>
                      </a:cubicBezTo>
                      <a:cubicBezTo>
                        <a:pt x="33" y="51"/>
                        <a:pt x="34" y="53"/>
                        <a:pt x="50" y="57"/>
                      </a:cubicBezTo>
                      <a:cubicBezTo>
                        <a:pt x="53" y="66"/>
                        <a:pt x="47" y="67"/>
                        <a:pt x="56" y="73"/>
                      </a:cubicBezTo>
                      <a:cubicBezTo>
                        <a:pt x="68" y="71"/>
                        <a:pt x="73" y="73"/>
                        <a:pt x="76" y="61"/>
                      </a:cubicBezTo>
                      <a:cubicBezTo>
                        <a:pt x="97" y="68"/>
                        <a:pt x="79" y="83"/>
                        <a:pt x="66" y="87"/>
                      </a:cubicBezTo>
                      <a:cubicBezTo>
                        <a:pt x="67" y="89"/>
                        <a:pt x="69" y="91"/>
                        <a:pt x="68" y="93"/>
                      </a:cubicBezTo>
                      <a:cubicBezTo>
                        <a:pt x="67" y="95"/>
                        <a:pt x="62" y="97"/>
                        <a:pt x="62" y="97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790520" y="4493160"/>
                  <a:ext cx="84240" cy="101520"/>
                </a:xfrm>
                <a:custGeom>
                  <a:avLst/>
                  <a:gdLst/>
                  <a:ahLst/>
                  <a:rect l="l" t="t" r="r" b="b"/>
                  <a:pathLst>
                    <a:path w="49" h="57">
                      <a:moveTo>
                        <a:pt x="9" y="5"/>
                      </a:moveTo>
                      <a:cubicBezTo>
                        <a:pt x="6" y="4"/>
                        <a:pt x="2" y="5"/>
                        <a:pt x="1" y="3"/>
                      </a:cubicBezTo>
                      <a:cubicBezTo>
                        <a:pt x="0" y="1"/>
                        <a:pt x="5" y="0"/>
                        <a:pt x="7" y="1"/>
                      </a:cubicBezTo>
                      <a:cubicBezTo>
                        <a:pt x="9" y="2"/>
                        <a:pt x="16" y="10"/>
                        <a:pt x="17" y="13"/>
                      </a:cubicBezTo>
                      <a:cubicBezTo>
                        <a:pt x="20" y="19"/>
                        <a:pt x="18" y="28"/>
                        <a:pt x="23" y="33"/>
                      </a:cubicBezTo>
                      <a:cubicBezTo>
                        <a:pt x="28" y="37"/>
                        <a:pt x="36" y="37"/>
                        <a:pt x="41" y="41"/>
                      </a:cubicBezTo>
                      <a:cubicBezTo>
                        <a:pt x="46" y="57"/>
                        <a:pt x="49" y="54"/>
                        <a:pt x="31" y="51"/>
                      </a:cubicBezTo>
                      <a:cubicBezTo>
                        <a:pt x="26" y="47"/>
                        <a:pt x="23" y="46"/>
                        <a:pt x="19" y="41"/>
                      </a:cubicBezTo>
                      <a:cubicBezTo>
                        <a:pt x="16" y="37"/>
                        <a:pt x="11" y="29"/>
                        <a:pt x="11" y="29"/>
                      </a:cubicBezTo>
                      <a:cubicBezTo>
                        <a:pt x="10" y="24"/>
                        <a:pt x="7" y="20"/>
                        <a:pt x="7" y="15"/>
                      </a:cubicBezTo>
                      <a:cubicBezTo>
                        <a:pt x="7" y="12"/>
                        <a:pt x="9" y="5"/>
                        <a:pt x="9" y="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4815720" y="4319640"/>
                  <a:ext cx="19800" cy="2232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3"/>
                      </a:moveTo>
                      <a:cubicBezTo>
                        <a:pt x="9" y="0"/>
                        <a:pt x="11" y="5"/>
                        <a:pt x="8" y="13"/>
                      </a:cubicBezTo>
                      <a:cubicBezTo>
                        <a:pt x="2" y="11"/>
                        <a:pt x="0" y="10"/>
                        <a:pt x="0" y="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846680" y="432360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8" y="0"/>
                      </a:moveTo>
                      <a:cubicBezTo>
                        <a:pt x="19" y="4"/>
                        <a:pt x="15" y="13"/>
                        <a:pt x="6" y="16"/>
                      </a:cubicBezTo>
                      <a:cubicBezTo>
                        <a:pt x="2" y="9"/>
                        <a:pt x="0" y="4"/>
                        <a:pt x="8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849560" y="4356000"/>
                  <a:ext cx="45000" cy="20880"/>
                </a:xfrm>
                <a:custGeom>
                  <a:avLst/>
                  <a:gdLst/>
                  <a:ahLst/>
                  <a:rect l="l" t="t" r="r" b="b"/>
                  <a:pathLst>
                    <a:path w="26" h="12">
                      <a:moveTo>
                        <a:pt x="9" y="0"/>
                      </a:moveTo>
                      <a:cubicBezTo>
                        <a:pt x="19" y="2"/>
                        <a:pt x="26" y="5"/>
                        <a:pt x="15" y="12"/>
                      </a:cubicBezTo>
                      <a:cubicBezTo>
                        <a:pt x="13" y="11"/>
                        <a:pt x="10" y="11"/>
                        <a:pt x="9" y="10"/>
                      </a:cubicBezTo>
                      <a:cubicBezTo>
                        <a:pt x="0" y="1"/>
                        <a:pt x="20" y="0"/>
                        <a:pt x="9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883400" y="441000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3" y="6"/>
                      </a:moveTo>
                      <a:cubicBezTo>
                        <a:pt x="12" y="0"/>
                        <a:pt x="14" y="5"/>
                        <a:pt x="11" y="14"/>
                      </a:cubicBezTo>
                      <a:cubicBezTo>
                        <a:pt x="8" y="13"/>
                        <a:pt x="3" y="14"/>
                        <a:pt x="1" y="12"/>
                      </a:cubicBezTo>
                      <a:cubicBezTo>
                        <a:pt x="0" y="11"/>
                        <a:pt x="3" y="6"/>
                        <a:pt x="3" y="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293080" y="4530240"/>
                  <a:ext cx="37800" cy="3636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1" y="0"/>
                      </a:moveTo>
                      <a:cubicBezTo>
                        <a:pt x="14" y="9"/>
                        <a:pt x="22" y="16"/>
                        <a:pt x="9" y="20"/>
                      </a:cubicBezTo>
                      <a:cubicBezTo>
                        <a:pt x="0" y="11"/>
                        <a:pt x="4" y="10"/>
                        <a:pt x="11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5133240" y="4384440"/>
                  <a:ext cx="38160" cy="4536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2" y="6"/>
                      </a:moveTo>
                      <a:cubicBezTo>
                        <a:pt x="11" y="0"/>
                        <a:pt x="16" y="1"/>
                        <a:pt x="22" y="10"/>
                      </a:cubicBezTo>
                      <a:cubicBezTo>
                        <a:pt x="19" y="25"/>
                        <a:pt x="16" y="22"/>
                        <a:pt x="2" y="20"/>
                      </a:cubicBezTo>
                      <a:cubicBezTo>
                        <a:pt x="0" y="13"/>
                        <a:pt x="2" y="13"/>
                        <a:pt x="2" y="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164560" y="4349160"/>
                  <a:ext cx="35280" cy="3240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6" y="18"/>
                      </a:moveTo>
                      <a:cubicBezTo>
                        <a:pt x="1" y="10"/>
                        <a:pt x="0" y="3"/>
                        <a:pt x="10" y="0"/>
                      </a:cubicBezTo>
                      <a:cubicBezTo>
                        <a:pt x="20" y="3"/>
                        <a:pt x="15" y="10"/>
                        <a:pt x="12" y="18"/>
                      </a:cubicBezTo>
                      <a:cubicBezTo>
                        <a:pt x="5" y="16"/>
                        <a:pt x="6" y="14"/>
                        <a:pt x="6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103720" y="4094640"/>
                  <a:ext cx="26640" cy="40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411520" y="4237560"/>
                  <a:ext cx="34920" cy="40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543200" y="4003200"/>
                  <a:ext cx="51840" cy="7488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917880" y="4072320"/>
                  <a:ext cx="43200" cy="28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729960" y="4107600"/>
                  <a:ext cx="114120" cy="81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608280" y="4099320"/>
                  <a:ext cx="119880" cy="831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966040" y="3638520"/>
                  <a:ext cx="619560" cy="4914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345840" y="3603240"/>
                  <a:ext cx="272160" cy="3657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611160" y="3772800"/>
                  <a:ext cx="190440" cy="6768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601440" y="3852000"/>
                  <a:ext cx="132480" cy="1850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822840" y="3751560"/>
                  <a:ext cx="64800" cy="1083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837240" y="3919680"/>
                  <a:ext cx="84600" cy="504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924720" y="3840480"/>
                  <a:ext cx="105480" cy="860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954240" y="3880080"/>
                  <a:ext cx="498240" cy="3232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385160" y="3915360"/>
                  <a:ext cx="135720" cy="1386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674600" y="3620160"/>
                  <a:ext cx="29520" cy="320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843800" y="3833640"/>
                  <a:ext cx="45360" cy="39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290480" y="3353040"/>
                  <a:ext cx="34920" cy="2664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001040" y="3578040"/>
                  <a:ext cx="34920" cy="262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684600" y="3510000"/>
                  <a:ext cx="139680" cy="1422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636720" y="3204720"/>
                  <a:ext cx="163800" cy="30924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681720" y="3432240"/>
                  <a:ext cx="54720" cy="8892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566160" y="3453480"/>
                  <a:ext cx="74520" cy="889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288200" y="3346200"/>
                  <a:ext cx="1790280" cy="2513160"/>
                </a:xfrm>
                <a:custGeom>
                  <a:avLst/>
                  <a:gdLst/>
                  <a:ahLst/>
                  <a:rect l="l" t="t" r="r" b="b"/>
                  <a:pathLst>
                    <a:path w="1026" h="1413">
                      <a:moveTo>
                        <a:pt x="363" y="69"/>
                      </a:moveTo>
                      <a:cubicBezTo>
                        <a:pt x="376" y="78"/>
                        <a:pt x="383" y="74"/>
                        <a:pt x="396" y="66"/>
                      </a:cubicBezTo>
                      <a:cubicBezTo>
                        <a:pt x="391" y="42"/>
                        <a:pt x="396" y="27"/>
                        <a:pt x="420" y="21"/>
                      </a:cubicBezTo>
                      <a:cubicBezTo>
                        <a:pt x="430" y="15"/>
                        <a:pt x="437" y="6"/>
                        <a:pt x="447" y="0"/>
                      </a:cubicBezTo>
                      <a:cubicBezTo>
                        <a:pt x="450" y="1"/>
                        <a:pt x="456" y="0"/>
                        <a:pt x="456" y="3"/>
                      </a:cubicBezTo>
                      <a:cubicBezTo>
                        <a:pt x="459" y="22"/>
                        <a:pt x="437" y="24"/>
                        <a:pt x="462" y="18"/>
                      </a:cubicBezTo>
                      <a:cubicBezTo>
                        <a:pt x="465" y="15"/>
                        <a:pt x="467" y="9"/>
                        <a:pt x="471" y="9"/>
                      </a:cubicBezTo>
                      <a:cubicBezTo>
                        <a:pt x="477" y="8"/>
                        <a:pt x="483" y="13"/>
                        <a:pt x="489" y="15"/>
                      </a:cubicBezTo>
                      <a:cubicBezTo>
                        <a:pt x="492" y="16"/>
                        <a:pt x="498" y="18"/>
                        <a:pt x="498" y="18"/>
                      </a:cubicBezTo>
                      <a:cubicBezTo>
                        <a:pt x="506" y="31"/>
                        <a:pt x="517" y="25"/>
                        <a:pt x="534" y="27"/>
                      </a:cubicBezTo>
                      <a:cubicBezTo>
                        <a:pt x="538" y="39"/>
                        <a:pt x="543" y="41"/>
                        <a:pt x="555" y="45"/>
                      </a:cubicBezTo>
                      <a:cubicBezTo>
                        <a:pt x="561" y="41"/>
                        <a:pt x="567" y="37"/>
                        <a:pt x="573" y="33"/>
                      </a:cubicBezTo>
                      <a:cubicBezTo>
                        <a:pt x="576" y="31"/>
                        <a:pt x="582" y="27"/>
                        <a:pt x="582" y="27"/>
                      </a:cubicBezTo>
                      <a:cubicBezTo>
                        <a:pt x="615" y="49"/>
                        <a:pt x="585" y="37"/>
                        <a:pt x="615" y="27"/>
                      </a:cubicBezTo>
                      <a:cubicBezTo>
                        <a:pt x="633" y="33"/>
                        <a:pt x="624" y="50"/>
                        <a:pt x="639" y="60"/>
                      </a:cubicBezTo>
                      <a:cubicBezTo>
                        <a:pt x="643" y="73"/>
                        <a:pt x="658" y="104"/>
                        <a:pt x="669" y="111"/>
                      </a:cubicBezTo>
                      <a:cubicBezTo>
                        <a:pt x="683" y="132"/>
                        <a:pt x="674" y="127"/>
                        <a:pt x="690" y="132"/>
                      </a:cubicBezTo>
                      <a:cubicBezTo>
                        <a:pt x="696" y="131"/>
                        <a:pt x="702" y="130"/>
                        <a:pt x="708" y="129"/>
                      </a:cubicBezTo>
                      <a:cubicBezTo>
                        <a:pt x="714" y="127"/>
                        <a:pt x="726" y="123"/>
                        <a:pt x="726" y="123"/>
                      </a:cubicBezTo>
                      <a:cubicBezTo>
                        <a:pt x="738" y="126"/>
                        <a:pt x="746" y="128"/>
                        <a:pt x="756" y="135"/>
                      </a:cubicBezTo>
                      <a:cubicBezTo>
                        <a:pt x="777" y="167"/>
                        <a:pt x="744" y="118"/>
                        <a:pt x="771" y="153"/>
                      </a:cubicBezTo>
                      <a:cubicBezTo>
                        <a:pt x="775" y="159"/>
                        <a:pt x="783" y="171"/>
                        <a:pt x="783" y="171"/>
                      </a:cubicBezTo>
                      <a:cubicBezTo>
                        <a:pt x="787" y="185"/>
                        <a:pt x="793" y="196"/>
                        <a:pt x="798" y="210"/>
                      </a:cubicBezTo>
                      <a:cubicBezTo>
                        <a:pt x="800" y="216"/>
                        <a:pt x="802" y="222"/>
                        <a:pt x="804" y="228"/>
                      </a:cubicBezTo>
                      <a:cubicBezTo>
                        <a:pt x="805" y="231"/>
                        <a:pt x="807" y="237"/>
                        <a:pt x="807" y="237"/>
                      </a:cubicBezTo>
                      <a:cubicBezTo>
                        <a:pt x="803" y="250"/>
                        <a:pt x="791" y="255"/>
                        <a:pt x="786" y="270"/>
                      </a:cubicBezTo>
                      <a:cubicBezTo>
                        <a:pt x="791" y="286"/>
                        <a:pt x="797" y="277"/>
                        <a:pt x="804" y="267"/>
                      </a:cubicBezTo>
                      <a:cubicBezTo>
                        <a:pt x="833" y="271"/>
                        <a:pt x="829" y="269"/>
                        <a:pt x="834" y="294"/>
                      </a:cubicBezTo>
                      <a:cubicBezTo>
                        <a:pt x="847" y="285"/>
                        <a:pt x="854" y="289"/>
                        <a:pt x="867" y="297"/>
                      </a:cubicBezTo>
                      <a:cubicBezTo>
                        <a:pt x="874" y="308"/>
                        <a:pt x="879" y="314"/>
                        <a:pt x="891" y="318"/>
                      </a:cubicBezTo>
                      <a:cubicBezTo>
                        <a:pt x="892" y="321"/>
                        <a:pt x="895" y="324"/>
                        <a:pt x="894" y="327"/>
                      </a:cubicBezTo>
                      <a:cubicBezTo>
                        <a:pt x="891" y="334"/>
                        <a:pt x="873" y="326"/>
                        <a:pt x="894" y="333"/>
                      </a:cubicBezTo>
                      <a:cubicBezTo>
                        <a:pt x="900" y="331"/>
                        <a:pt x="906" y="329"/>
                        <a:pt x="912" y="327"/>
                      </a:cubicBezTo>
                      <a:cubicBezTo>
                        <a:pt x="915" y="326"/>
                        <a:pt x="921" y="324"/>
                        <a:pt x="921" y="324"/>
                      </a:cubicBezTo>
                      <a:cubicBezTo>
                        <a:pt x="940" y="336"/>
                        <a:pt x="960" y="339"/>
                        <a:pt x="978" y="351"/>
                      </a:cubicBezTo>
                      <a:cubicBezTo>
                        <a:pt x="981" y="361"/>
                        <a:pt x="987" y="368"/>
                        <a:pt x="990" y="378"/>
                      </a:cubicBezTo>
                      <a:cubicBezTo>
                        <a:pt x="999" y="376"/>
                        <a:pt x="1010" y="370"/>
                        <a:pt x="1017" y="381"/>
                      </a:cubicBezTo>
                      <a:cubicBezTo>
                        <a:pt x="1022" y="389"/>
                        <a:pt x="1026" y="408"/>
                        <a:pt x="1026" y="408"/>
                      </a:cubicBezTo>
                      <a:cubicBezTo>
                        <a:pt x="1022" y="438"/>
                        <a:pt x="1023" y="471"/>
                        <a:pt x="996" y="489"/>
                      </a:cubicBezTo>
                      <a:cubicBezTo>
                        <a:pt x="991" y="497"/>
                        <a:pt x="976" y="514"/>
                        <a:pt x="972" y="525"/>
                      </a:cubicBezTo>
                      <a:cubicBezTo>
                        <a:pt x="970" y="531"/>
                        <a:pt x="972" y="541"/>
                        <a:pt x="966" y="543"/>
                      </a:cubicBezTo>
                      <a:cubicBezTo>
                        <a:pt x="951" y="548"/>
                        <a:pt x="943" y="558"/>
                        <a:pt x="930" y="567"/>
                      </a:cubicBezTo>
                      <a:cubicBezTo>
                        <a:pt x="925" y="583"/>
                        <a:pt x="916" y="596"/>
                        <a:pt x="912" y="612"/>
                      </a:cubicBezTo>
                      <a:cubicBezTo>
                        <a:pt x="909" y="623"/>
                        <a:pt x="909" y="635"/>
                        <a:pt x="903" y="645"/>
                      </a:cubicBezTo>
                      <a:cubicBezTo>
                        <a:pt x="899" y="651"/>
                        <a:pt x="893" y="656"/>
                        <a:pt x="891" y="663"/>
                      </a:cubicBezTo>
                      <a:cubicBezTo>
                        <a:pt x="881" y="692"/>
                        <a:pt x="870" y="723"/>
                        <a:pt x="843" y="741"/>
                      </a:cubicBezTo>
                      <a:cubicBezTo>
                        <a:pt x="837" y="758"/>
                        <a:pt x="830" y="759"/>
                        <a:pt x="816" y="768"/>
                      </a:cubicBezTo>
                      <a:cubicBezTo>
                        <a:pt x="805" y="784"/>
                        <a:pt x="789" y="787"/>
                        <a:pt x="771" y="792"/>
                      </a:cubicBezTo>
                      <a:cubicBezTo>
                        <a:pt x="750" y="806"/>
                        <a:pt x="760" y="802"/>
                        <a:pt x="744" y="807"/>
                      </a:cubicBezTo>
                      <a:cubicBezTo>
                        <a:pt x="735" y="804"/>
                        <a:pt x="717" y="810"/>
                        <a:pt x="717" y="810"/>
                      </a:cubicBezTo>
                      <a:cubicBezTo>
                        <a:pt x="713" y="816"/>
                        <a:pt x="710" y="823"/>
                        <a:pt x="705" y="828"/>
                      </a:cubicBezTo>
                      <a:cubicBezTo>
                        <a:pt x="702" y="831"/>
                        <a:pt x="698" y="834"/>
                        <a:pt x="696" y="837"/>
                      </a:cubicBezTo>
                      <a:cubicBezTo>
                        <a:pt x="684" y="853"/>
                        <a:pt x="680" y="880"/>
                        <a:pt x="666" y="894"/>
                      </a:cubicBezTo>
                      <a:cubicBezTo>
                        <a:pt x="659" y="901"/>
                        <a:pt x="698" y="916"/>
                        <a:pt x="642" y="906"/>
                      </a:cubicBezTo>
                      <a:lnTo>
                        <a:pt x="606" y="948"/>
                      </a:lnTo>
                      <a:lnTo>
                        <a:pt x="549" y="987"/>
                      </a:lnTo>
                      <a:lnTo>
                        <a:pt x="525" y="1023"/>
                      </a:lnTo>
                      <a:lnTo>
                        <a:pt x="480" y="1023"/>
                      </a:lnTo>
                      <a:lnTo>
                        <a:pt x="459" y="1017"/>
                      </a:lnTo>
                      <a:lnTo>
                        <a:pt x="459" y="1044"/>
                      </a:lnTo>
                      <a:lnTo>
                        <a:pt x="435" y="1080"/>
                      </a:lnTo>
                      <a:lnTo>
                        <a:pt x="402" y="1098"/>
                      </a:lnTo>
                      <a:lnTo>
                        <a:pt x="351" y="1101"/>
                      </a:lnTo>
                      <a:lnTo>
                        <a:pt x="333" y="1125"/>
                      </a:lnTo>
                      <a:lnTo>
                        <a:pt x="306" y="1146"/>
                      </a:lnTo>
                      <a:lnTo>
                        <a:pt x="291" y="1125"/>
                      </a:lnTo>
                      <a:lnTo>
                        <a:pt x="276" y="1158"/>
                      </a:lnTo>
                      <a:lnTo>
                        <a:pt x="282" y="1176"/>
                      </a:lnTo>
                      <a:lnTo>
                        <a:pt x="249" y="1191"/>
                      </a:lnTo>
                      <a:lnTo>
                        <a:pt x="228" y="1218"/>
                      </a:lnTo>
                      <a:lnTo>
                        <a:pt x="201" y="1215"/>
                      </a:lnTo>
                      <a:lnTo>
                        <a:pt x="174" y="1248"/>
                      </a:lnTo>
                      <a:lnTo>
                        <a:pt x="177" y="1263"/>
                      </a:lnTo>
                      <a:lnTo>
                        <a:pt x="156" y="1284"/>
                      </a:lnTo>
                      <a:lnTo>
                        <a:pt x="138" y="1290"/>
                      </a:lnTo>
                      <a:lnTo>
                        <a:pt x="117" y="1314"/>
                      </a:lnTo>
                      <a:lnTo>
                        <a:pt x="96" y="1314"/>
                      </a:lnTo>
                      <a:lnTo>
                        <a:pt x="63" y="1347"/>
                      </a:lnTo>
                      <a:lnTo>
                        <a:pt x="39" y="1368"/>
                      </a:lnTo>
                      <a:lnTo>
                        <a:pt x="54" y="1380"/>
                      </a:lnTo>
                      <a:lnTo>
                        <a:pt x="66" y="1413"/>
                      </a:lnTo>
                      <a:lnTo>
                        <a:pt x="39" y="1410"/>
                      </a:lnTo>
                      <a:lnTo>
                        <a:pt x="0" y="1392"/>
                      </a:lnTo>
                      <a:lnTo>
                        <a:pt x="18" y="1371"/>
                      </a:lnTo>
                      <a:lnTo>
                        <a:pt x="9" y="1344"/>
                      </a:lnTo>
                      <a:lnTo>
                        <a:pt x="21" y="1332"/>
                      </a:lnTo>
                      <a:lnTo>
                        <a:pt x="45" y="1305"/>
                      </a:lnTo>
                      <a:lnTo>
                        <a:pt x="105" y="1215"/>
                      </a:lnTo>
                      <a:lnTo>
                        <a:pt x="159" y="1134"/>
                      </a:lnTo>
                      <a:lnTo>
                        <a:pt x="201" y="1095"/>
                      </a:lnTo>
                      <a:lnTo>
                        <a:pt x="219" y="1053"/>
                      </a:lnTo>
                      <a:lnTo>
                        <a:pt x="234" y="1047"/>
                      </a:lnTo>
                      <a:lnTo>
                        <a:pt x="300" y="966"/>
                      </a:lnTo>
                      <a:lnTo>
                        <a:pt x="315" y="924"/>
                      </a:lnTo>
                      <a:lnTo>
                        <a:pt x="333" y="912"/>
                      </a:lnTo>
                      <a:lnTo>
                        <a:pt x="339" y="882"/>
                      </a:lnTo>
                      <a:lnTo>
                        <a:pt x="357" y="858"/>
                      </a:lnTo>
                      <a:cubicBezTo>
                        <a:pt x="364" y="844"/>
                        <a:pt x="370" y="833"/>
                        <a:pt x="381" y="822"/>
                      </a:cubicBezTo>
                      <a:cubicBezTo>
                        <a:pt x="386" y="806"/>
                        <a:pt x="382" y="816"/>
                        <a:pt x="396" y="795"/>
                      </a:cubicBezTo>
                      <a:cubicBezTo>
                        <a:pt x="401" y="787"/>
                        <a:pt x="405" y="769"/>
                        <a:pt x="408" y="759"/>
                      </a:cubicBezTo>
                      <a:cubicBezTo>
                        <a:pt x="418" y="728"/>
                        <a:pt x="428" y="697"/>
                        <a:pt x="438" y="666"/>
                      </a:cubicBezTo>
                      <a:cubicBezTo>
                        <a:pt x="434" y="648"/>
                        <a:pt x="429" y="637"/>
                        <a:pt x="414" y="627"/>
                      </a:cubicBezTo>
                      <a:lnTo>
                        <a:pt x="387" y="597"/>
                      </a:lnTo>
                      <a:cubicBezTo>
                        <a:pt x="387" y="597"/>
                        <a:pt x="378" y="570"/>
                        <a:pt x="378" y="570"/>
                      </a:cubicBezTo>
                      <a:cubicBezTo>
                        <a:pt x="377" y="567"/>
                        <a:pt x="375" y="561"/>
                        <a:pt x="375" y="561"/>
                      </a:cubicBezTo>
                      <a:cubicBezTo>
                        <a:pt x="374" y="551"/>
                        <a:pt x="372" y="516"/>
                        <a:pt x="369" y="501"/>
                      </a:cubicBezTo>
                      <a:cubicBezTo>
                        <a:pt x="369" y="501"/>
                        <a:pt x="362" y="479"/>
                        <a:pt x="360" y="474"/>
                      </a:cubicBezTo>
                      <a:cubicBezTo>
                        <a:pt x="359" y="471"/>
                        <a:pt x="357" y="465"/>
                        <a:pt x="357" y="465"/>
                      </a:cubicBezTo>
                      <a:cubicBezTo>
                        <a:pt x="356" y="460"/>
                        <a:pt x="354" y="420"/>
                        <a:pt x="348" y="414"/>
                      </a:cubicBezTo>
                      <a:cubicBezTo>
                        <a:pt x="344" y="410"/>
                        <a:pt x="330" y="408"/>
                        <a:pt x="330" y="408"/>
                      </a:cubicBezTo>
                      <a:cubicBezTo>
                        <a:pt x="325" y="393"/>
                        <a:pt x="329" y="379"/>
                        <a:pt x="324" y="363"/>
                      </a:cubicBezTo>
                      <a:cubicBezTo>
                        <a:pt x="328" y="351"/>
                        <a:pt x="335" y="353"/>
                        <a:pt x="342" y="342"/>
                      </a:cubicBezTo>
                      <a:cubicBezTo>
                        <a:pt x="346" y="327"/>
                        <a:pt x="346" y="321"/>
                        <a:pt x="333" y="312"/>
                      </a:cubicBezTo>
                      <a:cubicBezTo>
                        <a:pt x="331" y="309"/>
                        <a:pt x="327" y="307"/>
                        <a:pt x="327" y="303"/>
                      </a:cubicBezTo>
                      <a:cubicBezTo>
                        <a:pt x="327" y="285"/>
                        <a:pt x="348" y="234"/>
                        <a:pt x="366" y="228"/>
                      </a:cubicBezTo>
                      <a:cubicBezTo>
                        <a:pt x="372" y="211"/>
                        <a:pt x="384" y="200"/>
                        <a:pt x="390" y="183"/>
                      </a:cubicBezTo>
                      <a:cubicBezTo>
                        <a:pt x="382" y="158"/>
                        <a:pt x="381" y="161"/>
                        <a:pt x="387" y="132"/>
                      </a:cubicBezTo>
                      <a:cubicBezTo>
                        <a:pt x="381" y="114"/>
                        <a:pt x="376" y="91"/>
                        <a:pt x="360" y="81"/>
                      </a:cubicBezTo>
                      <a:cubicBezTo>
                        <a:pt x="352" y="69"/>
                        <a:pt x="339" y="70"/>
                        <a:pt x="354" y="60"/>
                      </a:cubicBezTo>
                      <a:cubicBezTo>
                        <a:pt x="365" y="64"/>
                        <a:pt x="363" y="60"/>
                        <a:pt x="363" y="6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7560720" y="5736600"/>
                  <a:ext cx="81720" cy="69120"/>
                </a:xfrm>
                <a:custGeom>
                  <a:avLst/>
                  <a:gdLst/>
                  <a:ahLst/>
                  <a:rect l="l" t="t" r="r" b="b"/>
                  <a:pathLst>
                    <a:path w="47" h="39">
                      <a:moveTo>
                        <a:pt x="0" y="24"/>
                      </a:moveTo>
                      <a:cubicBezTo>
                        <a:pt x="3" y="10"/>
                        <a:pt x="4" y="5"/>
                        <a:pt x="18" y="0"/>
                      </a:cubicBezTo>
                      <a:cubicBezTo>
                        <a:pt x="31" y="9"/>
                        <a:pt x="26" y="14"/>
                        <a:pt x="42" y="18"/>
                      </a:cubicBezTo>
                      <a:cubicBezTo>
                        <a:pt x="47" y="33"/>
                        <a:pt x="38" y="36"/>
                        <a:pt x="24" y="39"/>
                      </a:cubicBezTo>
                      <a:cubicBezTo>
                        <a:pt x="21" y="38"/>
                        <a:pt x="17" y="38"/>
                        <a:pt x="15" y="36"/>
                      </a:cubicBezTo>
                      <a:cubicBezTo>
                        <a:pt x="13" y="34"/>
                        <a:pt x="14" y="29"/>
                        <a:pt x="12" y="27"/>
                      </a:cubicBezTo>
                      <a:cubicBezTo>
                        <a:pt x="9" y="24"/>
                        <a:pt x="0" y="24"/>
                        <a:pt x="0" y="2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236280" y="2045160"/>
                  <a:ext cx="1718280" cy="15001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5706720" y="3094560"/>
                  <a:ext cx="61920" cy="8460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661720" y="3063600"/>
                  <a:ext cx="61920" cy="6660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7644240" y="2906640"/>
                  <a:ext cx="296280" cy="17064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957800" y="3051000"/>
                  <a:ext cx="241200" cy="788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830360" y="3092040"/>
                  <a:ext cx="100080" cy="7452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764120" y="2865960"/>
                  <a:ext cx="67320" cy="928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8286480" y="3149640"/>
                  <a:ext cx="75960" cy="14112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6359040" y="896760"/>
                  <a:ext cx="1212840" cy="668160"/>
                </a:xfrm>
                <a:custGeom>
                  <a:avLst/>
                  <a:gdLst/>
                  <a:ahLst/>
                  <a:rect l="l" t="t" r="r" b="b"/>
                  <a:pathLst>
                    <a:path w="695" h="376">
                      <a:moveTo>
                        <a:pt x="164" y="0"/>
                      </a:moveTo>
                      <a:lnTo>
                        <a:pt x="340" y="68"/>
                      </a:lnTo>
                      <a:lnTo>
                        <a:pt x="484" y="132"/>
                      </a:lnTo>
                      <a:cubicBezTo>
                        <a:pt x="527" y="155"/>
                        <a:pt x="573" y="171"/>
                        <a:pt x="612" y="200"/>
                      </a:cubicBezTo>
                      <a:cubicBezTo>
                        <a:pt x="619" y="205"/>
                        <a:pt x="588" y="208"/>
                        <a:pt x="588" y="208"/>
                      </a:cubicBezTo>
                      <a:cubicBezTo>
                        <a:pt x="577" y="225"/>
                        <a:pt x="568" y="240"/>
                        <a:pt x="592" y="248"/>
                      </a:cubicBezTo>
                      <a:cubicBezTo>
                        <a:pt x="616" y="240"/>
                        <a:pt x="607" y="257"/>
                        <a:pt x="596" y="268"/>
                      </a:cubicBezTo>
                      <a:cubicBezTo>
                        <a:pt x="589" y="289"/>
                        <a:pt x="590" y="276"/>
                        <a:pt x="608" y="304"/>
                      </a:cubicBezTo>
                      <a:cubicBezTo>
                        <a:pt x="613" y="312"/>
                        <a:pt x="615" y="325"/>
                        <a:pt x="624" y="328"/>
                      </a:cubicBezTo>
                      <a:cubicBezTo>
                        <a:pt x="645" y="335"/>
                        <a:pt x="665" y="343"/>
                        <a:pt x="684" y="356"/>
                      </a:cubicBezTo>
                      <a:cubicBezTo>
                        <a:pt x="686" y="363"/>
                        <a:pt x="695" y="376"/>
                        <a:pt x="676" y="376"/>
                      </a:cubicBezTo>
                      <a:cubicBezTo>
                        <a:pt x="658" y="376"/>
                        <a:pt x="591" y="347"/>
                        <a:pt x="572" y="340"/>
                      </a:cubicBezTo>
                      <a:cubicBezTo>
                        <a:pt x="562" y="336"/>
                        <a:pt x="540" y="332"/>
                        <a:pt x="540" y="332"/>
                      </a:cubicBezTo>
                      <a:cubicBezTo>
                        <a:pt x="531" y="304"/>
                        <a:pt x="540" y="311"/>
                        <a:pt x="520" y="304"/>
                      </a:cubicBezTo>
                      <a:cubicBezTo>
                        <a:pt x="519" y="308"/>
                        <a:pt x="520" y="315"/>
                        <a:pt x="516" y="316"/>
                      </a:cubicBezTo>
                      <a:cubicBezTo>
                        <a:pt x="515" y="316"/>
                        <a:pt x="486" y="300"/>
                        <a:pt x="480" y="296"/>
                      </a:cubicBezTo>
                      <a:cubicBezTo>
                        <a:pt x="467" y="277"/>
                        <a:pt x="443" y="277"/>
                        <a:pt x="424" y="264"/>
                      </a:cubicBezTo>
                      <a:cubicBezTo>
                        <a:pt x="414" y="249"/>
                        <a:pt x="406" y="253"/>
                        <a:pt x="400" y="236"/>
                      </a:cubicBezTo>
                      <a:cubicBezTo>
                        <a:pt x="408" y="212"/>
                        <a:pt x="385" y="221"/>
                        <a:pt x="368" y="224"/>
                      </a:cubicBezTo>
                      <a:cubicBezTo>
                        <a:pt x="330" y="216"/>
                        <a:pt x="355" y="200"/>
                        <a:pt x="308" y="192"/>
                      </a:cubicBezTo>
                      <a:cubicBezTo>
                        <a:pt x="282" y="201"/>
                        <a:pt x="294" y="173"/>
                        <a:pt x="264" y="168"/>
                      </a:cubicBezTo>
                      <a:cubicBezTo>
                        <a:pt x="233" y="163"/>
                        <a:pt x="206" y="153"/>
                        <a:pt x="180" y="136"/>
                      </a:cubicBezTo>
                      <a:cubicBezTo>
                        <a:pt x="157" y="141"/>
                        <a:pt x="139" y="138"/>
                        <a:pt x="116" y="132"/>
                      </a:cubicBezTo>
                      <a:cubicBezTo>
                        <a:pt x="100" y="137"/>
                        <a:pt x="93" y="141"/>
                        <a:pt x="72" y="132"/>
                      </a:cubicBezTo>
                      <a:cubicBezTo>
                        <a:pt x="68" y="130"/>
                        <a:pt x="71" y="123"/>
                        <a:pt x="68" y="120"/>
                      </a:cubicBezTo>
                      <a:cubicBezTo>
                        <a:pt x="65" y="116"/>
                        <a:pt x="60" y="115"/>
                        <a:pt x="56" y="112"/>
                      </a:cubicBezTo>
                      <a:cubicBezTo>
                        <a:pt x="38" y="118"/>
                        <a:pt x="31" y="116"/>
                        <a:pt x="20" y="100"/>
                      </a:cubicBezTo>
                      <a:cubicBezTo>
                        <a:pt x="16" y="86"/>
                        <a:pt x="0" y="60"/>
                        <a:pt x="0" y="60"/>
                      </a:cubicBezTo>
                      <a:cubicBezTo>
                        <a:pt x="7" y="38"/>
                        <a:pt x="25" y="43"/>
                        <a:pt x="48" y="40"/>
                      </a:cubicBezTo>
                      <a:cubicBezTo>
                        <a:pt x="51" y="44"/>
                        <a:pt x="51" y="51"/>
                        <a:pt x="56" y="52"/>
                      </a:cubicBezTo>
                      <a:cubicBezTo>
                        <a:pt x="64" y="53"/>
                        <a:pt x="80" y="44"/>
                        <a:pt x="80" y="44"/>
                      </a:cubicBezTo>
                      <a:cubicBezTo>
                        <a:pt x="85" y="45"/>
                        <a:pt x="91" y="46"/>
                        <a:pt x="96" y="48"/>
                      </a:cubicBezTo>
                      <a:cubicBezTo>
                        <a:pt x="100" y="49"/>
                        <a:pt x="106" y="56"/>
                        <a:pt x="108" y="52"/>
                      </a:cubicBezTo>
                      <a:cubicBezTo>
                        <a:pt x="113" y="42"/>
                        <a:pt x="101" y="27"/>
                        <a:pt x="96" y="20"/>
                      </a:cubicBezTo>
                      <a:cubicBezTo>
                        <a:pt x="110" y="11"/>
                        <a:pt x="148" y="0"/>
                        <a:pt x="164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6010560" y="964440"/>
                  <a:ext cx="362520" cy="208800"/>
                </a:xfrm>
                <a:custGeom>
                  <a:avLst/>
                  <a:gdLst/>
                  <a:ahLst/>
                  <a:rect l="l" t="t" r="r" b="b"/>
                  <a:pathLst>
                    <a:path w="208" h="118">
                      <a:moveTo>
                        <a:pt x="16" y="26"/>
                      </a:moveTo>
                      <a:cubicBezTo>
                        <a:pt x="41" y="9"/>
                        <a:pt x="15" y="22"/>
                        <a:pt x="40" y="22"/>
                      </a:cubicBezTo>
                      <a:cubicBezTo>
                        <a:pt x="51" y="22"/>
                        <a:pt x="55" y="14"/>
                        <a:pt x="64" y="10"/>
                      </a:cubicBezTo>
                      <a:cubicBezTo>
                        <a:pt x="72" y="7"/>
                        <a:pt x="88" y="2"/>
                        <a:pt x="88" y="2"/>
                      </a:cubicBezTo>
                      <a:cubicBezTo>
                        <a:pt x="110" y="5"/>
                        <a:pt x="132" y="0"/>
                        <a:pt x="152" y="6"/>
                      </a:cubicBezTo>
                      <a:cubicBezTo>
                        <a:pt x="160" y="8"/>
                        <a:pt x="176" y="14"/>
                        <a:pt x="176" y="14"/>
                      </a:cubicBezTo>
                      <a:cubicBezTo>
                        <a:pt x="172" y="35"/>
                        <a:pt x="158" y="61"/>
                        <a:pt x="184" y="70"/>
                      </a:cubicBezTo>
                      <a:cubicBezTo>
                        <a:pt x="193" y="83"/>
                        <a:pt x="203" y="87"/>
                        <a:pt x="208" y="102"/>
                      </a:cubicBezTo>
                      <a:cubicBezTo>
                        <a:pt x="204" y="103"/>
                        <a:pt x="200" y="106"/>
                        <a:pt x="196" y="106"/>
                      </a:cubicBezTo>
                      <a:cubicBezTo>
                        <a:pt x="192" y="106"/>
                        <a:pt x="188" y="100"/>
                        <a:pt x="184" y="102"/>
                      </a:cubicBezTo>
                      <a:cubicBezTo>
                        <a:pt x="180" y="104"/>
                        <a:pt x="183" y="111"/>
                        <a:pt x="180" y="114"/>
                      </a:cubicBezTo>
                      <a:cubicBezTo>
                        <a:pt x="176" y="117"/>
                        <a:pt x="169" y="117"/>
                        <a:pt x="164" y="118"/>
                      </a:cubicBezTo>
                      <a:cubicBezTo>
                        <a:pt x="126" y="113"/>
                        <a:pt x="127" y="116"/>
                        <a:pt x="144" y="90"/>
                      </a:cubicBezTo>
                      <a:cubicBezTo>
                        <a:pt x="127" y="84"/>
                        <a:pt x="104" y="93"/>
                        <a:pt x="112" y="70"/>
                      </a:cubicBezTo>
                      <a:cubicBezTo>
                        <a:pt x="96" y="59"/>
                        <a:pt x="90" y="68"/>
                        <a:pt x="72" y="62"/>
                      </a:cubicBezTo>
                      <a:cubicBezTo>
                        <a:pt x="65" y="41"/>
                        <a:pt x="45" y="56"/>
                        <a:pt x="24" y="50"/>
                      </a:cubicBezTo>
                      <a:cubicBezTo>
                        <a:pt x="16" y="48"/>
                        <a:pt x="0" y="42"/>
                        <a:pt x="0" y="42"/>
                      </a:cubicBezTo>
                      <a:cubicBezTo>
                        <a:pt x="14" y="32"/>
                        <a:pt x="10" y="38"/>
                        <a:pt x="16" y="2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787360" y="1259640"/>
                  <a:ext cx="145080" cy="127080"/>
                </a:xfrm>
                <a:custGeom>
                  <a:avLst/>
                  <a:gdLst/>
                  <a:ahLst/>
                  <a:rect l="l" t="t" r="r" b="b"/>
                  <a:pathLst>
                    <a:path w="84" h="72">
                      <a:moveTo>
                        <a:pt x="12" y="8"/>
                      </a:moveTo>
                      <a:cubicBezTo>
                        <a:pt x="29" y="4"/>
                        <a:pt x="33" y="0"/>
                        <a:pt x="52" y="12"/>
                      </a:cubicBezTo>
                      <a:cubicBezTo>
                        <a:pt x="60" y="17"/>
                        <a:pt x="76" y="28"/>
                        <a:pt x="76" y="28"/>
                      </a:cubicBezTo>
                      <a:cubicBezTo>
                        <a:pt x="84" y="53"/>
                        <a:pt x="80" y="28"/>
                        <a:pt x="68" y="48"/>
                      </a:cubicBezTo>
                      <a:cubicBezTo>
                        <a:pt x="64" y="55"/>
                        <a:pt x="60" y="72"/>
                        <a:pt x="60" y="72"/>
                      </a:cubicBezTo>
                      <a:cubicBezTo>
                        <a:pt x="53" y="71"/>
                        <a:pt x="46" y="71"/>
                        <a:pt x="40" y="68"/>
                      </a:cubicBezTo>
                      <a:cubicBezTo>
                        <a:pt x="31" y="64"/>
                        <a:pt x="16" y="52"/>
                        <a:pt x="16" y="52"/>
                      </a:cubicBezTo>
                      <a:cubicBezTo>
                        <a:pt x="13" y="34"/>
                        <a:pt x="0" y="20"/>
                        <a:pt x="12" y="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767200" y="1164960"/>
                  <a:ext cx="67680" cy="8712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7" y="33"/>
                      </a:moveTo>
                      <a:cubicBezTo>
                        <a:pt x="34" y="6"/>
                        <a:pt x="25" y="0"/>
                        <a:pt x="39" y="21"/>
                      </a:cubicBezTo>
                      <a:cubicBezTo>
                        <a:pt x="30" y="49"/>
                        <a:pt x="39" y="42"/>
                        <a:pt x="19" y="49"/>
                      </a:cubicBezTo>
                      <a:cubicBezTo>
                        <a:pt x="15" y="48"/>
                        <a:pt x="9" y="49"/>
                        <a:pt x="7" y="45"/>
                      </a:cubicBezTo>
                      <a:cubicBezTo>
                        <a:pt x="0" y="32"/>
                        <a:pt x="19" y="33"/>
                        <a:pt x="7" y="3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877360" y="1184760"/>
                  <a:ext cx="169560" cy="97560"/>
                </a:xfrm>
                <a:custGeom>
                  <a:avLst/>
                  <a:gdLst/>
                  <a:ahLst/>
                  <a:rect l="l" t="t" r="r" b="b"/>
                  <a:pathLst>
                    <a:path w="97" h="55">
                      <a:moveTo>
                        <a:pt x="0" y="10"/>
                      </a:moveTo>
                      <a:cubicBezTo>
                        <a:pt x="21" y="13"/>
                        <a:pt x="39" y="28"/>
                        <a:pt x="32" y="6"/>
                      </a:cubicBezTo>
                      <a:cubicBezTo>
                        <a:pt x="51" y="0"/>
                        <a:pt x="75" y="15"/>
                        <a:pt x="92" y="26"/>
                      </a:cubicBezTo>
                      <a:cubicBezTo>
                        <a:pt x="83" y="53"/>
                        <a:pt x="97" y="25"/>
                        <a:pt x="60" y="34"/>
                      </a:cubicBezTo>
                      <a:cubicBezTo>
                        <a:pt x="56" y="35"/>
                        <a:pt x="59" y="43"/>
                        <a:pt x="56" y="46"/>
                      </a:cubicBezTo>
                      <a:cubicBezTo>
                        <a:pt x="53" y="49"/>
                        <a:pt x="48" y="49"/>
                        <a:pt x="44" y="50"/>
                      </a:cubicBezTo>
                      <a:cubicBezTo>
                        <a:pt x="15" y="40"/>
                        <a:pt x="48" y="55"/>
                        <a:pt x="28" y="30"/>
                      </a:cubicBezTo>
                      <a:cubicBezTo>
                        <a:pt x="22" y="22"/>
                        <a:pt x="8" y="26"/>
                        <a:pt x="0" y="1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863320" y="1137960"/>
                  <a:ext cx="45000" cy="52200"/>
                </a:xfrm>
                <a:custGeom>
                  <a:avLst/>
                  <a:gdLst/>
                  <a:ahLst/>
                  <a:rect l="l" t="t" r="r" b="b"/>
                  <a:pathLst>
                    <a:path w="26" h="29">
                      <a:moveTo>
                        <a:pt x="4" y="0"/>
                      </a:moveTo>
                      <a:cubicBezTo>
                        <a:pt x="25" y="7"/>
                        <a:pt x="26" y="29"/>
                        <a:pt x="0" y="20"/>
                      </a:cubicBezTo>
                      <a:cubicBezTo>
                        <a:pt x="5" y="5"/>
                        <a:pt x="4" y="12"/>
                        <a:pt x="4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975280" y="1027800"/>
                  <a:ext cx="167760" cy="141120"/>
                </a:xfrm>
                <a:custGeom>
                  <a:avLst/>
                  <a:gdLst/>
                  <a:ahLst/>
                  <a:rect l="l" t="t" r="r" b="b"/>
                  <a:pathLst>
                    <a:path w="96" h="79">
                      <a:moveTo>
                        <a:pt x="20" y="30"/>
                      </a:moveTo>
                      <a:cubicBezTo>
                        <a:pt x="0" y="0"/>
                        <a:pt x="35" y="18"/>
                        <a:pt x="48" y="22"/>
                      </a:cubicBezTo>
                      <a:cubicBezTo>
                        <a:pt x="65" y="28"/>
                        <a:pt x="79" y="36"/>
                        <a:pt x="96" y="42"/>
                      </a:cubicBezTo>
                      <a:cubicBezTo>
                        <a:pt x="87" y="79"/>
                        <a:pt x="74" y="48"/>
                        <a:pt x="44" y="58"/>
                      </a:cubicBezTo>
                      <a:cubicBezTo>
                        <a:pt x="43" y="54"/>
                        <a:pt x="43" y="48"/>
                        <a:pt x="40" y="46"/>
                      </a:cubicBezTo>
                      <a:cubicBezTo>
                        <a:pt x="17" y="30"/>
                        <a:pt x="11" y="48"/>
                        <a:pt x="20" y="3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069600" y="1164960"/>
                  <a:ext cx="124200" cy="8136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10" y="5"/>
                      </a:moveTo>
                      <a:cubicBezTo>
                        <a:pt x="14" y="4"/>
                        <a:pt x="18" y="0"/>
                        <a:pt x="22" y="1"/>
                      </a:cubicBezTo>
                      <a:cubicBezTo>
                        <a:pt x="31" y="4"/>
                        <a:pt x="46" y="17"/>
                        <a:pt x="46" y="17"/>
                      </a:cubicBezTo>
                      <a:cubicBezTo>
                        <a:pt x="65" y="46"/>
                        <a:pt x="71" y="39"/>
                        <a:pt x="46" y="45"/>
                      </a:cubicBezTo>
                      <a:cubicBezTo>
                        <a:pt x="32" y="42"/>
                        <a:pt x="6" y="33"/>
                        <a:pt x="6" y="33"/>
                      </a:cubicBezTo>
                      <a:cubicBezTo>
                        <a:pt x="2" y="21"/>
                        <a:pt x="0" y="15"/>
                        <a:pt x="10" y="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149880" y="1255320"/>
                  <a:ext cx="147960" cy="108360"/>
                </a:xfrm>
                <a:custGeom>
                  <a:avLst/>
                  <a:gdLst/>
                  <a:ahLst/>
                  <a:rect l="l" t="t" r="r" b="b"/>
                  <a:pathLst>
                    <a:path w="85" h="61">
                      <a:moveTo>
                        <a:pt x="4" y="2"/>
                      </a:moveTo>
                      <a:cubicBezTo>
                        <a:pt x="34" y="7"/>
                        <a:pt x="40" y="14"/>
                        <a:pt x="64" y="30"/>
                      </a:cubicBezTo>
                      <a:cubicBezTo>
                        <a:pt x="85" y="61"/>
                        <a:pt x="36" y="42"/>
                        <a:pt x="24" y="34"/>
                      </a:cubicBezTo>
                      <a:cubicBezTo>
                        <a:pt x="7" y="23"/>
                        <a:pt x="15" y="29"/>
                        <a:pt x="0" y="14"/>
                      </a:cubicBezTo>
                      <a:cubicBezTo>
                        <a:pt x="3" y="10"/>
                        <a:pt x="4" y="4"/>
                        <a:pt x="8" y="2"/>
                      </a:cubicBezTo>
                      <a:cubicBezTo>
                        <a:pt x="12" y="0"/>
                        <a:pt x="24" y="6"/>
                        <a:pt x="20" y="6"/>
                      </a:cubicBezTo>
                      <a:cubicBezTo>
                        <a:pt x="15" y="6"/>
                        <a:pt x="9" y="3"/>
                        <a:pt x="4" y="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246000" y="1255320"/>
                  <a:ext cx="133920" cy="81720"/>
                </a:xfrm>
                <a:custGeom>
                  <a:avLst/>
                  <a:gdLst/>
                  <a:ahLst/>
                  <a:rect l="l" t="t" r="r" b="b"/>
                  <a:pathLst>
                    <a:path w="77" h="46">
                      <a:moveTo>
                        <a:pt x="21" y="6"/>
                      </a:moveTo>
                      <a:cubicBezTo>
                        <a:pt x="57" y="18"/>
                        <a:pt x="0" y="0"/>
                        <a:pt x="53" y="14"/>
                      </a:cubicBezTo>
                      <a:cubicBezTo>
                        <a:pt x="61" y="16"/>
                        <a:pt x="77" y="22"/>
                        <a:pt x="77" y="22"/>
                      </a:cubicBezTo>
                      <a:cubicBezTo>
                        <a:pt x="71" y="46"/>
                        <a:pt x="65" y="43"/>
                        <a:pt x="41" y="38"/>
                      </a:cubicBezTo>
                      <a:cubicBezTo>
                        <a:pt x="3" y="12"/>
                        <a:pt x="21" y="34"/>
                        <a:pt x="21" y="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6226560" y="1180440"/>
                  <a:ext cx="245520" cy="66240"/>
                </a:xfrm>
                <a:custGeom>
                  <a:avLst/>
                  <a:gdLst/>
                  <a:ahLst/>
                  <a:rect l="l" t="t" r="r" b="b"/>
                  <a:pathLst>
                    <a:path w="141" h="37">
                      <a:moveTo>
                        <a:pt x="32" y="16"/>
                      </a:moveTo>
                      <a:cubicBezTo>
                        <a:pt x="64" y="5"/>
                        <a:pt x="24" y="16"/>
                        <a:pt x="56" y="16"/>
                      </a:cubicBezTo>
                      <a:cubicBezTo>
                        <a:pt x="72" y="16"/>
                        <a:pt x="87" y="9"/>
                        <a:pt x="100" y="0"/>
                      </a:cubicBezTo>
                      <a:cubicBezTo>
                        <a:pt x="108" y="1"/>
                        <a:pt x="117" y="0"/>
                        <a:pt x="124" y="4"/>
                      </a:cubicBezTo>
                      <a:cubicBezTo>
                        <a:pt x="141" y="14"/>
                        <a:pt x="119" y="30"/>
                        <a:pt x="112" y="32"/>
                      </a:cubicBezTo>
                      <a:cubicBezTo>
                        <a:pt x="107" y="31"/>
                        <a:pt x="101" y="27"/>
                        <a:pt x="96" y="28"/>
                      </a:cubicBezTo>
                      <a:cubicBezTo>
                        <a:pt x="88" y="29"/>
                        <a:pt x="72" y="36"/>
                        <a:pt x="72" y="36"/>
                      </a:cubicBezTo>
                      <a:cubicBezTo>
                        <a:pt x="63" y="35"/>
                        <a:pt x="0" y="37"/>
                        <a:pt x="32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6402960" y="1224360"/>
                  <a:ext cx="761040" cy="379800"/>
                </a:xfrm>
                <a:custGeom>
                  <a:avLst/>
                  <a:gdLst/>
                  <a:ahLst/>
                  <a:rect l="l" t="t" r="r" b="b"/>
                  <a:pathLst>
                    <a:path w="436" h="214">
                      <a:moveTo>
                        <a:pt x="47" y="64"/>
                      </a:moveTo>
                      <a:cubicBezTo>
                        <a:pt x="40" y="44"/>
                        <a:pt x="24" y="43"/>
                        <a:pt x="7" y="32"/>
                      </a:cubicBezTo>
                      <a:cubicBezTo>
                        <a:pt x="0" y="12"/>
                        <a:pt x="12" y="15"/>
                        <a:pt x="27" y="20"/>
                      </a:cubicBezTo>
                      <a:cubicBezTo>
                        <a:pt x="56" y="0"/>
                        <a:pt x="44" y="24"/>
                        <a:pt x="67" y="32"/>
                      </a:cubicBezTo>
                      <a:cubicBezTo>
                        <a:pt x="91" y="24"/>
                        <a:pt x="112" y="32"/>
                        <a:pt x="135" y="40"/>
                      </a:cubicBezTo>
                      <a:cubicBezTo>
                        <a:pt x="143" y="43"/>
                        <a:pt x="159" y="48"/>
                        <a:pt x="159" y="48"/>
                      </a:cubicBezTo>
                      <a:cubicBezTo>
                        <a:pt x="178" y="42"/>
                        <a:pt x="191" y="45"/>
                        <a:pt x="207" y="56"/>
                      </a:cubicBezTo>
                      <a:cubicBezTo>
                        <a:pt x="225" y="84"/>
                        <a:pt x="273" y="82"/>
                        <a:pt x="303" y="92"/>
                      </a:cubicBezTo>
                      <a:cubicBezTo>
                        <a:pt x="311" y="89"/>
                        <a:pt x="319" y="87"/>
                        <a:pt x="327" y="84"/>
                      </a:cubicBezTo>
                      <a:cubicBezTo>
                        <a:pt x="337" y="81"/>
                        <a:pt x="359" y="92"/>
                        <a:pt x="359" y="92"/>
                      </a:cubicBezTo>
                      <a:cubicBezTo>
                        <a:pt x="365" y="110"/>
                        <a:pt x="362" y="114"/>
                        <a:pt x="347" y="124"/>
                      </a:cubicBezTo>
                      <a:cubicBezTo>
                        <a:pt x="334" y="120"/>
                        <a:pt x="324" y="112"/>
                        <a:pt x="311" y="108"/>
                      </a:cubicBezTo>
                      <a:cubicBezTo>
                        <a:pt x="304" y="109"/>
                        <a:pt x="296" y="107"/>
                        <a:pt x="291" y="112"/>
                      </a:cubicBezTo>
                      <a:cubicBezTo>
                        <a:pt x="288" y="115"/>
                        <a:pt x="299" y="114"/>
                        <a:pt x="303" y="116"/>
                      </a:cubicBezTo>
                      <a:cubicBezTo>
                        <a:pt x="327" y="129"/>
                        <a:pt x="330" y="134"/>
                        <a:pt x="355" y="140"/>
                      </a:cubicBezTo>
                      <a:cubicBezTo>
                        <a:pt x="370" y="150"/>
                        <a:pt x="388" y="154"/>
                        <a:pt x="403" y="164"/>
                      </a:cubicBezTo>
                      <a:cubicBezTo>
                        <a:pt x="436" y="214"/>
                        <a:pt x="380" y="191"/>
                        <a:pt x="359" y="188"/>
                      </a:cubicBezTo>
                      <a:cubicBezTo>
                        <a:pt x="346" y="175"/>
                        <a:pt x="329" y="166"/>
                        <a:pt x="311" y="160"/>
                      </a:cubicBezTo>
                      <a:cubicBezTo>
                        <a:pt x="292" y="163"/>
                        <a:pt x="273" y="166"/>
                        <a:pt x="255" y="172"/>
                      </a:cubicBezTo>
                      <a:cubicBezTo>
                        <a:pt x="233" y="165"/>
                        <a:pt x="245" y="155"/>
                        <a:pt x="259" y="148"/>
                      </a:cubicBezTo>
                      <a:cubicBezTo>
                        <a:pt x="263" y="146"/>
                        <a:pt x="267" y="143"/>
                        <a:pt x="271" y="140"/>
                      </a:cubicBezTo>
                      <a:cubicBezTo>
                        <a:pt x="255" y="129"/>
                        <a:pt x="252" y="138"/>
                        <a:pt x="235" y="132"/>
                      </a:cubicBezTo>
                      <a:cubicBezTo>
                        <a:pt x="239" y="129"/>
                        <a:pt x="243" y="126"/>
                        <a:pt x="247" y="124"/>
                      </a:cubicBezTo>
                      <a:cubicBezTo>
                        <a:pt x="251" y="122"/>
                        <a:pt x="258" y="124"/>
                        <a:pt x="259" y="120"/>
                      </a:cubicBezTo>
                      <a:cubicBezTo>
                        <a:pt x="263" y="105"/>
                        <a:pt x="234" y="105"/>
                        <a:pt x="231" y="104"/>
                      </a:cubicBezTo>
                      <a:cubicBezTo>
                        <a:pt x="196" y="95"/>
                        <a:pt x="165" y="75"/>
                        <a:pt x="131" y="64"/>
                      </a:cubicBezTo>
                      <a:cubicBezTo>
                        <a:pt x="127" y="65"/>
                        <a:pt x="123" y="68"/>
                        <a:pt x="119" y="68"/>
                      </a:cubicBezTo>
                      <a:cubicBezTo>
                        <a:pt x="115" y="68"/>
                        <a:pt x="111" y="64"/>
                        <a:pt x="107" y="64"/>
                      </a:cubicBezTo>
                      <a:cubicBezTo>
                        <a:pt x="93" y="66"/>
                        <a:pt x="81" y="73"/>
                        <a:pt x="67" y="76"/>
                      </a:cubicBezTo>
                      <a:cubicBezTo>
                        <a:pt x="51" y="71"/>
                        <a:pt x="58" y="75"/>
                        <a:pt x="47" y="6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705000" y="1375560"/>
                  <a:ext cx="74880" cy="69120"/>
                </a:xfrm>
                <a:custGeom>
                  <a:avLst/>
                  <a:gdLst/>
                  <a:ahLst/>
                  <a:rect l="l" t="t" r="r" b="b"/>
                  <a:pathLst>
                    <a:path w="43" h="39">
                      <a:moveTo>
                        <a:pt x="18" y="27"/>
                      </a:moveTo>
                      <a:cubicBezTo>
                        <a:pt x="0" y="0"/>
                        <a:pt x="22" y="11"/>
                        <a:pt x="34" y="19"/>
                      </a:cubicBezTo>
                      <a:cubicBezTo>
                        <a:pt x="37" y="23"/>
                        <a:pt x="43" y="26"/>
                        <a:pt x="42" y="31"/>
                      </a:cubicBezTo>
                      <a:cubicBezTo>
                        <a:pt x="40" y="39"/>
                        <a:pt x="18" y="27"/>
                        <a:pt x="18" y="27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679800" y="1487160"/>
                  <a:ext cx="114120" cy="77760"/>
                </a:xfrm>
                <a:custGeom>
                  <a:avLst/>
                  <a:gdLst/>
                  <a:ahLst/>
                  <a:rect l="l" t="t" r="r" b="b"/>
                  <a:pathLst>
                    <a:path w="65" h="44">
                      <a:moveTo>
                        <a:pt x="16" y="12"/>
                      </a:moveTo>
                      <a:cubicBezTo>
                        <a:pt x="31" y="17"/>
                        <a:pt x="41" y="11"/>
                        <a:pt x="56" y="16"/>
                      </a:cubicBezTo>
                      <a:cubicBezTo>
                        <a:pt x="59" y="20"/>
                        <a:pt x="65" y="23"/>
                        <a:pt x="64" y="28"/>
                      </a:cubicBezTo>
                      <a:cubicBezTo>
                        <a:pt x="61" y="41"/>
                        <a:pt x="28" y="44"/>
                        <a:pt x="28" y="44"/>
                      </a:cubicBezTo>
                      <a:cubicBezTo>
                        <a:pt x="19" y="31"/>
                        <a:pt x="9" y="25"/>
                        <a:pt x="0" y="12"/>
                      </a:cubicBezTo>
                      <a:cubicBezTo>
                        <a:pt x="14" y="2"/>
                        <a:pt x="10" y="0"/>
                        <a:pt x="16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799680" y="1571760"/>
                  <a:ext cx="32040" cy="4068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4" y="8"/>
                      </a:moveTo>
                      <a:cubicBezTo>
                        <a:pt x="8" y="7"/>
                        <a:pt x="14" y="0"/>
                        <a:pt x="16" y="4"/>
                      </a:cubicBezTo>
                      <a:cubicBezTo>
                        <a:pt x="19" y="9"/>
                        <a:pt x="16" y="17"/>
                        <a:pt x="12" y="20"/>
                      </a:cubicBezTo>
                      <a:cubicBezTo>
                        <a:pt x="9" y="23"/>
                        <a:pt x="4" y="17"/>
                        <a:pt x="0" y="16"/>
                      </a:cubicBezTo>
                      <a:cubicBezTo>
                        <a:pt x="4" y="3"/>
                        <a:pt x="4" y="0"/>
                        <a:pt x="4" y="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946840" y="1301760"/>
                  <a:ext cx="335880" cy="151200"/>
                </a:xfrm>
                <a:custGeom>
                  <a:avLst/>
                  <a:gdLst/>
                  <a:ahLst/>
                  <a:rect l="l" t="t" r="r" b="b"/>
                  <a:pathLst>
                    <a:path w="192" h="85">
                      <a:moveTo>
                        <a:pt x="8" y="0"/>
                      </a:moveTo>
                      <a:cubicBezTo>
                        <a:pt x="28" y="7"/>
                        <a:pt x="48" y="9"/>
                        <a:pt x="68" y="16"/>
                      </a:cubicBezTo>
                      <a:cubicBezTo>
                        <a:pt x="72" y="15"/>
                        <a:pt x="77" y="15"/>
                        <a:pt x="80" y="12"/>
                      </a:cubicBezTo>
                      <a:cubicBezTo>
                        <a:pt x="84" y="9"/>
                        <a:pt x="83" y="1"/>
                        <a:pt x="88" y="0"/>
                      </a:cubicBezTo>
                      <a:cubicBezTo>
                        <a:pt x="89" y="0"/>
                        <a:pt x="119" y="16"/>
                        <a:pt x="124" y="20"/>
                      </a:cubicBezTo>
                      <a:cubicBezTo>
                        <a:pt x="128" y="24"/>
                        <a:pt x="131" y="29"/>
                        <a:pt x="136" y="32"/>
                      </a:cubicBezTo>
                      <a:cubicBezTo>
                        <a:pt x="143" y="36"/>
                        <a:pt x="160" y="40"/>
                        <a:pt x="160" y="40"/>
                      </a:cubicBezTo>
                      <a:cubicBezTo>
                        <a:pt x="178" y="34"/>
                        <a:pt x="182" y="37"/>
                        <a:pt x="192" y="52"/>
                      </a:cubicBezTo>
                      <a:cubicBezTo>
                        <a:pt x="191" y="58"/>
                        <a:pt x="192" y="81"/>
                        <a:pt x="176" y="76"/>
                      </a:cubicBezTo>
                      <a:cubicBezTo>
                        <a:pt x="167" y="73"/>
                        <a:pt x="152" y="60"/>
                        <a:pt x="152" y="60"/>
                      </a:cubicBezTo>
                      <a:cubicBezTo>
                        <a:pt x="138" y="69"/>
                        <a:pt x="128" y="72"/>
                        <a:pt x="112" y="76"/>
                      </a:cubicBezTo>
                      <a:cubicBezTo>
                        <a:pt x="108" y="79"/>
                        <a:pt x="105" y="85"/>
                        <a:pt x="100" y="84"/>
                      </a:cubicBezTo>
                      <a:cubicBezTo>
                        <a:pt x="91" y="82"/>
                        <a:pt x="76" y="68"/>
                        <a:pt x="76" y="68"/>
                      </a:cubicBezTo>
                      <a:cubicBezTo>
                        <a:pt x="86" y="39"/>
                        <a:pt x="91" y="49"/>
                        <a:pt x="72" y="36"/>
                      </a:cubicBezTo>
                      <a:cubicBezTo>
                        <a:pt x="57" y="40"/>
                        <a:pt x="47" y="47"/>
                        <a:pt x="32" y="52"/>
                      </a:cubicBezTo>
                      <a:cubicBezTo>
                        <a:pt x="4" y="45"/>
                        <a:pt x="24" y="40"/>
                        <a:pt x="0" y="32"/>
                      </a:cubicBezTo>
                      <a:cubicBezTo>
                        <a:pt x="3" y="24"/>
                        <a:pt x="5" y="16"/>
                        <a:pt x="8" y="8"/>
                      </a:cubicBezTo>
                      <a:cubicBezTo>
                        <a:pt x="9" y="4"/>
                        <a:pt x="20" y="8"/>
                        <a:pt x="20" y="4"/>
                      </a:cubicBezTo>
                      <a:cubicBezTo>
                        <a:pt x="20" y="0"/>
                        <a:pt x="12" y="1"/>
                        <a:pt x="8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196960" y="1355760"/>
                  <a:ext cx="2675520" cy="895680"/>
                </a:xfrm>
                <a:custGeom>
                  <a:avLst/>
                  <a:gdLst/>
                  <a:ahLst/>
                  <a:rect l="l" t="t" r="r" b="b"/>
                  <a:pathLst>
                    <a:path w="1533" h="504">
                      <a:moveTo>
                        <a:pt x="82" y="34"/>
                      </a:moveTo>
                      <a:cubicBezTo>
                        <a:pt x="95" y="38"/>
                        <a:pt x="104" y="53"/>
                        <a:pt x="118" y="54"/>
                      </a:cubicBezTo>
                      <a:cubicBezTo>
                        <a:pt x="172" y="57"/>
                        <a:pt x="249" y="49"/>
                        <a:pt x="298" y="82"/>
                      </a:cubicBezTo>
                      <a:cubicBezTo>
                        <a:pt x="326" y="64"/>
                        <a:pt x="290" y="72"/>
                        <a:pt x="318" y="54"/>
                      </a:cubicBezTo>
                      <a:cubicBezTo>
                        <a:pt x="322" y="55"/>
                        <a:pt x="327" y="55"/>
                        <a:pt x="330" y="58"/>
                      </a:cubicBezTo>
                      <a:cubicBezTo>
                        <a:pt x="334" y="61"/>
                        <a:pt x="334" y="73"/>
                        <a:pt x="338" y="70"/>
                      </a:cubicBezTo>
                      <a:cubicBezTo>
                        <a:pt x="345" y="65"/>
                        <a:pt x="346" y="46"/>
                        <a:pt x="346" y="46"/>
                      </a:cubicBezTo>
                      <a:cubicBezTo>
                        <a:pt x="354" y="47"/>
                        <a:pt x="362" y="51"/>
                        <a:pt x="370" y="50"/>
                      </a:cubicBezTo>
                      <a:cubicBezTo>
                        <a:pt x="375" y="49"/>
                        <a:pt x="377" y="43"/>
                        <a:pt x="382" y="42"/>
                      </a:cubicBezTo>
                      <a:cubicBezTo>
                        <a:pt x="391" y="41"/>
                        <a:pt x="402" y="49"/>
                        <a:pt x="410" y="50"/>
                      </a:cubicBezTo>
                      <a:cubicBezTo>
                        <a:pt x="430" y="52"/>
                        <a:pt x="450" y="53"/>
                        <a:pt x="470" y="54"/>
                      </a:cubicBezTo>
                      <a:cubicBezTo>
                        <a:pt x="502" y="65"/>
                        <a:pt x="486" y="61"/>
                        <a:pt x="518" y="66"/>
                      </a:cubicBezTo>
                      <a:cubicBezTo>
                        <a:pt x="539" y="87"/>
                        <a:pt x="547" y="79"/>
                        <a:pt x="574" y="74"/>
                      </a:cubicBezTo>
                      <a:cubicBezTo>
                        <a:pt x="591" y="80"/>
                        <a:pt x="594" y="71"/>
                        <a:pt x="610" y="82"/>
                      </a:cubicBezTo>
                      <a:cubicBezTo>
                        <a:pt x="597" y="42"/>
                        <a:pt x="617" y="54"/>
                        <a:pt x="642" y="62"/>
                      </a:cubicBezTo>
                      <a:cubicBezTo>
                        <a:pt x="654" y="58"/>
                        <a:pt x="668" y="62"/>
                        <a:pt x="678" y="54"/>
                      </a:cubicBezTo>
                      <a:cubicBezTo>
                        <a:pt x="690" y="44"/>
                        <a:pt x="653" y="31"/>
                        <a:pt x="650" y="30"/>
                      </a:cubicBezTo>
                      <a:cubicBezTo>
                        <a:pt x="641" y="16"/>
                        <a:pt x="630" y="9"/>
                        <a:pt x="650" y="2"/>
                      </a:cubicBezTo>
                      <a:cubicBezTo>
                        <a:pt x="658" y="7"/>
                        <a:pt x="666" y="13"/>
                        <a:pt x="674" y="18"/>
                      </a:cubicBezTo>
                      <a:cubicBezTo>
                        <a:pt x="678" y="21"/>
                        <a:pt x="686" y="26"/>
                        <a:pt x="686" y="26"/>
                      </a:cubicBezTo>
                      <a:cubicBezTo>
                        <a:pt x="694" y="38"/>
                        <a:pt x="718" y="54"/>
                        <a:pt x="718" y="54"/>
                      </a:cubicBezTo>
                      <a:cubicBezTo>
                        <a:pt x="712" y="36"/>
                        <a:pt x="699" y="35"/>
                        <a:pt x="718" y="22"/>
                      </a:cubicBezTo>
                      <a:cubicBezTo>
                        <a:pt x="736" y="28"/>
                        <a:pt x="737" y="38"/>
                        <a:pt x="754" y="26"/>
                      </a:cubicBezTo>
                      <a:cubicBezTo>
                        <a:pt x="758" y="27"/>
                        <a:pt x="763" y="27"/>
                        <a:pt x="766" y="30"/>
                      </a:cubicBezTo>
                      <a:cubicBezTo>
                        <a:pt x="770" y="33"/>
                        <a:pt x="770" y="39"/>
                        <a:pt x="774" y="42"/>
                      </a:cubicBezTo>
                      <a:cubicBezTo>
                        <a:pt x="781" y="46"/>
                        <a:pt x="798" y="50"/>
                        <a:pt x="798" y="50"/>
                      </a:cubicBezTo>
                      <a:cubicBezTo>
                        <a:pt x="793" y="34"/>
                        <a:pt x="790" y="27"/>
                        <a:pt x="774" y="22"/>
                      </a:cubicBezTo>
                      <a:cubicBezTo>
                        <a:pt x="781" y="0"/>
                        <a:pt x="797" y="12"/>
                        <a:pt x="814" y="18"/>
                      </a:cubicBezTo>
                      <a:cubicBezTo>
                        <a:pt x="825" y="35"/>
                        <a:pt x="842" y="35"/>
                        <a:pt x="858" y="46"/>
                      </a:cubicBezTo>
                      <a:cubicBezTo>
                        <a:pt x="861" y="54"/>
                        <a:pt x="874" y="73"/>
                        <a:pt x="866" y="70"/>
                      </a:cubicBezTo>
                      <a:cubicBezTo>
                        <a:pt x="853" y="66"/>
                        <a:pt x="843" y="58"/>
                        <a:pt x="830" y="54"/>
                      </a:cubicBezTo>
                      <a:cubicBezTo>
                        <a:pt x="804" y="63"/>
                        <a:pt x="825" y="69"/>
                        <a:pt x="838" y="78"/>
                      </a:cubicBezTo>
                      <a:cubicBezTo>
                        <a:pt x="841" y="82"/>
                        <a:pt x="845" y="85"/>
                        <a:pt x="846" y="90"/>
                      </a:cubicBezTo>
                      <a:cubicBezTo>
                        <a:pt x="850" y="125"/>
                        <a:pt x="816" y="102"/>
                        <a:pt x="798" y="98"/>
                      </a:cubicBezTo>
                      <a:cubicBezTo>
                        <a:pt x="770" y="107"/>
                        <a:pt x="777" y="98"/>
                        <a:pt x="770" y="118"/>
                      </a:cubicBezTo>
                      <a:cubicBezTo>
                        <a:pt x="793" y="126"/>
                        <a:pt x="815" y="128"/>
                        <a:pt x="838" y="134"/>
                      </a:cubicBezTo>
                      <a:cubicBezTo>
                        <a:pt x="839" y="138"/>
                        <a:pt x="842" y="142"/>
                        <a:pt x="842" y="146"/>
                      </a:cubicBezTo>
                      <a:cubicBezTo>
                        <a:pt x="841" y="154"/>
                        <a:pt x="834" y="170"/>
                        <a:pt x="834" y="170"/>
                      </a:cubicBezTo>
                      <a:cubicBezTo>
                        <a:pt x="844" y="199"/>
                        <a:pt x="835" y="189"/>
                        <a:pt x="854" y="202"/>
                      </a:cubicBezTo>
                      <a:cubicBezTo>
                        <a:pt x="867" y="222"/>
                        <a:pt x="885" y="211"/>
                        <a:pt x="902" y="226"/>
                      </a:cubicBezTo>
                      <a:cubicBezTo>
                        <a:pt x="906" y="230"/>
                        <a:pt x="909" y="235"/>
                        <a:pt x="914" y="238"/>
                      </a:cubicBezTo>
                      <a:cubicBezTo>
                        <a:pt x="921" y="242"/>
                        <a:pt x="938" y="246"/>
                        <a:pt x="938" y="246"/>
                      </a:cubicBezTo>
                      <a:cubicBezTo>
                        <a:pt x="954" y="241"/>
                        <a:pt x="966" y="237"/>
                        <a:pt x="982" y="242"/>
                      </a:cubicBezTo>
                      <a:cubicBezTo>
                        <a:pt x="983" y="246"/>
                        <a:pt x="982" y="253"/>
                        <a:pt x="986" y="254"/>
                      </a:cubicBezTo>
                      <a:cubicBezTo>
                        <a:pt x="1009" y="262"/>
                        <a:pt x="1043" y="261"/>
                        <a:pt x="1070" y="270"/>
                      </a:cubicBezTo>
                      <a:cubicBezTo>
                        <a:pt x="1074" y="283"/>
                        <a:pt x="1098" y="298"/>
                        <a:pt x="1098" y="298"/>
                      </a:cubicBezTo>
                      <a:cubicBezTo>
                        <a:pt x="1108" y="328"/>
                        <a:pt x="1093" y="297"/>
                        <a:pt x="1114" y="302"/>
                      </a:cubicBezTo>
                      <a:cubicBezTo>
                        <a:pt x="1123" y="304"/>
                        <a:pt x="1120" y="320"/>
                        <a:pt x="1126" y="326"/>
                      </a:cubicBezTo>
                      <a:cubicBezTo>
                        <a:pt x="1134" y="334"/>
                        <a:pt x="1140" y="335"/>
                        <a:pt x="1150" y="338"/>
                      </a:cubicBezTo>
                      <a:cubicBezTo>
                        <a:pt x="1157" y="318"/>
                        <a:pt x="1150" y="302"/>
                        <a:pt x="1134" y="290"/>
                      </a:cubicBezTo>
                      <a:cubicBezTo>
                        <a:pt x="1126" y="284"/>
                        <a:pt x="1110" y="274"/>
                        <a:pt x="1110" y="274"/>
                      </a:cubicBezTo>
                      <a:cubicBezTo>
                        <a:pt x="1099" y="257"/>
                        <a:pt x="1111" y="231"/>
                        <a:pt x="1098" y="218"/>
                      </a:cubicBezTo>
                      <a:cubicBezTo>
                        <a:pt x="1091" y="211"/>
                        <a:pt x="1082" y="207"/>
                        <a:pt x="1074" y="202"/>
                      </a:cubicBezTo>
                      <a:cubicBezTo>
                        <a:pt x="1067" y="197"/>
                        <a:pt x="1050" y="194"/>
                        <a:pt x="1050" y="194"/>
                      </a:cubicBezTo>
                      <a:cubicBezTo>
                        <a:pt x="1026" y="202"/>
                        <a:pt x="1043" y="201"/>
                        <a:pt x="1034" y="166"/>
                      </a:cubicBezTo>
                      <a:cubicBezTo>
                        <a:pt x="1031" y="155"/>
                        <a:pt x="1022" y="152"/>
                        <a:pt x="1014" y="146"/>
                      </a:cubicBezTo>
                      <a:cubicBezTo>
                        <a:pt x="1013" y="142"/>
                        <a:pt x="1013" y="137"/>
                        <a:pt x="1010" y="134"/>
                      </a:cubicBezTo>
                      <a:cubicBezTo>
                        <a:pt x="997" y="124"/>
                        <a:pt x="983" y="138"/>
                        <a:pt x="1006" y="122"/>
                      </a:cubicBezTo>
                      <a:cubicBezTo>
                        <a:pt x="1012" y="123"/>
                        <a:pt x="1031" y="126"/>
                        <a:pt x="1038" y="130"/>
                      </a:cubicBezTo>
                      <a:cubicBezTo>
                        <a:pt x="1046" y="135"/>
                        <a:pt x="1062" y="146"/>
                        <a:pt x="1062" y="146"/>
                      </a:cubicBezTo>
                      <a:cubicBezTo>
                        <a:pt x="1108" y="131"/>
                        <a:pt x="1096" y="148"/>
                        <a:pt x="1114" y="170"/>
                      </a:cubicBezTo>
                      <a:cubicBezTo>
                        <a:pt x="1122" y="180"/>
                        <a:pt x="1150" y="186"/>
                        <a:pt x="1150" y="186"/>
                      </a:cubicBezTo>
                      <a:cubicBezTo>
                        <a:pt x="1161" y="169"/>
                        <a:pt x="1157" y="166"/>
                        <a:pt x="1146" y="150"/>
                      </a:cubicBezTo>
                      <a:cubicBezTo>
                        <a:pt x="1168" y="143"/>
                        <a:pt x="1163" y="153"/>
                        <a:pt x="1174" y="166"/>
                      </a:cubicBezTo>
                      <a:cubicBezTo>
                        <a:pt x="1182" y="176"/>
                        <a:pt x="1195" y="176"/>
                        <a:pt x="1206" y="178"/>
                      </a:cubicBezTo>
                      <a:cubicBezTo>
                        <a:pt x="1214" y="183"/>
                        <a:pt x="1218" y="193"/>
                        <a:pt x="1226" y="198"/>
                      </a:cubicBezTo>
                      <a:cubicBezTo>
                        <a:pt x="1232" y="202"/>
                        <a:pt x="1257" y="208"/>
                        <a:pt x="1266" y="210"/>
                      </a:cubicBezTo>
                      <a:cubicBezTo>
                        <a:pt x="1279" y="229"/>
                        <a:pt x="1269" y="220"/>
                        <a:pt x="1298" y="230"/>
                      </a:cubicBezTo>
                      <a:cubicBezTo>
                        <a:pt x="1306" y="233"/>
                        <a:pt x="1322" y="238"/>
                        <a:pt x="1322" y="238"/>
                      </a:cubicBezTo>
                      <a:cubicBezTo>
                        <a:pt x="1330" y="261"/>
                        <a:pt x="1350" y="251"/>
                        <a:pt x="1370" y="258"/>
                      </a:cubicBezTo>
                      <a:cubicBezTo>
                        <a:pt x="1403" y="291"/>
                        <a:pt x="1381" y="292"/>
                        <a:pt x="1426" y="298"/>
                      </a:cubicBezTo>
                      <a:cubicBezTo>
                        <a:pt x="1448" y="313"/>
                        <a:pt x="1433" y="326"/>
                        <a:pt x="1458" y="334"/>
                      </a:cubicBezTo>
                      <a:cubicBezTo>
                        <a:pt x="1462" y="333"/>
                        <a:pt x="1466" y="330"/>
                        <a:pt x="1470" y="330"/>
                      </a:cubicBezTo>
                      <a:cubicBezTo>
                        <a:pt x="1478" y="331"/>
                        <a:pt x="1494" y="338"/>
                        <a:pt x="1494" y="338"/>
                      </a:cubicBezTo>
                      <a:cubicBezTo>
                        <a:pt x="1503" y="352"/>
                        <a:pt x="1510" y="357"/>
                        <a:pt x="1526" y="362"/>
                      </a:cubicBezTo>
                      <a:cubicBezTo>
                        <a:pt x="1533" y="384"/>
                        <a:pt x="1519" y="382"/>
                        <a:pt x="1502" y="378"/>
                      </a:cubicBezTo>
                      <a:cubicBezTo>
                        <a:pt x="1474" y="360"/>
                        <a:pt x="1487" y="359"/>
                        <a:pt x="1466" y="366"/>
                      </a:cubicBezTo>
                      <a:cubicBezTo>
                        <a:pt x="1415" y="356"/>
                        <a:pt x="1434" y="311"/>
                        <a:pt x="1394" y="298"/>
                      </a:cubicBezTo>
                      <a:cubicBezTo>
                        <a:pt x="1379" y="344"/>
                        <a:pt x="1398" y="325"/>
                        <a:pt x="1318" y="330"/>
                      </a:cubicBezTo>
                      <a:cubicBezTo>
                        <a:pt x="1310" y="353"/>
                        <a:pt x="1328" y="377"/>
                        <a:pt x="1302" y="394"/>
                      </a:cubicBezTo>
                      <a:cubicBezTo>
                        <a:pt x="1295" y="414"/>
                        <a:pt x="1310" y="415"/>
                        <a:pt x="1318" y="398"/>
                      </a:cubicBezTo>
                      <a:cubicBezTo>
                        <a:pt x="1325" y="383"/>
                        <a:pt x="1324" y="368"/>
                        <a:pt x="1334" y="354"/>
                      </a:cubicBezTo>
                      <a:cubicBezTo>
                        <a:pt x="1337" y="354"/>
                        <a:pt x="1399" y="362"/>
                        <a:pt x="1362" y="374"/>
                      </a:cubicBezTo>
                      <a:cubicBezTo>
                        <a:pt x="1379" y="385"/>
                        <a:pt x="1385" y="403"/>
                        <a:pt x="1402" y="414"/>
                      </a:cubicBezTo>
                      <a:cubicBezTo>
                        <a:pt x="1433" y="404"/>
                        <a:pt x="1411" y="396"/>
                        <a:pt x="1450" y="402"/>
                      </a:cubicBezTo>
                      <a:cubicBezTo>
                        <a:pt x="1456" y="419"/>
                        <a:pt x="1452" y="424"/>
                        <a:pt x="1442" y="438"/>
                      </a:cubicBezTo>
                      <a:cubicBezTo>
                        <a:pt x="1439" y="457"/>
                        <a:pt x="1441" y="478"/>
                        <a:pt x="1418" y="470"/>
                      </a:cubicBezTo>
                      <a:cubicBezTo>
                        <a:pt x="1417" y="459"/>
                        <a:pt x="1419" y="447"/>
                        <a:pt x="1414" y="438"/>
                      </a:cubicBezTo>
                      <a:cubicBezTo>
                        <a:pt x="1412" y="434"/>
                        <a:pt x="1406" y="442"/>
                        <a:pt x="1402" y="442"/>
                      </a:cubicBezTo>
                      <a:cubicBezTo>
                        <a:pt x="1398" y="442"/>
                        <a:pt x="1394" y="440"/>
                        <a:pt x="1390" y="438"/>
                      </a:cubicBezTo>
                      <a:cubicBezTo>
                        <a:pt x="1382" y="433"/>
                        <a:pt x="1366" y="422"/>
                        <a:pt x="1366" y="422"/>
                      </a:cubicBezTo>
                      <a:cubicBezTo>
                        <a:pt x="1345" y="427"/>
                        <a:pt x="1333" y="442"/>
                        <a:pt x="1314" y="454"/>
                      </a:cubicBezTo>
                      <a:cubicBezTo>
                        <a:pt x="1303" y="461"/>
                        <a:pt x="1286" y="462"/>
                        <a:pt x="1274" y="466"/>
                      </a:cubicBezTo>
                      <a:cubicBezTo>
                        <a:pt x="1262" y="485"/>
                        <a:pt x="1273" y="484"/>
                        <a:pt x="1290" y="490"/>
                      </a:cubicBezTo>
                      <a:cubicBezTo>
                        <a:pt x="1273" y="501"/>
                        <a:pt x="1271" y="491"/>
                        <a:pt x="1254" y="502"/>
                      </a:cubicBezTo>
                      <a:cubicBezTo>
                        <a:pt x="1245" y="501"/>
                        <a:pt x="1234" y="504"/>
                        <a:pt x="1226" y="498"/>
                      </a:cubicBezTo>
                      <a:cubicBezTo>
                        <a:pt x="1222" y="495"/>
                        <a:pt x="1236" y="495"/>
                        <a:pt x="1238" y="490"/>
                      </a:cubicBezTo>
                      <a:cubicBezTo>
                        <a:pt x="1244" y="473"/>
                        <a:pt x="1196" y="435"/>
                        <a:pt x="1230" y="458"/>
                      </a:cubicBezTo>
                      <a:cubicBezTo>
                        <a:pt x="1249" y="486"/>
                        <a:pt x="1249" y="450"/>
                        <a:pt x="1226" y="442"/>
                      </a:cubicBezTo>
                      <a:cubicBezTo>
                        <a:pt x="1223" y="433"/>
                        <a:pt x="1224" y="424"/>
                        <a:pt x="1210" y="426"/>
                      </a:cubicBezTo>
                      <a:cubicBezTo>
                        <a:pt x="1202" y="427"/>
                        <a:pt x="1186" y="434"/>
                        <a:pt x="1186" y="434"/>
                      </a:cubicBezTo>
                      <a:cubicBezTo>
                        <a:pt x="1178" y="457"/>
                        <a:pt x="1187" y="442"/>
                        <a:pt x="1174" y="434"/>
                      </a:cubicBezTo>
                      <a:cubicBezTo>
                        <a:pt x="1169" y="431"/>
                        <a:pt x="1163" y="431"/>
                        <a:pt x="1158" y="430"/>
                      </a:cubicBezTo>
                      <a:cubicBezTo>
                        <a:pt x="1149" y="404"/>
                        <a:pt x="1123" y="394"/>
                        <a:pt x="1098" y="386"/>
                      </a:cubicBezTo>
                      <a:cubicBezTo>
                        <a:pt x="1079" y="391"/>
                        <a:pt x="1078" y="399"/>
                        <a:pt x="1062" y="410"/>
                      </a:cubicBezTo>
                      <a:cubicBezTo>
                        <a:pt x="1030" y="399"/>
                        <a:pt x="1046" y="403"/>
                        <a:pt x="1014" y="398"/>
                      </a:cubicBezTo>
                      <a:cubicBezTo>
                        <a:pt x="1006" y="399"/>
                        <a:pt x="998" y="403"/>
                        <a:pt x="990" y="402"/>
                      </a:cubicBezTo>
                      <a:cubicBezTo>
                        <a:pt x="962" y="399"/>
                        <a:pt x="966" y="350"/>
                        <a:pt x="950" y="334"/>
                      </a:cubicBezTo>
                      <a:cubicBezTo>
                        <a:pt x="936" y="320"/>
                        <a:pt x="929" y="319"/>
                        <a:pt x="914" y="314"/>
                      </a:cubicBezTo>
                      <a:cubicBezTo>
                        <a:pt x="889" y="322"/>
                        <a:pt x="910" y="334"/>
                        <a:pt x="886" y="326"/>
                      </a:cubicBezTo>
                      <a:cubicBezTo>
                        <a:pt x="869" y="300"/>
                        <a:pt x="843" y="290"/>
                        <a:pt x="818" y="274"/>
                      </a:cubicBezTo>
                      <a:cubicBezTo>
                        <a:pt x="824" y="256"/>
                        <a:pt x="820" y="245"/>
                        <a:pt x="810" y="230"/>
                      </a:cubicBezTo>
                      <a:cubicBezTo>
                        <a:pt x="778" y="241"/>
                        <a:pt x="823" y="222"/>
                        <a:pt x="794" y="258"/>
                      </a:cubicBezTo>
                      <a:cubicBezTo>
                        <a:pt x="788" y="265"/>
                        <a:pt x="778" y="250"/>
                        <a:pt x="770" y="246"/>
                      </a:cubicBezTo>
                      <a:cubicBezTo>
                        <a:pt x="762" y="243"/>
                        <a:pt x="746" y="238"/>
                        <a:pt x="746" y="238"/>
                      </a:cubicBezTo>
                      <a:cubicBezTo>
                        <a:pt x="742" y="212"/>
                        <a:pt x="742" y="210"/>
                        <a:pt x="718" y="202"/>
                      </a:cubicBezTo>
                      <a:cubicBezTo>
                        <a:pt x="698" y="206"/>
                        <a:pt x="689" y="206"/>
                        <a:pt x="682" y="226"/>
                      </a:cubicBezTo>
                      <a:cubicBezTo>
                        <a:pt x="664" y="220"/>
                        <a:pt x="651" y="212"/>
                        <a:pt x="634" y="206"/>
                      </a:cubicBezTo>
                      <a:cubicBezTo>
                        <a:pt x="640" y="189"/>
                        <a:pt x="644" y="171"/>
                        <a:pt x="650" y="154"/>
                      </a:cubicBezTo>
                      <a:cubicBezTo>
                        <a:pt x="632" y="148"/>
                        <a:pt x="628" y="151"/>
                        <a:pt x="618" y="166"/>
                      </a:cubicBezTo>
                      <a:cubicBezTo>
                        <a:pt x="610" y="163"/>
                        <a:pt x="602" y="161"/>
                        <a:pt x="594" y="158"/>
                      </a:cubicBezTo>
                      <a:cubicBezTo>
                        <a:pt x="590" y="157"/>
                        <a:pt x="582" y="154"/>
                        <a:pt x="582" y="154"/>
                      </a:cubicBezTo>
                      <a:cubicBezTo>
                        <a:pt x="591" y="191"/>
                        <a:pt x="578" y="153"/>
                        <a:pt x="598" y="178"/>
                      </a:cubicBezTo>
                      <a:cubicBezTo>
                        <a:pt x="601" y="181"/>
                        <a:pt x="606" y="189"/>
                        <a:pt x="602" y="190"/>
                      </a:cubicBezTo>
                      <a:cubicBezTo>
                        <a:pt x="591" y="192"/>
                        <a:pt x="570" y="182"/>
                        <a:pt x="570" y="182"/>
                      </a:cubicBezTo>
                      <a:cubicBezTo>
                        <a:pt x="553" y="171"/>
                        <a:pt x="538" y="165"/>
                        <a:pt x="522" y="154"/>
                      </a:cubicBezTo>
                      <a:cubicBezTo>
                        <a:pt x="506" y="131"/>
                        <a:pt x="487" y="137"/>
                        <a:pt x="522" y="114"/>
                      </a:cubicBezTo>
                      <a:cubicBezTo>
                        <a:pt x="521" y="109"/>
                        <a:pt x="522" y="101"/>
                        <a:pt x="518" y="98"/>
                      </a:cubicBezTo>
                      <a:cubicBezTo>
                        <a:pt x="515" y="95"/>
                        <a:pt x="510" y="104"/>
                        <a:pt x="506" y="102"/>
                      </a:cubicBezTo>
                      <a:cubicBezTo>
                        <a:pt x="502" y="100"/>
                        <a:pt x="505" y="93"/>
                        <a:pt x="502" y="90"/>
                      </a:cubicBezTo>
                      <a:cubicBezTo>
                        <a:pt x="499" y="87"/>
                        <a:pt x="494" y="87"/>
                        <a:pt x="490" y="86"/>
                      </a:cubicBezTo>
                      <a:cubicBezTo>
                        <a:pt x="482" y="89"/>
                        <a:pt x="474" y="91"/>
                        <a:pt x="466" y="94"/>
                      </a:cubicBezTo>
                      <a:cubicBezTo>
                        <a:pt x="462" y="95"/>
                        <a:pt x="454" y="98"/>
                        <a:pt x="454" y="98"/>
                      </a:cubicBezTo>
                      <a:cubicBezTo>
                        <a:pt x="461" y="118"/>
                        <a:pt x="454" y="118"/>
                        <a:pt x="442" y="134"/>
                      </a:cubicBezTo>
                      <a:cubicBezTo>
                        <a:pt x="436" y="142"/>
                        <a:pt x="426" y="158"/>
                        <a:pt x="426" y="158"/>
                      </a:cubicBezTo>
                      <a:cubicBezTo>
                        <a:pt x="419" y="188"/>
                        <a:pt x="441" y="225"/>
                        <a:pt x="410" y="246"/>
                      </a:cubicBezTo>
                      <a:cubicBezTo>
                        <a:pt x="409" y="250"/>
                        <a:pt x="410" y="256"/>
                        <a:pt x="406" y="258"/>
                      </a:cubicBezTo>
                      <a:cubicBezTo>
                        <a:pt x="398" y="262"/>
                        <a:pt x="385" y="244"/>
                        <a:pt x="382" y="242"/>
                      </a:cubicBezTo>
                      <a:cubicBezTo>
                        <a:pt x="371" y="236"/>
                        <a:pt x="351" y="233"/>
                        <a:pt x="338" y="230"/>
                      </a:cubicBezTo>
                      <a:cubicBezTo>
                        <a:pt x="330" y="231"/>
                        <a:pt x="322" y="231"/>
                        <a:pt x="314" y="234"/>
                      </a:cubicBezTo>
                      <a:cubicBezTo>
                        <a:pt x="309" y="236"/>
                        <a:pt x="307" y="243"/>
                        <a:pt x="302" y="242"/>
                      </a:cubicBezTo>
                      <a:cubicBezTo>
                        <a:pt x="298" y="241"/>
                        <a:pt x="301" y="233"/>
                        <a:pt x="298" y="230"/>
                      </a:cubicBezTo>
                      <a:cubicBezTo>
                        <a:pt x="292" y="223"/>
                        <a:pt x="282" y="221"/>
                        <a:pt x="274" y="218"/>
                      </a:cubicBezTo>
                      <a:cubicBezTo>
                        <a:pt x="262" y="237"/>
                        <a:pt x="261" y="246"/>
                        <a:pt x="238" y="254"/>
                      </a:cubicBezTo>
                      <a:cubicBezTo>
                        <a:pt x="230" y="229"/>
                        <a:pt x="250" y="241"/>
                        <a:pt x="234" y="218"/>
                      </a:cubicBezTo>
                      <a:cubicBezTo>
                        <a:pt x="220" y="227"/>
                        <a:pt x="211" y="234"/>
                        <a:pt x="206" y="250"/>
                      </a:cubicBezTo>
                      <a:cubicBezTo>
                        <a:pt x="212" y="274"/>
                        <a:pt x="208" y="277"/>
                        <a:pt x="234" y="282"/>
                      </a:cubicBezTo>
                      <a:cubicBezTo>
                        <a:pt x="236" y="289"/>
                        <a:pt x="245" y="302"/>
                        <a:pt x="226" y="302"/>
                      </a:cubicBezTo>
                      <a:cubicBezTo>
                        <a:pt x="218" y="302"/>
                        <a:pt x="202" y="294"/>
                        <a:pt x="202" y="294"/>
                      </a:cubicBezTo>
                      <a:cubicBezTo>
                        <a:pt x="184" y="321"/>
                        <a:pt x="148" y="329"/>
                        <a:pt x="122" y="346"/>
                      </a:cubicBezTo>
                      <a:cubicBezTo>
                        <a:pt x="116" y="364"/>
                        <a:pt x="99" y="371"/>
                        <a:pt x="82" y="378"/>
                      </a:cubicBezTo>
                      <a:cubicBezTo>
                        <a:pt x="74" y="381"/>
                        <a:pt x="58" y="386"/>
                        <a:pt x="58" y="386"/>
                      </a:cubicBezTo>
                      <a:cubicBezTo>
                        <a:pt x="26" y="375"/>
                        <a:pt x="82" y="375"/>
                        <a:pt x="86" y="374"/>
                      </a:cubicBezTo>
                      <a:cubicBezTo>
                        <a:pt x="96" y="360"/>
                        <a:pt x="104" y="359"/>
                        <a:pt x="118" y="350"/>
                      </a:cubicBezTo>
                      <a:cubicBezTo>
                        <a:pt x="132" y="329"/>
                        <a:pt x="145" y="318"/>
                        <a:pt x="170" y="314"/>
                      </a:cubicBezTo>
                      <a:cubicBezTo>
                        <a:pt x="172" y="309"/>
                        <a:pt x="178" y="290"/>
                        <a:pt x="178" y="286"/>
                      </a:cubicBezTo>
                      <a:cubicBezTo>
                        <a:pt x="177" y="278"/>
                        <a:pt x="170" y="262"/>
                        <a:pt x="170" y="262"/>
                      </a:cubicBezTo>
                      <a:cubicBezTo>
                        <a:pt x="146" y="265"/>
                        <a:pt x="134" y="263"/>
                        <a:pt x="126" y="286"/>
                      </a:cubicBezTo>
                      <a:cubicBezTo>
                        <a:pt x="92" y="275"/>
                        <a:pt x="141" y="296"/>
                        <a:pt x="118" y="258"/>
                      </a:cubicBezTo>
                      <a:cubicBezTo>
                        <a:pt x="114" y="251"/>
                        <a:pt x="102" y="253"/>
                        <a:pt x="94" y="250"/>
                      </a:cubicBezTo>
                      <a:cubicBezTo>
                        <a:pt x="90" y="249"/>
                        <a:pt x="82" y="246"/>
                        <a:pt x="82" y="246"/>
                      </a:cubicBezTo>
                      <a:cubicBezTo>
                        <a:pt x="65" y="258"/>
                        <a:pt x="54" y="250"/>
                        <a:pt x="34" y="246"/>
                      </a:cubicBezTo>
                      <a:cubicBezTo>
                        <a:pt x="66" y="235"/>
                        <a:pt x="90" y="253"/>
                        <a:pt x="62" y="210"/>
                      </a:cubicBezTo>
                      <a:cubicBezTo>
                        <a:pt x="68" y="192"/>
                        <a:pt x="76" y="191"/>
                        <a:pt x="94" y="186"/>
                      </a:cubicBezTo>
                      <a:cubicBezTo>
                        <a:pt x="92" y="175"/>
                        <a:pt x="95" y="160"/>
                        <a:pt x="78" y="162"/>
                      </a:cubicBezTo>
                      <a:cubicBezTo>
                        <a:pt x="70" y="163"/>
                        <a:pt x="54" y="170"/>
                        <a:pt x="54" y="170"/>
                      </a:cubicBezTo>
                      <a:cubicBezTo>
                        <a:pt x="41" y="166"/>
                        <a:pt x="18" y="150"/>
                        <a:pt x="18" y="150"/>
                      </a:cubicBezTo>
                      <a:cubicBezTo>
                        <a:pt x="12" y="131"/>
                        <a:pt x="22" y="131"/>
                        <a:pt x="38" y="126"/>
                      </a:cubicBezTo>
                      <a:cubicBezTo>
                        <a:pt x="46" y="129"/>
                        <a:pt x="54" y="131"/>
                        <a:pt x="62" y="134"/>
                      </a:cubicBezTo>
                      <a:cubicBezTo>
                        <a:pt x="70" y="137"/>
                        <a:pt x="86" y="126"/>
                        <a:pt x="86" y="126"/>
                      </a:cubicBezTo>
                      <a:cubicBezTo>
                        <a:pt x="69" y="109"/>
                        <a:pt x="56" y="117"/>
                        <a:pt x="30" y="114"/>
                      </a:cubicBezTo>
                      <a:cubicBezTo>
                        <a:pt x="17" y="110"/>
                        <a:pt x="0" y="99"/>
                        <a:pt x="14" y="82"/>
                      </a:cubicBezTo>
                      <a:cubicBezTo>
                        <a:pt x="20" y="75"/>
                        <a:pt x="31" y="76"/>
                        <a:pt x="38" y="70"/>
                      </a:cubicBezTo>
                      <a:cubicBezTo>
                        <a:pt x="69" y="44"/>
                        <a:pt x="32" y="70"/>
                        <a:pt x="62" y="50"/>
                      </a:cubicBezTo>
                      <a:cubicBezTo>
                        <a:pt x="72" y="34"/>
                        <a:pt x="65" y="40"/>
                        <a:pt x="82" y="3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884560" y="1543680"/>
                  <a:ext cx="1050480" cy="597240"/>
                </a:xfrm>
                <a:custGeom>
                  <a:avLst/>
                  <a:gdLst/>
                  <a:ahLst/>
                  <a:rect l="l" t="t" r="r" b="b"/>
                  <a:pathLst>
                    <a:path w="602" h="336">
                      <a:moveTo>
                        <a:pt x="312" y="336"/>
                      </a:moveTo>
                      <a:cubicBezTo>
                        <a:pt x="279" y="314"/>
                        <a:pt x="238" y="290"/>
                        <a:pt x="200" y="280"/>
                      </a:cubicBezTo>
                      <a:cubicBezTo>
                        <a:pt x="197" y="276"/>
                        <a:pt x="193" y="273"/>
                        <a:pt x="192" y="268"/>
                      </a:cubicBezTo>
                      <a:cubicBezTo>
                        <a:pt x="191" y="264"/>
                        <a:pt x="199" y="259"/>
                        <a:pt x="196" y="256"/>
                      </a:cubicBezTo>
                      <a:cubicBezTo>
                        <a:pt x="191" y="251"/>
                        <a:pt x="183" y="254"/>
                        <a:pt x="176" y="252"/>
                      </a:cubicBezTo>
                      <a:cubicBezTo>
                        <a:pt x="152" y="245"/>
                        <a:pt x="157" y="247"/>
                        <a:pt x="140" y="236"/>
                      </a:cubicBezTo>
                      <a:cubicBezTo>
                        <a:pt x="136" y="237"/>
                        <a:pt x="128" y="236"/>
                        <a:pt x="128" y="240"/>
                      </a:cubicBezTo>
                      <a:cubicBezTo>
                        <a:pt x="128" y="240"/>
                        <a:pt x="153" y="255"/>
                        <a:pt x="148" y="260"/>
                      </a:cubicBezTo>
                      <a:cubicBezTo>
                        <a:pt x="144" y="264"/>
                        <a:pt x="137" y="257"/>
                        <a:pt x="132" y="256"/>
                      </a:cubicBezTo>
                      <a:cubicBezTo>
                        <a:pt x="117" y="241"/>
                        <a:pt x="102" y="238"/>
                        <a:pt x="124" y="224"/>
                      </a:cubicBezTo>
                      <a:cubicBezTo>
                        <a:pt x="119" y="203"/>
                        <a:pt x="122" y="197"/>
                        <a:pt x="100" y="192"/>
                      </a:cubicBezTo>
                      <a:cubicBezTo>
                        <a:pt x="76" y="155"/>
                        <a:pt x="41" y="162"/>
                        <a:pt x="8" y="140"/>
                      </a:cubicBezTo>
                      <a:cubicBezTo>
                        <a:pt x="18" y="111"/>
                        <a:pt x="14" y="124"/>
                        <a:pt x="20" y="100"/>
                      </a:cubicBezTo>
                      <a:cubicBezTo>
                        <a:pt x="14" y="68"/>
                        <a:pt x="0" y="25"/>
                        <a:pt x="32" y="4"/>
                      </a:cubicBezTo>
                      <a:cubicBezTo>
                        <a:pt x="49" y="10"/>
                        <a:pt x="62" y="3"/>
                        <a:pt x="80" y="0"/>
                      </a:cubicBezTo>
                      <a:cubicBezTo>
                        <a:pt x="89" y="28"/>
                        <a:pt x="80" y="27"/>
                        <a:pt x="100" y="20"/>
                      </a:cubicBezTo>
                      <a:cubicBezTo>
                        <a:pt x="108" y="23"/>
                        <a:pt x="116" y="25"/>
                        <a:pt x="124" y="28"/>
                      </a:cubicBezTo>
                      <a:cubicBezTo>
                        <a:pt x="128" y="29"/>
                        <a:pt x="136" y="32"/>
                        <a:pt x="136" y="32"/>
                      </a:cubicBezTo>
                      <a:cubicBezTo>
                        <a:pt x="143" y="53"/>
                        <a:pt x="167" y="65"/>
                        <a:pt x="188" y="72"/>
                      </a:cubicBezTo>
                      <a:cubicBezTo>
                        <a:pt x="187" y="77"/>
                        <a:pt x="182" y="83"/>
                        <a:pt x="184" y="88"/>
                      </a:cubicBezTo>
                      <a:cubicBezTo>
                        <a:pt x="188" y="100"/>
                        <a:pt x="220" y="104"/>
                        <a:pt x="220" y="104"/>
                      </a:cubicBezTo>
                      <a:cubicBezTo>
                        <a:pt x="243" y="89"/>
                        <a:pt x="271" y="102"/>
                        <a:pt x="292" y="116"/>
                      </a:cubicBezTo>
                      <a:cubicBezTo>
                        <a:pt x="296" y="127"/>
                        <a:pt x="294" y="132"/>
                        <a:pt x="308" y="132"/>
                      </a:cubicBezTo>
                      <a:cubicBezTo>
                        <a:pt x="322" y="132"/>
                        <a:pt x="344" y="112"/>
                        <a:pt x="344" y="112"/>
                      </a:cubicBezTo>
                      <a:cubicBezTo>
                        <a:pt x="356" y="120"/>
                        <a:pt x="368" y="128"/>
                        <a:pt x="380" y="136"/>
                      </a:cubicBezTo>
                      <a:cubicBezTo>
                        <a:pt x="387" y="141"/>
                        <a:pt x="404" y="144"/>
                        <a:pt x="404" y="144"/>
                      </a:cubicBezTo>
                      <a:cubicBezTo>
                        <a:pt x="410" y="162"/>
                        <a:pt x="418" y="163"/>
                        <a:pt x="436" y="168"/>
                      </a:cubicBezTo>
                      <a:cubicBezTo>
                        <a:pt x="449" y="177"/>
                        <a:pt x="457" y="187"/>
                        <a:pt x="472" y="192"/>
                      </a:cubicBezTo>
                      <a:cubicBezTo>
                        <a:pt x="479" y="199"/>
                        <a:pt x="484" y="209"/>
                        <a:pt x="492" y="216"/>
                      </a:cubicBezTo>
                      <a:cubicBezTo>
                        <a:pt x="503" y="225"/>
                        <a:pt x="538" y="239"/>
                        <a:pt x="552" y="244"/>
                      </a:cubicBezTo>
                      <a:cubicBezTo>
                        <a:pt x="570" y="271"/>
                        <a:pt x="548" y="260"/>
                        <a:pt x="536" y="252"/>
                      </a:cubicBezTo>
                      <a:cubicBezTo>
                        <a:pt x="526" y="238"/>
                        <a:pt x="518" y="237"/>
                        <a:pt x="504" y="228"/>
                      </a:cubicBezTo>
                      <a:cubicBezTo>
                        <a:pt x="503" y="225"/>
                        <a:pt x="497" y="197"/>
                        <a:pt x="492" y="228"/>
                      </a:cubicBezTo>
                      <a:cubicBezTo>
                        <a:pt x="491" y="237"/>
                        <a:pt x="510" y="260"/>
                        <a:pt x="516" y="264"/>
                      </a:cubicBezTo>
                      <a:cubicBezTo>
                        <a:pt x="533" y="275"/>
                        <a:pt x="568" y="275"/>
                        <a:pt x="584" y="276"/>
                      </a:cubicBezTo>
                      <a:cubicBezTo>
                        <a:pt x="601" y="282"/>
                        <a:pt x="602" y="287"/>
                        <a:pt x="596" y="304"/>
                      </a:cubicBezTo>
                      <a:cubicBezTo>
                        <a:pt x="579" y="298"/>
                        <a:pt x="566" y="308"/>
                        <a:pt x="548" y="308"/>
                      </a:cubicBezTo>
                      <a:lnTo>
                        <a:pt x="312" y="336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164560" y="1672200"/>
                  <a:ext cx="57600" cy="4356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28" y="20"/>
                      </a:moveTo>
                      <a:cubicBezTo>
                        <a:pt x="12" y="15"/>
                        <a:pt x="0" y="8"/>
                        <a:pt x="24" y="0"/>
                      </a:cubicBezTo>
                      <a:cubicBezTo>
                        <a:pt x="27" y="4"/>
                        <a:pt x="31" y="7"/>
                        <a:pt x="32" y="12"/>
                      </a:cubicBezTo>
                      <a:cubicBezTo>
                        <a:pt x="33" y="16"/>
                        <a:pt x="30" y="20"/>
                        <a:pt x="28" y="24"/>
                      </a:cubicBezTo>
                      <a:cubicBezTo>
                        <a:pt x="27" y="25"/>
                        <a:pt x="28" y="21"/>
                        <a:pt x="28" y="2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4896360" y="1430640"/>
                  <a:ext cx="87120" cy="2808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34" y="16"/>
                      </a:moveTo>
                      <a:cubicBezTo>
                        <a:pt x="0" y="8"/>
                        <a:pt x="27" y="5"/>
                        <a:pt x="42" y="0"/>
                      </a:cubicBezTo>
                      <a:cubicBezTo>
                        <a:pt x="47" y="16"/>
                        <a:pt x="50" y="11"/>
                        <a:pt x="34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870800" y="1994040"/>
                  <a:ext cx="66240" cy="6624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21" y="23"/>
                      </a:moveTo>
                      <a:cubicBezTo>
                        <a:pt x="0" y="9"/>
                        <a:pt x="9" y="0"/>
                        <a:pt x="29" y="7"/>
                      </a:cubicBezTo>
                      <a:cubicBezTo>
                        <a:pt x="32" y="11"/>
                        <a:pt x="38" y="14"/>
                        <a:pt x="37" y="19"/>
                      </a:cubicBezTo>
                      <a:cubicBezTo>
                        <a:pt x="33" y="38"/>
                        <a:pt x="25" y="27"/>
                        <a:pt x="21" y="2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962600" y="2012760"/>
                  <a:ext cx="40680" cy="3636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12" y="16"/>
                      </a:moveTo>
                      <a:cubicBezTo>
                        <a:pt x="9" y="12"/>
                        <a:pt x="1" y="7"/>
                        <a:pt x="4" y="4"/>
                      </a:cubicBezTo>
                      <a:cubicBezTo>
                        <a:pt x="8" y="0"/>
                        <a:pt x="17" y="4"/>
                        <a:pt x="20" y="8"/>
                      </a:cubicBezTo>
                      <a:cubicBezTo>
                        <a:pt x="23" y="11"/>
                        <a:pt x="17" y="16"/>
                        <a:pt x="16" y="20"/>
                      </a:cubicBezTo>
                      <a:cubicBezTo>
                        <a:pt x="2" y="10"/>
                        <a:pt x="0" y="10"/>
                        <a:pt x="12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446000" y="2196360"/>
                  <a:ext cx="72000" cy="522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208400" y="1266480"/>
                  <a:ext cx="272160" cy="98640"/>
                </a:xfrm>
                <a:custGeom>
                  <a:avLst/>
                  <a:gdLst/>
                  <a:ahLst/>
                  <a:rect l="l" t="t" r="r" b="b"/>
                  <a:pathLst>
                    <a:path w="156" h="56">
                      <a:moveTo>
                        <a:pt x="16" y="32"/>
                      </a:moveTo>
                      <a:cubicBezTo>
                        <a:pt x="4" y="13"/>
                        <a:pt x="6" y="5"/>
                        <a:pt x="28" y="0"/>
                      </a:cubicBezTo>
                      <a:cubicBezTo>
                        <a:pt x="57" y="10"/>
                        <a:pt x="44" y="6"/>
                        <a:pt x="68" y="12"/>
                      </a:cubicBezTo>
                      <a:cubicBezTo>
                        <a:pt x="85" y="24"/>
                        <a:pt x="110" y="17"/>
                        <a:pt x="132" y="20"/>
                      </a:cubicBezTo>
                      <a:cubicBezTo>
                        <a:pt x="156" y="56"/>
                        <a:pt x="115" y="35"/>
                        <a:pt x="104" y="28"/>
                      </a:cubicBezTo>
                      <a:cubicBezTo>
                        <a:pt x="71" y="39"/>
                        <a:pt x="123" y="24"/>
                        <a:pt x="56" y="28"/>
                      </a:cubicBezTo>
                      <a:cubicBezTo>
                        <a:pt x="48" y="29"/>
                        <a:pt x="32" y="36"/>
                        <a:pt x="32" y="36"/>
                      </a:cubicBezTo>
                      <a:cubicBezTo>
                        <a:pt x="5" y="27"/>
                        <a:pt x="0" y="24"/>
                        <a:pt x="16" y="3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563280" y="1088640"/>
                  <a:ext cx="122400" cy="46440"/>
                </a:xfrm>
                <a:custGeom>
                  <a:avLst/>
                  <a:gdLst/>
                  <a:ahLst/>
                  <a:rect l="l" t="t" r="r" b="b"/>
                  <a:pathLst>
                    <a:path w="71" h="26">
                      <a:moveTo>
                        <a:pt x="54" y="16"/>
                      </a:moveTo>
                      <a:cubicBezTo>
                        <a:pt x="29" y="24"/>
                        <a:pt x="0" y="14"/>
                        <a:pt x="42" y="0"/>
                      </a:cubicBezTo>
                      <a:cubicBezTo>
                        <a:pt x="50" y="3"/>
                        <a:pt x="58" y="5"/>
                        <a:pt x="66" y="8"/>
                      </a:cubicBezTo>
                      <a:cubicBezTo>
                        <a:pt x="71" y="10"/>
                        <a:pt x="67" y="21"/>
                        <a:pt x="62" y="24"/>
                      </a:cubicBezTo>
                      <a:cubicBezTo>
                        <a:pt x="59" y="26"/>
                        <a:pt x="57" y="19"/>
                        <a:pt x="54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608280" y="1131120"/>
                  <a:ext cx="114120" cy="70200"/>
                </a:xfrm>
                <a:custGeom>
                  <a:avLst/>
                  <a:gdLst/>
                  <a:ahLst/>
                  <a:rect l="l" t="t" r="r" b="b"/>
                  <a:pathLst>
                    <a:path w="66" h="40">
                      <a:moveTo>
                        <a:pt x="0" y="12"/>
                      </a:moveTo>
                      <a:cubicBezTo>
                        <a:pt x="23" y="9"/>
                        <a:pt x="39" y="3"/>
                        <a:pt x="60" y="8"/>
                      </a:cubicBezTo>
                      <a:cubicBezTo>
                        <a:pt x="66" y="26"/>
                        <a:pt x="59" y="30"/>
                        <a:pt x="44" y="40"/>
                      </a:cubicBezTo>
                      <a:cubicBezTo>
                        <a:pt x="27" y="34"/>
                        <a:pt x="17" y="33"/>
                        <a:pt x="4" y="20"/>
                      </a:cubicBezTo>
                      <a:cubicBezTo>
                        <a:pt x="9" y="0"/>
                        <a:pt x="12" y="0"/>
                        <a:pt x="0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705840" y="1173240"/>
                  <a:ext cx="95760" cy="5076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0" y="20"/>
                      </a:moveTo>
                      <a:cubicBezTo>
                        <a:pt x="4" y="16"/>
                        <a:pt x="7" y="11"/>
                        <a:pt x="12" y="8"/>
                      </a:cubicBezTo>
                      <a:cubicBezTo>
                        <a:pt x="19" y="4"/>
                        <a:pt x="36" y="0"/>
                        <a:pt x="36" y="0"/>
                      </a:cubicBezTo>
                      <a:cubicBezTo>
                        <a:pt x="55" y="28"/>
                        <a:pt x="18" y="16"/>
                        <a:pt x="0" y="2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435040" y="1231200"/>
                  <a:ext cx="2773080" cy="1599120"/>
                </a:xfrm>
                <a:custGeom>
                  <a:avLst/>
                  <a:gdLst/>
                  <a:ahLst/>
                  <a:rect l="l" t="t" r="r" b="b"/>
                  <a:pathLst>
                    <a:path w="1589" h="900">
                      <a:moveTo>
                        <a:pt x="240" y="144"/>
                      </a:moveTo>
                      <a:cubicBezTo>
                        <a:pt x="246" y="127"/>
                        <a:pt x="252" y="118"/>
                        <a:pt x="256" y="100"/>
                      </a:cubicBezTo>
                      <a:cubicBezTo>
                        <a:pt x="265" y="114"/>
                        <a:pt x="272" y="119"/>
                        <a:pt x="288" y="124"/>
                      </a:cubicBezTo>
                      <a:cubicBezTo>
                        <a:pt x="291" y="128"/>
                        <a:pt x="292" y="133"/>
                        <a:pt x="296" y="136"/>
                      </a:cubicBezTo>
                      <a:cubicBezTo>
                        <a:pt x="303" y="140"/>
                        <a:pt x="320" y="144"/>
                        <a:pt x="320" y="144"/>
                      </a:cubicBezTo>
                      <a:cubicBezTo>
                        <a:pt x="316" y="131"/>
                        <a:pt x="316" y="118"/>
                        <a:pt x="328" y="108"/>
                      </a:cubicBezTo>
                      <a:cubicBezTo>
                        <a:pt x="335" y="102"/>
                        <a:pt x="344" y="97"/>
                        <a:pt x="352" y="92"/>
                      </a:cubicBezTo>
                      <a:cubicBezTo>
                        <a:pt x="356" y="89"/>
                        <a:pt x="364" y="84"/>
                        <a:pt x="364" y="84"/>
                      </a:cubicBezTo>
                      <a:cubicBezTo>
                        <a:pt x="374" y="69"/>
                        <a:pt x="378" y="66"/>
                        <a:pt x="396" y="72"/>
                      </a:cubicBezTo>
                      <a:cubicBezTo>
                        <a:pt x="407" y="89"/>
                        <a:pt x="404" y="93"/>
                        <a:pt x="388" y="104"/>
                      </a:cubicBezTo>
                      <a:cubicBezTo>
                        <a:pt x="364" y="140"/>
                        <a:pt x="350" y="168"/>
                        <a:pt x="304" y="180"/>
                      </a:cubicBezTo>
                      <a:cubicBezTo>
                        <a:pt x="305" y="184"/>
                        <a:pt x="304" y="191"/>
                        <a:pt x="308" y="192"/>
                      </a:cubicBezTo>
                      <a:cubicBezTo>
                        <a:pt x="316" y="193"/>
                        <a:pt x="332" y="184"/>
                        <a:pt x="332" y="184"/>
                      </a:cubicBezTo>
                      <a:cubicBezTo>
                        <a:pt x="336" y="180"/>
                        <a:pt x="339" y="175"/>
                        <a:pt x="344" y="172"/>
                      </a:cubicBezTo>
                      <a:cubicBezTo>
                        <a:pt x="348" y="170"/>
                        <a:pt x="353" y="171"/>
                        <a:pt x="356" y="168"/>
                      </a:cubicBezTo>
                      <a:cubicBezTo>
                        <a:pt x="360" y="165"/>
                        <a:pt x="361" y="159"/>
                        <a:pt x="364" y="156"/>
                      </a:cubicBezTo>
                      <a:cubicBezTo>
                        <a:pt x="367" y="153"/>
                        <a:pt x="372" y="151"/>
                        <a:pt x="376" y="148"/>
                      </a:cubicBezTo>
                      <a:cubicBezTo>
                        <a:pt x="404" y="166"/>
                        <a:pt x="397" y="173"/>
                        <a:pt x="404" y="152"/>
                      </a:cubicBezTo>
                      <a:cubicBezTo>
                        <a:pt x="382" y="130"/>
                        <a:pt x="388" y="124"/>
                        <a:pt x="412" y="108"/>
                      </a:cubicBezTo>
                      <a:cubicBezTo>
                        <a:pt x="417" y="92"/>
                        <a:pt x="424" y="80"/>
                        <a:pt x="432" y="104"/>
                      </a:cubicBezTo>
                      <a:cubicBezTo>
                        <a:pt x="444" y="69"/>
                        <a:pt x="436" y="75"/>
                        <a:pt x="476" y="88"/>
                      </a:cubicBezTo>
                      <a:cubicBezTo>
                        <a:pt x="482" y="105"/>
                        <a:pt x="478" y="110"/>
                        <a:pt x="468" y="124"/>
                      </a:cubicBezTo>
                      <a:cubicBezTo>
                        <a:pt x="472" y="125"/>
                        <a:pt x="477" y="131"/>
                        <a:pt x="480" y="128"/>
                      </a:cubicBezTo>
                      <a:cubicBezTo>
                        <a:pt x="486" y="122"/>
                        <a:pt x="485" y="112"/>
                        <a:pt x="488" y="104"/>
                      </a:cubicBezTo>
                      <a:cubicBezTo>
                        <a:pt x="489" y="100"/>
                        <a:pt x="492" y="92"/>
                        <a:pt x="492" y="92"/>
                      </a:cubicBezTo>
                      <a:cubicBezTo>
                        <a:pt x="486" y="74"/>
                        <a:pt x="489" y="70"/>
                        <a:pt x="504" y="60"/>
                      </a:cubicBezTo>
                      <a:cubicBezTo>
                        <a:pt x="524" y="64"/>
                        <a:pt x="533" y="62"/>
                        <a:pt x="552" y="56"/>
                      </a:cubicBezTo>
                      <a:cubicBezTo>
                        <a:pt x="584" y="24"/>
                        <a:pt x="643" y="25"/>
                        <a:pt x="684" y="20"/>
                      </a:cubicBezTo>
                      <a:cubicBezTo>
                        <a:pt x="703" y="14"/>
                        <a:pt x="720" y="11"/>
                        <a:pt x="736" y="0"/>
                      </a:cubicBezTo>
                      <a:cubicBezTo>
                        <a:pt x="759" y="8"/>
                        <a:pt x="756" y="13"/>
                        <a:pt x="784" y="8"/>
                      </a:cubicBezTo>
                      <a:cubicBezTo>
                        <a:pt x="801" y="14"/>
                        <a:pt x="807" y="36"/>
                        <a:pt x="788" y="48"/>
                      </a:cubicBezTo>
                      <a:cubicBezTo>
                        <a:pt x="776" y="56"/>
                        <a:pt x="745" y="65"/>
                        <a:pt x="732" y="68"/>
                      </a:cubicBezTo>
                      <a:cubicBezTo>
                        <a:pt x="720" y="76"/>
                        <a:pt x="693" y="83"/>
                        <a:pt x="720" y="92"/>
                      </a:cubicBezTo>
                      <a:cubicBezTo>
                        <a:pt x="747" y="74"/>
                        <a:pt x="764" y="69"/>
                        <a:pt x="796" y="64"/>
                      </a:cubicBezTo>
                      <a:cubicBezTo>
                        <a:pt x="799" y="68"/>
                        <a:pt x="799" y="76"/>
                        <a:pt x="804" y="76"/>
                      </a:cubicBezTo>
                      <a:cubicBezTo>
                        <a:pt x="815" y="77"/>
                        <a:pt x="836" y="68"/>
                        <a:pt x="836" y="68"/>
                      </a:cubicBezTo>
                      <a:cubicBezTo>
                        <a:pt x="850" y="77"/>
                        <a:pt x="860" y="80"/>
                        <a:pt x="876" y="84"/>
                      </a:cubicBezTo>
                      <a:cubicBezTo>
                        <a:pt x="894" y="78"/>
                        <a:pt x="886" y="70"/>
                        <a:pt x="904" y="64"/>
                      </a:cubicBezTo>
                      <a:cubicBezTo>
                        <a:pt x="922" y="70"/>
                        <a:pt x="917" y="82"/>
                        <a:pt x="936" y="76"/>
                      </a:cubicBezTo>
                      <a:cubicBezTo>
                        <a:pt x="939" y="80"/>
                        <a:pt x="946" y="84"/>
                        <a:pt x="944" y="88"/>
                      </a:cubicBezTo>
                      <a:cubicBezTo>
                        <a:pt x="939" y="96"/>
                        <a:pt x="920" y="104"/>
                        <a:pt x="920" y="104"/>
                      </a:cubicBezTo>
                      <a:cubicBezTo>
                        <a:pt x="928" y="116"/>
                        <a:pt x="931" y="126"/>
                        <a:pt x="952" y="120"/>
                      </a:cubicBezTo>
                      <a:cubicBezTo>
                        <a:pt x="956" y="119"/>
                        <a:pt x="953" y="111"/>
                        <a:pt x="956" y="108"/>
                      </a:cubicBezTo>
                      <a:cubicBezTo>
                        <a:pt x="959" y="105"/>
                        <a:pt x="964" y="105"/>
                        <a:pt x="968" y="104"/>
                      </a:cubicBezTo>
                      <a:cubicBezTo>
                        <a:pt x="976" y="107"/>
                        <a:pt x="984" y="109"/>
                        <a:pt x="992" y="112"/>
                      </a:cubicBezTo>
                      <a:cubicBezTo>
                        <a:pt x="996" y="113"/>
                        <a:pt x="1004" y="116"/>
                        <a:pt x="1004" y="116"/>
                      </a:cubicBezTo>
                      <a:cubicBezTo>
                        <a:pt x="1019" y="111"/>
                        <a:pt x="1025" y="117"/>
                        <a:pt x="1040" y="112"/>
                      </a:cubicBezTo>
                      <a:cubicBezTo>
                        <a:pt x="1043" y="108"/>
                        <a:pt x="1049" y="105"/>
                        <a:pt x="1048" y="100"/>
                      </a:cubicBezTo>
                      <a:cubicBezTo>
                        <a:pt x="1047" y="95"/>
                        <a:pt x="1038" y="96"/>
                        <a:pt x="1036" y="92"/>
                      </a:cubicBezTo>
                      <a:cubicBezTo>
                        <a:pt x="1032" y="82"/>
                        <a:pt x="1047" y="75"/>
                        <a:pt x="1052" y="72"/>
                      </a:cubicBezTo>
                      <a:cubicBezTo>
                        <a:pt x="1067" y="77"/>
                        <a:pt x="1076" y="81"/>
                        <a:pt x="1092" y="76"/>
                      </a:cubicBezTo>
                      <a:cubicBezTo>
                        <a:pt x="1096" y="77"/>
                        <a:pt x="1107" y="77"/>
                        <a:pt x="1104" y="80"/>
                      </a:cubicBezTo>
                      <a:cubicBezTo>
                        <a:pt x="1098" y="86"/>
                        <a:pt x="1080" y="88"/>
                        <a:pt x="1080" y="88"/>
                      </a:cubicBezTo>
                      <a:cubicBezTo>
                        <a:pt x="1085" y="92"/>
                        <a:pt x="1100" y="99"/>
                        <a:pt x="1100" y="108"/>
                      </a:cubicBezTo>
                      <a:cubicBezTo>
                        <a:pt x="1100" y="113"/>
                        <a:pt x="1090" y="116"/>
                        <a:pt x="1092" y="120"/>
                      </a:cubicBezTo>
                      <a:cubicBezTo>
                        <a:pt x="1094" y="124"/>
                        <a:pt x="1100" y="117"/>
                        <a:pt x="1104" y="116"/>
                      </a:cubicBezTo>
                      <a:cubicBezTo>
                        <a:pt x="1115" y="82"/>
                        <a:pt x="1118" y="94"/>
                        <a:pt x="1148" y="100"/>
                      </a:cubicBezTo>
                      <a:cubicBezTo>
                        <a:pt x="1147" y="104"/>
                        <a:pt x="1142" y="109"/>
                        <a:pt x="1144" y="112"/>
                      </a:cubicBezTo>
                      <a:cubicBezTo>
                        <a:pt x="1150" y="120"/>
                        <a:pt x="1168" y="128"/>
                        <a:pt x="1168" y="128"/>
                      </a:cubicBezTo>
                      <a:cubicBezTo>
                        <a:pt x="1184" y="123"/>
                        <a:pt x="1201" y="124"/>
                        <a:pt x="1216" y="132"/>
                      </a:cubicBezTo>
                      <a:cubicBezTo>
                        <a:pt x="1224" y="137"/>
                        <a:pt x="1240" y="148"/>
                        <a:pt x="1240" y="148"/>
                      </a:cubicBezTo>
                      <a:cubicBezTo>
                        <a:pt x="1271" y="195"/>
                        <a:pt x="1247" y="173"/>
                        <a:pt x="1260" y="160"/>
                      </a:cubicBezTo>
                      <a:cubicBezTo>
                        <a:pt x="1268" y="152"/>
                        <a:pt x="1281" y="154"/>
                        <a:pt x="1292" y="152"/>
                      </a:cubicBezTo>
                      <a:cubicBezTo>
                        <a:pt x="1317" y="160"/>
                        <a:pt x="1305" y="140"/>
                        <a:pt x="1328" y="156"/>
                      </a:cubicBezTo>
                      <a:cubicBezTo>
                        <a:pt x="1330" y="163"/>
                        <a:pt x="1339" y="178"/>
                        <a:pt x="1344" y="172"/>
                      </a:cubicBezTo>
                      <a:cubicBezTo>
                        <a:pt x="1349" y="166"/>
                        <a:pt x="1344" y="155"/>
                        <a:pt x="1348" y="148"/>
                      </a:cubicBezTo>
                      <a:cubicBezTo>
                        <a:pt x="1350" y="144"/>
                        <a:pt x="1356" y="145"/>
                        <a:pt x="1360" y="144"/>
                      </a:cubicBezTo>
                      <a:cubicBezTo>
                        <a:pt x="1390" y="164"/>
                        <a:pt x="1362" y="148"/>
                        <a:pt x="1432" y="156"/>
                      </a:cubicBezTo>
                      <a:cubicBezTo>
                        <a:pt x="1456" y="159"/>
                        <a:pt x="1499" y="198"/>
                        <a:pt x="1528" y="208"/>
                      </a:cubicBezTo>
                      <a:cubicBezTo>
                        <a:pt x="1557" y="198"/>
                        <a:pt x="1531" y="222"/>
                        <a:pt x="1560" y="212"/>
                      </a:cubicBezTo>
                      <a:cubicBezTo>
                        <a:pt x="1589" y="222"/>
                        <a:pt x="1560" y="228"/>
                        <a:pt x="1548" y="232"/>
                      </a:cubicBezTo>
                      <a:cubicBezTo>
                        <a:pt x="1539" y="258"/>
                        <a:pt x="1527" y="238"/>
                        <a:pt x="1508" y="232"/>
                      </a:cubicBezTo>
                      <a:cubicBezTo>
                        <a:pt x="1500" y="229"/>
                        <a:pt x="1484" y="224"/>
                        <a:pt x="1484" y="224"/>
                      </a:cubicBezTo>
                      <a:cubicBezTo>
                        <a:pt x="1475" y="197"/>
                        <a:pt x="1475" y="232"/>
                        <a:pt x="1456" y="244"/>
                      </a:cubicBezTo>
                      <a:cubicBezTo>
                        <a:pt x="1460" y="257"/>
                        <a:pt x="1476" y="280"/>
                        <a:pt x="1476" y="280"/>
                      </a:cubicBezTo>
                      <a:cubicBezTo>
                        <a:pt x="1459" y="286"/>
                        <a:pt x="1443" y="281"/>
                        <a:pt x="1424" y="284"/>
                      </a:cubicBezTo>
                      <a:cubicBezTo>
                        <a:pt x="1386" y="297"/>
                        <a:pt x="1402" y="325"/>
                        <a:pt x="1368" y="336"/>
                      </a:cubicBezTo>
                      <a:cubicBezTo>
                        <a:pt x="1362" y="330"/>
                        <a:pt x="1354" y="319"/>
                        <a:pt x="1344" y="320"/>
                      </a:cubicBezTo>
                      <a:cubicBezTo>
                        <a:pt x="1336" y="321"/>
                        <a:pt x="1320" y="328"/>
                        <a:pt x="1320" y="328"/>
                      </a:cubicBezTo>
                      <a:cubicBezTo>
                        <a:pt x="1319" y="324"/>
                        <a:pt x="1320" y="314"/>
                        <a:pt x="1316" y="316"/>
                      </a:cubicBezTo>
                      <a:cubicBezTo>
                        <a:pt x="1303" y="324"/>
                        <a:pt x="1288" y="363"/>
                        <a:pt x="1284" y="376"/>
                      </a:cubicBezTo>
                      <a:cubicBezTo>
                        <a:pt x="1289" y="397"/>
                        <a:pt x="1281" y="412"/>
                        <a:pt x="1276" y="432"/>
                      </a:cubicBezTo>
                      <a:cubicBezTo>
                        <a:pt x="1272" y="429"/>
                        <a:pt x="1269" y="423"/>
                        <a:pt x="1264" y="424"/>
                      </a:cubicBezTo>
                      <a:cubicBezTo>
                        <a:pt x="1257" y="425"/>
                        <a:pt x="1255" y="444"/>
                        <a:pt x="1252" y="448"/>
                      </a:cubicBezTo>
                      <a:cubicBezTo>
                        <a:pt x="1242" y="464"/>
                        <a:pt x="1226" y="482"/>
                        <a:pt x="1208" y="488"/>
                      </a:cubicBezTo>
                      <a:cubicBezTo>
                        <a:pt x="1196" y="453"/>
                        <a:pt x="1197" y="382"/>
                        <a:pt x="1240" y="368"/>
                      </a:cubicBezTo>
                      <a:cubicBezTo>
                        <a:pt x="1251" y="351"/>
                        <a:pt x="1270" y="343"/>
                        <a:pt x="1280" y="324"/>
                      </a:cubicBezTo>
                      <a:cubicBezTo>
                        <a:pt x="1286" y="312"/>
                        <a:pt x="1300" y="288"/>
                        <a:pt x="1300" y="288"/>
                      </a:cubicBezTo>
                      <a:cubicBezTo>
                        <a:pt x="1269" y="267"/>
                        <a:pt x="1270" y="311"/>
                        <a:pt x="1256" y="332"/>
                      </a:cubicBezTo>
                      <a:cubicBezTo>
                        <a:pt x="1237" y="326"/>
                        <a:pt x="1250" y="322"/>
                        <a:pt x="1244" y="304"/>
                      </a:cubicBezTo>
                      <a:cubicBezTo>
                        <a:pt x="1204" y="314"/>
                        <a:pt x="1245" y="299"/>
                        <a:pt x="1224" y="320"/>
                      </a:cubicBezTo>
                      <a:cubicBezTo>
                        <a:pt x="1217" y="327"/>
                        <a:pt x="1200" y="336"/>
                        <a:pt x="1200" y="336"/>
                      </a:cubicBezTo>
                      <a:cubicBezTo>
                        <a:pt x="1206" y="355"/>
                        <a:pt x="1196" y="355"/>
                        <a:pt x="1180" y="360"/>
                      </a:cubicBezTo>
                      <a:cubicBezTo>
                        <a:pt x="1168" y="359"/>
                        <a:pt x="1154" y="362"/>
                        <a:pt x="1144" y="356"/>
                      </a:cubicBezTo>
                      <a:cubicBezTo>
                        <a:pt x="1140" y="354"/>
                        <a:pt x="1153" y="349"/>
                        <a:pt x="1152" y="344"/>
                      </a:cubicBezTo>
                      <a:cubicBezTo>
                        <a:pt x="1151" y="340"/>
                        <a:pt x="1144" y="341"/>
                        <a:pt x="1140" y="340"/>
                      </a:cubicBezTo>
                      <a:cubicBezTo>
                        <a:pt x="1126" y="350"/>
                        <a:pt x="1121" y="354"/>
                        <a:pt x="1104" y="348"/>
                      </a:cubicBezTo>
                      <a:cubicBezTo>
                        <a:pt x="1079" y="354"/>
                        <a:pt x="1054" y="349"/>
                        <a:pt x="1032" y="364"/>
                      </a:cubicBezTo>
                      <a:cubicBezTo>
                        <a:pt x="1023" y="378"/>
                        <a:pt x="1016" y="383"/>
                        <a:pt x="1000" y="388"/>
                      </a:cubicBezTo>
                      <a:cubicBezTo>
                        <a:pt x="984" y="404"/>
                        <a:pt x="971" y="410"/>
                        <a:pt x="964" y="432"/>
                      </a:cubicBezTo>
                      <a:cubicBezTo>
                        <a:pt x="968" y="433"/>
                        <a:pt x="972" y="438"/>
                        <a:pt x="976" y="436"/>
                      </a:cubicBezTo>
                      <a:cubicBezTo>
                        <a:pt x="980" y="434"/>
                        <a:pt x="976" y="424"/>
                        <a:pt x="980" y="424"/>
                      </a:cubicBezTo>
                      <a:cubicBezTo>
                        <a:pt x="985" y="424"/>
                        <a:pt x="991" y="445"/>
                        <a:pt x="992" y="448"/>
                      </a:cubicBezTo>
                      <a:cubicBezTo>
                        <a:pt x="1000" y="443"/>
                        <a:pt x="1006" y="434"/>
                        <a:pt x="1016" y="444"/>
                      </a:cubicBezTo>
                      <a:cubicBezTo>
                        <a:pt x="1023" y="451"/>
                        <a:pt x="1044" y="460"/>
                        <a:pt x="1032" y="468"/>
                      </a:cubicBezTo>
                      <a:cubicBezTo>
                        <a:pt x="1017" y="513"/>
                        <a:pt x="1007" y="571"/>
                        <a:pt x="976" y="608"/>
                      </a:cubicBezTo>
                      <a:cubicBezTo>
                        <a:pt x="962" y="625"/>
                        <a:pt x="951" y="635"/>
                        <a:pt x="932" y="648"/>
                      </a:cubicBezTo>
                      <a:cubicBezTo>
                        <a:pt x="928" y="651"/>
                        <a:pt x="920" y="656"/>
                        <a:pt x="920" y="656"/>
                      </a:cubicBezTo>
                      <a:cubicBezTo>
                        <a:pt x="886" y="633"/>
                        <a:pt x="904" y="648"/>
                        <a:pt x="880" y="664"/>
                      </a:cubicBezTo>
                      <a:cubicBezTo>
                        <a:pt x="872" y="689"/>
                        <a:pt x="870" y="693"/>
                        <a:pt x="848" y="708"/>
                      </a:cubicBezTo>
                      <a:cubicBezTo>
                        <a:pt x="842" y="720"/>
                        <a:pt x="855" y="724"/>
                        <a:pt x="850" y="740"/>
                      </a:cubicBezTo>
                      <a:cubicBezTo>
                        <a:pt x="851" y="750"/>
                        <a:pt x="855" y="759"/>
                        <a:pt x="856" y="766"/>
                      </a:cubicBezTo>
                      <a:cubicBezTo>
                        <a:pt x="857" y="773"/>
                        <a:pt x="859" y="777"/>
                        <a:pt x="858" y="784"/>
                      </a:cubicBezTo>
                      <a:cubicBezTo>
                        <a:pt x="857" y="791"/>
                        <a:pt x="856" y="806"/>
                        <a:pt x="850" y="810"/>
                      </a:cubicBezTo>
                      <a:cubicBezTo>
                        <a:pt x="844" y="814"/>
                        <a:pt x="831" y="802"/>
                        <a:pt x="824" y="806"/>
                      </a:cubicBezTo>
                      <a:cubicBezTo>
                        <a:pt x="816" y="832"/>
                        <a:pt x="827" y="824"/>
                        <a:pt x="804" y="832"/>
                      </a:cubicBezTo>
                      <a:cubicBezTo>
                        <a:pt x="798" y="814"/>
                        <a:pt x="810" y="779"/>
                        <a:pt x="816" y="760"/>
                      </a:cubicBezTo>
                      <a:cubicBezTo>
                        <a:pt x="816" y="744"/>
                        <a:pt x="795" y="750"/>
                        <a:pt x="794" y="744"/>
                      </a:cubicBezTo>
                      <a:cubicBezTo>
                        <a:pt x="793" y="738"/>
                        <a:pt x="806" y="729"/>
                        <a:pt x="808" y="724"/>
                      </a:cubicBezTo>
                      <a:cubicBezTo>
                        <a:pt x="807" y="720"/>
                        <a:pt x="808" y="713"/>
                        <a:pt x="804" y="712"/>
                      </a:cubicBezTo>
                      <a:cubicBezTo>
                        <a:pt x="796" y="711"/>
                        <a:pt x="761" y="725"/>
                        <a:pt x="752" y="728"/>
                      </a:cubicBezTo>
                      <a:cubicBezTo>
                        <a:pt x="744" y="703"/>
                        <a:pt x="769" y="708"/>
                        <a:pt x="744" y="700"/>
                      </a:cubicBezTo>
                      <a:cubicBezTo>
                        <a:pt x="731" y="719"/>
                        <a:pt x="718" y="723"/>
                        <a:pt x="696" y="728"/>
                      </a:cubicBezTo>
                      <a:cubicBezTo>
                        <a:pt x="703" y="757"/>
                        <a:pt x="720" y="749"/>
                        <a:pt x="752" y="752"/>
                      </a:cubicBezTo>
                      <a:cubicBezTo>
                        <a:pt x="747" y="773"/>
                        <a:pt x="729" y="777"/>
                        <a:pt x="716" y="796"/>
                      </a:cubicBezTo>
                      <a:lnTo>
                        <a:pt x="730" y="822"/>
                      </a:lnTo>
                      <a:lnTo>
                        <a:pt x="740" y="858"/>
                      </a:lnTo>
                      <a:lnTo>
                        <a:pt x="724" y="862"/>
                      </a:lnTo>
                      <a:lnTo>
                        <a:pt x="736" y="876"/>
                      </a:lnTo>
                      <a:lnTo>
                        <a:pt x="720" y="900"/>
                      </a:lnTo>
                      <a:lnTo>
                        <a:pt x="0" y="892"/>
                      </a:lnTo>
                      <a:lnTo>
                        <a:pt x="240" y="144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228560" y="2009880"/>
                  <a:ext cx="81720" cy="293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180320" y="2256840"/>
                  <a:ext cx="241200" cy="1821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918960" y="2429280"/>
                  <a:ext cx="327240" cy="3801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4139280" y="2538000"/>
                  <a:ext cx="226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306520" y="2799360"/>
                  <a:ext cx="1416240" cy="100116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554920" y="3490200"/>
                  <a:ext cx="75960" cy="1512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640680" y="2966040"/>
                  <a:ext cx="77760" cy="1310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851280" y="2905560"/>
                  <a:ext cx="33840" cy="532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7520" y="2418120"/>
                  <a:ext cx="1771920" cy="2475000"/>
                </a:xfrm>
                <a:custGeom>
                  <a:avLst/>
                  <a:gdLst/>
                  <a:ahLst/>
                  <a:rect l="l" t="t" r="r" b="b"/>
                  <a:pathLst>
                    <a:path w="1015" h="1392">
                      <a:moveTo>
                        <a:pt x="824" y="1168"/>
                      </a:moveTo>
                      <a:lnTo>
                        <a:pt x="804" y="1204"/>
                      </a:lnTo>
                      <a:lnTo>
                        <a:pt x="816" y="1252"/>
                      </a:lnTo>
                      <a:lnTo>
                        <a:pt x="836" y="1300"/>
                      </a:lnTo>
                      <a:lnTo>
                        <a:pt x="816" y="1324"/>
                      </a:lnTo>
                      <a:lnTo>
                        <a:pt x="820" y="1360"/>
                      </a:lnTo>
                      <a:lnTo>
                        <a:pt x="820" y="1392"/>
                      </a:lnTo>
                      <a:lnTo>
                        <a:pt x="716" y="880"/>
                      </a:lnTo>
                      <a:lnTo>
                        <a:pt x="704" y="852"/>
                      </a:lnTo>
                      <a:lnTo>
                        <a:pt x="724" y="856"/>
                      </a:lnTo>
                      <a:lnTo>
                        <a:pt x="736" y="836"/>
                      </a:lnTo>
                      <a:lnTo>
                        <a:pt x="744" y="784"/>
                      </a:lnTo>
                      <a:lnTo>
                        <a:pt x="744" y="704"/>
                      </a:lnTo>
                      <a:lnTo>
                        <a:pt x="460" y="544"/>
                      </a:lnTo>
                      <a:lnTo>
                        <a:pt x="440" y="584"/>
                      </a:lnTo>
                      <a:lnTo>
                        <a:pt x="420" y="656"/>
                      </a:lnTo>
                      <a:lnTo>
                        <a:pt x="608" y="1168"/>
                      </a:lnTo>
                      <a:lnTo>
                        <a:pt x="444" y="1164"/>
                      </a:lnTo>
                      <a:lnTo>
                        <a:pt x="444" y="1112"/>
                      </a:lnTo>
                      <a:lnTo>
                        <a:pt x="444" y="1080"/>
                      </a:lnTo>
                      <a:lnTo>
                        <a:pt x="452" y="1048"/>
                      </a:lnTo>
                      <a:lnTo>
                        <a:pt x="452" y="1016"/>
                      </a:lnTo>
                      <a:cubicBezTo>
                        <a:pt x="423" y="987"/>
                        <a:pt x="441" y="967"/>
                        <a:pt x="420" y="936"/>
                      </a:cubicBezTo>
                      <a:cubicBezTo>
                        <a:pt x="411" y="901"/>
                        <a:pt x="397" y="887"/>
                        <a:pt x="376" y="856"/>
                      </a:cubicBezTo>
                      <a:cubicBezTo>
                        <a:pt x="371" y="848"/>
                        <a:pt x="365" y="840"/>
                        <a:pt x="360" y="832"/>
                      </a:cubicBezTo>
                      <a:lnTo>
                        <a:pt x="352" y="820"/>
                      </a:lnTo>
                      <a:cubicBezTo>
                        <a:pt x="352" y="820"/>
                        <a:pt x="364" y="784"/>
                        <a:pt x="364" y="784"/>
                      </a:cubicBezTo>
                      <a:cubicBezTo>
                        <a:pt x="367" y="776"/>
                        <a:pt x="372" y="760"/>
                        <a:pt x="372" y="760"/>
                      </a:cubicBezTo>
                      <a:cubicBezTo>
                        <a:pt x="371" y="756"/>
                        <a:pt x="368" y="752"/>
                        <a:pt x="368" y="748"/>
                      </a:cubicBezTo>
                      <a:cubicBezTo>
                        <a:pt x="369" y="740"/>
                        <a:pt x="376" y="724"/>
                        <a:pt x="376" y="724"/>
                      </a:cubicBezTo>
                      <a:cubicBezTo>
                        <a:pt x="361" y="701"/>
                        <a:pt x="352" y="704"/>
                        <a:pt x="328" y="712"/>
                      </a:cubicBezTo>
                      <a:cubicBezTo>
                        <a:pt x="323" y="704"/>
                        <a:pt x="313" y="700"/>
                        <a:pt x="308" y="692"/>
                      </a:cubicBezTo>
                      <a:cubicBezTo>
                        <a:pt x="275" y="640"/>
                        <a:pt x="321" y="689"/>
                        <a:pt x="288" y="656"/>
                      </a:cubicBezTo>
                      <a:cubicBezTo>
                        <a:pt x="248" y="661"/>
                        <a:pt x="266" y="657"/>
                        <a:pt x="232" y="668"/>
                      </a:cubicBezTo>
                      <a:cubicBezTo>
                        <a:pt x="228" y="669"/>
                        <a:pt x="220" y="672"/>
                        <a:pt x="220" y="672"/>
                      </a:cubicBezTo>
                      <a:cubicBezTo>
                        <a:pt x="217" y="676"/>
                        <a:pt x="216" y="681"/>
                        <a:pt x="212" y="684"/>
                      </a:cubicBezTo>
                      <a:cubicBezTo>
                        <a:pt x="205" y="688"/>
                        <a:pt x="188" y="692"/>
                        <a:pt x="188" y="692"/>
                      </a:cubicBezTo>
                      <a:cubicBezTo>
                        <a:pt x="157" y="671"/>
                        <a:pt x="173" y="673"/>
                        <a:pt x="140" y="684"/>
                      </a:cubicBezTo>
                      <a:cubicBezTo>
                        <a:pt x="132" y="687"/>
                        <a:pt x="116" y="692"/>
                        <a:pt x="116" y="692"/>
                      </a:cubicBezTo>
                      <a:cubicBezTo>
                        <a:pt x="93" y="727"/>
                        <a:pt x="68" y="656"/>
                        <a:pt x="52" y="640"/>
                      </a:cubicBezTo>
                      <a:cubicBezTo>
                        <a:pt x="47" y="625"/>
                        <a:pt x="35" y="607"/>
                        <a:pt x="32" y="592"/>
                      </a:cubicBezTo>
                      <a:cubicBezTo>
                        <a:pt x="30" y="584"/>
                        <a:pt x="32" y="575"/>
                        <a:pt x="28" y="568"/>
                      </a:cubicBezTo>
                      <a:cubicBezTo>
                        <a:pt x="26" y="564"/>
                        <a:pt x="20" y="563"/>
                        <a:pt x="16" y="560"/>
                      </a:cubicBezTo>
                      <a:cubicBezTo>
                        <a:pt x="5" y="526"/>
                        <a:pt x="22" y="580"/>
                        <a:pt x="8" y="524"/>
                      </a:cubicBezTo>
                      <a:cubicBezTo>
                        <a:pt x="6" y="516"/>
                        <a:pt x="0" y="500"/>
                        <a:pt x="0" y="500"/>
                      </a:cubicBezTo>
                      <a:cubicBezTo>
                        <a:pt x="4" y="480"/>
                        <a:pt x="3" y="471"/>
                        <a:pt x="20" y="460"/>
                      </a:cubicBezTo>
                      <a:cubicBezTo>
                        <a:pt x="30" y="420"/>
                        <a:pt x="25" y="438"/>
                        <a:pt x="36" y="404"/>
                      </a:cubicBezTo>
                      <a:cubicBezTo>
                        <a:pt x="39" y="396"/>
                        <a:pt x="44" y="380"/>
                        <a:pt x="44" y="380"/>
                      </a:cubicBezTo>
                      <a:cubicBezTo>
                        <a:pt x="39" y="365"/>
                        <a:pt x="36" y="363"/>
                        <a:pt x="48" y="344"/>
                      </a:cubicBezTo>
                      <a:cubicBezTo>
                        <a:pt x="53" y="336"/>
                        <a:pt x="64" y="320"/>
                        <a:pt x="64" y="320"/>
                      </a:cubicBezTo>
                      <a:cubicBezTo>
                        <a:pt x="55" y="294"/>
                        <a:pt x="53" y="290"/>
                        <a:pt x="76" y="272"/>
                      </a:cubicBezTo>
                      <a:cubicBezTo>
                        <a:pt x="84" y="266"/>
                        <a:pt x="100" y="256"/>
                        <a:pt x="100" y="256"/>
                      </a:cubicBezTo>
                      <a:cubicBezTo>
                        <a:pt x="108" y="245"/>
                        <a:pt x="112" y="231"/>
                        <a:pt x="120" y="220"/>
                      </a:cubicBezTo>
                      <a:cubicBezTo>
                        <a:pt x="132" y="203"/>
                        <a:pt x="152" y="199"/>
                        <a:pt x="168" y="188"/>
                      </a:cubicBezTo>
                      <a:cubicBezTo>
                        <a:pt x="186" y="162"/>
                        <a:pt x="222" y="145"/>
                        <a:pt x="248" y="128"/>
                      </a:cubicBezTo>
                      <a:cubicBezTo>
                        <a:pt x="259" y="111"/>
                        <a:pt x="260" y="95"/>
                        <a:pt x="280" y="88"/>
                      </a:cubicBezTo>
                      <a:cubicBezTo>
                        <a:pt x="294" y="74"/>
                        <a:pt x="310" y="68"/>
                        <a:pt x="328" y="56"/>
                      </a:cubicBezTo>
                      <a:cubicBezTo>
                        <a:pt x="332" y="53"/>
                        <a:pt x="340" y="48"/>
                        <a:pt x="340" y="48"/>
                      </a:cubicBezTo>
                      <a:cubicBezTo>
                        <a:pt x="352" y="30"/>
                        <a:pt x="364" y="19"/>
                        <a:pt x="384" y="12"/>
                      </a:cubicBezTo>
                      <a:cubicBezTo>
                        <a:pt x="400" y="59"/>
                        <a:pt x="448" y="11"/>
                        <a:pt x="476" y="8"/>
                      </a:cubicBezTo>
                      <a:cubicBezTo>
                        <a:pt x="497" y="6"/>
                        <a:pt x="519" y="5"/>
                        <a:pt x="540" y="4"/>
                      </a:cubicBezTo>
                      <a:cubicBezTo>
                        <a:pt x="549" y="5"/>
                        <a:pt x="559" y="9"/>
                        <a:pt x="568" y="8"/>
                      </a:cubicBezTo>
                      <a:cubicBezTo>
                        <a:pt x="576" y="7"/>
                        <a:pt x="592" y="0"/>
                        <a:pt x="592" y="0"/>
                      </a:cubicBezTo>
                      <a:cubicBezTo>
                        <a:pt x="617" y="16"/>
                        <a:pt x="604" y="31"/>
                        <a:pt x="596" y="56"/>
                      </a:cubicBezTo>
                      <a:cubicBezTo>
                        <a:pt x="593" y="64"/>
                        <a:pt x="572" y="64"/>
                        <a:pt x="572" y="64"/>
                      </a:cubicBezTo>
                      <a:cubicBezTo>
                        <a:pt x="564" y="89"/>
                        <a:pt x="592" y="97"/>
                        <a:pt x="612" y="104"/>
                      </a:cubicBezTo>
                      <a:cubicBezTo>
                        <a:pt x="623" y="136"/>
                        <a:pt x="626" y="149"/>
                        <a:pt x="660" y="160"/>
                      </a:cubicBezTo>
                      <a:cubicBezTo>
                        <a:pt x="686" y="134"/>
                        <a:pt x="647" y="124"/>
                        <a:pt x="696" y="108"/>
                      </a:cubicBezTo>
                      <a:cubicBezTo>
                        <a:pt x="717" y="115"/>
                        <a:pt x="722" y="132"/>
                        <a:pt x="740" y="140"/>
                      </a:cubicBezTo>
                      <a:cubicBezTo>
                        <a:pt x="752" y="145"/>
                        <a:pt x="764" y="148"/>
                        <a:pt x="776" y="152"/>
                      </a:cubicBezTo>
                      <a:cubicBezTo>
                        <a:pt x="780" y="153"/>
                        <a:pt x="788" y="156"/>
                        <a:pt x="788" y="156"/>
                      </a:cubicBezTo>
                      <a:cubicBezTo>
                        <a:pt x="814" y="147"/>
                        <a:pt x="814" y="145"/>
                        <a:pt x="836" y="160"/>
                      </a:cubicBezTo>
                      <a:cubicBezTo>
                        <a:pt x="843" y="180"/>
                        <a:pt x="841" y="164"/>
                        <a:pt x="832" y="184"/>
                      </a:cubicBezTo>
                      <a:cubicBezTo>
                        <a:pt x="829" y="192"/>
                        <a:pt x="824" y="208"/>
                        <a:pt x="824" y="208"/>
                      </a:cubicBezTo>
                      <a:cubicBezTo>
                        <a:pt x="828" y="250"/>
                        <a:pt x="827" y="319"/>
                        <a:pt x="852" y="356"/>
                      </a:cubicBezTo>
                      <a:cubicBezTo>
                        <a:pt x="845" y="376"/>
                        <a:pt x="840" y="395"/>
                        <a:pt x="836" y="416"/>
                      </a:cubicBezTo>
                      <a:cubicBezTo>
                        <a:pt x="840" y="431"/>
                        <a:pt x="847" y="441"/>
                        <a:pt x="852" y="456"/>
                      </a:cubicBezTo>
                      <a:cubicBezTo>
                        <a:pt x="853" y="468"/>
                        <a:pt x="852" y="481"/>
                        <a:pt x="856" y="492"/>
                      </a:cubicBezTo>
                      <a:cubicBezTo>
                        <a:pt x="858" y="498"/>
                        <a:pt x="885" y="515"/>
                        <a:pt x="892" y="536"/>
                      </a:cubicBezTo>
                      <a:cubicBezTo>
                        <a:pt x="884" y="559"/>
                        <a:pt x="898" y="581"/>
                        <a:pt x="920" y="588"/>
                      </a:cubicBezTo>
                      <a:cubicBezTo>
                        <a:pt x="938" y="582"/>
                        <a:pt x="949" y="584"/>
                        <a:pt x="960" y="568"/>
                      </a:cubicBezTo>
                      <a:cubicBezTo>
                        <a:pt x="982" y="572"/>
                        <a:pt x="987" y="575"/>
                        <a:pt x="1000" y="556"/>
                      </a:cubicBezTo>
                      <a:cubicBezTo>
                        <a:pt x="1004" y="557"/>
                        <a:pt x="1011" y="556"/>
                        <a:pt x="1012" y="560"/>
                      </a:cubicBezTo>
                      <a:cubicBezTo>
                        <a:pt x="1015" y="571"/>
                        <a:pt x="1003" y="608"/>
                        <a:pt x="1000" y="620"/>
                      </a:cubicBezTo>
                      <a:cubicBezTo>
                        <a:pt x="994" y="645"/>
                        <a:pt x="999" y="619"/>
                        <a:pt x="988" y="644"/>
                      </a:cubicBezTo>
                      <a:cubicBezTo>
                        <a:pt x="971" y="683"/>
                        <a:pt x="962" y="723"/>
                        <a:pt x="924" y="748"/>
                      </a:cubicBezTo>
                      <a:cubicBezTo>
                        <a:pt x="914" y="762"/>
                        <a:pt x="906" y="763"/>
                        <a:pt x="892" y="772"/>
                      </a:cubicBezTo>
                      <a:cubicBezTo>
                        <a:pt x="878" y="793"/>
                        <a:pt x="862" y="814"/>
                        <a:pt x="844" y="832"/>
                      </a:cubicBezTo>
                      <a:cubicBezTo>
                        <a:pt x="834" y="861"/>
                        <a:pt x="826" y="891"/>
                        <a:pt x="816" y="920"/>
                      </a:cubicBezTo>
                      <a:cubicBezTo>
                        <a:pt x="817" y="927"/>
                        <a:pt x="818" y="933"/>
                        <a:pt x="820" y="940"/>
                      </a:cubicBezTo>
                      <a:cubicBezTo>
                        <a:pt x="822" y="948"/>
                        <a:pt x="828" y="964"/>
                        <a:pt x="828" y="964"/>
                      </a:cubicBezTo>
                      <a:cubicBezTo>
                        <a:pt x="832" y="993"/>
                        <a:pt x="835" y="1019"/>
                        <a:pt x="856" y="1040"/>
                      </a:cubicBezTo>
                      <a:cubicBezTo>
                        <a:pt x="859" y="1048"/>
                        <a:pt x="861" y="1056"/>
                        <a:pt x="864" y="1064"/>
                      </a:cubicBezTo>
                      <a:cubicBezTo>
                        <a:pt x="865" y="1068"/>
                        <a:pt x="868" y="1076"/>
                        <a:pt x="868" y="1076"/>
                      </a:cubicBezTo>
                      <a:cubicBezTo>
                        <a:pt x="865" y="1095"/>
                        <a:pt x="853" y="1168"/>
                        <a:pt x="824" y="116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31880" y="3125520"/>
                  <a:ext cx="747000" cy="2001600"/>
                </a:xfrm>
                <a:custGeom>
                  <a:avLst/>
                  <a:gdLst/>
                  <a:ahLst/>
                  <a:rect l="l" t="t" r="r" b="b"/>
                  <a:pathLst>
                    <a:path w="428" h="1126">
                      <a:moveTo>
                        <a:pt x="52" y="762"/>
                      </a:moveTo>
                      <a:lnTo>
                        <a:pt x="120" y="870"/>
                      </a:lnTo>
                      <a:lnTo>
                        <a:pt x="136" y="898"/>
                      </a:lnTo>
                      <a:lnTo>
                        <a:pt x="168" y="962"/>
                      </a:lnTo>
                      <a:cubicBezTo>
                        <a:pt x="196" y="1018"/>
                        <a:pt x="169" y="983"/>
                        <a:pt x="196" y="998"/>
                      </a:cubicBezTo>
                      <a:cubicBezTo>
                        <a:pt x="204" y="1003"/>
                        <a:pt x="220" y="1014"/>
                        <a:pt x="220" y="1014"/>
                      </a:cubicBezTo>
                      <a:cubicBezTo>
                        <a:pt x="229" y="1028"/>
                        <a:pt x="244" y="1045"/>
                        <a:pt x="260" y="1050"/>
                      </a:cubicBezTo>
                      <a:cubicBezTo>
                        <a:pt x="272" y="1062"/>
                        <a:pt x="279" y="1070"/>
                        <a:pt x="284" y="1086"/>
                      </a:cubicBezTo>
                      <a:cubicBezTo>
                        <a:pt x="280" y="1098"/>
                        <a:pt x="276" y="1099"/>
                        <a:pt x="288" y="1110"/>
                      </a:cubicBezTo>
                      <a:cubicBezTo>
                        <a:pt x="295" y="1116"/>
                        <a:pt x="312" y="1126"/>
                        <a:pt x="312" y="1126"/>
                      </a:cubicBezTo>
                      <a:cubicBezTo>
                        <a:pt x="347" y="1114"/>
                        <a:pt x="376" y="1092"/>
                        <a:pt x="412" y="1086"/>
                      </a:cubicBezTo>
                      <a:cubicBezTo>
                        <a:pt x="418" y="1068"/>
                        <a:pt x="424" y="1052"/>
                        <a:pt x="428" y="1034"/>
                      </a:cubicBezTo>
                      <a:cubicBezTo>
                        <a:pt x="422" y="1016"/>
                        <a:pt x="424" y="1026"/>
                        <a:pt x="424" y="1002"/>
                      </a:cubicBezTo>
                      <a:lnTo>
                        <a:pt x="424" y="938"/>
                      </a:lnTo>
                      <a:lnTo>
                        <a:pt x="416" y="878"/>
                      </a:lnTo>
                      <a:lnTo>
                        <a:pt x="400" y="698"/>
                      </a:lnTo>
                      <a:lnTo>
                        <a:pt x="348" y="570"/>
                      </a:lnTo>
                      <a:lnTo>
                        <a:pt x="324" y="546"/>
                      </a:lnTo>
                      <a:lnTo>
                        <a:pt x="320" y="510"/>
                      </a:lnTo>
                      <a:lnTo>
                        <a:pt x="312" y="482"/>
                      </a:lnTo>
                      <a:lnTo>
                        <a:pt x="312" y="434"/>
                      </a:lnTo>
                      <a:lnTo>
                        <a:pt x="308" y="406"/>
                      </a:lnTo>
                      <a:lnTo>
                        <a:pt x="340" y="382"/>
                      </a:lnTo>
                      <a:lnTo>
                        <a:pt x="384" y="374"/>
                      </a:lnTo>
                      <a:lnTo>
                        <a:pt x="384" y="258"/>
                      </a:lnTo>
                      <a:cubicBezTo>
                        <a:pt x="311" y="226"/>
                        <a:pt x="19" y="0"/>
                        <a:pt x="80" y="182"/>
                      </a:cubicBezTo>
                      <a:cubicBezTo>
                        <a:pt x="54" y="200"/>
                        <a:pt x="85" y="183"/>
                        <a:pt x="48" y="186"/>
                      </a:cubicBezTo>
                      <a:cubicBezTo>
                        <a:pt x="40" y="187"/>
                        <a:pt x="24" y="194"/>
                        <a:pt x="24" y="194"/>
                      </a:cubicBezTo>
                      <a:lnTo>
                        <a:pt x="0" y="282"/>
                      </a:lnTo>
                      <a:lnTo>
                        <a:pt x="168" y="734"/>
                      </a:lnTo>
                      <a:lnTo>
                        <a:pt x="52" y="762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658520" y="4261680"/>
                  <a:ext cx="162000" cy="505800"/>
                </a:xfrm>
                <a:custGeom>
                  <a:avLst/>
                  <a:gdLst/>
                  <a:ahLst/>
                  <a:rect l="l" t="t" r="r" b="b"/>
                  <a:pathLst>
                    <a:path w="93" h="284">
                      <a:moveTo>
                        <a:pt x="25" y="83"/>
                      </a:moveTo>
                      <a:cubicBezTo>
                        <a:pt x="47" y="68"/>
                        <a:pt x="49" y="53"/>
                        <a:pt x="53" y="27"/>
                      </a:cubicBezTo>
                      <a:cubicBezTo>
                        <a:pt x="48" y="7"/>
                        <a:pt x="53" y="0"/>
                        <a:pt x="73" y="7"/>
                      </a:cubicBezTo>
                      <a:cubicBezTo>
                        <a:pt x="79" y="25"/>
                        <a:pt x="87" y="38"/>
                        <a:pt x="93" y="55"/>
                      </a:cubicBezTo>
                      <a:cubicBezTo>
                        <a:pt x="84" y="91"/>
                        <a:pt x="88" y="77"/>
                        <a:pt x="81" y="99"/>
                      </a:cubicBezTo>
                      <a:cubicBezTo>
                        <a:pt x="77" y="130"/>
                        <a:pt x="74" y="129"/>
                        <a:pt x="81" y="163"/>
                      </a:cubicBezTo>
                      <a:cubicBezTo>
                        <a:pt x="83" y="175"/>
                        <a:pt x="93" y="199"/>
                        <a:pt x="93" y="199"/>
                      </a:cubicBezTo>
                      <a:cubicBezTo>
                        <a:pt x="92" y="223"/>
                        <a:pt x="92" y="247"/>
                        <a:pt x="89" y="271"/>
                      </a:cubicBezTo>
                      <a:cubicBezTo>
                        <a:pt x="88" y="276"/>
                        <a:pt x="86" y="282"/>
                        <a:pt x="81" y="283"/>
                      </a:cubicBezTo>
                      <a:cubicBezTo>
                        <a:pt x="73" y="284"/>
                        <a:pt x="57" y="275"/>
                        <a:pt x="57" y="275"/>
                      </a:cubicBezTo>
                      <a:cubicBezTo>
                        <a:pt x="50" y="253"/>
                        <a:pt x="48" y="244"/>
                        <a:pt x="29" y="231"/>
                      </a:cubicBezTo>
                      <a:cubicBezTo>
                        <a:pt x="12" y="205"/>
                        <a:pt x="0" y="210"/>
                        <a:pt x="21" y="179"/>
                      </a:cubicBezTo>
                      <a:cubicBezTo>
                        <a:pt x="17" y="159"/>
                        <a:pt x="12" y="139"/>
                        <a:pt x="5" y="119"/>
                      </a:cubicBezTo>
                      <a:cubicBezTo>
                        <a:pt x="9" y="103"/>
                        <a:pt x="13" y="95"/>
                        <a:pt x="25" y="8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604880" y="4243320"/>
                  <a:ext cx="30960" cy="3492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14"/>
                      </a:moveTo>
                      <a:cubicBezTo>
                        <a:pt x="1" y="10"/>
                        <a:pt x="0" y="4"/>
                        <a:pt x="4" y="2"/>
                      </a:cubicBezTo>
                      <a:cubicBezTo>
                        <a:pt x="8" y="0"/>
                        <a:pt x="14" y="2"/>
                        <a:pt x="16" y="6"/>
                      </a:cubicBezTo>
                      <a:cubicBezTo>
                        <a:pt x="18" y="10"/>
                        <a:pt x="16" y="16"/>
                        <a:pt x="12" y="18"/>
                      </a:cubicBezTo>
                      <a:cubicBezTo>
                        <a:pt x="8" y="20"/>
                        <a:pt x="4" y="15"/>
                        <a:pt x="0" y="1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906920" y="3974760"/>
                  <a:ext cx="32400" cy="648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870200" y="3371760"/>
                  <a:ext cx="37800" cy="34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255960" y="2628360"/>
                  <a:ext cx="100080" cy="536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490400" y="2141280"/>
                  <a:ext cx="1209960" cy="123732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668520" y="1350000"/>
                  <a:ext cx="2229480" cy="1182240"/>
                </a:xfrm>
                <a:custGeom>
                  <a:avLst/>
                  <a:gdLst/>
                  <a:ahLst/>
                  <a:rect l="l" t="t" r="r" b="b"/>
                  <a:pathLst>
                    <a:path w="1277" h="665">
                      <a:moveTo>
                        <a:pt x="1180" y="541"/>
                      </a:moveTo>
                      <a:cubicBezTo>
                        <a:pt x="1212" y="377"/>
                        <a:pt x="1247" y="214"/>
                        <a:pt x="1276" y="49"/>
                      </a:cubicBezTo>
                      <a:cubicBezTo>
                        <a:pt x="1277" y="44"/>
                        <a:pt x="1267" y="54"/>
                        <a:pt x="1264" y="57"/>
                      </a:cubicBezTo>
                      <a:cubicBezTo>
                        <a:pt x="1255" y="66"/>
                        <a:pt x="1232" y="77"/>
                        <a:pt x="1232" y="77"/>
                      </a:cubicBezTo>
                      <a:cubicBezTo>
                        <a:pt x="1216" y="66"/>
                        <a:pt x="1203" y="63"/>
                        <a:pt x="1184" y="69"/>
                      </a:cubicBezTo>
                      <a:cubicBezTo>
                        <a:pt x="1164" y="64"/>
                        <a:pt x="1150" y="71"/>
                        <a:pt x="1164" y="49"/>
                      </a:cubicBezTo>
                      <a:cubicBezTo>
                        <a:pt x="1132" y="38"/>
                        <a:pt x="1153" y="59"/>
                        <a:pt x="1140" y="69"/>
                      </a:cubicBezTo>
                      <a:cubicBezTo>
                        <a:pt x="1132" y="75"/>
                        <a:pt x="1121" y="74"/>
                        <a:pt x="1112" y="77"/>
                      </a:cubicBezTo>
                      <a:cubicBezTo>
                        <a:pt x="1102" y="48"/>
                        <a:pt x="1093" y="65"/>
                        <a:pt x="1080" y="85"/>
                      </a:cubicBezTo>
                      <a:cubicBezTo>
                        <a:pt x="1075" y="92"/>
                        <a:pt x="1063" y="92"/>
                        <a:pt x="1056" y="97"/>
                      </a:cubicBezTo>
                      <a:cubicBezTo>
                        <a:pt x="1053" y="101"/>
                        <a:pt x="1053" y="108"/>
                        <a:pt x="1048" y="109"/>
                      </a:cubicBezTo>
                      <a:cubicBezTo>
                        <a:pt x="1040" y="110"/>
                        <a:pt x="1024" y="101"/>
                        <a:pt x="1024" y="101"/>
                      </a:cubicBezTo>
                      <a:cubicBezTo>
                        <a:pt x="1020" y="104"/>
                        <a:pt x="1015" y="106"/>
                        <a:pt x="1012" y="109"/>
                      </a:cubicBezTo>
                      <a:cubicBezTo>
                        <a:pt x="1009" y="112"/>
                        <a:pt x="1008" y="118"/>
                        <a:pt x="1004" y="121"/>
                      </a:cubicBezTo>
                      <a:cubicBezTo>
                        <a:pt x="997" y="127"/>
                        <a:pt x="980" y="137"/>
                        <a:pt x="980" y="137"/>
                      </a:cubicBezTo>
                      <a:cubicBezTo>
                        <a:pt x="932" y="132"/>
                        <a:pt x="917" y="132"/>
                        <a:pt x="952" y="97"/>
                      </a:cubicBezTo>
                      <a:cubicBezTo>
                        <a:pt x="957" y="81"/>
                        <a:pt x="952" y="66"/>
                        <a:pt x="972" y="73"/>
                      </a:cubicBezTo>
                      <a:cubicBezTo>
                        <a:pt x="973" y="77"/>
                        <a:pt x="979" y="96"/>
                        <a:pt x="984" y="97"/>
                      </a:cubicBezTo>
                      <a:cubicBezTo>
                        <a:pt x="1000" y="99"/>
                        <a:pt x="1016" y="88"/>
                        <a:pt x="1032" y="85"/>
                      </a:cubicBezTo>
                      <a:cubicBezTo>
                        <a:pt x="1039" y="64"/>
                        <a:pt x="1025" y="40"/>
                        <a:pt x="1008" y="29"/>
                      </a:cubicBezTo>
                      <a:cubicBezTo>
                        <a:pt x="980" y="36"/>
                        <a:pt x="985" y="18"/>
                        <a:pt x="956" y="37"/>
                      </a:cubicBezTo>
                      <a:cubicBezTo>
                        <a:pt x="955" y="33"/>
                        <a:pt x="949" y="28"/>
                        <a:pt x="952" y="25"/>
                      </a:cubicBezTo>
                      <a:cubicBezTo>
                        <a:pt x="958" y="19"/>
                        <a:pt x="968" y="20"/>
                        <a:pt x="976" y="17"/>
                      </a:cubicBezTo>
                      <a:cubicBezTo>
                        <a:pt x="980" y="16"/>
                        <a:pt x="988" y="13"/>
                        <a:pt x="988" y="13"/>
                      </a:cubicBezTo>
                      <a:cubicBezTo>
                        <a:pt x="984" y="10"/>
                        <a:pt x="981" y="5"/>
                        <a:pt x="976" y="5"/>
                      </a:cubicBezTo>
                      <a:cubicBezTo>
                        <a:pt x="958" y="5"/>
                        <a:pt x="942" y="14"/>
                        <a:pt x="924" y="17"/>
                      </a:cubicBezTo>
                      <a:cubicBezTo>
                        <a:pt x="918" y="34"/>
                        <a:pt x="913" y="35"/>
                        <a:pt x="896" y="29"/>
                      </a:cubicBezTo>
                      <a:cubicBezTo>
                        <a:pt x="900" y="16"/>
                        <a:pt x="898" y="15"/>
                        <a:pt x="912" y="9"/>
                      </a:cubicBezTo>
                      <a:cubicBezTo>
                        <a:pt x="920" y="6"/>
                        <a:pt x="936" y="1"/>
                        <a:pt x="936" y="1"/>
                      </a:cubicBezTo>
                      <a:cubicBezTo>
                        <a:pt x="936" y="1"/>
                        <a:pt x="928" y="4"/>
                        <a:pt x="924" y="5"/>
                      </a:cubicBezTo>
                      <a:cubicBezTo>
                        <a:pt x="915" y="7"/>
                        <a:pt x="905" y="8"/>
                        <a:pt x="896" y="9"/>
                      </a:cubicBezTo>
                      <a:cubicBezTo>
                        <a:pt x="856" y="22"/>
                        <a:pt x="917" y="0"/>
                        <a:pt x="872" y="25"/>
                      </a:cubicBezTo>
                      <a:cubicBezTo>
                        <a:pt x="855" y="34"/>
                        <a:pt x="834" y="35"/>
                        <a:pt x="816" y="41"/>
                      </a:cubicBezTo>
                      <a:cubicBezTo>
                        <a:pt x="802" y="62"/>
                        <a:pt x="785" y="69"/>
                        <a:pt x="760" y="73"/>
                      </a:cubicBezTo>
                      <a:cubicBezTo>
                        <a:pt x="746" y="83"/>
                        <a:pt x="741" y="87"/>
                        <a:pt x="724" y="81"/>
                      </a:cubicBezTo>
                      <a:cubicBezTo>
                        <a:pt x="700" y="89"/>
                        <a:pt x="691" y="113"/>
                        <a:pt x="680" y="117"/>
                      </a:cubicBezTo>
                      <a:cubicBezTo>
                        <a:pt x="667" y="121"/>
                        <a:pt x="653" y="120"/>
                        <a:pt x="640" y="121"/>
                      </a:cubicBezTo>
                      <a:cubicBezTo>
                        <a:pt x="623" y="127"/>
                        <a:pt x="608" y="138"/>
                        <a:pt x="592" y="145"/>
                      </a:cubicBezTo>
                      <a:cubicBezTo>
                        <a:pt x="549" y="164"/>
                        <a:pt x="583" y="143"/>
                        <a:pt x="556" y="161"/>
                      </a:cubicBezTo>
                      <a:cubicBezTo>
                        <a:pt x="552" y="174"/>
                        <a:pt x="544" y="184"/>
                        <a:pt x="540" y="197"/>
                      </a:cubicBezTo>
                      <a:cubicBezTo>
                        <a:pt x="548" y="220"/>
                        <a:pt x="565" y="207"/>
                        <a:pt x="580" y="197"/>
                      </a:cubicBezTo>
                      <a:cubicBezTo>
                        <a:pt x="581" y="193"/>
                        <a:pt x="581" y="187"/>
                        <a:pt x="584" y="185"/>
                      </a:cubicBezTo>
                      <a:cubicBezTo>
                        <a:pt x="591" y="180"/>
                        <a:pt x="608" y="177"/>
                        <a:pt x="608" y="177"/>
                      </a:cubicBezTo>
                      <a:cubicBezTo>
                        <a:pt x="621" y="196"/>
                        <a:pt x="608" y="190"/>
                        <a:pt x="592" y="201"/>
                      </a:cubicBezTo>
                      <a:cubicBezTo>
                        <a:pt x="574" y="229"/>
                        <a:pt x="579" y="216"/>
                        <a:pt x="572" y="237"/>
                      </a:cubicBezTo>
                      <a:cubicBezTo>
                        <a:pt x="573" y="241"/>
                        <a:pt x="572" y="247"/>
                        <a:pt x="576" y="249"/>
                      </a:cubicBezTo>
                      <a:cubicBezTo>
                        <a:pt x="584" y="253"/>
                        <a:pt x="597" y="235"/>
                        <a:pt x="600" y="233"/>
                      </a:cubicBezTo>
                      <a:cubicBezTo>
                        <a:pt x="610" y="226"/>
                        <a:pt x="625" y="223"/>
                        <a:pt x="636" y="217"/>
                      </a:cubicBezTo>
                      <a:cubicBezTo>
                        <a:pt x="645" y="212"/>
                        <a:pt x="650" y="201"/>
                        <a:pt x="660" y="197"/>
                      </a:cubicBezTo>
                      <a:cubicBezTo>
                        <a:pt x="671" y="192"/>
                        <a:pt x="684" y="193"/>
                        <a:pt x="696" y="189"/>
                      </a:cubicBezTo>
                      <a:cubicBezTo>
                        <a:pt x="691" y="169"/>
                        <a:pt x="691" y="165"/>
                        <a:pt x="708" y="153"/>
                      </a:cubicBezTo>
                      <a:cubicBezTo>
                        <a:pt x="720" y="134"/>
                        <a:pt x="743" y="136"/>
                        <a:pt x="764" y="129"/>
                      </a:cubicBezTo>
                      <a:cubicBezTo>
                        <a:pt x="777" y="125"/>
                        <a:pt x="800" y="109"/>
                        <a:pt x="800" y="109"/>
                      </a:cubicBezTo>
                      <a:cubicBezTo>
                        <a:pt x="813" y="89"/>
                        <a:pt x="816" y="88"/>
                        <a:pt x="840" y="93"/>
                      </a:cubicBezTo>
                      <a:cubicBezTo>
                        <a:pt x="829" y="126"/>
                        <a:pt x="789" y="124"/>
                        <a:pt x="764" y="141"/>
                      </a:cubicBezTo>
                      <a:cubicBezTo>
                        <a:pt x="752" y="158"/>
                        <a:pt x="739" y="159"/>
                        <a:pt x="732" y="181"/>
                      </a:cubicBezTo>
                      <a:cubicBezTo>
                        <a:pt x="733" y="185"/>
                        <a:pt x="732" y="192"/>
                        <a:pt x="736" y="193"/>
                      </a:cubicBezTo>
                      <a:cubicBezTo>
                        <a:pt x="744" y="194"/>
                        <a:pt x="760" y="185"/>
                        <a:pt x="760" y="185"/>
                      </a:cubicBezTo>
                      <a:cubicBezTo>
                        <a:pt x="792" y="196"/>
                        <a:pt x="776" y="196"/>
                        <a:pt x="808" y="185"/>
                      </a:cubicBezTo>
                      <a:cubicBezTo>
                        <a:pt x="816" y="182"/>
                        <a:pt x="832" y="177"/>
                        <a:pt x="832" y="177"/>
                      </a:cubicBezTo>
                      <a:cubicBezTo>
                        <a:pt x="836" y="180"/>
                        <a:pt x="844" y="180"/>
                        <a:pt x="844" y="185"/>
                      </a:cubicBezTo>
                      <a:cubicBezTo>
                        <a:pt x="844" y="190"/>
                        <a:pt x="837" y="191"/>
                        <a:pt x="832" y="193"/>
                      </a:cubicBezTo>
                      <a:cubicBezTo>
                        <a:pt x="809" y="202"/>
                        <a:pt x="783" y="205"/>
                        <a:pt x="760" y="213"/>
                      </a:cubicBezTo>
                      <a:cubicBezTo>
                        <a:pt x="753" y="235"/>
                        <a:pt x="739" y="223"/>
                        <a:pt x="724" y="213"/>
                      </a:cubicBezTo>
                      <a:cubicBezTo>
                        <a:pt x="708" y="218"/>
                        <a:pt x="709" y="227"/>
                        <a:pt x="700" y="241"/>
                      </a:cubicBezTo>
                      <a:cubicBezTo>
                        <a:pt x="672" y="232"/>
                        <a:pt x="684" y="230"/>
                        <a:pt x="664" y="237"/>
                      </a:cubicBezTo>
                      <a:cubicBezTo>
                        <a:pt x="660" y="249"/>
                        <a:pt x="648" y="262"/>
                        <a:pt x="636" y="269"/>
                      </a:cubicBezTo>
                      <a:cubicBezTo>
                        <a:pt x="629" y="273"/>
                        <a:pt x="620" y="274"/>
                        <a:pt x="612" y="277"/>
                      </a:cubicBezTo>
                      <a:cubicBezTo>
                        <a:pt x="608" y="278"/>
                        <a:pt x="600" y="281"/>
                        <a:pt x="600" y="281"/>
                      </a:cubicBezTo>
                      <a:cubicBezTo>
                        <a:pt x="592" y="278"/>
                        <a:pt x="585" y="267"/>
                        <a:pt x="576" y="269"/>
                      </a:cubicBezTo>
                      <a:cubicBezTo>
                        <a:pt x="571" y="270"/>
                        <a:pt x="572" y="278"/>
                        <a:pt x="568" y="281"/>
                      </a:cubicBezTo>
                      <a:cubicBezTo>
                        <a:pt x="560" y="286"/>
                        <a:pt x="549" y="286"/>
                        <a:pt x="540" y="289"/>
                      </a:cubicBezTo>
                      <a:cubicBezTo>
                        <a:pt x="536" y="288"/>
                        <a:pt x="499" y="276"/>
                        <a:pt x="520" y="265"/>
                      </a:cubicBezTo>
                      <a:cubicBezTo>
                        <a:pt x="528" y="261"/>
                        <a:pt x="539" y="262"/>
                        <a:pt x="548" y="261"/>
                      </a:cubicBezTo>
                      <a:cubicBezTo>
                        <a:pt x="554" y="243"/>
                        <a:pt x="562" y="237"/>
                        <a:pt x="544" y="225"/>
                      </a:cubicBezTo>
                      <a:cubicBezTo>
                        <a:pt x="517" y="232"/>
                        <a:pt x="524" y="249"/>
                        <a:pt x="500" y="257"/>
                      </a:cubicBezTo>
                      <a:cubicBezTo>
                        <a:pt x="488" y="275"/>
                        <a:pt x="473" y="278"/>
                        <a:pt x="456" y="289"/>
                      </a:cubicBezTo>
                      <a:cubicBezTo>
                        <a:pt x="436" y="282"/>
                        <a:pt x="448" y="284"/>
                        <a:pt x="420" y="293"/>
                      </a:cubicBezTo>
                      <a:cubicBezTo>
                        <a:pt x="411" y="296"/>
                        <a:pt x="396" y="309"/>
                        <a:pt x="396" y="309"/>
                      </a:cubicBezTo>
                      <a:cubicBezTo>
                        <a:pt x="391" y="328"/>
                        <a:pt x="388" y="336"/>
                        <a:pt x="368" y="329"/>
                      </a:cubicBezTo>
                      <a:cubicBezTo>
                        <a:pt x="351" y="335"/>
                        <a:pt x="333" y="339"/>
                        <a:pt x="316" y="345"/>
                      </a:cubicBezTo>
                      <a:cubicBezTo>
                        <a:pt x="290" y="341"/>
                        <a:pt x="284" y="340"/>
                        <a:pt x="276" y="365"/>
                      </a:cubicBezTo>
                      <a:cubicBezTo>
                        <a:pt x="248" y="356"/>
                        <a:pt x="260" y="354"/>
                        <a:pt x="240" y="361"/>
                      </a:cubicBezTo>
                      <a:cubicBezTo>
                        <a:pt x="225" y="384"/>
                        <a:pt x="241" y="417"/>
                        <a:pt x="212" y="437"/>
                      </a:cubicBezTo>
                      <a:cubicBezTo>
                        <a:pt x="193" y="466"/>
                        <a:pt x="197" y="456"/>
                        <a:pt x="172" y="473"/>
                      </a:cubicBezTo>
                      <a:cubicBezTo>
                        <a:pt x="160" y="469"/>
                        <a:pt x="148" y="465"/>
                        <a:pt x="136" y="461"/>
                      </a:cubicBezTo>
                      <a:cubicBezTo>
                        <a:pt x="132" y="460"/>
                        <a:pt x="124" y="457"/>
                        <a:pt x="124" y="457"/>
                      </a:cubicBezTo>
                      <a:cubicBezTo>
                        <a:pt x="113" y="458"/>
                        <a:pt x="101" y="456"/>
                        <a:pt x="92" y="461"/>
                      </a:cubicBezTo>
                      <a:cubicBezTo>
                        <a:pt x="80" y="468"/>
                        <a:pt x="69" y="498"/>
                        <a:pt x="56" y="509"/>
                      </a:cubicBezTo>
                      <a:cubicBezTo>
                        <a:pt x="48" y="516"/>
                        <a:pt x="40" y="523"/>
                        <a:pt x="32" y="529"/>
                      </a:cubicBezTo>
                      <a:cubicBezTo>
                        <a:pt x="24" y="535"/>
                        <a:pt x="8" y="545"/>
                        <a:pt x="8" y="545"/>
                      </a:cubicBezTo>
                      <a:cubicBezTo>
                        <a:pt x="14" y="562"/>
                        <a:pt x="10" y="567"/>
                        <a:pt x="0" y="581"/>
                      </a:cubicBezTo>
                      <a:cubicBezTo>
                        <a:pt x="25" y="585"/>
                        <a:pt x="32" y="585"/>
                        <a:pt x="24" y="609"/>
                      </a:cubicBezTo>
                      <a:cubicBezTo>
                        <a:pt x="40" y="614"/>
                        <a:pt x="71" y="603"/>
                        <a:pt x="88" y="601"/>
                      </a:cubicBezTo>
                      <a:cubicBezTo>
                        <a:pt x="105" y="595"/>
                        <a:pt x="108" y="604"/>
                        <a:pt x="124" y="593"/>
                      </a:cubicBezTo>
                      <a:cubicBezTo>
                        <a:pt x="133" y="565"/>
                        <a:pt x="124" y="572"/>
                        <a:pt x="144" y="565"/>
                      </a:cubicBezTo>
                      <a:cubicBezTo>
                        <a:pt x="148" y="561"/>
                        <a:pt x="153" y="558"/>
                        <a:pt x="156" y="553"/>
                      </a:cubicBezTo>
                      <a:cubicBezTo>
                        <a:pt x="158" y="549"/>
                        <a:pt x="157" y="544"/>
                        <a:pt x="160" y="541"/>
                      </a:cubicBezTo>
                      <a:cubicBezTo>
                        <a:pt x="166" y="533"/>
                        <a:pt x="208" y="513"/>
                        <a:pt x="220" y="509"/>
                      </a:cubicBezTo>
                      <a:cubicBezTo>
                        <a:pt x="238" y="481"/>
                        <a:pt x="227" y="488"/>
                        <a:pt x="248" y="481"/>
                      </a:cubicBezTo>
                      <a:cubicBezTo>
                        <a:pt x="265" y="487"/>
                        <a:pt x="266" y="499"/>
                        <a:pt x="284" y="493"/>
                      </a:cubicBezTo>
                      <a:cubicBezTo>
                        <a:pt x="296" y="481"/>
                        <a:pt x="306" y="478"/>
                        <a:pt x="320" y="469"/>
                      </a:cubicBezTo>
                      <a:cubicBezTo>
                        <a:pt x="336" y="493"/>
                        <a:pt x="323" y="469"/>
                        <a:pt x="332" y="513"/>
                      </a:cubicBezTo>
                      <a:cubicBezTo>
                        <a:pt x="336" y="532"/>
                        <a:pt x="346" y="543"/>
                        <a:pt x="352" y="561"/>
                      </a:cubicBezTo>
                      <a:cubicBezTo>
                        <a:pt x="337" y="571"/>
                        <a:pt x="341" y="579"/>
                        <a:pt x="324" y="585"/>
                      </a:cubicBezTo>
                      <a:cubicBezTo>
                        <a:pt x="308" y="609"/>
                        <a:pt x="302" y="596"/>
                        <a:pt x="280" y="589"/>
                      </a:cubicBezTo>
                      <a:cubicBezTo>
                        <a:pt x="284" y="605"/>
                        <a:pt x="298" y="624"/>
                        <a:pt x="312" y="633"/>
                      </a:cubicBezTo>
                      <a:cubicBezTo>
                        <a:pt x="324" y="598"/>
                        <a:pt x="314" y="613"/>
                        <a:pt x="344" y="597"/>
                      </a:cubicBezTo>
                      <a:cubicBezTo>
                        <a:pt x="352" y="592"/>
                        <a:pt x="368" y="581"/>
                        <a:pt x="368" y="581"/>
                      </a:cubicBezTo>
                      <a:cubicBezTo>
                        <a:pt x="369" y="572"/>
                        <a:pt x="365" y="560"/>
                        <a:pt x="372" y="553"/>
                      </a:cubicBezTo>
                      <a:cubicBezTo>
                        <a:pt x="376" y="549"/>
                        <a:pt x="378" y="564"/>
                        <a:pt x="384" y="565"/>
                      </a:cubicBezTo>
                      <a:cubicBezTo>
                        <a:pt x="389" y="566"/>
                        <a:pt x="392" y="560"/>
                        <a:pt x="396" y="557"/>
                      </a:cubicBezTo>
                      <a:cubicBezTo>
                        <a:pt x="390" y="538"/>
                        <a:pt x="374" y="528"/>
                        <a:pt x="368" y="509"/>
                      </a:cubicBezTo>
                      <a:cubicBezTo>
                        <a:pt x="371" y="501"/>
                        <a:pt x="379" y="493"/>
                        <a:pt x="376" y="485"/>
                      </a:cubicBezTo>
                      <a:cubicBezTo>
                        <a:pt x="373" y="477"/>
                        <a:pt x="368" y="461"/>
                        <a:pt x="368" y="461"/>
                      </a:cubicBezTo>
                      <a:cubicBezTo>
                        <a:pt x="380" y="443"/>
                        <a:pt x="385" y="449"/>
                        <a:pt x="396" y="465"/>
                      </a:cubicBezTo>
                      <a:cubicBezTo>
                        <a:pt x="402" y="488"/>
                        <a:pt x="411" y="497"/>
                        <a:pt x="424" y="517"/>
                      </a:cubicBezTo>
                      <a:cubicBezTo>
                        <a:pt x="418" y="536"/>
                        <a:pt x="430" y="537"/>
                        <a:pt x="412" y="549"/>
                      </a:cubicBezTo>
                      <a:cubicBezTo>
                        <a:pt x="389" y="583"/>
                        <a:pt x="414" y="540"/>
                        <a:pt x="408" y="573"/>
                      </a:cubicBezTo>
                      <a:cubicBezTo>
                        <a:pt x="407" y="582"/>
                        <a:pt x="399" y="589"/>
                        <a:pt x="396" y="597"/>
                      </a:cubicBezTo>
                      <a:cubicBezTo>
                        <a:pt x="402" y="614"/>
                        <a:pt x="398" y="619"/>
                        <a:pt x="388" y="633"/>
                      </a:cubicBezTo>
                      <a:cubicBezTo>
                        <a:pt x="399" y="665"/>
                        <a:pt x="419" y="636"/>
                        <a:pt x="440" y="629"/>
                      </a:cubicBezTo>
                      <a:cubicBezTo>
                        <a:pt x="445" y="614"/>
                        <a:pt x="439" y="608"/>
                        <a:pt x="444" y="593"/>
                      </a:cubicBezTo>
                      <a:cubicBezTo>
                        <a:pt x="440" y="581"/>
                        <a:pt x="428" y="567"/>
                        <a:pt x="444" y="557"/>
                      </a:cubicBezTo>
                      <a:cubicBezTo>
                        <a:pt x="451" y="553"/>
                        <a:pt x="468" y="549"/>
                        <a:pt x="468" y="549"/>
                      </a:cubicBezTo>
                      <a:cubicBezTo>
                        <a:pt x="484" y="554"/>
                        <a:pt x="483" y="563"/>
                        <a:pt x="492" y="577"/>
                      </a:cubicBezTo>
                      <a:cubicBezTo>
                        <a:pt x="504" y="542"/>
                        <a:pt x="492" y="552"/>
                        <a:pt x="536" y="557"/>
                      </a:cubicBezTo>
                      <a:cubicBezTo>
                        <a:pt x="528" y="526"/>
                        <a:pt x="542" y="527"/>
                        <a:pt x="568" y="521"/>
                      </a:cubicBezTo>
                      <a:cubicBezTo>
                        <a:pt x="569" y="517"/>
                        <a:pt x="576" y="490"/>
                        <a:pt x="584" y="485"/>
                      </a:cubicBezTo>
                      <a:cubicBezTo>
                        <a:pt x="591" y="481"/>
                        <a:pt x="608" y="477"/>
                        <a:pt x="608" y="477"/>
                      </a:cubicBezTo>
                      <a:cubicBezTo>
                        <a:pt x="639" y="485"/>
                        <a:pt x="614" y="492"/>
                        <a:pt x="640" y="501"/>
                      </a:cubicBezTo>
                      <a:cubicBezTo>
                        <a:pt x="644" y="497"/>
                        <a:pt x="646" y="490"/>
                        <a:pt x="652" y="489"/>
                      </a:cubicBezTo>
                      <a:cubicBezTo>
                        <a:pt x="661" y="487"/>
                        <a:pt x="672" y="497"/>
                        <a:pt x="680" y="493"/>
                      </a:cubicBezTo>
                      <a:cubicBezTo>
                        <a:pt x="685" y="491"/>
                        <a:pt x="680" y="481"/>
                        <a:pt x="676" y="477"/>
                      </a:cubicBezTo>
                      <a:cubicBezTo>
                        <a:pt x="670" y="472"/>
                        <a:pt x="660" y="472"/>
                        <a:pt x="652" y="469"/>
                      </a:cubicBezTo>
                      <a:cubicBezTo>
                        <a:pt x="648" y="468"/>
                        <a:pt x="640" y="465"/>
                        <a:pt x="640" y="465"/>
                      </a:cubicBezTo>
                      <a:cubicBezTo>
                        <a:pt x="654" y="455"/>
                        <a:pt x="659" y="451"/>
                        <a:pt x="676" y="457"/>
                      </a:cubicBezTo>
                      <a:cubicBezTo>
                        <a:pt x="685" y="455"/>
                        <a:pt x="694" y="448"/>
                        <a:pt x="704" y="449"/>
                      </a:cubicBezTo>
                      <a:cubicBezTo>
                        <a:pt x="718" y="451"/>
                        <a:pt x="759" y="463"/>
                        <a:pt x="772" y="469"/>
                      </a:cubicBezTo>
                      <a:cubicBezTo>
                        <a:pt x="784" y="475"/>
                        <a:pt x="808" y="485"/>
                        <a:pt x="808" y="485"/>
                      </a:cubicBezTo>
                      <a:cubicBezTo>
                        <a:pt x="814" y="484"/>
                        <a:pt x="833" y="481"/>
                        <a:pt x="840" y="477"/>
                      </a:cubicBezTo>
                      <a:cubicBezTo>
                        <a:pt x="848" y="472"/>
                        <a:pt x="864" y="461"/>
                        <a:pt x="864" y="461"/>
                      </a:cubicBezTo>
                      <a:cubicBezTo>
                        <a:pt x="869" y="462"/>
                        <a:pt x="889" y="465"/>
                        <a:pt x="892" y="473"/>
                      </a:cubicBezTo>
                      <a:cubicBezTo>
                        <a:pt x="897" y="486"/>
                        <a:pt x="876" y="498"/>
                        <a:pt x="868" y="501"/>
                      </a:cubicBezTo>
                      <a:cubicBezTo>
                        <a:pt x="856" y="513"/>
                        <a:pt x="845" y="513"/>
                        <a:pt x="840" y="529"/>
                      </a:cubicBezTo>
                      <a:cubicBezTo>
                        <a:pt x="845" y="545"/>
                        <a:pt x="839" y="557"/>
                        <a:pt x="844" y="573"/>
                      </a:cubicBezTo>
                      <a:cubicBezTo>
                        <a:pt x="854" y="558"/>
                        <a:pt x="858" y="555"/>
                        <a:pt x="876" y="561"/>
                      </a:cubicBezTo>
                      <a:cubicBezTo>
                        <a:pt x="885" y="588"/>
                        <a:pt x="895" y="558"/>
                        <a:pt x="908" y="549"/>
                      </a:cubicBezTo>
                      <a:cubicBezTo>
                        <a:pt x="911" y="545"/>
                        <a:pt x="912" y="540"/>
                        <a:pt x="916" y="537"/>
                      </a:cubicBezTo>
                      <a:cubicBezTo>
                        <a:pt x="919" y="534"/>
                        <a:pt x="925" y="536"/>
                        <a:pt x="928" y="533"/>
                      </a:cubicBezTo>
                      <a:cubicBezTo>
                        <a:pt x="931" y="530"/>
                        <a:pt x="930" y="525"/>
                        <a:pt x="932" y="521"/>
                      </a:cubicBezTo>
                      <a:cubicBezTo>
                        <a:pt x="939" y="506"/>
                        <a:pt x="949" y="502"/>
                        <a:pt x="964" y="497"/>
                      </a:cubicBezTo>
                      <a:cubicBezTo>
                        <a:pt x="987" y="500"/>
                        <a:pt x="1017" y="513"/>
                        <a:pt x="1040" y="513"/>
                      </a:cubicBezTo>
                      <a:lnTo>
                        <a:pt x="1180" y="541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104840" y="1650960"/>
                  <a:ext cx="392040" cy="302040"/>
                </a:xfrm>
                <a:custGeom>
                  <a:avLst/>
                  <a:gdLst/>
                  <a:ahLst/>
                  <a:rect l="l" t="t" r="r" b="b"/>
                  <a:pathLst>
                    <a:path w="225" h="170">
                      <a:moveTo>
                        <a:pt x="14" y="156"/>
                      </a:moveTo>
                      <a:cubicBezTo>
                        <a:pt x="22" y="153"/>
                        <a:pt x="30" y="151"/>
                        <a:pt x="38" y="148"/>
                      </a:cubicBezTo>
                      <a:cubicBezTo>
                        <a:pt x="42" y="147"/>
                        <a:pt x="50" y="144"/>
                        <a:pt x="50" y="144"/>
                      </a:cubicBezTo>
                      <a:cubicBezTo>
                        <a:pt x="56" y="126"/>
                        <a:pt x="43" y="122"/>
                        <a:pt x="62" y="116"/>
                      </a:cubicBezTo>
                      <a:cubicBezTo>
                        <a:pt x="80" y="89"/>
                        <a:pt x="56" y="119"/>
                        <a:pt x="94" y="100"/>
                      </a:cubicBezTo>
                      <a:cubicBezTo>
                        <a:pt x="102" y="96"/>
                        <a:pt x="106" y="85"/>
                        <a:pt x="114" y="80"/>
                      </a:cubicBezTo>
                      <a:cubicBezTo>
                        <a:pt x="131" y="55"/>
                        <a:pt x="104" y="46"/>
                        <a:pt x="146" y="32"/>
                      </a:cubicBezTo>
                      <a:cubicBezTo>
                        <a:pt x="153" y="11"/>
                        <a:pt x="180" y="12"/>
                        <a:pt x="198" y="0"/>
                      </a:cubicBezTo>
                      <a:cubicBezTo>
                        <a:pt x="225" y="9"/>
                        <a:pt x="203" y="16"/>
                        <a:pt x="190" y="20"/>
                      </a:cubicBezTo>
                      <a:cubicBezTo>
                        <a:pt x="198" y="43"/>
                        <a:pt x="175" y="34"/>
                        <a:pt x="158" y="40"/>
                      </a:cubicBezTo>
                      <a:cubicBezTo>
                        <a:pt x="144" y="60"/>
                        <a:pt x="146" y="91"/>
                        <a:pt x="126" y="104"/>
                      </a:cubicBezTo>
                      <a:cubicBezTo>
                        <a:pt x="127" y="108"/>
                        <a:pt x="131" y="112"/>
                        <a:pt x="130" y="116"/>
                      </a:cubicBezTo>
                      <a:cubicBezTo>
                        <a:pt x="127" y="125"/>
                        <a:pt x="114" y="140"/>
                        <a:pt x="114" y="140"/>
                      </a:cubicBezTo>
                      <a:cubicBezTo>
                        <a:pt x="143" y="150"/>
                        <a:pt x="95" y="153"/>
                        <a:pt x="78" y="164"/>
                      </a:cubicBezTo>
                      <a:cubicBezTo>
                        <a:pt x="68" y="161"/>
                        <a:pt x="0" y="170"/>
                        <a:pt x="14" y="15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087920" y="1748520"/>
                  <a:ext cx="205560" cy="118440"/>
                </a:xfrm>
                <a:custGeom>
                  <a:avLst/>
                  <a:gdLst/>
                  <a:ahLst/>
                  <a:rect l="l" t="t" r="r" b="b"/>
                  <a:pathLst>
                    <a:path w="118" h="67">
                      <a:moveTo>
                        <a:pt x="12" y="49"/>
                      </a:moveTo>
                      <a:cubicBezTo>
                        <a:pt x="23" y="42"/>
                        <a:pt x="48" y="33"/>
                        <a:pt x="48" y="33"/>
                      </a:cubicBezTo>
                      <a:cubicBezTo>
                        <a:pt x="56" y="8"/>
                        <a:pt x="70" y="12"/>
                        <a:pt x="96" y="9"/>
                      </a:cubicBezTo>
                      <a:cubicBezTo>
                        <a:pt x="100" y="6"/>
                        <a:pt x="103" y="0"/>
                        <a:pt x="108" y="1"/>
                      </a:cubicBezTo>
                      <a:cubicBezTo>
                        <a:pt x="113" y="2"/>
                        <a:pt x="118" y="9"/>
                        <a:pt x="116" y="13"/>
                      </a:cubicBezTo>
                      <a:cubicBezTo>
                        <a:pt x="106" y="37"/>
                        <a:pt x="95" y="36"/>
                        <a:pt x="76" y="41"/>
                      </a:cubicBezTo>
                      <a:cubicBezTo>
                        <a:pt x="62" y="50"/>
                        <a:pt x="54" y="51"/>
                        <a:pt x="44" y="65"/>
                      </a:cubicBezTo>
                      <a:cubicBezTo>
                        <a:pt x="39" y="64"/>
                        <a:pt x="33" y="61"/>
                        <a:pt x="28" y="61"/>
                      </a:cubicBezTo>
                      <a:cubicBezTo>
                        <a:pt x="24" y="61"/>
                        <a:pt x="20" y="67"/>
                        <a:pt x="16" y="65"/>
                      </a:cubicBezTo>
                      <a:cubicBezTo>
                        <a:pt x="0" y="59"/>
                        <a:pt x="7" y="54"/>
                        <a:pt x="12" y="4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394640" y="1345680"/>
                  <a:ext cx="234360" cy="132840"/>
                </a:xfrm>
                <a:custGeom>
                  <a:avLst/>
                  <a:gdLst/>
                  <a:ahLst/>
                  <a:rect l="l" t="t" r="r" b="b"/>
                  <a:pathLst>
                    <a:path w="134" h="74">
                      <a:moveTo>
                        <a:pt x="8" y="59"/>
                      </a:moveTo>
                      <a:cubicBezTo>
                        <a:pt x="2" y="42"/>
                        <a:pt x="3" y="37"/>
                        <a:pt x="20" y="31"/>
                      </a:cubicBezTo>
                      <a:cubicBezTo>
                        <a:pt x="40" y="0"/>
                        <a:pt x="60" y="18"/>
                        <a:pt x="92" y="23"/>
                      </a:cubicBezTo>
                      <a:cubicBezTo>
                        <a:pt x="134" y="37"/>
                        <a:pt x="105" y="42"/>
                        <a:pt x="88" y="51"/>
                      </a:cubicBezTo>
                      <a:cubicBezTo>
                        <a:pt x="68" y="61"/>
                        <a:pt x="49" y="64"/>
                        <a:pt x="28" y="71"/>
                      </a:cubicBezTo>
                      <a:cubicBezTo>
                        <a:pt x="1" y="67"/>
                        <a:pt x="0" y="74"/>
                        <a:pt x="8" y="5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652760" y="938880"/>
                  <a:ext cx="614160" cy="341640"/>
                </a:xfrm>
                <a:custGeom>
                  <a:avLst/>
                  <a:gdLst/>
                  <a:ahLst/>
                  <a:rect l="l" t="t" r="r" b="b"/>
                  <a:pathLst>
                    <a:path w="352" h="192">
                      <a:moveTo>
                        <a:pt x="0" y="156"/>
                      </a:moveTo>
                      <a:cubicBezTo>
                        <a:pt x="11" y="172"/>
                        <a:pt x="2" y="175"/>
                        <a:pt x="8" y="192"/>
                      </a:cubicBezTo>
                      <a:cubicBezTo>
                        <a:pt x="23" y="187"/>
                        <a:pt x="27" y="177"/>
                        <a:pt x="40" y="168"/>
                      </a:cubicBezTo>
                      <a:cubicBezTo>
                        <a:pt x="63" y="134"/>
                        <a:pt x="90" y="135"/>
                        <a:pt x="128" y="132"/>
                      </a:cubicBezTo>
                      <a:cubicBezTo>
                        <a:pt x="170" y="121"/>
                        <a:pt x="120" y="136"/>
                        <a:pt x="156" y="120"/>
                      </a:cubicBezTo>
                      <a:cubicBezTo>
                        <a:pt x="164" y="117"/>
                        <a:pt x="180" y="112"/>
                        <a:pt x="180" y="112"/>
                      </a:cubicBezTo>
                      <a:cubicBezTo>
                        <a:pt x="183" y="108"/>
                        <a:pt x="184" y="103"/>
                        <a:pt x="188" y="100"/>
                      </a:cubicBezTo>
                      <a:cubicBezTo>
                        <a:pt x="188" y="100"/>
                        <a:pt x="218" y="90"/>
                        <a:pt x="224" y="88"/>
                      </a:cubicBezTo>
                      <a:cubicBezTo>
                        <a:pt x="241" y="82"/>
                        <a:pt x="255" y="70"/>
                        <a:pt x="272" y="64"/>
                      </a:cubicBezTo>
                      <a:cubicBezTo>
                        <a:pt x="296" y="40"/>
                        <a:pt x="319" y="43"/>
                        <a:pt x="352" y="40"/>
                      </a:cubicBezTo>
                      <a:cubicBezTo>
                        <a:pt x="328" y="32"/>
                        <a:pt x="324" y="25"/>
                        <a:pt x="324" y="0"/>
                      </a:cubicBezTo>
                      <a:lnTo>
                        <a:pt x="200" y="52"/>
                      </a:lnTo>
                      <a:lnTo>
                        <a:pt x="76" y="108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385720" y="1053360"/>
                  <a:ext cx="327240" cy="148320"/>
                </a:xfrm>
                <a:custGeom>
                  <a:avLst/>
                  <a:gdLst/>
                  <a:ahLst/>
                  <a:rect l="l" t="t" r="r" b="b"/>
                  <a:pathLst>
                    <a:path w="187" h="84">
                      <a:moveTo>
                        <a:pt x="8" y="68"/>
                      </a:moveTo>
                      <a:cubicBezTo>
                        <a:pt x="29" y="63"/>
                        <a:pt x="35" y="47"/>
                        <a:pt x="56" y="40"/>
                      </a:cubicBezTo>
                      <a:cubicBezTo>
                        <a:pt x="62" y="23"/>
                        <a:pt x="61" y="14"/>
                        <a:pt x="76" y="4"/>
                      </a:cubicBezTo>
                      <a:cubicBezTo>
                        <a:pt x="84" y="7"/>
                        <a:pt x="91" y="15"/>
                        <a:pt x="100" y="16"/>
                      </a:cubicBezTo>
                      <a:cubicBezTo>
                        <a:pt x="110" y="18"/>
                        <a:pt x="127" y="3"/>
                        <a:pt x="136" y="0"/>
                      </a:cubicBezTo>
                      <a:cubicBezTo>
                        <a:pt x="163" y="9"/>
                        <a:pt x="137" y="25"/>
                        <a:pt x="164" y="16"/>
                      </a:cubicBezTo>
                      <a:cubicBezTo>
                        <a:pt x="171" y="17"/>
                        <a:pt x="180" y="15"/>
                        <a:pt x="184" y="20"/>
                      </a:cubicBezTo>
                      <a:cubicBezTo>
                        <a:pt x="187" y="24"/>
                        <a:pt x="185" y="33"/>
                        <a:pt x="180" y="36"/>
                      </a:cubicBezTo>
                      <a:cubicBezTo>
                        <a:pt x="175" y="39"/>
                        <a:pt x="169" y="33"/>
                        <a:pt x="164" y="32"/>
                      </a:cubicBezTo>
                      <a:cubicBezTo>
                        <a:pt x="135" y="42"/>
                        <a:pt x="147" y="45"/>
                        <a:pt x="128" y="32"/>
                      </a:cubicBezTo>
                      <a:cubicBezTo>
                        <a:pt x="115" y="35"/>
                        <a:pt x="91" y="37"/>
                        <a:pt x="100" y="48"/>
                      </a:cubicBezTo>
                      <a:cubicBezTo>
                        <a:pt x="105" y="55"/>
                        <a:pt x="124" y="56"/>
                        <a:pt x="124" y="56"/>
                      </a:cubicBezTo>
                      <a:cubicBezTo>
                        <a:pt x="113" y="72"/>
                        <a:pt x="109" y="75"/>
                        <a:pt x="92" y="64"/>
                      </a:cubicBezTo>
                      <a:cubicBezTo>
                        <a:pt x="82" y="49"/>
                        <a:pt x="78" y="46"/>
                        <a:pt x="60" y="52"/>
                      </a:cubicBezTo>
                      <a:cubicBezTo>
                        <a:pt x="57" y="56"/>
                        <a:pt x="56" y="62"/>
                        <a:pt x="52" y="64"/>
                      </a:cubicBezTo>
                      <a:cubicBezTo>
                        <a:pt x="45" y="68"/>
                        <a:pt x="36" y="66"/>
                        <a:pt x="28" y="68"/>
                      </a:cubicBezTo>
                      <a:cubicBezTo>
                        <a:pt x="2" y="74"/>
                        <a:pt x="0" y="84"/>
                        <a:pt x="8" y="6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961720" y="1049040"/>
                  <a:ext cx="310320" cy="81720"/>
                </a:xfrm>
                <a:custGeom>
                  <a:avLst/>
                  <a:gdLst/>
                  <a:ahLst/>
                  <a:rect l="l" t="t" r="r" b="b"/>
                  <a:pathLst>
                    <a:path w="178" h="46">
                      <a:moveTo>
                        <a:pt x="6" y="18"/>
                      </a:moveTo>
                      <a:cubicBezTo>
                        <a:pt x="41" y="6"/>
                        <a:pt x="52" y="12"/>
                        <a:pt x="78" y="38"/>
                      </a:cubicBezTo>
                      <a:cubicBezTo>
                        <a:pt x="89" y="31"/>
                        <a:pt x="114" y="22"/>
                        <a:pt x="114" y="22"/>
                      </a:cubicBezTo>
                      <a:cubicBezTo>
                        <a:pt x="129" y="0"/>
                        <a:pt x="148" y="14"/>
                        <a:pt x="166" y="26"/>
                      </a:cubicBezTo>
                      <a:cubicBezTo>
                        <a:pt x="116" y="39"/>
                        <a:pt x="178" y="26"/>
                        <a:pt x="138" y="26"/>
                      </a:cubicBezTo>
                      <a:cubicBezTo>
                        <a:pt x="119" y="26"/>
                        <a:pt x="103" y="40"/>
                        <a:pt x="86" y="46"/>
                      </a:cubicBezTo>
                      <a:cubicBezTo>
                        <a:pt x="70" y="41"/>
                        <a:pt x="15" y="29"/>
                        <a:pt x="2" y="22"/>
                      </a:cubicBezTo>
                      <a:cubicBezTo>
                        <a:pt x="0" y="21"/>
                        <a:pt x="5" y="19"/>
                        <a:pt x="6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791080" y="1210320"/>
                  <a:ext cx="419040" cy="190440"/>
                </a:xfrm>
                <a:custGeom>
                  <a:avLst/>
                  <a:gdLst/>
                  <a:ahLst/>
                  <a:rect l="l" t="t" r="r" b="b"/>
                  <a:pathLst>
                    <a:path w="240" h="108">
                      <a:moveTo>
                        <a:pt x="36" y="108"/>
                      </a:moveTo>
                      <a:cubicBezTo>
                        <a:pt x="19" y="102"/>
                        <a:pt x="6" y="107"/>
                        <a:pt x="0" y="88"/>
                      </a:cubicBezTo>
                      <a:cubicBezTo>
                        <a:pt x="5" y="72"/>
                        <a:pt x="14" y="73"/>
                        <a:pt x="28" y="64"/>
                      </a:cubicBezTo>
                      <a:cubicBezTo>
                        <a:pt x="29" y="60"/>
                        <a:pt x="29" y="54"/>
                        <a:pt x="32" y="52"/>
                      </a:cubicBezTo>
                      <a:cubicBezTo>
                        <a:pt x="39" y="47"/>
                        <a:pt x="56" y="44"/>
                        <a:pt x="56" y="44"/>
                      </a:cubicBezTo>
                      <a:cubicBezTo>
                        <a:pt x="57" y="40"/>
                        <a:pt x="57" y="35"/>
                        <a:pt x="60" y="32"/>
                      </a:cubicBezTo>
                      <a:cubicBezTo>
                        <a:pt x="73" y="22"/>
                        <a:pt x="148" y="7"/>
                        <a:pt x="168" y="4"/>
                      </a:cubicBezTo>
                      <a:cubicBezTo>
                        <a:pt x="172" y="5"/>
                        <a:pt x="176" y="8"/>
                        <a:pt x="180" y="8"/>
                      </a:cubicBezTo>
                      <a:cubicBezTo>
                        <a:pt x="188" y="7"/>
                        <a:pt x="204" y="0"/>
                        <a:pt x="204" y="0"/>
                      </a:cubicBezTo>
                      <a:cubicBezTo>
                        <a:pt x="221" y="6"/>
                        <a:pt x="240" y="4"/>
                        <a:pt x="216" y="20"/>
                      </a:cubicBezTo>
                      <a:cubicBezTo>
                        <a:pt x="199" y="14"/>
                        <a:pt x="164" y="31"/>
                        <a:pt x="144" y="36"/>
                      </a:cubicBezTo>
                      <a:cubicBezTo>
                        <a:pt x="110" y="25"/>
                        <a:pt x="93" y="46"/>
                        <a:pt x="64" y="56"/>
                      </a:cubicBezTo>
                      <a:cubicBezTo>
                        <a:pt x="70" y="73"/>
                        <a:pt x="69" y="78"/>
                        <a:pt x="52" y="84"/>
                      </a:cubicBezTo>
                      <a:cubicBezTo>
                        <a:pt x="48" y="90"/>
                        <a:pt x="42" y="108"/>
                        <a:pt x="36" y="10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158480" y="2232720"/>
                  <a:ext cx="54720" cy="536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097640" y="2304720"/>
                  <a:ext cx="77760" cy="5652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350720" y="2521080"/>
                  <a:ext cx="132480" cy="320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576440" y="2517120"/>
                  <a:ext cx="73440" cy="77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977760" y="2300760"/>
                  <a:ext cx="53280" cy="536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f98b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6f98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C08C-549E-443D-85D1-D8C2E0F92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3ff"/>
                </a:solidFill>
                <a:latin typeface="Arial"/>
              </a:rPr>
              <a:t>スライド①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RealStream I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www.realstream.j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451aa"/>
                </a:solidFill>
                <a:latin typeface="Times New Roman"/>
              </a:rPr>
              <a:t>スライド②</a:t>
            </a: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47636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RealStream I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www.realstream.j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58560" y="69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スライド③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"/>
          <p:cNvSpPr/>
          <p:nvPr/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omic Sans MS"/>
              </a:rPr>
              <a:t>RealStream In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omic Sans MS"/>
              </a:rPr>
              <a:t>www.realstream.j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99ff"/>
                </a:solidFill>
                <a:latin typeface="Arial"/>
              </a:rPr>
              <a:t>スライド④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979640" y="19890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RealStream I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www.realstream.j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359"/>
            </a:gs>
            <a:gs pos="50000">
              <a:srgbClr val="00b7a5"/>
            </a:gs>
            <a:gs pos="100000">
              <a:srgbClr val="0063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6f98b"/>
                </a:solidFill>
                <a:latin typeface="Times New Roman"/>
              </a:rPr>
              <a:t>スライド⑤</a:t>
            </a: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6f98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RealStream In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6f98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www.realstream.j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0:09:02Z</dcterms:created>
  <dc:creator>toshiyuki watanabe</dc:creator>
  <dc:description/>
  <dc:language>en-US</dc:language>
  <cp:lastModifiedBy>Toshiyuki Watanabe</cp:lastModifiedBy>
  <dcterms:modified xsi:type="dcterms:W3CDTF">2006-05-29T05:19:06Z</dcterms:modified>
  <cp:revision>2</cp:revision>
  <dc:subject/>
  <dc:title>ビデオクリップ①</dc:title>
</cp:coreProperties>
</file>