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1D4-964A-4596-9243-EE15811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2C6-4B0C-4910-8FC2-D891B4F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E8CD-2FA2-4E9E-A4A4-1063B19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D4288-3D0F-4443-A3A0-6735BBEC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99F8C-2FE0-4C6B-8873-05F2C86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8F232-27EE-4402-9D93-A706057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DB2E-65E1-4577-B277-5789982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947F9-CA6A-4A55-8365-28E49DB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0D62E-88FF-41D8-859F-85A54DA6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78D4-4BE5-4BA8-8344-AC889A7F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E4A0-7973-4E53-BC96-025FB902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57C63-3253-4B53-A6D0-B3DECEF4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C76-E91A-4463-8071-F4D53CA6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28FF3-9DE6-4DD3-AA8B-A4AFE36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D116C-A025-411F-9F56-E22A4CC3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04FB5-3E54-453B-ADED-E237554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DC214-ADF4-40F7-86BE-A152EE31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73F90-EE44-488B-A556-0E8819B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79361-3975-4A1B-BA0B-3C587F6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6A685-267F-491F-A80C-BB6FF14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86BBE-3BCD-4ED9-BBB9-4ECCA3F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2FABF-359B-43F4-88E9-02E8005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0AAB3-4561-4126-A7EE-E2F48FC0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819-EF3C-45A6-A14F-82BA58AD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E26F4-9727-47FB-BC2E-27EE471F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BCC8D-6773-4DB6-9F8B-C6196381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2B3E-F361-40D9-979D-EEEC67C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04BCD-D54B-4637-AE7B-462E95EA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45A92-3DA5-45A9-9614-F2C79B8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21B84-9A46-4CD7-A776-80DAD8B4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3169-1892-4679-A6C9-D21491A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A061B-9934-4E3C-974C-1B7133E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3CA-0339-4D1C-AF64-EBF5BBCC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A47EF-913C-421E-A123-E3EC586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2DD4-1EAF-4195-8B89-343EE98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F996A-C56F-46AA-9746-1618CCE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C08A5-4FE4-4B5F-9C18-C020C2D3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2E3B2-DE1D-408E-B91C-472C45D5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2FC0-6451-4404-A6AE-2E194420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07EC-221E-44FD-AB3A-F1CC1FDB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63F9-9D8E-4575-84A9-85DE4B6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CC22-C70D-48AC-A742-613CA8FB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39BD-B8EB-4239-AA99-D3CD8C8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B10-D4E1-4C30-9CEB-EAB3CC7D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F033-300D-44F9-BBB4-E441F38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E4EE-23B0-4D0F-B1B3-521F205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9C7B-F455-4F2F-ADFE-8E1A3DB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66B8-3810-4EE0-9C31-EC8E874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F28D-1E42-437C-9231-B2E39BE6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A3B5-2D7E-4C7A-918E-61A7F059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C912-42D0-4434-A029-D9F9C7B7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8E2A-AB5B-4F4E-B0B4-4A890E3C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65F1-9C3D-494B-9224-4C79756B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2764-BA19-4AAF-8F39-F11824AE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FF3-7484-4563-A425-5B37FC4B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509F-FCD9-43C9-8663-44CE3318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498C-8623-423B-962F-DF61E3F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3670-32D1-4687-8ED6-8BAB8C9A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603F9-7389-4645-BC2E-B9BE446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A437-F858-46D3-B8C6-396F954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FD40-4E14-4283-A65A-99A5A7D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5AB9-3062-4BEA-953A-D146AED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EF19-D820-454B-BD17-5A29EECA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8862-0860-471C-B188-1CD614BC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A790-9386-4BAF-BDAC-A91A5E5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24C-E652-4BB6-A8AF-7DD1126C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6946-45CB-40E6-BA57-87E9251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709A-A0EF-4B15-8A9B-823AB73E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233ED-149F-4C8F-9B2C-7B01A86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CF9E9-2907-49A7-8A1D-0CA3987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B8D9-A7F0-48A8-B1C0-972E941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D76B-DC7B-4715-BD6F-00EC5C9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C44D-9A0A-4E1F-96C1-D2F36DC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48E5F-DE5C-4EC8-942B-D6F5E34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617F-86A1-4048-84A0-0F039B96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A44A-E69C-4D41-81CB-0A70F713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823-42E5-489F-9C77-D6FA2BB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E452F-9B9D-41D2-B4CE-AE566E03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AE95-488F-4562-B8C5-2D8C8A6B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0EEB-1334-4F45-A7F3-6F5521F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2FF7-CF39-4B2B-8F9C-B7D9C3F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CFD9-823E-4591-8612-ED5150D0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BAA8-213E-4450-B5EA-E3E79EA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B6F8A-D566-4888-AF97-CDA0875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E3DF-EF2F-4078-B5A2-74531361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E53A-438A-4D8F-BA10-8827F36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1FC68-B9DA-4FE8-AEF1-AA34216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D92-704A-4B1A-A673-61A95B8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30DA-493D-4A5C-96C9-C93E48C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1FC5-7F1B-435F-9312-D657C80A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78F4-2890-488B-A08C-9DBCEA38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F6CF-B9B2-4CC8-B3EA-EEC03203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622E-4E6C-4F52-AD38-E99A6E7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7612-FD9E-43D0-A3C2-D42384D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6FEB-70B9-45ED-BCFE-0326BFE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4280-8281-40F8-AE96-8BD60C69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B832-DD6E-4B3C-AC91-7A2137E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17966-3CD7-40EA-A82D-B856420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740-7043-44EC-BD28-9007965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3685-9B09-48CB-B5EE-3A53590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B95F-7B8B-4CD6-BD8F-CC5378C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22C9-A56B-4617-BC8D-93D9083B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5BFC-51CC-491C-9A8A-7C7268BC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08F63-2664-40C3-91E7-F41E9583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8ACA4-8EFD-456F-A35C-F1D16D5B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3634E-2E03-4C10-B8B5-0E86A5D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113B-C076-4E7B-9407-457C10AD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C7AF-8DE4-45CE-B8A9-C0F20B16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F7EE-999F-4E60-B8FC-FFE49FF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6E2-50B9-45AD-92ED-151864C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C3B63-643E-4E99-8BA7-26E151C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EFF04-B5DB-4173-BC40-3DF7C53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F046-A7C6-4780-96FE-7FA9931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54247-7078-4536-8A75-B914645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16735-F4B3-48D1-9FBC-8D63307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5BEDA-022F-4339-9F77-3F865D74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B1034-D0E4-4D35-BCDF-E53CBFD7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AA469-55D0-4057-A4E3-A409EFD6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CBD9E-E4DF-4AA6-936D-EA389D97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C291B-28A8-4830-9B1C-4D8B3FC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ECF-24C1-4960-BDD5-81576638F8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359"/>
            </a:gs>
            <a:gs pos="50000">
              <a:srgbClr val="00b7a5"/>
            </a:gs>
            <a:gs pos="100000">
              <a:srgbClr val="0063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6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006359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63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27240" y="517212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779360" y="452664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04560" y="435312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35520" y="435708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38400" y="438948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122080" y="441792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53400" y="438264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092560" y="412812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400360" y="427104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718800" y="414108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597120" y="413280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954880" y="367200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334680" y="363672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600000" y="380628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590280" y="388548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811680" y="378504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826080" y="395316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913560" y="387396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374000" y="394884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663440" y="365364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832640" y="386712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989880" y="361152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70560" y="346572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555000" y="348696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549560" y="577008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225120" y="207864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650560" y="309708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999400" y="99792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776200" y="129312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866200" y="121824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852160" y="117144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138720" y="128880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234840" y="128880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391800" y="125784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693840" y="140904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788520" y="160524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935680" y="133524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185800" y="138924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873400" y="157716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153400" y="170568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85200" y="146412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597120" y="116460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94680" y="120672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217400" y="204336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169160" y="229032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907800" y="246276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29520" y="299952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840120" y="29390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20720" y="315900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647360" y="429516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895760" y="40082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479240" y="217476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7360" y="138348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093680" y="168444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076760" y="178200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383480" y="137916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779920" y="124380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339560" y="255456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565280" y="255060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66600" y="2334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838400" y="513864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790520" y="449316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815720" y="431964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846680" y="432360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849560" y="435600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133240" y="438444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164560" y="434916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103720" y="409464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411520" y="423756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729960" y="410760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608280" y="409932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966040" y="363852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345840" y="360324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611160" y="377280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601440" y="385200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822840" y="375156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837240" y="391968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24720" y="384048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385160" y="391536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674600" y="362016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843800" y="383364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001040" y="357804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681720" y="343224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566160" y="3453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560720" y="573660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236280" y="204516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661720" y="306360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010560" y="96444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787360" y="125964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877360" y="118476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863320" y="113796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149880" y="125532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246000" y="125532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402960" y="122436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705000" y="137556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799680" y="157176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946840" y="130176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196960" y="135576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884560" y="154368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164560" y="167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896360" y="143064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608280" y="113112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705840" y="117324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228560" y="200988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80320" y="225684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918960" y="242928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640680" y="296604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851280" y="290556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31880" y="312552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658520" y="426168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906920" y="397476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490400" y="214128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68520" y="135000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104840" y="165096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087920" y="174852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394640" y="134568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791080" y="121032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350720" y="252108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576440" y="251712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977760" y="230076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f98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62B1-F898-4BA6-9662-F1C9BD5AA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8063-A2EC-4E46-988B-A9E893ACF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sp>
          <p:nvSpPr>
            <p:cNvPr id="123" name=""/>
            <p:cNvSpPr/>
            <p:nvPr/>
          </p:nvSpPr>
          <p:spPr>
            <a:xfrm>
              <a:off x="0" y="525600"/>
              <a:ext cx="9144000" cy="5279760"/>
            </a:xfrm>
            <a:prstGeom prst="rect">
              <a:avLst/>
            </a:prstGeom>
            <a:gradFill rotWithShape="0">
              <a:gsLst>
                <a:gs pos="0">
                  <a:srgbClr val="b9cce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4000" cy="557280"/>
            </a:xfrm>
            <a:prstGeom prst="rect">
              <a:avLst/>
            </a:prstGeom>
            <a:gradFill rotWithShape="0">
              <a:gsLst>
                <a:gs pos="0">
                  <a:srgbClr val="6b94d1"/>
                </a:gs>
                <a:gs pos="100000">
                  <a:srgbClr val="b9cc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533680"/>
              <a:ext cx="9144000" cy="2620800"/>
            </a:xfrm>
            <a:custGeom>
              <a:avLst/>
              <a:gdLst/>
              <a:ahLst/>
              <a:rect l="l" t="t" r="r" b="b"/>
              <a:pathLst>
                <a:path w="5760" h="1651">
                  <a:moveTo>
                    <a:pt x="0" y="960"/>
                  </a:moveTo>
                  <a:cubicBezTo>
                    <a:pt x="237" y="952"/>
                    <a:pt x="517" y="913"/>
                    <a:pt x="773" y="852"/>
                  </a:cubicBezTo>
                  <a:cubicBezTo>
                    <a:pt x="1029" y="791"/>
                    <a:pt x="1259" y="710"/>
                    <a:pt x="1536" y="594"/>
                  </a:cubicBezTo>
                  <a:cubicBezTo>
                    <a:pt x="1814" y="478"/>
                    <a:pt x="2247" y="251"/>
                    <a:pt x="2438" y="156"/>
                  </a:cubicBezTo>
                  <a:cubicBezTo>
                    <a:pt x="2628" y="61"/>
                    <a:pt x="2615" y="45"/>
                    <a:pt x="2678" y="24"/>
                  </a:cubicBezTo>
                  <a:cubicBezTo>
                    <a:pt x="2741" y="3"/>
                    <a:pt x="2783" y="34"/>
                    <a:pt x="2816" y="30"/>
                  </a:cubicBezTo>
                  <a:cubicBezTo>
                    <a:pt x="2849" y="26"/>
                    <a:pt x="2840" y="0"/>
                    <a:pt x="2876" y="0"/>
                  </a:cubicBezTo>
                  <a:cubicBezTo>
                    <a:pt x="2912" y="0"/>
                    <a:pt x="2997" y="28"/>
                    <a:pt x="3032" y="30"/>
                  </a:cubicBezTo>
                  <a:cubicBezTo>
                    <a:pt x="3067" y="32"/>
                    <a:pt x="3061" y="10"/>
                    <a:pt x="3086" y="12"/>
                  </a:cubicBezTo>
                  <a:cubicBezTo>
                    <a:pt x="3112" y="14"/>
                    <a:pt x="3142" y="24"/>
                    <a:pt x="3183" y="42"/>
                  </a:cubicBezTo>
                  <a:cubicBezTo>
                    <a:pt x="3224" y="60"/>
                    <a:pt x="3283" y="88"/>
                    <a:pt x="3333" y="120"/>
                  </a:cubicBezTo>
                  <a:cubicBezTo>
                    <a:pt x="3383" y="152"/>
                    <a:pt x="3415" y="188"/>
                    <a:pt x="3483" y="234"/>
                  </a:cubicBezTo>
                  <a:cubicBezTo>
                    <a:pt x="3551" y="280"/>
                    <a:pt x="3629" y="329"/>
                    <a:pt x="3741" y="396"/>
                  </a:cubicBezTo>
                  <a:cubicBezTo>
                    <a:pt x="3854" y="463"/>
                    <a:pt x="4028" y="574"/>
                    <a:pt x="4156" y="636"/>
                  </a:cubicBezTo>
                  <a:cubicBezTo>
                    <a:pt x="4284" y="698"/>
                    <a:pt x="4384" y="723"/>
                    <a:pt x="4510" y="768"/>
                  </a:cubicBezTo>
                  <a:cubicBezTo>
                    <a:pt x="4637" y="813"/>
                    <a:pt x="4781" y="855"/>
                    <a:pt x="4913" y="906"/>
                  </a:cubicBezTo>
                  <a:cubicBezTo>
                    <a:pt x="5045" y="957"/>
                    <a:pt x="5163" y="1033"/>
                    <a:pt x="5304" y="1074"/>
                  </a:cubicBezTo>
                  <a:cubicBezTo>
                    <a:pt x="5445" y="1115"/>
                    <a:pt x="5543" y="1125"/>
                    <a:pt x="5760" y="1150"/>
                  </a:cubicBezTo>
                  <a:cubicBezTo>
                    <a:pt x="5760" y="1400"/>
                    <a:pt x="5760" y="1651"/>
                    <a:pt x="5760" y="1651"/>
                  </a:cubicBezTo>
                  <a:lnTo>
                    <a:pt x="0" y="1651"/>
                  </a:lnTo>
                  <a:lnTo>
                    <a:pt x="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c0d7d8"/>
                </a:gs>
                <a:gs pos="100000">
                  <a:srgbClr val="7f8e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3360" y="2535120"/>
              <a:ext cx="3960720" cy="1673280"/>
            </a:xfrm>
            <a:custGeom>
              <a:avLst/>
              <a:gdLst/>
              <a:ahLst/>
              <a:rect l="l" t="t" r="r" b="b"/>
              <a:pathLst>
                <a:path w="2495" h="1054">
                  <a:moveTo>
                    <a:pt x="135" y="902"/>
                  </a:moveTo>
                  <a:cubicBezTo>
                    <a:pt x="270" y="859"/>
                    <a:pt x="683" y="732"/>
                    <a:pt x="909" y="650"/>
                  </a:cubicBezTo>
                  <a:cubicBezTo>
                    <a:pt x="1135" y="568"/>
                    <a:pt x="1305" y="499"/>
                    <a:pt x="1491" y="410"/>
                  </a:cubicBezTo>
                  <a:cubicBezTo>
                    <a:pt x="1677" y="321"/>
                    <a:pt x="1911" y="179"/>
                    <a:pt x="2028" y="116"/>
                  </a:cubicBezTo>
                  <a:cubicBezTo>
                    <a:pt x="2145" y="53"/>
                    <a:pt x="2156" y="48"/>
                    <a:pt x="2193" y="32"/>
                  </a:cubicBezTo>
                  <a:cubicBezTo>
                    <a:pt x="2230" y="16"/>
                    <a:pt x="2238" y="22"/>
                    <a:pt x="2253" y="20"/>
                  </a:cubicBezTo>
                  <a:cubicBezTo>
                    <a:pt x="2268" y="18"/>
                    <a:pt x="2278" y="22"/>
                    <a:pt x="2286" y="20"/>
                  </a:cubicBezTo>
                  <a:cubicBezTo>
                    <a:pt x="2294" y="18"/>
                    <a:pt x="2296" y="10"/>
                    <a:pt x="2304" y="8"/>
                  </a:cubicBezTo>
                  <a:cubicBezTo>
                    <a:pt x="2312" y="6"/>
                    <a:pt x="2320" y="6"/>
                    <a:pt x="2334" y="8"/>
                  </a:cubicBezTo>
                  <a:cubicBezTo>
                    <a:pt x="2348" y="10"/>
                    <a:pt x="2372" y="21"/>
                    <a:pt x="2388" y="20"/>
                  </a:cubicBezTo>
                  <a:cubicBezTo>
                    <a:pt x="2404" y="19"/>
                    <a:pt x="2416" y="4"/>
                    <a:pt x="2433" y="2"/>
                  </a:cubicBezTo>
                  <a:cubicBezTo>
                    <a:pt x="2450" y="0"/>
                    <a:pt x="2485" y="4"/>
                    <a:pt x="2490" y="8"/>
                  </a:cubicBezTo>
                  <a:cubicBezTo>
                    <a:pt x="2495" y="12"/>
                    <a:pt x="2474" y="17"/>
                    <a:pt x="2463" y="26"/>
                  </a:cubicBezTo>
                  <a:cubicBezTo>
                    <a:pt x="2452" y="35"/>
                    <a:pt x="2437" y="47"/>
                    <a:pt x="2424" y="62"/>
                  </a:cubicBezTo>
                  <a:cubicBezTo>
                    <a:pt x="2411" y="77"/>
                    <a:pt x="2397" y="103"/>
                    <a:pt x="2385" y="119"/>
                  </a:cubicBezTo>
                  <a:cubicBezTo>
                    <a:pt x="2373" y="135"/>
                    <a:pt x="2358" y="149"/>
                    <a:pt x="2349" y="158"/>
                  </a:cubicBezTo>
                  <a:cubicBezTo>
                    <a:pt x="2340" y="167"/>
                    <a:pt x="2340" y="172"/>
                    <a:pt x="2331" y="176"/>
                  </a:cubicBezTo>
                  <a:cubicBezTo>
                    <a:pt x="2322" y="180"/>
                    <a:pt x="2303" y="174"/>
                    <a:pt x="2295" y="182"/>
                  </a:cubicBezTo>
                  <a:cubicBezTo>
                    <a:pt x="2287" y="190"/>
                    <a:pt x="2284" y="216"/>
                    <a:pt x="2280" y="227"/>
                  </a:cubicBezTo>
                  <a:cubicBezTo>
                    <a:pt x="2276" y="238"/>
                    <a:pt x="2268" y="245"/>
                    <a:pt x="2271" y="251"/>
                  </a:cubicBezTo>
                  <a:cubicBezTo>
                    <a:pt x="2274" y="257"/>
                    <a:pt x="2293" y="253"/>
                    <a:pt x="2298" y="266"/>
                  </a:cubicBezTo>
                  <a:cubicBezTo>
                    <a:pt x="2303" y="279"/>
                    <a:pt x="2309" y="319"/>
                    <a:pt x="2304" y="332"/>
                  </a:cubicBezTo>
                  <a:cubicBezTo>
                    <a:pt x="2299" y="345"/>
                    <a:pt x="2273" y="345"/>
                    <a:pt x="2265" y="344"/>
                  </a:cubicBezTo>
                  <a:cubicBezTo>
                    <a:pt x="2257" y="343"/>
                    <a:pt x="2258" y="326"/>
                    <a:pt x="2253" y="326"/>
                  </a:cubicBezTo>
                  <a:cubicBezTo>
                    <a:pt x="2248" y="326"/>
                    <a:pt x="2236" y="337"/>
                    <a:pt x="2232" y="347"/>
                  </a:cubicBezTo>
                  <a:cubicBezTo>
                    <a:pt x="2228" y="357"/>
                    <a:pt x="2228" y="376"/>
                    <a:pt x="2226" y="386"/>
                  </a:cubicBezTo>
                  <a:cubicBezTo>
                    <a:pt x="2224" y="396"/>
                    <a:pt x="2236" y="390"/>
                    <a:pt x="2220" y="407"/>
                  </a:cubicBezTo>
                  <a:cubicBezTo>
                    <a:pt x="2204" y="424"/>
                    <a:pt x="2157" y="463"/>
                    <a:pt x="2130" y="491"/>
                  </a:cubicBezTo>
                  <a:cubicBezTo>
                    <a:pt x="2103" y="519"/>
                    <a:pt x="2083" y="539"/>
                    <a:pt x="2058" y="575"/>
                  </a:cubicBezTo>
                  <a:cubicBezTo>
                    <a:pt x="2033" y="611"/>
                    <a:pt x="1998" y="679"/>
                    <a:pt x="1980" y="710"/>
                  </a:cubicBezTo>
                  <a:cubicBezTo>
                    <a:pt x="1962" y="741"/>
                    <a:pt x="1966" y="756"/>
                    <a:pt x="1950" y="764"/>
                  </a:cubicBezTo>
                  <a:cubicBezTo>
                    <a:pt x="1934" y="772"/>
                    <a:pt x="1906" y="756"/>
                    <a:pt x="1884" y="758"/>
                  </a:cubicBezTo>
                  <a:cubicBezTo>
                    <a:pt x="1862" y="760"/>
                    <a:pt x="1832" y="762"/>
                    <a:pt x="1815" y="776"/>
                  </a:cubicBezTo>
                  <a:cubicBezTo>
                    <a:pt x="1798" y="790"/>
                    <a:pt x="1800" y="826"/>
                    <a:pt x="1782" y="845"/>
                  </a:cubicBezTo>
                  <a:cubicBezTo>
                    <a:pt x="1764" y="864"/>
                    <a:pt x="1730" y="871"/>
                    <a:pt x="1704" y="890"/>
                  </a:cubicBezTo>
                  <a:cubicBezTo>
                    <a:pt x="1678" y="909"/>
                    <a:pt x="1657" y="942"/>
                    <a:pt x="1629" y="959"/>
                  </a:cubicBezTo>
                  <a:cubicBezTo>
                    <a:pt x="1601" y="976"/>
                    <a:pt x="1561" y="980"/>
                    <a:pt x="1533" y="995"/>
                  </a:cubicBezTo>
                  <a:cubicBezTo>
                    <a:pt x="1505" y="1010"/>
                    <a:pt x="1469" y="1050"/>
                    <a:pt x="1458" y="1052"/>
                  </a:cubicBezTo>
                  <a:cubicBezTo>
                    <a:pt x="1447" y="1054"/>
                    <a:pt x="1450" y="1027"/>
                    <a:pt x="1467" y="1007"/>
                  </a:cubicBezTo>
                  <a:cubicBezTo>
                    <a:pt x="1484" y="987"/>
                    <a:pt x="1533" y="955"/>
                    <a:pt x="1560" y="932"/>
                  </a:cubicBezTo>
                  <a:cubicBezTo>
                    <a:pt x="1587" y="909"/>
                    <a:pt x="1606" y="893"/>
                    <a:pt x="1629" y="866"/>
                  </a:cubicBezTo>
                  <a:cubicBezTo>
                    <a:pt x="1652" y="839"/>
                    <a:pt x="1687" y="796"/>
                    <a:pt x="1701" y="770"/>
                  </a:cubicBezTo>
                  <a:cubicBezTo>
                    <a:pt x="1715" y="744"/>
                    <a:pt x="1699" y="731"/>
                    <a:pt x="1713" y="710"/>
                  </a:cubicBezTo>
                  <a:cubicBezTo>
                    <a:pt x="1727" y="689"/>
                    <a:pt x="1759" y="671"/>
                    <a:pt x="1785" y="644"/>
                  </a:cubicBezTo>
                  <a:cubicBezTo>
                    <a:pt x="1811" y="617"/>
                    <a:pt x="1844" y="573"/>
                    <a:pt x="1869" y="545"/>
                  </a:cubicBezTo>
                  <a:cubicBezTo>
                    <a:pt x="1894" y="517"/>
                    <a:pt x="1918" y="500"/>
                    <a:pt x="1935" y="476"/>
                  </a:cubicBezTo>
                  <a:cubicBezTo>
                    <a:pt x="1952" y="452"/>
                    <a:pt x="1955" y="422"/>
                    <a:pt x="1971" y="401"/>
                  </a:cubicBezTo>
                  <a:cubicBezTo>
                    <a:pt x="1987" y="380"/>
                    <a:pt x="2019" y="364"/>
                    <a:pt x="2034" y="350"/>
                  </a:cubicBezTo>
                  <a:cubicBezTo>
                    <a:pt x="2049" y="336"/>
                    <a:pt x="2064" y="318"/>
                    <a:pt x="2061" y="314"/>
                  </a:cubicBezTo>
                  <a:cubicBezTo>
                    <a:pt x="2058" y="310"/>
                    <a:pt x="2031" y="314"/>
                    <a:pt x="2016" y="323"/>
                  </a:cubicBezTo>
                  <a:cubicBezTo>
                    <a:pt x="2001" y="332"/>
                    <a:pt x="1982" y="350"/>
                    <a:pt x="1971" y="368"/>
                  </a:cubicBezTo>
                  <a:cubicBezTo>
                    <a:pt x="1960" y="386"/>
                    <a:pt x="1960" y="412"/>
                    <a:pt x="1947" y="434"/>
                  </a:cubicBezTo>
                  <a:cubicBezTo>
                    <a:pt x="1934" y="456"/>
                    <a:pt x="1914" y="475"/>
                    <a:pt x="1893" y="500"/>
                  </a:cubicBezTo>
                  <a:cubicBezTo>
                    <a:pt x="1872" y="525"/>
                    <a:pt x="1841" y="565"/>
                    <a:pt x="1821" y="587"/>
                  </a:cubicBezTo>
                  <a:cubicBezTo>
                    <a:pt x="1801" y="609"/>
                    <a:pt x="1790" y="619"/>
                    <a:pt x="1770" y="632"/>
                  </a:cubicBezTo>
                  <a:cubicBezTo>
                    <a:pt x="1750" y="645"/>
                    <a:pt x="1727" y="647"/>
                    <a:pt x="1704" y="662"/>
                  </a:cubicBezTo>
                  <a:cubicBezTo>
                    <a:pt x="1681" y="677"/>
                    <a:pt x="1646" y="709"/>
                    <a:pt x="1632" y="725"/>
                  </a:cubicBezTo>
                  <a:cubicBezTo>
                    <a:pt x="1618" y="741"/>
                    <a:pt x="1627" y="754"/>
                    <a:pt x="1620" y="761"/>
                  </a:cubicBezTo>
                  <a:cubicBezTo>
                    <a:pt x="1613" y="768"/>
                    <a:pt x="1593" y="775"/>
                    <a:pt x="1587" y="770"/>
                  </a:cubicBezTo>
                  <a:cubicBezTo>
                    <a:pt x="1581" y="765"/>
                    <a:pt x="1566" y="749"/>
                    <a:pt x="1584" y="728"/>
                  </a:cubicBezTo>
                  <a:cubicBezTo>
                    <a:pt x="1602" y="707"/>
                    <a:pt x="1668" y="665"/>
                    <a:pt x="1692" y="641"/>
                  </a:cubicBezTo>
                  <a:cubicBezTo>
                    <a:pt x="1716" y="617"/>
                    <a:pt x="1714" y="599"/>
                    <a:pt x="1731" y="581"/>
                  </a:cubicBezTo>
                  <a:cubicBezTo>
                    <a:pt x="1748" y="563"/>
                    <a:pt x="1774" y="552"/>
                    <a:pt x="1794" y="533"/>
                  </a:cubicBezTo>
                  <a:cubicBezTo>
                    <a:pt x="1814" y="514"/>
                    <a:pt x="1837" y="482"/>
                    <a:pt x="1851" y="467"/>
                  </a:cubicBezTo>
                  <a:cubicBezTo>
                    <a:pt x="1865" y="452"/>
                    <a:pt x="1874" y="452"/>
                    <a:pt x="1878" y="443"/>
                  </a:cubicBezTo>
                  <a:cubicBezTo>
                    <a:pt x="1882" y="434"/>
                    <a:pt x="1882" y="413"/>
                    <a:pt x="1875" y="413"/>
                  </a:cubicBezTo>
                  <a:cubicBezTo>
                    <a:pt x="1868" y="413"/>
                    <a:pt x="1847" y="426"/>
                    <a:pt x="1833" y="443"/>
                  </a:cubicBezTo>
                  <a:cubicBezTo>
                    <a:pt x="1819" y="460"/>
                    <a:pt x="1804" y="495"/>
                    <a:pt x="1788" y="515"/>
                  </a:cubicBezTo>
                  <a:cubicBezTo>
                    <a:pt x="1772" y="535"/>
                    <a:pt x="1751" y="550"/>
                    <a:pt x="1734" y="566"/>
                  </a:cubicBezTo>
                  <a:cubicBezTo>
                    <a:pt x="1717" y="582"/>
                    <a:pt x="1704" y="595"/>
                    <a:pt x="1689" y="611"/>
                  </a:cubicBezTo>
                  <a:cubicBezTo>
                    <a:pt x="1674" y="627"/>
                    <a:pt x="1655" y="656"/>
                    <a:pt x="1641" y="665"/>
                  </a:cubicBezTo>
                  <a:cubicBezTo>
                    <a:pt x="1627" y="674"/>
                    <a:pt x="1609" y="674"/>
                    <a:pt x="1605" y="665"/>
                  </a:cubicBezTo>
                  <a:cubicBezTo>
                    <a:pt x="1601" y="656"/>
                    <a:pt x="1603" y="627"/>
                    <a:pt x="1617" y="608"/>
                  </a:cubicBezTo>
                  <a:cubicBezTo>
                    <a:pt x="1631" y="589"/>
                    <a:pt x="1672" y="560"/>
                    <a:pt x="1689" y="548"/>
                  </a:cubicBezTo>
                  <a:cubicBezTo>
                    <a:pt x="1706" y="536"/>
                    <a:pt x="1713" y="540"/>
                    <a:pt x="1722" y="533"/>
                  </a:cubicBezTo>
                  <a:cubicBezTo>
                    <a:pt x="1731" y="526"/>
                    <a:pt x="1752" y="507"/>
                    <a:pt x="1746" y="506"/>
                  </a:cubicBezTo>
                  <a:cubicBezTo>
                    <a:pt x="1740" y="505"/>
                    <a:pt x="1711" y="513"/>
                    <a:pt x="1686" y="530"/>
                  </a:cubicBezTo>
                  <a:cubicBezTo>
                    <a:pt x="1661" y="547"/>
                    <a:pt x="1617" y="587"/>
                    <a:pt x="1596" y="611"/>
                  </a:cubicBezTo>
                  <a:cubicBezTo>
                    <a:pt x="1575" y="635"/>
                    <a:pt x="1569" y="661"/>
                    <a:pt x="1560" y="674"/>
                  </a:cubicBezTo>
                  <a:cubicBezTo>
                    <a:pt x="1551" y="687"/>
                    <a:pt x="1549" y="694"/>
                    <a:pt x="1542" y="689"/>
                  </a:cubicBezTo>
                  <a:cubicBezTo>
                    <a:pt x="1535" y="684"/>
                    <a:pt x="1525" y="650"/>
                    <a:pt x="1518" y="641"/>
                  </a:cubicBezTo>
                  <a:cubicBezTo>
                    <a:pt x="1511" y="632"/>
                    <a:pt x="1496" y="639"/>
                    <a:pt x="1500" y="632"/>
                  </a:cubicBezTo>
                  <a:cubicBezTo>
                    <a:pt x="1504" y="625"/>
                    <a:pt x="1527" y="607"/>
                    <a:pt x="1542" y="596"/>
                  </a:cubicBezTo>
                  <a:cubicBezTo>
                    <a:pt x="1557" y="585"/>
                    <a:pt x="1571" y="574"/>
                    <a:pt x="1590" y="563"/>
                  </a:cubicBezTo>
                  <a:cubicBezTo>
                    <a:pt x="1609" y="552"/>
                    <a:pt x="1637" y="541"/>
                    <a:pt x="1656" y="527"/>
                  </a:cubicBezTo>
                  <a:cubicBezTo>
                    <a:pt x="1675" y="513"/>
                    <a:pt x="1692" y="489"/>
                    <a:pt x="1704" y="476"/>
                  </a:cubicBezTo>
                  <a:cubicBezTo>
                    <a:pt x="1716" y="463"/>
                    <a:pt x="1735" y="451"/>
                    <a:pt x="1728" y="452"/>
                  </a:cubicBezTo>
                  <a:cubicBezTo>
                    <a:pt x="1721" y="453"/>
                    <a:pt x="1673" y="473"/>
                    <a:pt x="1659" y="485"/>
                  </a:cubicBezTo>
                  <a:cubicBezTo>
                    <a:pt x="1645" y="497"/>
                    <a:pt x="1652" y="517"/>
                    <a:pt x="1641" y="524"/>
                  </a:cubicBezTo>
                  <a:cubicBezTo>
                    <a:pt x="1630" y="531"/>
                    <a:pt x="1608" y="518"/>
                    <a:pt x="1596" y="524"/>
                  </a:cubicBezTo>
                  <a:cubicBezTo>
                    <a:pt x="1584" y="530"/>
                    <a:pt x="1583" y="554"/>
                    <a:pt x="1572" y="560"/>
                  </a:cubicBezTo>
                  <a:cubicBezTo>
                    <a:pt x="1561" y="566"/>
                    <a:pt x="1541" y="553"/>
                    <a:pt x="1530" y="560"/>
                  </a:cubicBezTo>
                  <a:cubicBezTo>
                    <a:pt x="1519" y="567"/>
                    <a:pt x="1516" y="594"/>
                    <a:pt x="1506" y="605"/>
                  </a:cubicBezTo>
                  <a:cubicBezTo>
                    <a:pt x="1496" y="616"/>
                    <a:pt x="1481" y="611"/>
                    <a:pt x="1470" y="623"/>
                  </a:cubicBezTo>
                  <a:cubicBezTo>
                    <a:pt x="1459" y="635"/>
                    <a:pt x="1448" y="671"/>
                    <a:pt x="1437" y="677"/>
                  </a:cubicBezTo>
                  <a:cubicBezTo>
                    <a:pt x="1426" y="683"/>
                    <a:pt x="1406" y="671"/>
                    <a:pt x="1401" y="662"/>
                  </a:cubicBezTo>
                  <a:cubicBezTo>
                    <a:pt x="1396" y="653"/>
                    <a:pt x="1410" y="623"/>
                    <a:pt x="1404" y="623"/>
                  </a:cubicBezTo>
                  <a:cubicBezTo>
                    <a:pt x="1398" y="623"/>
                    <a:pt x="1384" y="656"/>
                    <a:pt x="1362" y="665"/>
                  </a:cubicBezTo>
                  <a:cubicBezTo>
                    <a:pt x="1340" y="674"/>
                    <a:pt x="1288" y="682"/>
                    <a:pt x="1272" y="680"/>
                  </a:cubicBezTo>
                  <a:cubicBezTo>
                    <a:pt x="1256" y="678"/>
                    <a:pt x="1268" y="660"/>
                    <a:pt x="1263" y="653"/>
                  </a:cubicBezTo>
                  <a:cubicBezTo>
                    <a:pt x="1258" y="646"/>
                    <a:pt x="1253" y="636"/>
                    <a:pt x="1242" y="638"/>
                  </a:cubicBezTo>
                  <a:cubicBezTo>
                    <a:pt x="1231" y="640"/>
                    <a:pt x="1224" y="654"/>
                    <a:pt x="1194" y="668"/>
                  </a:cubicBezTo>
                  <a:cubicBezTo>
                    <a:pt x="1164" y="682"/>
                    <a:pt x="1111" y="702"/>
                    <a:pt x="1059" y="722"/>
                  </a:cubicBezTo>
                  <a:cubicBezTo>
                    <a:pt x="1007" y="742"/>
                    <a:pt x="950" y="763"/>
                    <a:pt x="879" y="788"/>
                  </a:cubicBezTo>
                  <a:cubicBezTo>
                    <a:pt x="808" y="813"/>
                    <a:pt x="698" y="853"/>
                    <a:pt x="633" y="875"/>
                  </a:cubicBezTo>
                  <a:cubicBezTo>
                    <a:pt x="568" y="897"/>
                    <a:pt x="513" y="914"/>
                    <a:pt x="492" y="917"/>
                  </a:cubicBezTo>
                  <a:cubicBezTo>
                    <a:pt x="471" y="920"/>
                    <a:pt x="477" y="904"/>
                    <a:pt x="504" y="893"/>
                  </a:cubicBezTo>
                  <a:cubicBezTo>
                    <a:pt x="531" y="882"/>
                    <a:pt x="602" y="869"/>
                    <a:pt x="657" y="851"/>
                  </a:cubicBezTo>
                  <a:cubicBezTo>
                    <a:pt x="712" y="833"/>
                    <a:pt x="774" y="807"/>
                    <a:pt x="837" y="785"/>
                  </a:cubicBezTo>
                  <a:cubicBezTo>
                    <a:pt x="900" y="763"/>
                    <a:pt x="994" y="733"/>
                    <a:pt x="1035" y="716"/>
                  </a:cubicBezTo>
                  <a:cubicBezTo>
                    <a:pt x="1076" y="699"/>
                    <a:pt x="1079" y="690"/>
                    <a:pt x="1083" y="686"/>
                  </a:cubicBezTo>
                  <a:cubicBezTo>
                    <a:pt x="1087" y="682"/>
                    <a:pt x="1091" y="679"/>
                    <a:pt x="1062" y="689"/>
                  </a:cubicBezTo>
                  <a:cubicBezTo>
                    <a:pt x="1033" y="699"/>
                    <a:pt x="964" y="727"/>
                    <a:pt x="906" y="746"/>
                  </a:cubicBezTo>
                  <a:cubicBezTo>
                    <a:pt x="848" y="765"/>
                    <a:pt x="779" y="788"/>
                    <a:pt x="714" y="806"/>
                  </a:cubicBezTo>
                  <a:cubicBezTo>
                    <a:pt x="649" y="824"/>
                    <a:pt x="584" y="838"/>
                    <a:pt x="513" y="854"/>
                  </a:cubicBezTo>
                  <a:cubicBezTo>
                    <a:pt x="442" y="870"/>
                    <a:pt x="344" y="893"/>
                    <a:pt x="288" y="905"/>
                  </a:cubicBezTo>
                  <a:cubicBezTo>
                    <a:pt x="232" y="917"/>
                    <a:pt x="190" y="926"/>
                    <a:pt x="177" y="926"/>
                  </a:cubicBezTo>
                  <a:cubicBezTo>
                    <a:pt x="164" y="926"/>
                    <a:pt x="208" y="904"/>
                    <a:pt x="207" y="902"/>
                  </a:cubicBezTo>
                  <a:cubicBezTo>
                    <a:pt x="206" y="900"/>
                    <a:pt x="188" y="907"/>
                    <a:pt x="168" y="911"/>
                  </a:cubicBezTo>
                  <a:cubicBezTo>
                    <a:pt x="148" y="915"/>
                    <a:pt x="95" y="929"/>
                    <a:pt x="84" y="929"/>
                  </a:cubicBezTo>
                  <a:cubicBezTo>
                    <a:pt x="73" y="929"/>
                    <a:pt x="91" y="912"/>
                    <a:pt x="99" y="908"/>
                  </a:cubicBezTo>
                  <a:cubicBezTo>
                    <a:pt x="107" y="904"/>
                    <a:pt x="0" y="945"/>
                    <a:pt x="135" y="90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3000" y="2511360"/>
              <a:ext cx="1730520" cy="1498680"/>
            </a:xfrm>
            <a:custGeom>
              <a:avLst/>
              <a:gdLst/>
              <a:ahLst/>
              <a:rect l="l" t="t" r="r" b="b"/>
              <a:pathLst>
                <a:path w="1090" h="944">
                  <a:moveTo>
                    <a:pt x="220" y="44"/>
                  </a:moveTo>
                  <a:cubicBezTo>
                    <a:pt x="214" y="39"/>
                    <a:pt x="250" y="35"/>
                    <a:pt x="262" y="29"/>
                  </a:cubicBezTo>
                  <a:cubicBezTo>
                    <a:pt x="274" y="23"/>
                    <a:pt x="284" y="9"/>
                    <a:pt x="292" y="5"/>
                  </a:cubicBezTo>
                  <a:cubicBezTo>
                    <a:pt x="300" y="1"/>
                    <a:pt x="299" y="0"/>
                    <a:pt x="310" y="5"/>
                  </a:cubicBezTo>
                  <a:cubicBezTo>
                    <a:pt x="321" y="10"/>
                    <a:pt x="341" y="23"/>
                    <a:pt x="358" y="35"/>
                  </a:cubicBezTo>
                  <a:cubicBezTo>
                    <a:pt x="375" y="47"/>
                    <a:pt x="402" y="64"/>
                    <a:pt x="415" y="80"/>
                  </a:cubicBezTo>
                  <a:cubicBezTo>
                    <a:pt x="428" y="96"/>
                    <a:pt x="436" y="114"/>
                    <a:pt x="436" y="128"/>
                  </a:cubicBezTo>
                  <a:cubicBezTo>
                    <a:pt x="436" y="142"/>
                    <a:pt x="414" y="155"/>
                    <a:pt x="415" y="164"/>
                  </a:cubicBezTo>
                  <a:cubicBezTo>
                    <a:pt x="416" y="173"/>
                    <a:pt x="441" y="172"/>
                    <a:pt x="445" y="185"/>
                  </a:cubicBezTo>
                  <a:cubicBezTo>
                    <a:pt x="449" y="198"/>
                    <a:pt x="431" y="226"/>
                    <a:pt x="439" y="239"/>
                  </a:cubicBezTo>
                  <a:cubicBezTo>
                    <a:pt x="447" y="252"/>
                    <a:pt x="475" y="262"/>
                    <a:pt x="490" y="266"/>
                  </a:cubicBezTo>
                  <a:cubicBezTo>
                    <a:pt x="505" y="270"/>
                    <a:pt x="517" y="256"/>
                    <a:pt x="532" y="266"/>
                  </a:cubicBezTo>
                  <a:cubicBezTo>
                    <a:pt x="547" y="276"/>
                    <a:pt x="575" y="314"/>
                    <a:pt x="577" y="326"/>
                  </a:cubicBezTo>
                  <a:cubicBezTo>
                    <a:pt x="579" y="338"/>
                    <a:pt x="546" y="331"/>
                    <a:pt x="544" y="338"/>
                  </a:cubicBezTo>
                  <a:cubicBezTo>
                    <a:pt x="542" y="345"/>
                    <a:pt x="545" y="356"/>
                    <a:pt x="562" y="371"/>
                  </a:cubicBezTo>
                  <a:cubicBezTo>
                    <a:pt x="579" y="386"/>
                    <a:pt x="604" y="404"/>
                    <a:pt x="646" y="431"/>
                  </a:cubicBezTo>
                  <a:cubicBezTo>
                    <a:pt x="688" y="458"/>
                    <a:pt x="761" y="501"/>
                    <a:pt x="817" y="536"/>
                  </a:cubicBezTo>
                  <a:cubicBezTo>
                    <a:pt x="873" y="571"/>
                    <a:pt x="949" y="617"/>
                    <a:pt x="982" y="641"/>
                  </a:cubicBezTo>
                  <a:cubicBezTo>
                    <a:pt x="1015" y="665"/>
                    <a:pt x="995" y="664"/>
                    <a:pt x="1012" y="680"/>
                  </a:cubicBezTo>
                  <a:cubicBezTo>
                    <a:pt x="1029" y="696"/>
                    <a:pt x="1078" y="726"/>
                    <a:pt x="1084" y="740"/>
                  </a:cubicBezTo>
                  <a:cubicBezTo>
                    <a:pt x="1090" y="754"/>
                    <a:pt x="1078" y="767"/>
                    <a:pt x="1051" y="764"/>
                  </a:cubicBezTo>
                  <a:cubicBezTo>
                    <a:pt x="1024" y="761"/>
                    <a:pt x="950" y="724"/>
                    <a:pt x="922" y="722"/>
                  </a:cubicBezTo>
                  <a:cubicBezTo>
                    <a:pt x="894" y="720"/>
                    <a:pt x="896" y="746"/>
                    <a:pt x="880" y="749"/>
                  </a:cubicBezTo>
                  <a:cubicBezTo>
                    <a:pt x="864" y="752"/>
                    <a:pt x="858" y="758"/>
                    <a:pt x="826" y="740"/>
                  </a:cubicBezTo>
                  <a:cubicBezTo>
                    <a:pt x="794" y="722"/>
                    <a:pt x="725" y="673"/>
                    <a:pt x="688" y="641"/>
                  </a:cubicBezTo>
                  <a:cubicBezTo>
                    <a:pt x="651" y="609"/>
                    <a:pt x="630" y="570"/>
                    <a:pt x="607" y="548"/>
                  </a:cubicBezTo>
                  <a:cubicBezTo>
                    <a:pt x="584" y="526"/>
                    <a:pt x="565" y="508"/>
                    <a:pt x="547" y="506"/>
                  </a:cubicBezTo>
                  <a:cubicBezTo>
                    <a:pt x="529" y="504"/>
                    <a:pt x="510" y="515"/>
                    <a:pt x="496" y="536"/>
                  </a:cubicBezTo>
                  <a:cubicBezTo>
                    <a:pt x="482" y="557"/>
                    <a:pt x="459" y="601"/>
                    <a:pt x="463" y="632"/>
                  </a:cubicBezTo>
                  <a:cubicBezTo>
                    <a:pt x="467" y="663"/>
                    <a:pt x="514" y="695"/>
                    <a:pt x="520" y="722"/>
                  </a:cubicBezTo>
                  <a:cubicBezTo>
                    <a:pt x="526" y="749"/>
                    <a:pt x="510" y="784"/>
                    <a:pt x="502" y="797"/>
                  </a:cubicBezTo>
                  <a:cubicBezTo>
                    <a:pt x="494" y="810"/>
                    <a:pt x="480" y="802"/>
                    <a:pt x="472" y="800"/>
                  </a:cubicBezTo>
                  <a:cubicBezTo>
                    <a:pt x="464" y="798"/>
                    <a:pt x="469" y="780"/>
                    <a:pt x="451" y="785"/>
                  </a:cubicBezTo>
                  <a:cubicBezTo>
                    <a:pt x="433" y="790"/>
                    <a:pt x="393" y="814"/>
                    <a:pt x="364" y="833"/>
                  </a:cubicBezTo>
                  <a:cubicBezTo>
                    <a:pt x="335" y="852"/>
                    <a:pt x="303" y="881"/>
                    <a:pt x="277" y="899"/>
                  </a:cubicBezTo>
                  <a:cubicBezTo>
                    <a:pt x="251" y="917"/>
                    <a:pt x="222" y="944"/>
                    <a:pt x="205" y="944"/>
                  </a:cubicBezTo>
                  <a:cubicBezTo>
                    <a:pt x="188" y="944"/>
                    <a:pt x="183" y="906"/>
                    <a:pt x="172" y="899"/>
                  </a:cubicBezTo>
                  <a:cubicBezTo>
                    <a:pt x="161" y="892"/>
                    <a:pt x="150" y="901"/>
                    <a:pt x="139" y="899"/>
                  </a:cubicBezTo>
                  <a:cubicBezTo>
                    <a:pt x="128" y="897"/>
                    <a:pt x="102" y="897"/>
                    <a:pt x="103" y="884"/>
                  </a:cubicBezTo>
                  <a:cubicBezTo>
                    <a:pt x="104" y="871"/>
                    <a:pt x="133" y="839"/>
                    <a:pt x="148" y="818"/>
                  </a:cubicBezTo>
                  <a:cubicBezTo>
                    <a:pt x="163" y="797"/>
                    <a:pt x="203" y="760"/>
                    <a:pt x="196" y="755"/>
                  </a:cubicBezTo>
                  <a:cubicBezTo>
                    <a:pt x="189" y="750"/>
                    <a:pt x="133" y="768"/>
                    <a:pt x="103" y="785"/>
                  </a:cubicBezTo>
                  <a:cubicBezTo>
                    <a:pt x="73" y="802"/>
                    <a:pt x="26" y="852"/>
                    <a:pt x="13" y="857"/>
                  </a:cubicBezTo>
                  <a:cubicBezTo>
                    <a:pt x="0" y="862"/>
                    <a:pt x="5" y="836"/>
                    <a:pt x="25" y="815"/>
                  </a:cubicBezTo>
                  <a:cubicBezTo>
                    <a:pt x="45" y="794"/>
                    <a:pt x="97" y="756"/>
                    <a:pt x="130" y="728"/>
                  </a:cubicBezTo>
                  <a:cubicBezTo>
                    <a:pt x="163" y="700"/>
                    <a:pt x="199" y="671"/>
                    <a:pt x="220" y="647"/>
                  </a:cubicBezTo>
                  <a:cubicBezTo>
                    <a:pt x="241" y="623"/>
                    <a:pt x="245" y="602"/>
                    <a:pt x="259" y="584"/>
                  </a:cubicBezTo>
                  <a:cubicBezTo>
                    <a:pt x="273" y="566"/>
                    <a:pt x="301" y="556"/>
                    <a:pt x="307" y="542"/>
                  </a:cubicBezTo>
                  <a:cubicBezTo>
                    <a:pt x="313" y="528"/>
                    <a:pt x="310" y="511"/>
                    <a:pt x="298" y="500"/>
                  </a:cubicBezTo>
                  <a:cubicBezTo>
                    <a:pt x="286" y="489"/>
                    <a:pt x="240" y="485"/>
                    <a:pt x="235" y="473"/>
                  </a:cubicBezTo>
                  <a:cubicBezTo>
                    <a:pt x="230" y="461"/>
                    <a:pt x="272" y="436"/>
                    <a:pt x="268" y="425"/>
                  </a:cubicBezTo>
                  <a:cubicBezTo>
                    <a:pt x="264" y="414"/>
                    <a:pt x="218" y="414"/>
                    <a:pt x="211" y="404"/>
                  </a:cubicBezTo>
                  <a:cubicBezTo>
                    <a:pt x="204" y="394"/>
                    <a:pt x="229" y="376"/>
                    <a:pt x="226" y="365"/>
                  </a:cubicBezTo>
                  <a:cubicBezTo>
                    <a:pt x="223" y="354"/>
                    <a:pt x="196" y="343"/>
                    <a:pt x="190" y="335"/>
                  </a:cubicBezTo>
                  <a:cubicBezTo>
                    <a:pt x="184" y="327"/>
                    <a:pt x="192" y="320"/>
                    <a:pt x="187" y="314"/>
                  </a:cubicBezTo>
                  <a:cubicBezTo>
                    <a:pt x="182" y="308"/>
                    <a:pt x="167" y="304"/>
                    <a:pt x="157" y="296"/>
                  </a:cubicBezTo>
                  <a:cubicBezTo>
                    <a:pt x="147" y="288"/>
                    <a:pt x="129" y="276"/>
                    <a:pt x="127" y="266"/>
                  </a:cubicBezTo>
                  <a:cubicBezTo>
                    <a:pt x="125" y="256"/>
                    <a:pt x="144" y="246"/>
                    <a:pt x="148" y="236"/>
                  </a:cubicBezTo>
                  <a:cubicBezTo>
                    <a:pt x="152" y="226"/>
                    <a:pt x="155" y="218"/>
                    <a:pt x="151" y="206"/>
                  </a:cubicBezTo>
                  <a:cubicBezTo>
                    <a:pt x="147" y="194"/>
                    <a:pt x="134" y="178"/>
                    <a:pt x="121" y="164"/>
                  </a:cubicBezTo>
                  <a:cubicBezTo>
                    <a:pt x="108" y="150"/>
                    <a:pt x="78" y="141"/>
                    <a:pt x="73" y="125"/>
                  </a:cubicBezTo>
                  <a:cubicBezTo>
                    <a:pt x="68" y="109"/>
                    <a:pt x="78" y="68"/>
                    <a:pt x="88" y="68"/>
                  </a:cubicBezTo>
                  <a:cubicBezTo>
                    <a:pt x="98" y="68"/>
                    <a:pt x="130" y="125"/>
                    <a:pt x="136" y="128"/>
                  </a:cubicBezTo>
                  <a:cubicBezTo>
                    <a:pt x="142" y="131"/>
                    <a:pt x="132" y="100"/>
                    <a:pt x="127" y="89"/>
                  </a:cubicBezTo>
                  <a:cubicBezTo>
                    <a:pt x="122" y="78"/>
                    <a:pt x="101" y="67"/>
                    <a:pt x="103" y="62"/>
                  </a:cubicBezTo>
                  <a:cubicBezTo>
                    <a:pt x="105" y="57"/>
                    <a:pt x="135" y="61"/>
                    <a:pt x="139" y="56"/>
                  </a:cubicBezTo>
                  <a:cubicBezTo>
                    <a:pt x="143" y="51"/>
                    <a:pt x="126" y="37"/>
                    <a:pt x="127" y="32"/>
                  </a:cubicBezTo>
                  <a:cubicBezTo>
                    <a:pt x="128" y="27"/>
                    <a:pt x="142" y="20"/>
                    <a:pt x="148" y="23"/>
                  </a:cubicBezTo>
                  <a:cubicBezTo>
                    <a:pt x="154" y="26"/>
                    <a:pt x="157" y="45"/>
                    <a:pt x="163" y="50"/>
                  </a:cubicBezTo>
                  <a:cubicBezTo>
                    <a:pt x="169" y="55"/>
                    <a:pt x="186" y="42"/>
                    <a:pt x="187" y="53"/>
                  </a:cubicBezTo>
                  <a:cubicBezTo>
                    <a:pt x="188" y="64"/>
                    <a:pt x="171" y="110"/>
                    <a:pt x="172" y="119"/>
                  </a:cubicBezTo>
                  <a:cubicBezTo>
                    <a:pt x="173" y="128"/>
                    <a:pt x="190" y="112"/>
                    <a:pt x="196" y="107"/>
                  </a:cubicBezTo>
                  <a:cubicBezTo>
                    <a:pt x="202" y="102"/>
                    <a:pt x="203" y="86"/>
                    <a:pt x="211" y="89"/>
                  </a:cubicBezTo>
                  <a:cubicBezTo>
                    <a:pt x="219" y="92"/>
                    <a:pt x="237" y="112"/>
                    <a:pt x="244" y="122"/>
                  </a:cubicBezTo>
                  <a:cubicBezTo>
                    <a:pt x="251" y="132"/>
                    <a:pt x="244" y="144"/>
                    <a:pt x="256" y="149"/>
                  </a:cubicBezTo>
                  <a:cubicBezTo>
                    <a:pt x="268" y="154"/>
                    <a:pt x="307" y="148"/>
                    <a:pt x="319" y="155"/>
                  </a:cubicBezTo>
                  <a:cubicBezTo>
                    <a:pt x="331" y="162"/>
                    <a:pt x="318" y="192"/>
                    <a:pt x="325" y="191"/>
                  </a:cubicBezTo>
                  <a:cubicBezTo>
                    <a:pt x="332" y="190"/>
                    <a:pt x="362" y="160"/>
                    <a:pt x="361" y="152"/>
                  </a:cubicBezTo>
                  <a:cubicBezTo>
                    <a:pt x="360" y="144"/>
                    <a:pt x="336" y="153"/>
                    <a:pt x="319" y="143"/>
                  </a:cubicBezTo>
                  <a:cubicBezTo>
                    <a:pt x="302" y="133"/>
                    <a:pt x="262" y="105"/>
                    <a:pt x="259" y="92"/>
                  </a:cubicBezTo>
                  <a:cubicBezTo>
                    <a:pt x="256" y="79"/>
                    <a:pt x="304" y="69"/>
                    <a:pt x="298" y="62"/>
                  </a:cubicBezTo>
                  <a:cubicBezTo>
                    <a:pt x="292" y="55"/>
                    <a:pt x="226" y="49"/>
                    <a:pt x="22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221000"/>
              <a:ext cx="9144000" cy="2243160"/>
            </a:xfrm>
            <a:custGeom>
              <a:avLst/>
              <a:gdLst/>
              <a:ahLst/>
              <a:rect l="l" t="t" r="r" b="b"/>
              <a:pathLst>
                <a:path w="5760" h="1224">
                  <a:moveTo>
                    <a:pt x="0" y="230"/>
                  </a:moveTo>
                  <a:lnTo>
                    <a:pt x="702" y="104"/>
                  </a:lnTo>
                  <a:lnTo>
                    <a:pt x="1144" y="0"/>
                  </a:lnTo>
                  <a:lnTo>
                    <a:pt x="1461" y="50"/>
                  </a:lnTo>
                  <a:lnTo>
                    <a:pt x="1720" y="75"/>
                  </a:lnTo>
                  <a:lnTo>
                    <a:pt x="2054" y="17"/>
                  </a:lnTo>
                  <a:cubicBezTo>
                    <a:pt x="2054" y="17"/>
                    <a:pt x="2068" y="67"/>
                    <a:pt x="2296" y="84"/>
                  </a:cubicBezTo>
                  <a:cubicBezTo>
                    <a:pt x="2579" y="384"/>
                    <a:pt x="3089" y="242"/>
                    <a:pt x="3423" y="117"/>
                  </a:cubicBezTo>
                  <a:cubicBezTo>
                    <a:pt x="3556" y="59"/>
                    <a:pt x="3656" y="33"/>
                    <a:pt x="3823" y="25"/>
                  </a:cubicBezTo>
                  <a:cubicBezTo>
                    <a:pt x="3917" y="13"/>
                    <a:pt x="3832" y="57"/>
                    <a:pt x="3982" y="75"/>
                  </a:cubicBezTo>
                  <a:cubicBezTo>
                    <a:pt x="4025" y="90"/>
                    <a:pt x="3958" y="107"/>
                    <a:pt x="4082" y="117"/>
                  </a:cubicBezTo>
                  <a:cubicBezTo>
                    <a:pt x="4206" y="127"/>
                    <a:pt x="4577" y="136"/>
                    <a:pt x="4726" y="135"/>
                  </a:cubicBezTo>
                  <a:lnTo>
                    <a:pt x="4979" y="112"/>
                  </a:lnTo>
                  <a:lnTo>
                    <a:pt x="5397" y="222"/>
                  </a:lnTo>
                  <a:lnTo>
                    <a:pt x="5760" y="206"/>
                  </a:lnTo>
                  <a:lnTo>
                    <a:pt x="5760" y="1224"/>
                  </a:lnTo>
                  <a:lnTo>
                    <a:pt x="0" y="1224"/>
                  </a:lnTo>
                  <a:lnTo>
                    <a:pt x="0" y="230"/>
                  </a:ln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981680"/>
              <a:ext cx="9144000" cy="1882800"/>
            </a:xfrm>
            <a:custGeom>
              <a:avLst/>
              <a:gdLst/>
              <a:ahLst/>
              <a:rect l="l" t="t" r="r" b="b"/>
              <a:pathLst>
                <a:path w="5760" h="1027">
                  <a:moveTo>
                    <a:pt x="0" y="1027"/>
                  </a:moveTo>
                  <a:lnTo>
                    <a:pt x="5760" y="1027"/>
                  </a:lnTo>
                  <a:lnTo>
                    <a:pt x="5760" y="409"/>
                  </a:lnTo>
                  <a:cubicBezTo>
                    <a:pt x="5576" y="305"/>
                    <a:pt x="4960" y="418"/>
                    <a:pt x="4658" y="401"/>
                  </a:cubicBezTo>
                  <a:cubicBezTo>
                    <a:pt x="4356" y="384"/>
                    <a:pt x="4240" y="317"/>
                    <a:pt x="3948" y="309"/>
                  </a:cubicBezTo>
                  <a:cubicBezTo>
                    <a:pt x="3656" y="301"/>
                    <a:pt x="3326" y="373"/>
                    <a:pt x="2905" y="351"/>
                  </a:cubicBezTo>
                  <a:cubicBezTo>
                    <a:pt x="2404" y="342"/>
                    <a:pt x="1978" y="192"/>
                    <a:pt x="1419" y="175"/>
                  </a:cubicBezTo>
                  <a:cubicBezTo>
                    <a:pt x="1045" y="130"/>
                    <a:pt x="918" y="167"/>
                    <a:pt x="659" y="84"/>
                  </a:cubicBezTo>
                  <a:cubicBezTo>
                    <a:pt x="342" y="75"/>
                    <a:pt x="150" y="17"/>
                    <a:pt x="0" y="0"/>
                  </a:cubicBezTo>
                  <a:cubicBezTo>
                    <a:pt x="0" y="513"/>
                    <a:pt x="0" y="1027"/>
                    <a:pt x="0" y="1027"/>
                  </a:cubicBez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51a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451a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451aa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451aa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BA0-BF7D-4689-8E04-CA6671EE0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sp>
          <p:nvSpPr>
            <p:cNvPr id="172" name=""/>
            <p:cNvSpPr/>
            <p:nvPr/>
          </p:nvSpPr>
          <p:spPr>
            <a:xfrm>
              <a:off x="0" y="525600"/>
              <a:ext cx="9144000" cy="5279760"/>
            </a:xfrm>
            <a:prstGeom prst="rect">
              <a:avLst/>
            </a:prstGeom>
            <a:gradFill rotWithShape="0">
              <a:gsLst>
                <a:gs pos="0">
                  <a:srgbClr val="b9cce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0"/>
              <a:ext cx="9144000" cy="557280"/>
            </a:xfrm>
            <a:prstGeom prst="rect">
              <a:avLst/>
            </a:prstGeom>
            <a:gradFill rotWithShape="0">
              <a:gsLst>
                <a:gs pos="0">
                  <a:srgbClr val="6b94d1"/>
                </a:gs>
                <a:gs pos="100000">
                  <a:srgbClr val="b9cc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2533680"/>
              <a:ext cx="9144000" cy="2620800"/>
            </a:xfrm>
            <a:custGeom>
              <a:avLst/>
              <a:gdLst/>
              <a:ahLst/>
              <a:rect l="l" t="t" r="r" b="b"/>
              <a:pathLst>
                <a:path w="5760" h="1651">
                  <a:moveTo>
                    <a:pt x="0" y="960"/>
                  </a:moveTo>
                  <a:cubicBezTo>
                    <a:pt x="237" y="952"/>
                    <a:pt x="517" y="913"/>
                    <a:pt x="773" y="852"/>
                  </a:cubicBezTo>
                  <a:cubicBezTo>
                    <a:pt x="1029" y="791"/>
                    <a:pt x="1259" y="710"/>
                    <a:pt x="1536" y="594"/>
                  </a:cubicBezTo>
                  <a:cubicBezTo>
                    <a:pt x="1814" y="478"/>
                    <a:pt x="2247" y="251"/>
                    <a:pt x="2438" y="156"/>
                  </a:cubicBezTo>
                  <a:cubicBezTo>
                    <a:pt x="2628" y="61"/>
                    <a:pt x="2615" y="45"/>
                    <a:pt x="2678" y="24"/>
                  </a:cubicBezTo>
                  <a:cubicBezTo>
                    <a:pt x="2741" y="3"/>
                    <a:pt x="2783" y="34"/>
                    <a:pt x="2816" y="30"/>
                  </a:cubicBezTo>
                  <a:cubicBezTo>
                    <a:pt x="2849" y="26"/>
                    <a:pt x="2840" y="0"/>
                    <a:pt x="2876" y="0"/>
                  </a:cubicBezTo>
                  <a:cubicBezTo>
                    <a:pt x="2912" y="0"/>
                    <a:pt x="2997" y="28"/>
                    <a:pt x="3032" y="30"/>
                  </a:cubicBezTo>
                  <a:cubicBezTo>
                    <a:pt x="3067" y="32"/>
                    <a:pt x="3061" y="10"/>
                    <a:pt x="3086" y="12"/>
                  </a:cubicBezTo>
                  <a:cubicBezTo>
                    <a:pt x="3112" y="14"/>
                    <a:pt x="3142" y="24"/>
                    <a:pt x="3183" y="42"/>
                  </a:cubicBezTo>
                  <a:cubicBezTo>
                    <a:pt x="3224" y="60"/>
                    <a:pt x="3283" y="88"/>
                    <a:pt x="3333" y="120"/>
                  </a:cubicBezTo>
                  <a:cubicBezTo>
                    <a:pt x="3383" y="152"/>
                    <a:pt x="3415" y="188"/>
                    <a:pt x="3483" y="234"/>
                  </a:cubicBezTo>
                  <a:cubicBezTo>
                    <a:pt x="3551" y="280"/>
                    <a:pt x="3629" y="329"/>
                    <a:pt x="3741" y="396"/>
                  </a:cubicBezTo>
                  <a:cubicBezTo>
                    <a:pt x="3854" y="463"/>
                    <a:pt x="4028" y="574"/>
                    <a:pt x="4156" y="636"/>
                  </a:cubicBezTo>
                  <a:cubicBezTo>
                    <a:pt x="4284" y="698"/>
                    <a:pt x="4384" y="723"/>
                    <a:pt x="4510" y="768"/>
                  </a:cubicBezTo>
                  <a:cubicBezTo>
                    <a:pt x="4637" y="813"/>
                    <a:pt x="4781" y="855"/>
                    <a:pt x="4913" y="906"/>
                  </a:cubicBezTo>
                  <a:cubicBezTo>
                    <a:pt x="5045" y="957"/>
                    <a:pt x="5163" y="1033"/>
                    <a:pt x="5304" y="1074"/>
                  </a:cubicBezTo>
                  <a:cubicBezTo>
                    <a:pt x="5445" y="1115"/>
                    <a:pt x="5543" y="1125"/>
                    <a:pt x="5760" y="1150"/>
                  </a:cubicBezTo>
                  <a:cubicBezTo>
                    <a:pt x="5760" y="1400"/>
                    <a:pt x="5760" y="1651"/>
                    <a:pt x="5760" y="1651"/>
                  </a:cubicBezTo>
                  <a:lnTo>
                    <a:pt x="0" y="1651"/>
                  </a:lnTo>
                  <a:lnTo>
                    <a:pt x="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c0d7d8"/>
                </a:gs>
                <a:gs pos="100000">
                  <a:srgbClr val="7f8e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3360" y="2535120"/>
              <a:ext cx="3960720" cy="1673280"/>
            </a:xfrm>
            <a:custGeom>
              <a:avLst/>
              <a:gdLst/>
              <a:ahLst/>
              <a:rect l="l" t="t" r="r" b="b"/>
              <a:pathLst>
                <a:path w="2495" h="1054">
                  <a:moveTo>
                    <a:pt x="135" y="902"/>
                  </a:moveTo>
                  <a:cubicBezTo>
                    <a:pt x="270" y="859"/>
                    <a:pt x="683" y="732"/>
                    <a:pt x="909" y="650"/>
                  </a:cubicBezTo>
                  <a:cubicBezTo>
                    <a:pt x="1135" y="568"/>
                    <a:pt x="1305" y="499"/>
                    <a:pt x="1491" y="410"/>
                  </a:cubicBezTo>
                  <a:cubicBezTo>
                    <a:pt x="1677" y="321"/>
                    <a:pt x="1911" y="179"/>
                    <a:pt x="2028" y="116"/>
                  </a:cubicBezTo>
                  <a:cubicBezTo>
                    <a:pt x="2145" y="53"/>
                    <a:pt x="2156" y="48"/>
                    <a:pt x="2193" y="32"/>
                  </a:cubicBezTo>
                  <a:cubicBezTo>
                    <a:pt x="2230" y="16"/>
                    <a:pt x="2238" y="22"/>
                    <a:pt x="2253" y="20"/>
                  </a:cubicBezTo>
                  <a:cubicBezTo>
                    <a:pt x="2268" y="18"/>
                    <a:pt x="2278" y="22"/>
                    <a:pt x="2286" y="20"/>
                  </a:cubicBezTo>
                  <a:cubicBezTo>
                    <a:pt x="2294" y="18"/>
                    <a:pt x="2296" y="10"/>
                    <a:pt x="2304" y="8"/>
                  </a:cubicBezTo>
                  <a:cubicBezTo>
                    <a:pt x="2312" y="6"/>
                    <a:pt x="2320" y="6"/>
                    <a:pt x="2334" y="8"/>
                  </a:cubicBezTo>
                  <a:cubicBezTo>
                    <a:pt x="2348" y="10"/>
                    <a:pt x="2372" y="21"/>
                    <a:pt x="2388" y="20"/>
                  </a:cubicBezTo>
                  <a:cubicBezTo>
                    <a:pt x="2404" y="19"/>
                    <a:pt x="2416" y="4"/>
                    <a:pt x="2433" y="2"/>
                  </a:cubicBezTo>
                  <a:cubicBezTo>
                    <a:pt x="2450" y="0"/>
                    <a:pt x="2485" y="4"/>
                    <a:pt x="2490" y="8"/>
                  </a:cubicBezTo>
                  <a:cubicBezTo>
                    <a:pt x="2495" y="12"/>
                    <a:pt x="2474" y="17"/>
                    <a:pt x="2463" y="26"/>
                  </a:cubicBezTo>
                  <a:cubicBezTo>
                    <a:pt x="2452" y="35"/>
                    <a:pt x="2437" y="47"/>
                    <a:pt x="2424" y="62"/>
                  </a:cubicBezTo>
                  <a:cubicBezTo>
                    <a:pt x="2411" y="77"/>
                    <a:pt x="2397" y="103"/>
                    <a:pt x="2385" y="119"/>
                  </a:cubicBezTo>
                  <a:cubicBezTo>
                    <a:pt x="2373" y="135"/>
                    <a:pt x="2358" y="149"/>
                    <a:pt x="2349" y="158"/>
                  </a:cubicBezTo>
                  <a:cubicBezTo>
                    <a:pt x="2340" y="167"/>
                    <a:pt x="2340" y="172"/>
                    <a:pt x="2331" y="176"/>
                  </a:cubicBezTo>
                  <a:cubicBezTo>
                    <a:pt x="2322" y="180"/>
                    <a:pt x="2303" y="174"/>
                    <a:pt x="2295" y="182"/>
                  </a:cubicBezTo>
                  <a:cubicBezTo>
                    <a:pt x="2287" y="190"/>
                    <a:pt x="2284" y="216"/>
                    <a:pt x="2280" y="227"/>
                  </a:cubicBezTo>
                  <a:cubicBezTo>
                    <a:pt x="2276" y="238"/>
                    <a:pt x="2268" y="245"/>
                    <a:pt x="2271" y="251"/>
                  </a:cubicBezTo>
                  <a:cubicBezTo>
                    <a:pt x="2274" y="257"/>
                    <a:pt x="2293" y="253"/>
                    <a:pt x="2298" y="266"/>
                  </a:cubicBezTo>
                  <a:cubicBezTo>
                    <a:pt x="2303" y="279"/>
                    <a:pt x="2309" y="319"/>
                    <a:pt x="2304" y="332"/>
                  </a:cubicBezTo>
                  <a:cubicBezTo>
                    <a:pt x="2299" y="345"/>
                    <a:pt x="2273" y="345"/>
                    <a:pt x="2265" y="344"/>
                  </a:cubicBezTo>
                  <a:cubicBezTo>
                    <a:pt x="2257" y="343"/>
                    <a:pt x="2258" y="326"/>
                    <a:pt x="2253" y="326"/>
                  </a:cubicBezTo>
                  <a:cubicBezTo>
                    <a:pt x="2248" y="326"/>
                    <a:pt x="2236" y="337"/>
                    <a:pt x="2232" y="347"/>
                  </a:cubicBezTo>
                  <a:cubicBezTo>
                    <a:pt x="2228" y="357"/>
                    <a:pt x="2228" y="376"/>
                    <a:pt x="2226" y="386"/>
                  </a:cubicBezTo>
                  <a:cubicBezTo>
                    <a:pt x="2224" y="396"/>
                    <a:pt x="2236" y="390"/>
                    <a:pt x="2220" y="407"/>
                  </a:cubicBezTo>
                  <a:cubicBezTo>
                    <a:pt x="2204" y="424"/>
                    <a:pt x="2157" y="463"/>
                    <a:pt x="2130" y="491"/>
                  </a:cubicBezTo>
                  <a:cubicBezTo>
                    <a:pt x="2103" y="519"/>
                    <a:pt x="2083" y="539"/>
                    <a:pt x="2058" y="575"/>
                  </a:cubicBezTo>
                  <a:cubicBezTo>
                    <a:pt x="2033" y="611"/>
                    <a:pt x="1998" y="679"/>
                    <a:pt x="1980" y="710"/>
                  </a:cubicBezTo>
                  <a:cubicBezTo>
                    <a:pt x="1962" y="741"/>
                    <a:pt x="1966" y="756"/>
                    <a:pt x="1950" y="764"/>
                  </a:cubicBezTo>
                  <a:cubicBezTo>
                    <a:pt x="1934" y="772"/>
                    <a:pt x="1906" y="756"/>
                    <a:pt x="1884" y="758"/>
                  </a:cubicBezTo>
                  <a:cubicBezTo>
                    <a:pt x="1862" y="760"/>
                    <a:pt x="1832" y="762"/>
                    <a:pt x="1815" y="776"/>
                  </a:cubicBezTo>
                  <a:cubicBezTo>
                    <a:pt x="1798" y="790"/>
                    <a:pt x="1800" y="826"/>
                    <a:pt x="1782" y="845"/>
                  </a:cubicBezTo>
                  <a:cubicBezTo>
                    <a:pt x="1764" y="864"/>
                    <a:pt x="1730" y="871"/>
                    <a:pt x="1704" y="890"/>
                  </a:cubicBezTo>
                  <a:cubicBezTo>
                    <a:pt x="1678" y="909"/>
                    <a:pt x="1657" y="942"/>
                    <a:pt x="1629" y="959"/>
                  </a:cubicBezTo>
                  <a:cubicBezTo>
                    <a:pt x="1601" y="976"/>
                    <a:pt x="1561" y="980"/>
                    <a:pt x="1533" y="995"/>
                  </a:cubicBezTo>
                  <a:cubicBezTo>
                    <a:pt x="1505" y="1010"/>
                    <a:pt x="1469" y="1050"/>
                    <a:pt x="1458" y="1052"/>
                  </a:cubicBezTo>
                  <a:cubicBezTo>
                    <a:pt x="1447" y="1054"/>
                    <a:pt x="1450" y="1027"/>
                    <a:pt x="1467" y="1007"/>
                  </a:cubicBezTo>
                  <a:cubicBezTo>
                    <a:pt x="1484" y="987"/>
                    <a:pt x="1533" y="955"/>
                    <a:pt x="1560" y="932"/>
                  </a:cubicBezTo>
                  <a:cubicBezTo>
                    <a:pt x="1587" y="909"/>
                    <a:pt x="1606" y="893"/>
                    <a:pt x="1629" y="866"/>
                  </a:cubicBezTo>
                  <a:cubicBezTo>
                    <a:pt x="1652" y="839"/>
                    <a:pt x="1687" y="796"/>
                    <a:pt x="1701" y="770"/>
                  </a:cubicBezTo>
                  <a:cubicBezTo>
                    <a:pt x="1715" y="744"/>
                    <a:pt x="1699" y="731"/>
                    <a:pt x="1713" y="710"/>
                  </a:cubicBezTo>
                  <a:cubicBezTo>
                    <a:pt x="1727" y="689"/>
                    <a:pt x="1759" y="671"/>
                    <a:pt x="1785" y="644"/>
                  </a:cubicBezTo>
                  <a:cubicBezTo>
                    <a:pt x="1811" y="617"/>
                    <a:pt x="1844" y="573"/>
                    <a:pt x="1869" y="545"/>
                  </a:cubicBezTo>
                  <a:cubicBezTo>
                    <a:pt x="1894" y="517"/>
                    <a:pt x="1918" y="500"/>
                    <a:pt x="1935" y="476"/>
                  </a:cubicBezTo>
                  <a:cubicBezTo>
                    <a:pt x="1952" y="452"/>
                    <a:pt x="1955" y="422"/>
                    <a:pt x="1971" y="401"/>
                  </a:cubicBezTo>
                  <a:cubicBezTo>
                    <a:pt x="1987" y="380"/>
                    <a:pt x="2019" y="364"/>
                    <a:pt x="2034" y="350"/>
                  </a:cubicBezTo>
                  <a:cubicBezTo>
                    <a:pt x="2049" y="336"/>
                    <a:pt x="2064" y="318"/>
                    <a:pt x="2061" y="314"/>
                  </a:cubicBezTo>
                  <a:cubicBezTo>
                    <a:pt x="2058" y="310"/>
                    <a:pt x="2031" y="314"/>
                    <a:pt x="2016" y="323"/>
                  </a:cubicBezTo>
                  <a:cubicBezTo>
                    <a:pt x="2001" y="332"/>
                    <a:pt x="1982" y="350"/>
                    <a:pt x="1971" y="368"/>
                  </a:cubicBezTo>
                  <a:cubicBezTo>
                    <a:pt x="1960" y="386"/>
                    <a:pt x="1960" y="412"/>
                    <a:pt x="1947" y="434"/>
                  </a:cubicBezTo>
                  <a:cubicBezTo>
                    <a:pt x="1934" y="456"/>
                    <a:pt x="1914" y="475"/>
                    <a:pt x="1893" y="500"/>
                  </a:cubicBezTo>
                  <a:cubicBezTo>
                    <a:pt x="1872" y="525"/>
                    <a:pt x="1841" y="565"/>
                    <a:pt x="1821" y="587"/>
                  </a:cubicBezTo>
                  <a:cubicBezTo>
                    <a:pt x="1801" y="609"/>
                    <a:pt x="1790" y="619"/>
                    <a:pt x="1770" y="632"/>
                  </a:cubicBezTo>
                  <a:cubicBezTo>
                    <a:pt x="1750" y="645"/>
                    <a:pt x="1727" y="647"/>
                    <a:pt x="1704" y="662"/>
                  </a:cubicBezTo>
                  <a:cubicBezTo>
                    <a:pt x="1681" y="677"/>
                    <a:pt x="1646" y="709"/>
                    <a:pt x="1632" y="725"/>
                  </a:cubicBezTo>
                  <a:cubicBezTo>
                    <a:pt x="1618" y="741"/>
                    <a:pt x="1627" y="754"/>
                    <a:pt x="1620" y="761"/>
                  </a:cubicBezTo>
                  <a:cubicBezTo>
                    <a:pt x="1613" y="768"/>
                    <a:pt x="1593" y="775"/>
                    <a:pt x="1587" y="770"/>
                  </a:cubicBezTo>
                  <a:cubicBezTo>
                    <a:pt x="1581" y="765"/>
                    <a:pt x="1566" y="749"/>
                    <a:pt x="1584" y="728"/>
                  </a:cubicBezTo>
                  <a:cubicBezTo>
                    <a:pt x="1602" y="707"/>
                    <a:pt x="1668" y="665"/>
                    <a:pt x="1692" y="641"/>
                  </a:cubicBezTo>
                  <a:cubicBezTo>
                    <a:pt x="1716" y="617"/>
                    <a:pt x="1714" y="599"/>
                    <a:pt x="1731" y="581"/>
                  </a:cubicBezTo>
                  <a:cubicBezTo>
                    <a:pt x="1748" y="563"/>
                    <a:pt x="1774" y="552"/>
                    <a:pt x="1794" y="533"/>
                  </a:cubicBezTo>
                  <a:cubicBezTo>
                    <a:pt x="1814" y="514"/>
                    <a:pt x="1837" y="482"/>
                    <a:pt x="1851" y="467"/>
                  </a:cubicBezTo>
                  <a:cubicBezTo>
                    <a:pt x="1865" y="452"/>
                    <a:pt x="1874" y="452"/>
                    <a:pt x="1878" y="443"/>
                  </a:cubicBezTo>
                  <a:cubicBezTo>
                    <a:pt x="1882" y="434"/>
                    <a:pt x="1882" y="413"/>
                    <a:pt x="1875" y="413"/>
                  </a:cubicBezTo>
                  <a:cubicBezTo>
                    <a:pt x="1868" y="413"/>
                    <a:pt x="1847" y="426"/>
                    <a:pt x="1833" y="443"/>
                  </a:cubicBezTo>
                  <a:cubicBezTo>
                    <a:pt x="1819" y="460"/>
                    <a:pt x="1804" y="495"/>
                    <a:pt x="1788" y="515"/>
                  </a:cubicBezTo>
                  <a:cubicBezTo>
                    <a:pt x="1772" y="535"/>
                    <a:pt x="1751" y="550"/>
                    <a:pt x="1734" y="566"/>
                  </a:cubicBezTo>
                  <a:cubicBezTo>
                    <a:pt x="1717" y="582"/>
                    <a:pt x="1704" y="595"/>
                    <a:pt x="1689" y="611"/>
                  </a:cubicBezTo>
                  <a:cubicBezTo>
                    <a:pt x="1674" y="627"/>
                    <a:pt x="1655" y="656"/>
                    <a:pt x="1641" y="665"/>
                  </a:cubicBezTo>
                  <a:cubicBezTo>
                    <a:pt x="1627" y="674"/>
                    <a:pt x="1609" y="674"/>
                    <a:pt x="1605" y="665"/>
                  </a:cubicBezTo>
                  <a:cubicBezTo>
                    <a:pt x="1601" y="656"/>
                    <a:pt x="1603" y="627"/>
                    <a:pt x="1617" y="608"/>
                  </a:cubicBezTo>
                  <a:cubicBezTo>
                    <a:pt x="1631" y="589"/>
                    <a:pt x="1672" y="560"/>
                    <a:pt x="1689" y="548"/>
                  </a:cubicBezTo>
                  <a:cubicBezTo>
                    <a:pt x="1706" y="536"/>
                    <a:pt x="1713" y="540"/>
                    <a:pt x="1722" y="533"/>
                  </a:cubicBezTo>
                  <a:cubicBezTo>
                    <a:pt x="1731" y="526"/>
                    <a:pt x="1752" y="507"/>
                    <a:pt x="1746" y="506"/>
                  </a:cubicBezTo>
                  <a:cubicBezTo>
                    <a:pt x="1740" y="505"/>
                    <a:pt x="1711" y="513"/>
                    <a:pt x="1686" y="530"/>
                  </a:cubicBezTo>
                  <a:cubicBezTo>
                    <a:pt x="1661" y="547"/>
                    <a:pt x="1617" y="587"/>
                    <a:pt x="1596" y="611"/>
                  </a:cubicBezTo>
                  <a:cubicBezTo>
                    <a:pt x="1575" y="635"/>
                    <a:pt x="1569" y="661"/>
                    <a:pt x="1560" y="674"/>
                  </a:cubicBezTo>
                  <a:cubicBezTo>
                    <a:pt x="1551" y="687"/>
                    <a:pt x="1549" y="694"/>
                    <a:pt x="1542" y="689"/>
                  </a:cubicBezTo>
                  <a:cubicBezTo>
                    <a:pt x="1535" y="684"/>
                    <a:pt x="1525" y="650"/>
                    <a:pt x="1518" y="641"/>
                  </a:cubicBezTo>
                  <a:cubicBezTo>
                    <a:pt x="1511" y="632"/>
                    <a:pt x="1496" y="639"/>
                    <a:pt x="1500" y="632"/>
                  </a:cubicBezTo>
                  <a:cubicBezTo>
                    <a:pt x="1504" y="625"/>
                    <a:pt x="1527" y="607"/>
                    <a:pt x="1542" y="596"/>
                  </a:cubicBezTo>
                  <a:cubicBezTo>
                    <a:pt x="1557" y="585"/>
                    <a:pt x="1571" y="574"/>
                    <a:pt x="1590" y="563"/>
                  </a:cubicBezTo>
                  <a:cubicBezTo>
                    <a:pt x="1609" y="552"/>
                    <a:pt x="1637" y="541"/>
                    <a:pt x="1656" y="527"/>
                  </a:cubicBezTo>
                  <a:cubicBezTo>
                    <a:pt x="1675" y="513"/>
                    <a:pt x="1692" y="489"/>
                    <a:pt x="1704" y="476"/>
                  </a:cubicBezTo>
                  <a:cubicBezTo>
                    <a:pt x="1716" y="463"/>
                    <a:pt x="1735" y="451"/>
                    <a:pt x="1728" y="452"/>
                  </a:cubicBezTo>
                  <a:cubicBezTo>
                    <a:pt x="1721" y="453"/>
                    <a:pt x="1673" y="473"/>
                    <a:pt x="1659" y="485"/>
                  </a:cubicBezTo>
                  <a:cubicBezTo>
                    <a:pt x="1645" y="497"/>
                    <a:pt x="1652" y="517"/>
                    <a:pt x="1641" y="524"/>
                  </a:cubicBezTo>
                  <a:cubicBezTo>
                    <a:pt x="1630" y="531"/>
                    <a:pt x="1608" y="518"/>
                    <a:pt x="1596" y="524"/>
                  </a:cubicBezTo>
                  <a:cubicBezTo>
                    <a:pt x="1584" y="530"/>
                    <a:pt x="1583" y="554"/>
                    <a:pt x="1572" y="560"/>
                  </a:cubicBezTo>
                  <a:cubicBezTo>
                    <a:pt x="1561" y="566"/>
                    <a:pt x="1541" y="553"/>
                    <a:pt x="1530" y="560"/>
                  </a:cubicBezTo>
                  <a:cubicBezTo>
                    <a:pt x="1519" y="567"/>
                    <a:pt x="1516" y="594"/>
                    <a:pt x="1506" y="605"/>
                  </a:cubicBezTo>
                  <a:cubicBezTo>
                    <a:pt x="1496" y="616"/>
                    <a:pt x="1481" y="611"/>
                    <a:pt x="1470" y="623"/>
                  </a:cubicBezTo>
                  <a:cubicBezTo>
                    <a:pt x="1459" y="635"/>
                    <a:pt x="1448" y="671"/>
                    <a:pt x="1437" y="677"/>
                  </a:cubicBezTo>
                  <a:cubicBezTo>
                    <a:pt x="1426" y="683"/>
                    <a:pt x="1406" y="671"/>
                    <a:pt x="1401" y="662"/>
                  </a:cubicBezTo>
                  <a:cubicBezTo>
                    <a:pt x="1396" y="653"/>
                    <a:pt x="1410" y="623"/>
                    <a:pt x="1404" y="623"/>
                  </a:cubicBezTo>
                  <a:cubicBezTo>
                    <a:pt x="1398" y="623"/>
                    <a:pt x="1384" y="656"/>
                    <a:pt x="1362" y="665"/>
                  </a:cubicBezTo>
                  <a:cubicBezTo>
                    <a:pt x="1340" y="674"/>
                    <a:pt x="1288" y="682"/>
                    <a:pt x="1272" y="680"/>
                  </a:cubicBezTo>
                  <a:cubicBezTo>
                    <a:pt x="1256" y="678"/>
                    <a:pt x="1268" y="660"/>
                    <a:pt x="1263" y="653"/>
                  </a:cubicBezTo>
                  <a:cubicBezTo>
                    <a:pt x="1258" y="646"/>
                    <a:pt x="1253" y="636"/>
                    <a:pt x="1242" y="638"/>
                  </a:cubicBezTo>
                  <a:cubicBezTo>
                    <a:pt x="1231" y="640"/>
                    <a:pt x="1224" y="654"/>
                    <a:pt x="1194" y="668"/>
                  </a:cubicBezTo>
                  <a:cubicBezTo>
                    <a:pt x="1164" y="682"/>
                    <a:pt x="1111" y="702"/>
                    <a:pt x="1059" y="722"/>
                  </a:cubicBezTo>
                  <a:cubicBezTo>
                    <a:pt x="1007" y="742"/>
                    <a:pt x="950" y="763"/>
                    <a:pt x="879" y="788"/>
                  </a:cubicBezTo>
                  <a:cubicBezTo>
                    <a:pt x="808" y="813"/>
                    <a:pt x="698" y="853"/>
                    <a:pt x="633" y="875"/>
                  </a:cubicBezTo>
                  <a:cubicBezTo>
                    <a:pt x="568" y="897"/>
                    <a:pt x="513" y="914"/>
                    <a:pt x="492" y="917"/>
                  </a:cubicBezTo>
                  <a:cubicBezTo>
                    <a:pt x="471" y="920"/>
                    <a:pt x="477" y="904"/>
                    <a:pt x="504" y="893"/>
                  </a:cubicBezTo>
                  <a:cubicBezTo>
                    <a:pt x="531" y="882"/>
                    <a:pt x="602" y="869"/>
                    <a:pt x="657" y="851"/>
                  </a:cubicBezTo>
                  <a:cubicBezTo>
                    <a:pt x="712" y="833"/>
                    <a:pt x="774" y="807"/>
                    <a:pt x="837" y="785"/>
                  </a:cubicBezTo>
                  <a:cubicBezTo>
                    <a:pt x="900" y="763"/>
                    <a:pt x="994" y="733"/>
                    <a:pt x="1035" y="716"/>
                  </a:cubicBezTo>
                  <a:cubicBezTo>
                    <a:pt x="1076" y="699"/>
                    <a:pt x="1079" y="690"/>
                    <a:pt x="1083" y="686"/>
                  </a:cubicBezTo>
                  <a:cubicBezTo>
                    <a:pt x="1087" y="682"/>
                    <a:pt x="1091" y="679"/>
                    <a:pt x="1062" y="689"/>
                  </a:cubicBezTo>
                  <a:cubicBezTo>
                    <a:pt x="1033" y="699"/>
                    <a:pt x="964" y="727"/>
                    <a:pt x="906" y="746"/>
                  </a:cubicBezTo>
                  <a:cubicBezTo>
                    <a:pt x="848" y="765"/>
                    <a:pt x="779" y="788"/>
                    <a:pt x="714" y="806"/>
                  </a:cubicBezTo>
                  <a:cubicBezTo>
                    <a:pt x="649" y="824"/>
                    <a:pt x="584" y="838"/>
                    <a:pt x="513" y="854"/>
                  </a:cubicBezTo>
                  <a:cubicBezTo>
                    <a:pt x="442" y="870"/>
                    <a:pt x="344" y="893"/>
                    <a:pt x="288" y="905"/>
                  </a:cubicBezTo>
                  <a:cubicBezTo>
                    <a:pt x="232" y="917"/>
                    <a:pt x="190" y="926"/>
                    <a:pt x="177" y="926"/>
                  </a:cubicBezTo>
                  <a:cubicBezTo>
                    <a:pt x="164" y="926"/>
                    <a:pt x="208" y="904"/>
                    <a:pt x="207" y="902"/>
                  </a:cubicBezTo>
                  <a:cubicBezTo>
                    <a:pt x="206" y="900"/>
                    <a:pt x="188" y="907"/>
                    <a:pt x="168" y="911"/>
                  </a:cubicBezTo>
                  <a:cubicBezTo>
                    <a:pt x="148" y="915"/>
                    <a:pt x="95" y="929"/>
                    <a:pt x="84" y="929"/>
                  </a:cubicBezTo>
                  <a:cubicBezTo>
                    <a:pt x="73" y="929"/>
                    <a:pt x="91" y="912"/>
                    <a:pt x="99" y="908"/>
                  </a:cubicBezTo>
                  <a:cubicBezTo>
                    <a:pt x="107" y="904"/>
                    <a:pt x="0" y="945"/>
                    <a:pt x="135" y="90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3000" y="2511360"/>
              <a:ext cx="1730520" cy="1498680"/>
            </a:xfrm>
            <a:custGeom>
              <a:avLst/>
              <a:gdLst/>
              <a:ahLst/>
              <a:rect l="l" t="t" r="r" b="b"/>
              <a:pathLst>
                <a:path w="1090" h="944">
                  <a:moveTo>
                    <a:pt x="220" y="44"/>
                  </a:moveTo>
                  <a:cubicBezTo>
                    <a:pt x="214" y="39"/>
                    <a:pt x="250" y="35"/>
                    <a:pt x="262" y="29"/>
                  </a:cubicBezTo>
                  <a:cubicBezTo>
                    <a:pt x="274" y="23"/>
                    <a:pt x="284" y="9"/>
                    <a:pt x="292" y="5"/>
                  </a:cubicBezTo>
                  <a:cubicBezTo>
                    <a:pt x="300" y="1"/>
                    <a:pt x="299" y="0"/>
                    <a:pt x="310" y="5"/>
                  </a:cubicBezTo>
                  <a:cubicBezTo>
                    <a:pt x="321" y="10"/>
                    <a:pt x="341" y="23"/>
                    <a:pt x="358" y="35"/>
                  </a:cubicBezTo>
                  <a:cubicBezTo>
                    <a:pt x="375" y="47"/>
                    <a:pt x="402" y="64"/>
                    <a:pt x="415" y="80"/>
                  </a:cubicBezTo>
                  <a:cubicBezTo>
                    <a:pt x="428" y="96"/>
                    <a:pt x="436" y="114"/>
                    <a:pt x="436" y="128"/>
                  </a:cubicBezTo>
                  <a:cubicBezTo>
                    <a:pt x="436" y="142"/>
                    <a:pt x="414" y="155"/>
                    <a:pt x="415" y="164"/>
                  </a:cubicBezTo>
                  <a:cubicBezTo>
                    <a:pt x="416" y="173"/>
                    <a:pt x="441" y="172"/>
                    <a:pt x="445" y="185"/>
                  </a:cubicBezTo>
                  <a:cubicBezTo>
                    <a:pt x="449" y="198"/>
                    <a:pt x="431" y="226"/>
                    <a:pt x="439" y="239"/>
                  </a:cubicBezTo>
                  <a:cubicBezTo>
                    <a:pt x="447" y="252"/>
                    <a:pt x="475" y="262"/>
                    <a:pt x="490" y="266"/>
                  </a:cubicBezTo>
                  <a:cubicBezTo>
                    <a:pt x="505" y="270"/>
                    <a:pt x="517" y="256"/>
                    <a:pt x="532" y="266"/>
                  </a:cubicBezTo>
                  <a:cubicBezTo>
                    <a:pt x="547" y="276"/>
                    <a:pt x="575" y="314"/>
                    <a:pt x="577" y="326"/>
                  </a:cubicBezTo>
                  <a:cubicBezTo>
                    <a:pt x="579" y="338"/>
                    <a:pt x="546" y="331"/>
                    <a:pt x="544" y="338"/>
                  </a:cubicBezTo>
                  <a:cubicBezTo>
                    <a:pt x="542" y="345"/>
                    <a:pt x="545" y="356"/>
                    <a:pt x="562" y="371"/>
                  </a:cubicBezTo>
                  <a:cubicBezTo>
                    <a:pt x="579" y="386"/>
                    <a:pt x="604" y="404"/>
                    <a:pt x="646" y="431"/>
                  </a:cubicBezTo>
                  <a:cubicBezTo>
                    <a:pt x="688" y="458"/>
                    <a:pt x="761" y="501"/>
                    <a:pt x="817" y="536"/>
                  </a:cubicBezTo>
                  <a:cubicBezTo>
                    <a:pt x="873" y="571"/>
                    <a:pt x="949" y="617"/>
                    <a:pt x="982" y="641"/>
                  </a:cubicBezTo>
                  <a:cubicBezTo>
                    <a:pt x="1015" y="665"/>
                    <a:pt x="995" y="664"/>
                    <a:pt x="1012" y="680"/>
                  </a:cubicBezTo>
                  <a:cubicBezTo>
                    <a:pt x="1029" y="696"/>
                    <a:pt x="1078" y="726"/>
                    <a:pt x="1084" y="740"/>
                  </a:cubicBezTo>
                  <a:cubicBezTo>
                    <a:pt x="1090" y="754"/>
                    <a:pt x="1078" y="767"/>
                    <a:pt x="1051" y="764"/>
                  </a:cubicBezTo>
                  <a:cubicBezTo>
                    <a:pt x="1024" y="761"/>
                    <a:pt x="950" y="724"/>
                    <a:pt x="922" y="722"/>
                  </a:cubicBezTo>
                  <a:cubicBezTo>
                    <a:pt x="894" y="720"/>
                    <a:pt x="896" y="746"/>
                    <a:pt x="880" y="749"/>
                  </a:cubicBezTo>
                  <a:cubicBezTo>
                    <a:pt x="864" y="752"/>
                    <a:pt x="858" y="758"/>
                    <a:pt x="826" y="740"/>
                  </a:cubicBezTo>
                  <a:cubicBezTo>
                    <a:pt x="794" y="722"/>
                    <a:pt x="725" y="673"/>
                    <a:pt x="688" y="641"/>
                  </a:cubicBezTo>
                  <a:cubicBezTo>
                    <a:pt x="651" y="609"/>
                    <a:pt x="630" y="570"/>
                    <a:pt x="607" y="548"/>
                  </a:cubicBezTo>
                  <a:cubicBezTo>
                    <a:pt x="584" y="526"/>
                    <a:pt x="565" y="508"/>
                    <a:pt x="547" y="506"/>
                  </a:cubicBezTo>
                  <a:cubicBezTo>
                    <a:pt x="529" y="504"/>
                    <a:pt x="510" y="515"/>
                    <a:pt x="496" y="536"/>
                  </a:cubicBezTo>
                  <a:cubicBezTo>
                    <a:pt x="482" y="557"/>
                    <a:pt x="459" y="601"/>
                    <a:pt x="463" y="632"/>
                  </a:cubicBezTo>
                  <a:cubicBezTo>
                    <a:pt x="467" y="663"/>
                    <a:pt x="514" y="695"/>
                    <a:pt x="520" y="722"/>
                  </a:cubicBezTo>
                  <a:cubicBezTo>
                    <a:pt x="526" y="749"/>
                    <a:pt x="510" y="784"/>
                    <a:pt x="502" y="797"/>
                  </a:cubicBezTo>
                  <a:cubicBezTo>
                    <a:pt x="494" y="810"/>
                    <a:pt x="480" y="802"/>
                    <a:pt x="472" y="800"/>
                  </a:cubicBezTo>
                  <a:cubicBezTo>
                    <a:pt x="464" y="798"/>
                    <a:pt x="469" y="780"/>
                    <a:pt x="451" y="785"/>
                  </a:cubicBezTo>
                  <a:cubicBezTo>
                    <a:pt x="433" y="790"/>
                    <a:pt x="393" y="814"/>
                    <a:pt x="364" y="833"/>
                  </a:cubicBezTo>
                  <a:cubicBezTo>
                    <a:pt x="335" y="852"/>
                    <a:pt x="303" y="881"/>
                    <a:pt x="277" y="899"/>
                  </a:cubicBezTo>
                  <a:cubicBezTo>
                    <a:pt x="251" y="917"/>
                    <a:pt x="222" y="944"/>
                    <a:pt x="205" y="944"/>
                  </a:cubicBezTo>
                  <a:cubicBezTo>
                    <a:pt x="188" y="944"/>
                    <a:pt x="183" y="906"/>
                    <a:pt x="172" y="899"/>
                  </a:cubicBezTo>
                  <a:cubicBezTo>
                    <a:pt x="161" y="892"/>
                    <a:pt x="150" y="901"/>
                    <a:pt x="139" y="899"/>
                  </a:cubicBezTo>
                  <a:cubicBezTo>
                    <a:pt x="128" y="897"/>
                    <a:pt x="102" y="897"/>
                    <a:pt x="103" y="884"/>
                  </a:cubicBezTo>
                  <a:cubicBezTo>
                    <a:pt x="104" y="871"/>
                    <a:pt x="133" y="839"/>
                    <a:pt x="148" y="818"/>
                  </a:cubicBezTo>
                  <a:cubicBezTo>
                    <a:pt x="163" y="797"/>
                    <a:pt x="203" y="760"/>
                    <a:pt x="196" y="755"/>
                  </a:cubicBezTo>
                  <a:cubicBezTo>
                    <a:pt x="189" y="750"/>
                    <a:pt x="133" y="768"/>
                    <a:pt x="103" y="785"/>
                  </a:cubicBezTo>
                  <a:cubicBezTo>
                    <a:pt x="73" y="802"/>
                    <a:pt x="26" y="852"/>
                    <a:pt x="13" y="857"/>
                  </a:cubicBezTo>
                  <a:cubicBezTo>
                    <a:pt x="0" y="862"/>
                    <a:pt x="5" y="836"/>
                    <a:pt x="25" y="815"/>
                  </a:cubicBezTo>
                  <a:cubicBezTo>
                    <a:pt x="45" y="794"/>
                    <a:pt x="97" y="756"/>
                    <a:pt x="130" y="728"/>
                  </a:cubicBezTo>
                  <a:cubicBezTo>
                    <a:pt x="163" y="700"/>
                    <a:pt x="199" y="671"/>
                    <a:pt x="220" y="647"/>
                  </a:cubicBezTo>
                  <a:cubicBezTo>
                    <a:pt x="241" y="623"/>
                    <a:pt x="245" y="602"/>
                    <a:pt x="259" y="584"/>
                  </a:cubicBezTo>
                  <a:cubicBezTo>
                    <a:pt x="273" y="566"/>
                    <a:pt x="301" y="556"/>
                    <a:pt x="307" y="542"/>
                  </a:cubicBezTo>
                  <a:cubicBezTo>
                    <a:pt x="313" y="528"/>
                    <a:pt x="310" y="511"/>
                    <a:pt x="298" y="500"/>
                  </a:cubicBezTo>
                  <a:cubicBezTo>
                    <a:pt x="286" y="489"/>
                    <a:pt x="240" y="485"/>
                    <a:pt x="235" y="473"/>
                  </a:cubicBezTo>
                  <a:cubicBezTo>
                    <a:pt x="230" y="461"/>
                    <a:pt x="272" y="436"/>
                    <a:pt x="268" y="425"/>
                  </a:cubicBezTo>
                  <a:cubicBezTo>
                    <a:pt x="264" y="414"/>
                    <a:pt x="218" y="414"/>
                    <a:pt x="211" y="404"/>
                  </a:cubicBezTo>
                  <a:cubicBezTo>
                    <a:pt x="204" y="394"/>
                    <a:pt x="229" y="376"/>
                    <a:pt x="226" y="365"/>
                  </a:cubicBezTo>
                  <a:cubicBezTo>
                    <a:pt x="223" y="354"/>
                    <a:pt x="196" y="343"/>
                    <a:pt x="190" y="335"/>
                  </a:cubicBezTo>
                  <a:cubicBezTo>
                    <a:pt x="184" y="327"/>
                    <a:pt x="192" y="320"/>
                    <a:pt x="187" y="314"/>
                  </a:cubicBezTo>
                  <a:cubicBezTo>
                    <a:pt x="182" y="308"/>
                    <a:pt x="167" y="304"/>
                    <a:pt x="157" y="296"/>
                  </a:cubicBezTo>
                  <a:cubicBezTo>
                    <a:pt x="147" y="288"/>
                    <a:pt x="129" y="276"/>
                    <a:pt x="127" y="266"/>
                  </a:cubicBezTo>
                  <a:cubicBezTo>
                    <a:pt x="125" y="256"/>
                    <a:pt x="144" y="246"/>
                    <a:pt x="148" y="236"/>
                  </a:cubicBezTo>
                  <a:cubicBezTo>
                    <a:pt x="152" y="226"/>
                    <a:pt x="155" y="218"/>
                    <a:pt x="151" y="206"/>
                  </a:cubicBezTo>
                  <a:cubicBezTo>
                    <a:pt x="147" y="194"/>
                    <a:pt x="134" y="178"/>
                    <a:pt x="121" y="164"/>
                  </a:cubicBezTo>
                  <a:cubicBezTo>
                    <a:pt x="108" y="150"/>
                    <a:pt x="78" y="141"/>
                    <a:pt x="73" y="125"/>
                  </a:cubicBezTo>
                  <a:cubicBezTo>
                    <a:pt x="68" y="109"/>
                    <a:pt x="78" y="68"/>
                    <a:pt x="88" y="68"/>
                  </a:cubicBezTo>
                  <a:cubicBezTo>
                    <a:pt x="98" y="68"/>
                    <a:pt x="130" y="125"/>
                    <a:pt x="136" y="128"/>
                  </a:cubicBezTo>
                  <a:cubicBezTo>
                    <a:pt x="142" y="131"/>
                    <a:pt x="132" y="100"/>
                    <a:pt x="127" y="89"/>
                  </a:cubicBezTo>
                  <a:cubicBezTo>
                    <a:pt x="122" y="78"/>
                    <a:pt x="101" y="67"/>
                    <a:pt x="103" y="62"/>
                  </a:cubicBezTo>
                  <a:cubicBezTo>
                    <a:pt x="105" y="57"/>
                    <a:pt x="135" y="61"/>
                    <a:pt x="139" y="56"/>
                  </a:cubicBezTo>
                  <a:cubicBezTo>
                    <a:pt x="143" y="51"/>
                    <a:pt x="126" y="37"/>
                    <a:pt x="127" y="32"/>
                  </a:cubicBezTo>
                  <a:cubicBezTo>
                    <a:pt x="128" y="27"/>
                    <a:pt x="142" y="20"/>
                    <a:pt x="148" y="23"/>
                  </a:cubicBezTo>
                  <a:cubicBezTo>
                    <a:pt x="154" y="26"/>
                    <a:pt x="157" y="45"/>
                    <a:pt x="163" y="50"/>
                  </a:cubicBezTo>
                  <a:cubicBezTo>
                    <a:pt x="169" y="55"/>
                    <a:pt x="186" y="42"/>
                    <a:pt x="187" y="53"/>
                  </a:cubicBezTo>
                  <a:cubicBezTo>
                    <a:pt x="188" y="64"/>
                    <a:pt x="171" y="110"/>
                    <a:pt x="172" y="119"/>
                  </a:cubicBezTo>
                  <a:cubicBezTo>
                    <a:pt x="173" y="128"/>
                    <a:pt x="190" y="112"/>
                    <a:pt x="196" y="107"/>
                  </a:cubicBezTo>
                  <a:cubicBezTo>
                    <a:pt x="202" y="102"/>
                    <a:pt x="203" y="86"/>
                    <a:pt x="211" y="89"/>
                  </a:cubicBezTo>
                  <a:cubicBezTo>
                    <a:pt x="219" y="92"/>
                    <a:pt x="237" y="112"/>
                    <a:pt x="244" y="122"/>
                  </a:cubicBezTo>
                  <a:cubicBezTo>
                    <a:pt x="251" y="132"/>
                    <a:pt x="244" y="144"/>
                    <a:pt x="256" y="149"/>
                  </a:cubicBezTo>
                  <a:cubicBezTo>
                    <a:pt x="268" y="154"/>
                    <a:pt x="307" y="148"/>
                    <a:pt x="319" y="155"/>
                  </a:cubicBezTo>
                  <a:cubicBezTo>
                    <a:pt x="331" y="162"/>
                    <a:pt x="318" y="192"/>
                    <a:pt x="325" y="191"/>
                  </a:cubicBezTo>
                  <a:cubicBezTo>
                    <a:pt x="332" y="190"/>
                    <a:pt x="362" y="160"/>
                    <a:pt x="361" y="152"/>
                  </a:cubicBezTo>
                  <a:cubicBezTo>
                    <a:pt x="360" y="144"/>
                    <a:pt x="336" y="153"/>
                    <a:pt x="319" y="143"/>
                  </a:cubicBezTo>
                  <a:cubicBezTo>
                    <a:pt x="302" y="133"/>
                    <a:pt x="262" y="105"/>
                    <a:pt x="259" y="92"/>
                  </a:cubicBezTo>
                  <a:cubicBezTo>
                    <a:pt x="256" y="79"/>
                    <a:pt x="304" y="69"/>
                    <a:pt x="298" y="62"/>
                  </a:cubicBezTo>
                  <a:cubicBezTo>
                    <a:pt x="292" y="55"/>
                    <a:pt x="226" y="49"/>
                    <a:pt x="22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221000"/>
              <a:ext cx="9144000" cy="2243160"/>
            </a:xfrm>
            <a:custGeom>
              <a:avLst/>
              <a:gdLst/>
              <a:ahLst/>
              <a:rect l="l" t="t" r="r" b="b"/>
              <a:pathLst>
                <a:path w="5760" h="1224">
                  <a:moveTo>
                    <a:pt x="0" y="230"/>
                  </a:moveTo>
                  <a:lnTo>
                    <a:pt x="702" y="104"/>
                  </a:lnTo>
                  <a:lnTo>
                    <a:pt x="1144" y="0"/>
                  </a:lnTo>
                  <a:lnTo>
                    <a:pt x="1461" y="50"/>
                  </a:lnTo>
                  <a:lnTo>
                    <a:pt x="1720" y="75"/>
                  </a:lnTo>
                  <a:lnTo>
                    <a:pt x="2054" y="17"/>
                  </a:lnTo>
                  <a:cubicBezTo>
                    <a:pt x="2054" y="17"/>
                    <a:pt x="2068" y="67"/>
                    <a:pt x="2296" y="84"/>
                  </a:cubicBezTo>
                  <a:cubicBezTo>
                    <a:pt x="2579" y="384"/>
                    <a:pt x="3089" y="242"/>
                    <a:pt x="3423" y="117"/>
                  </a:cubicBezTo>
                  <a:cubicBezTo>
                    <a:pt x="3556" y="59"/>
                    <a:pt x="3656" y="33"/>
                    <a:pt x="3823" y="25"/>
                  </a:cubicBezTo>
                  <a:cubicBezTo>
                    <a:pt x="3917" y="13"/>
                    <a:pt x="3832" y="57"/>
                    <a:pt x="3982" y="75"/>
                  </a:cubicBezTo>
                  <a:cubicBezTo>
                    <a:pt x="4025" y="90"/>
                    <a:pt x="3958" y="107"/>
                    <a:pt x="4082" y="117"/>
                  </a:cubicBezTo>
                  <a:cubicBezTo>
                    <a:pt x="4206" y="127"/>
                    <a:pt x="4577" y="136"/>
                    <a:pt x="4726" y="135"/>
                  </a:cubicBezTo>
                  <a:lnTo>
                    <a:pt x="4979" y="112"/>
                  </a:lnTo>
                  <a:lnTo>
                    <a:pt x="5397" y="222"/>
                  </a:lnTo>
                  <a:lnTo>
                    <a:pt x="5760" y="206"/>
                  </a:lnTo>
                  <a:lnTo>
                    <a:pt x="5760" y="1224"/>
                  </a:lnTo>
                  <a:lnTo>
                    <a:pt x="0" y="1224"/>
                  </a:lnTo>
                  <a:lnTo>
                    <a:pt x="0" y="230"/>
                  </a:ln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981680"/>
              <a:ext cx="9144000" cy="1882800"/>
            </a:xfrm>
            <a:custGeom>
              <a:avLst/>
              <a:gdLst/>
              <a:ahLst/>
              <a:rect l="l" t="t" r="r" b="b"/>
              <a:pathLst>
                <a:path w="5760" h="1027">
                  <a:moveTo>
                    <a:pt x="0" y="1027"/>
                  </a:moveTo>
                  <a:lnTo>
                    <a:pt x="5760" y="1027"/>
                  </a:lnTo>
                  <a:lnTo>
                    <a:pt x="5760" y="409"/>
                  </a:lnTo>
                  <a:cubicBezTo>
                    <a:pt x="5576" y="305"/>
                    <a:pt x="4960" y="418"/>
                    <a:pt x="4658" y="401"/>
                  </a:cubicBezTo>
                  <a:cubicBezTo>
                    <a:pt x="4356" y="384"/>
                    <a:pt x="4240" y="317"/>
                    <a:pt x="3948" y="309"/>
                  </a:cubicBezTo>
                  <a:cubicBezTo>
                    <a:pt x="3656" y="301"/>
                    <a:pt x="3326" y="373"/>
                    <a:pt x="2905" y="351"/>
                  </a:cubicBezTo>
                  <a:cubicBezTo>
                    <a:pt x="2404" y="342"/>
                    <a:pt x="1978" y="192"/>
                    <a:pt x="1419" y="175"/>
                  </a:cubicBezTo>
                  <a:cubicBezTo>
                    <a:pt x="1045" y="130"/>
                    <a:pt x="918" y="167"/>
                    <a:pt x="659" y="84"/>
                  </a:cubicBezTo>
                  <a:cubicBezTo>
                    <a:pt x="342" y="75"/>
                    <a:pt x="150" y="17"/>
                    <a:pt x="0" y="0"/>
                  </a:cubicBezTo>
                  <a:cubicBezTo>
                    <a:pt x="0" y="513"/>
                    <a:pt x="0" y="1027"/>
                    <a:pt x="0" y="1027"/>
                  </a:cubicBez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3200" y="12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51a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537-8BDA-417C-9180-A5E5EE36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7DC-01E0-48D0-83B5-7E935473D9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6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C72F-F18D-4810-AE90-1AE877FCBB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2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7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c73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62C-E531-4948-94E6-5DA8C644F9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6804-EE6A-4592-B7C5-61D6DB2F89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ff99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359"/>
            </a:gs>
            <a:gs pos="50000">
              <a:srgbClr val="00b7a5"/>
            </a:gs>
            <a:gs pos="100000">
              <a:srgbClr val="0063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5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006359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63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27240" y="517212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779360" y="452664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804560" y="435312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835520" y="435708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838400" y="438948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122080" y="441792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153400" y="438264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092560" y="412812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00360" y="427104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718800" y="414108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597120" y="413280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954880" y="367200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334680" y="363672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600000" y="380628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90280" y="388548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811680" y="378504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26080" y="395316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913560" y="387396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374000" y="394884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663440" y="365364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832640" y="386712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89880" y="361152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70560" y="346572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555000" y="348696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549560" y="577008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25120" y="207864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650560" y="309708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99400" y="99792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776200" y="129312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866200" y="121824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852160" y="117144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138720" y="128880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34840" y="128880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91800" y="125784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693840" y="140904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88520" y="160524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935680" y="133524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185800" y="138924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873400" y="157716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153400" y="170568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885200" y="146412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7120" y="116460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694680" y="120672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217400" y="204336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69160" y="229032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907800" y="246276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29520" y="299952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40120" y="29390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20720" y="315900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647360" y="429516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895760" y="40082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479240" y="217476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57360" y="138348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093680" y="168444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076760" y="178200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383480" y="137916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79920" y="124380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339560" y="255456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65280" y="255060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966600" y="2334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6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838400" y="513864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790520" y="449316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815720" y="431964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46680" y="432360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849560" y="435600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133240" y="438444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164560" y="434916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103720" y="409464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411520" y="423756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729960" y="410760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08280" y="409932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966040" y="363852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45840" y="360324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611160" y="377280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01440" y="385200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822840" y="375156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837240" y="391968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924720" y="384048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385160" y="391536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674600" y="362016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843800" y="383364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001040" y="357804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681720" y="343224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66160" y="3453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60720" y="573660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36280" y="204516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661720" y="306360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10560" y="96444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787360" y="125964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877360" y="118476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863320" y="113796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149880" y="125532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246000" y="125532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402960" y="122436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705000" y="137556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799680" y="157176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946840" y="130176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196960" y="135576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84560" y="154368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64560" y="167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896360" y="143064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608280" y="113112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705840" y="117324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28560" y="200988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180320" y="225684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18960" y="242928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640680" y="296604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851280" y="290556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31880" y="312552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658520" y="426168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06920" y="397476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490400" y="214128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68520" y="135000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04840" y="165096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087920" y="174852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394640" y="134568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791080" y="121032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350720" y="252108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76440" y="251712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977760" y="230076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f98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6f98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3919-706B-4D15-968E-F8EEB5096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スライド①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451aa"/>
                </a:solidFill>
                <a:latin typeface="Times New Roman"/>
              </a:rPr>
              <a:t>スライド②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76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スライド③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omic Sans MS"/>
              </a:rPr>
              <a:t>RealStream I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omic Sans MS"/>
              </a:rPr>
              <a:t>www.realstream.j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</a:rPr>
              <a:t>スライド④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79640" y="1989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359"/>
            </a:gs>
            <a:gs pos="50000">
              <a:srgbClr val="00b7a5"/>
            </a:gs>
            <a:gs pos="100000">
              <a:srgbClr val="0063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f98b"/>
                </a:solidFill>
                <a:latin typeface="Times New Roman"/>
              </a:rPr>
              <a:t>スライド⑤</a:t>
            </a:r>
            <a:endParaRPr b="1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f98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ealStream In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6f98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ww.realstream.j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0:09:02Z</dcterms:created>
  <dc:creator>toshiyuki watanabe</dc:creator>
  <dc:description/>
  <dc:language>en-US</dc:language>
  <cp:lastModifiedBy>Toshiyuki Watanabe</cp:lastModifiedBy>
  <dcterms:modified xsi:type="dcterms:W3CDTF">2006-05-29T05:19:06Z</dcterms:modified>
  <cp:revision>2</cp:revision>
  <dc:subject/>
  <dc:title>ビデオクリップ①</dc:title>
</cp:coreProperties>
</file>